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94DF-C60C-486F-BE25-4E0C812AC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3608-971C-4DB9-BA76-E43C2B0E5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09A-DCB0-406D-A2B6-95FE583F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B024-0FE2-46B2-9972-7DB89D47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A62AB-89CF-4EA8-A69F-F1921DAC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312BF-0395-40E2-8F20-29744D7E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AF8AD-16D0-424C-AE34-88EF5649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2EB80-C9AD-4B31-B2F4-61EB8730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E0FFD-B2D6-4494-99E6-A862727E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BD6AF-7D97-4A3C-8F08-D53D555A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54317-6E48-4FFF-99AD-68822406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AF91C-0EE8-452F-96BC-A7B5537F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08BAF-0591-4C4D-9C9F-EDFB90D3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D29B8-70DB-4017-9421-E1BAB17A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0798-099E-409C-A8A4-966F0442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66696-637B-4781-87CA-085774C5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19F3A-EB3E-414C-9695-CFE8DD48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918E6-B0B2-48E9-B855-51C9913F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82EA2-3655-4233-919F-2A5B6BC8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B7FCC-3B73-4DD4-8AFC-FA0150E2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CB153-8A01-4EC1-A344-96CDEE1B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2A469-777B-4021-ADC4-1CA2D6DE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A00DD-2108-4EB5-AA12-B9B49DC1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3870A-1B21-4A0F-8C90-1363D281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51FED-9892-4294-9C3D-69678043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5F9-729A-4DCA-9059-42A33839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490D7-C7EE-4624-884C-D139A3EF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D03D8-63E0-4C6C-AFD1-2624569A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12EF1-28CD-4A70-A16B-E2B8E2D7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8DF5C-EF60-45DE-9E54-E0185055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0FACD-25FE-492B-B492-3B9ED06A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4EF30-79E5-4DE8-B488-4F5C396C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C2386-6C7F-46B8-B314-4D08F11E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80662-909C-4B2A-9207-8B728092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EF625-24F8-4BA6-A923-93A43457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3B494-64CD-41B5-857F-670FD816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81B4-560A-4944-9983-785DFF21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162A8-9641-40C4-B93C-8F7B9DB2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F1293-7782-400C-A6C3-BC63E25A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734BD-ADC6-4D07-BD94-D425047E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A8B03-D9F4-4027-9C82-9DDD8046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BBF057-29A6-4A1A-A8BA-B52F7C62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5F107-ADF6-4768-B9E3-01A81AAB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9E4DB-08C8-49F5-A663-FE9A33BF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B74C8-C393-44DB-82D1-C2FE4650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75C8B-FF01-4A3E-9F33-8008B3EA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3F6E3-E9B7-41C1-85DD-387ED77A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52C6-B107-4FD9-B136-71EBC7A3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44671-4F14-4769-BCD5-35B18309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B1E78-CDED-4ACC-827B-ADFFA9C5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753F8-1EA3-46FD-8EE4-ED074CB9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9225E-7303-45DA-8DEA-F4480FAC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CFFFF-3A28-485B-8B81-80AD6B86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A6654C-7E5D-41A9-A802-8AC112F7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77C0F1-42C0-4126-B40B-442F79A8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2945CA-44BA-434A-A5DA-03AAE38B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B73A57-2CB0-42A2-9644-D4262B7A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AC213-EF5A-46A4-B703-73AD089C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2C87-E774-421D-86D8-391117A3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DDC38-A99E-4BEC-84ED-62EF7827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14F70A-9054-4735-97A5-10AA9322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B9300-AC70-45D1-9D3F-68E1F872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21B72-6C7F-4D7C-9A88-7DE7A2B4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7339D-693D-4562-B882-EF507B44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61399B-9AE9-4C19-90FE-F0DAF30C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3EF108-6F96-4EEC-9CF5-13D5BE54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754A-C660-475A-9776-8931CDFC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C4B9-1874-4E18-836C-60F29063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533A-EA9B-4959-A048-763E5739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C064-6180-4BF0-A89F-A351B6A1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2AB9-1B33-4FF2-859E-0A90BE76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FFBB-5321-4750-B886-99B62C40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86B0-52B5-4810-945E-185473CA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1668-A528-42BB-B2F6-FB9E9620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6E75-D338-4F9D-9CE7-B5F129AF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0101-6797-43B9-B3FA-D43B083D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4B39A-5F22-42E5-BAB9-40D63765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2B009-B74E-4731-B8A2-C08079E3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EA82A-3EB3-4DA3-8AA9-FDC11672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79704-1081-4631-8F98-5689B124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52754-C258-4A56-BCB5-1443F3A2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08B1-AC4F-47BD-B852-E64505A3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3C14A-EE3C-4B80-B849-69A0B6B6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22143-1C6B-4672-8230-3CB05CCD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CB0F5-E432-48A6-BEE2-E01BC860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6A48A-8369-4706-B18E-DF9A8472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63827-49C7-46CC-8D7A-4B10C0AE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08537-1D19-4613-8F2B-0914DA99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557E7-5FD5-47B5-8C2B-DC73D67A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AB88D-B58B-4B4B-A5DF-A1860514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CA477-D714-4936-B333-637AA3AF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212F5-B2A5-43F7-8551-6969DAAE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DC8D-1B72-41CF-A238-14E9CE03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20691-4501-49C7-AC50-7F57B7FC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6F7E6-EA5E-478C-A3CD-D17065D4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D26E8-4C4E-4EE7-A271-B946617D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DFFFE-0855-4C41-A1F6-F67853D9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621A3-CE65-4EAC-83D7-BAB39D62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C39DA-CBB2-456D-B561-C9910D20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CD3E7-27F1-4A55-B9D3-0911D8F0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543A5-28FB-4550-8DFF-3B07F8C8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3F60B-EA22-4527-ABA2-4566AFF1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0E2ED-2B48-4FB0-A44D-B504571A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ED4D-7518-462B-948A-9C72A557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B32B9-52CF-4CCC-BB6D-FCBFFC24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A5CEC-3965-496B-BEE5-23B68459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DC4CD-13C5-4891-B6F3-1E57586D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C92A6-1A4E-40AD-92C8-6EBB1878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A6C9A-5C99-4862-9494-FF7083B9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3183D-E96B-4483-9DD0-3D60252F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F1143-A973-4B62-92AC-208102ED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9D5E8-7600-477E-B241-9291C3AF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9854C-4ECD-450F-9AEF-1DC0AE15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121BA-066B-4E1D-94E0-EBA029EB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996-3474-4BD8-8BC6-3365A036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106C2-D074-4C9F-9A17-FABF0C9E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949D0-FFC2-401F-A956-1F4982C4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559DC-1010-40FB-BD56-87D9E5A4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F2BD5-0518-44A7-AD3F-8741C363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58615-231C-440E-8237-D64E6B04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0B26B-1DCC-4C33-95F6-E77A3DE4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6F355-6605-4640-8816-CAADC4F4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F57A8-7D76-4DAE-A126-949407AB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A8C84-0B92-4E2B-8DDB-DB9C9152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BC2FF-0AA5-4BB0-9410-A9A7FC0A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196-7670-492C-90DD-00FC1FEA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AD23D-5ECE-429D-9D73-35FE4F97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E07E1-4A4B-4E3D-8864-8E8543CC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36C1B-8FEB-478B-A666-1C8EF389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D5A63-36BD-4F3A-BB61-AD28E63D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41EB3-1B4F-4AF8-8675-867AF92C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DA6C1-E181-449F-91D9-D301384C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785C9-0E70-4D9D-B741-910FEB0B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13107-FDC3-46C3-94FC-7B728E57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BB9A5-C2DD-461F-AC7F-3AF9905D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5B5B7-FE02-41FB-910E-F4DEBA04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3B7E-07E7-4BC9-B09F-1AFAD05B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1ECE2-60B3-460A-AAD3-B94F746B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9ECF3-7004-4A3C-A41E-BD9DE682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5DC1C-DC93-4F56-95F6-7D21BBBC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BBAD6-0317-47B7-B2FF-8ABF2CCC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B7B6D-4077-4653-B70C-2EDFE088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1BEC7-3F90-4F23-986B-46B3360F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735A2-0399-4E2A-BAC4-1DA52C59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AAEC6-B4C2-4A0A-A1D8-50B0C43C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CF5B7-0747-47C7-A52D-62D350AC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0890A-7418-4440-9CB8-2C1266D4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2FD5-BEE3-4D7F-BFE3-2DC15EEB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3D32D-AF18-4CD2-925F-130807EC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3EEDF-7780-42C3-A983-1F5F1E6A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C7EE9-D10A-4EE0-A14A-CFEE1840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B7669-29FD-480A-9132-F7E86BA5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3E05B-6798-4D87-BA58-C653DFC1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3D4E7-EC1D-436B-A40B-C433BF3A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E9F0B-541C-461F-900F-D26BC242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44EBA-4801-4233-8936-AD1BE857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C5F24-B3E1-4AD1-9246-1B55ACCE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D0846-D553-4E48-B2AF-806A79CB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01CE-BC8D-4FD7-B0FA-574C9B5DA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1A1E-0114-42E7-929F-F4C68C508DE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D619-81B2-4CBB-9159-0D85C1E7E0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6A7E-E320-4FC7-82EC-BD8C0252987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A3AA-E7D7-4227-97F9-9A45353594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606F-AD1A-4FE3-A79F-B9A4D177033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08F1-E71E-4513-8371-FC20FBB79A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201C-4D79-4036-8FC1-F2630847C55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DEAB-F1E8-4EF3-B761-7CC16F62B0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1F4C-EFF5-4A13-BDB5-0E08EC9EAEA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CC50-2839-4D06-B841-BF7CD40E40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D4D3-B66C-43B7-A6A8-E211C046B76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0CF2-0B22-4C8E-B9B9-CBDB181D5C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B2DA-7CF4-4BFC-B1F1-ED2224E862F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AD8D-B305-4761-A129-B12E724283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A20E-94E3-4284-B63C-3822EA441D0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833A-AC86-4699-A991-348C0FC82B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90B4-9D7B-4A47-B299-3020C8893B9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062C-FC60-4A74-AB68-36A50D4458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8BA3-EAFC-46D6-949C-CD2C4BEEACE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1A0D-D980-495E-A744-6C005F6679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BD23-6F5D-48B2-9209-6D31280D950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1606-4427-48B2-92C1-AA607F6E0F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49DB-E71B-400F-A284-A727C994C29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BF3D-DABC-42B4-94B8-6E53BB4713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60/" TargetMode="External"/><Relationship Id="rId7" Type="http://schemas.openxmlformats.org/officeDocument/2006/relationships/hyperlink" Target="http://www.1ppt.com/kejian/yuwen/161/" TargetMode="External"/><Relationship Id="rId8" Type="http://schemas.openxmlformats.org/officeDocument/2006/relationships/hyperlink" Target="http://www.1ppt.com/kejian/yuwen/162/" TargetMode="External"/><Relationship Id="rId9" Type="http://schemas.openxmlformats.org/officeDocument/2006/relationships/hyperlink" Target="http://www.1ppt.com/kejian/yuwen/163/" TargetMode="External"/><Relationship Id="rId10" Type="http://schemas.openxmlformats.org/officeDocument/2006/relationships/hyperlink" Target="http://www.1ppt.com/kejian/yuwen/164/" TargetMode="External"/><Relationship Id="rId11" Type="http://schemas.openxmlformats.org/officeDocument/2006/relationships/image" Target="../media/image3.jpeg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2" descr="DSC_0477_xdZivUoo4TK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2" name="Text Box 4" descr=""/>
          <p:cNvPicPr/>
          <p:nvPr/>
        </p:nvPicPr>
        <p:blipFill>
          <a:blip r:embed="rId2"/>
          <a:stretch/>
        </p:blipFill>
        <p:spPr>
          <a:xfrm>
            <a:off x="865080" y="1700280"/>
            <a:ext cx="7413840" cy="11160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6084720" y="64008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教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郭凤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0" y="765000"/>
            <a:ext cx="86868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　　即使只有百分之一的希望，我们也要付出百分之百的努力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　　只有扼住命运咽喉的人，才能创造生命的奇迹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　　无论遇到怎样的困难，我们都要勇敢面对，成为生活的强者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矩形 10"/>
          <p:cNvSpPr/>
          <p:nvPr/>
        </p:nvSpPr>
        <p:spPr>
          <a:xfrm>
            <a:off x="662040" y="223668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kejian/yuwen/138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yuwen/165/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yuwen/166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yuwen/167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4" descr="0170051274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5"/>
          <p:cNvSpPr/>
          <p:nvPr/>
        </p:nvSpPr>
        <p:spPr>
          <a:xfrm>
            <a:off x="1116000" y="1125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1763640" y="119700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青海高原上的这株柳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树是怎样生长出来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1763640" y="3933720"/>
            <a:ext cx="59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这株柳树在成长过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中经历过哪些磨难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2"/>
          <p:cNvSpPr/>
          <p:nvPr/>
        </p:nvSpPr>
        <p:spPr>
          <a:xfrm>
            <a:off x="611280" y="1916280"/>
            <a:ext cx="79246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干旱和寒冷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绝不宽容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任何一条绿色的生命活到一岁。然而这株柳树却造就了一个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不可思议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奇迹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684360" y="29242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684360" y="3716280"/>
            <a:ext cx="7775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2"/>
          <p:cNvSpPr/>
          <p:nvPr/>
        </p:nvSpPr>
        <p:spPr>
          <a:xfrm>
            <a:off x="611280" y="836640"/>
            <a:ext cx="7924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84360" y="29242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684360" y="1700280"/>
            <a:ext cx="7775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它无疑经受过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一次又一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摧毁，却能够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一回又一回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起死回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Picture 3" descr="42_2869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4" descr="1000619597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7"/>
          <p:cNvSpPr/>
          <p:nvPr/>
        </p:nvSpPr>
        <p:spPr>
          <a:xfrm>
            <a:off x="4859280" y="40464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然而，家乡水边的柳树却极易生长。随手折一条柳枝插下去，就发芽，就生长，三两年便成为一株婀娜多姿、风情万种的柳树了；漫天飞扬的柳絮飘落到沙滩上，便急骤冒出一片又一片芦苇一样的柳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4" descr="42_2869"/>
          <p:cNvPicPr/>
          <p:nvPr/>
        </p:nvPicPr>
        <p:blipFill>
          <a:blip r:embed="rId1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DSC_0477_xdZivUoo4TKD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命运给予它的几乎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是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九十九条死亡之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它却在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一线希望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之中成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就了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一片绿阴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4" descr="柳树"/>
          <p:cNvPicPr/>
          <p:nvPr/>
        </p:nvPicPr>
        <p:blipFill>
          <a:blip r:embed="rId1"/>
          <a:stretch/>
        </p:blipFill>
        <p:spPr>
          <a:xfrm>
            <a:off x="4356000" y="3068640"/>
            <a:ext cx="4788000" cy="3789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人生的道路上，生活和命运不可能公平，但只要心中一直充满希望，凭借自己超乎想象的毅力和韧劲去努力，生命就会产生奇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4" descr="柳树"/>
          <p:cNvPicPr/>
          <p:nvPr/>
        </p:nvPicPr>
        <p:blipFill>
          <a:blip r:embed="rId1"/>
          <a:stretch/>
        </p:blipFill>
        <p:spPr>
          <a:xfrm>
            <a:off x="4389480" y="3670200"/>
            <a:ext cx="4754520" cy="318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3:18:04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6T08:56:05Z</dcterms:modified>
  <cp:revision>51</cp:revision>
  <dc:subject>第一PPT模板网-WWW.1PPT.COM</dc:subject>
  <dc:title>第一PPT模板网-WWW.1PPT.COM</dc:title>
</cp:coreProperties>
</file>