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B91-91B0-4321-A258-5ECD521C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401-1AB7-44A4-94D2-2C33B8A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E7A70-22AB-4ACE-855F-0E942954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3D7AD-515D-403B-A8CE-1CF72F82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4C376-B284-4131-B734-D02D3EE0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63FB6-B190-4D22-AC85-E31CABD6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73472-C320-4764-8FAA-85FA19F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CD25C-A549-4BB7-B2DA-D3F255FB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3BE53-A29C-4079-88AB-E249C96B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65A8B-2276-414B-B6A6-66358F03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45CF7-0700-42C7-9A99-9E9F58D0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BA3D2-87CA-4815-BB2D-EB355FD0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D28-AE06-486B-9FB5-C242A5D0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8C361-9123-406B-BC16-5FB083D7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AE8EA-2244-4030-8105-0211F3EE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00411-76DD-4E5F-ADC6-F24A314E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85C8B-5242-44FD-B57A-BB2077F4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4776E-58F0-4B1A-9515-4594CE91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29D40-4B71-4DD6-B2D6-65F8AAA1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79AA6-5851-4BA1-8378-32ED3795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33929-A81A-4224-AB16-7353672A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1AEA4-A797-4C22-B48A-C4A204B7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3FCF9-434E-43AA-A3A6-9472E8A5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B2E-D42B-4510-AE79-BDF08364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9CA64-AEA2-4F07-B2AA-81540737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F66DF-4C87-4324-9692-6DCFCAB8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B929A-3078-45A0-A8A4-56C6925B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FE096-00F5-45F2-87F3-723EA994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35511-6EE7-4981-8B77-3C55815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FDD69-F6BA-4914-BF0F-D3CC6150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0E273-14CE-407B-BD70-F6B22555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CF1D5-C51A-49BB-AE9C-87014A1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717CF-964B-4725-8411-AF1BDEF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3554E-20C6-4B05-8BE8-5572536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27EA-C5B5-426B-8FD7-4B229CDF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6EBA3-ED5F-4120-A4FC-D19742A0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64170-A29D-4655-BD02-AC3186B3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4CD7-5CC3-47F3-ACF5-079048D3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11A59-DDEE-45BC-AD9C-E822C067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701A7-F860-4EFA-9D93-29D3DF37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180D9-6B81-4FA4-8C50-4213CD4B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9AB20-658C-4388-AD4A-D95ED526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F2860-1D64-4ACE-B075-987E56A4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C9EAB-B005-4009-8753-576DC179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9D69D-365C-4961-917A-4EB7D89C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FC0B-204A-44BE-AB80-3205153D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C007C-C9D7-4E3E-93C6-691375E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4B028-2ABB-40E1-93F1-E4F0A0D6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1BF82-15A6-41F4-A8A0-7FF4ED81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9A176-C077-4037-918F-D6FD4C17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AA0F2-9A10-4E12-BE67-D39E12DF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0AACF-EAF3-4E70-A399-8BE63299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19A11-8E7E-4E15-8C25-F0E05305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3B889-6D34-4156-894D-7D17CA44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EA945-2E8B-47D6-97D2-B53D93DA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E8EC7-9903-4D7A-8450-AEC39AF0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8A64-975D-449A-B9D7-B7EBA60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6D474-A19D-4664-A5F8-BB200E81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6A073-6A1F-4C0C-9DE9-22DE6B9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CDC0A-76D3-4EE0-821B-250E35DC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171AF-DE40-429B-B8E6-84DC1C0E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7B2A3-FB2D-44E6-85BA-B2633D2E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6A472-0A00-4F00-9AD7-F6006E89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8B0C3-AEAF-42FC-B515-0A7D588C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A3D9-C885-46E9-869B-D0F69B90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1220-DC29-49FB-8AEC-51DEE655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74E5-3411-4FAD-BA36-52A32634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BCCE-3082-4057-8FF3-F197328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F2F-2BBE-4082-8CF9-73C041F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5C5-268E-4087-A6AA-9EE27D9B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4A45-8C50-454E-A42F-52D667A1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CA60-7220-4805-A8FC-5BC9F226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46F0-EBFD-4CF8-99EF-2844CEA4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7B98-F0F0-40AC-AC8F-4E3FE14E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D054-EAA5-4AEB-8174-8437CE3A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B500-7EE1-4B4B-98E0-C72DD6E4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1C87-A63A-42DA-B000-D91BF727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E527-927D-42BF-8D92-B9086D46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B30D-EA32-40D5-9364-6FB931A0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377-6826-4955-A0AF-12880D71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B3CF-204A-4AA0-AD55-1C96ADA7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1D9C-B782-4FC6-B7DC-40CFC12E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AF6E-54FE-4611-A9A8-4B5E57FA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7D14-4456-4D8F-BC1F-EDD29CD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C62E-CAF3-4180-AB47-A5F2B462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8DC0-1990-4451-AEA9-81B1F385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41D2-766D-467B-8696-434B75BF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3E86-28EE-4FBE-9ACF-0877650B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9CD3-CE9C-48A4-856F-C085F14F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EDAE-1BD7-4178-825E-01DBBE90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B68-905C-4CD8-845D-FA193B8A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12E2-2135-4F38-9A32-36DAB446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9FFE-7578-43ED-8812-A19FB590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DC4D-64B2-43C6-AF52-33C7549A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11558-FC89-4EE7-B500-ED9D15E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0272-6AE6-4963-AF59-86D5885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37EF8-F764-43BB-9226-1202927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D348-8297-4BDA-B58B-0B697CE9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7E1E-C8D9-4AE1-B138-A6107033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B24BB-1321-4A91-9DF8-41CDB7B4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A7367-F75A-46C4-803F-A3B579B7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C07-CF80-489A-9267-93F8C7B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45BD0-27B5-4915-BE91-4C326658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9B1D-E4F1-4F37-B259-2B76F031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089B-61FD-4B40-8F12-283B6327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F4AC0-65E5-4E31-9F84-D2074006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E91D-DB27-4C21-B248-F23F1B13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E3292-100A-4C13-BBD8-CEF5FF9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176D-E619-4C46-80F3-E6C08A34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F81C9-F3E6-4900-B48A-E54C591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2B80-740D-4CC8-BDFE-16C0E4F5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58A96-9037-42B5-80F0-891E0069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CA7-C142-490F-BA89-FD555314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6DD96-61CF-4452-952D-209E998B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FEA2C-C549-4755-9E4F-FB0B14C2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77186-371F-450B-B7D7-802F5BF5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1736C-CE37-4797-B214-3B5F78E1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CA0E2-24C3-47EB-B564-B3270525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9871F-6305-430E-B442-EEF7FE9A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CDB4-89BB-41AF-B54B-F2CF2FBA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26835-1E87-40DC-A2B3-F7A6232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F918-4514-46E7-8978-3FE5538A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39FCE-6844-408F-A852-B15BD936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861-B976-48EE-AADF-F7859EF6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C6B8-2C6E-44B6-9C82-925292CD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228A-2C90-457C-AC1E-B26E6A78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CC544-0E6C-4689-893D-41A5ABB3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65301-4E61-4790-A6EC-ED3206DB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C76ED-6DD9-482B-A2A5-88773704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68EE1-C15B-4B09-B6D1-3150B32D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D75D8-371B-41D3-902A-C1A9C41A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3719D-FF49-4B8E-B5F2-305DA9D5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834D1-4511-4767-8712-17C39D45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94EF1-B057-4E0F-A20F-9232F7C3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1B1-FB2F-474F-A363-505FAB7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7FF33-AFBC-469A-ADC2-51BCD0D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7C4CA-C3EF-4DC1-8CDE-426E1406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8BE15-ECD8-4ECE-A3FB-D59E9D05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E33FA-CCA8-4F57-AAE3-E74038B6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83569-420E-4D05-BD47-35E5FE32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8AFC-2F25-4178-8A46-9AC08DFA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1E99F-EE8E-4BCA-B5C1-F2CF7DA0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4A13-8390-472C-83C5-C7683283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C7B17-BC4D-43CD-B0C2-60A6FA67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EB88E-73E6-4F61-98C8-A1D24184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BE2-7C4D-4112-ACE4-CD796488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3BA91-81F5-4906-A802-FB7292AA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9D835-4630-4B4A-B7FA-F6DC1F7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004CF-5C9F-40FF-AB6C-491620BC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574CF-57F1-4954-A0A4-277125E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BEBA-B73F-41F4-9352-B699E318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0B270-874C-4BFA-BB6F-A9F4E132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F6CC6-314C-49B0-B9AE-EB38FD7E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91F2F-E416-4109-8AEB-77C7D2CF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FE163-E073-4AFE-B027-FF9AC67E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81D7E-9C17-45E8-B197-909E48A4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CD94-CFB2-49D5-94F3-8E6C7EDC4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6307-D471-46C2-A8E2-EE55972DB2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7FB2-8DBB-43E8-A4FB-4B04B88331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38FD-3DC3-4445-AC96-757AD07DE6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364E-9C88-42BA-B65E-2AA9BA550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8663-A959-4E5A-80C8-96F213F59CA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ADB5-BE14-4089-9271-69EABEB0B5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3C0E-139C-4D5B-A5A8-1E82C64269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D138-2ED7-4B9D-81F6-A74E38E3C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93B4-A8C1-454C-9A88-9F3BE568AE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542F-B270-4B18-BA3E-C04B79DA8F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DFEC-2BC8-49BA-B24F-2E7F8C5FA2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5E4B-0F76-4CB5-B313-AFFC1C7FDA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57D0-D261-4128-B3BD-E6F281A2EA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D13D-AC5E-4700-96FF-C80E5955F1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7C74-52F5-461F-8DCD-5D20BC6551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C82A-EECC-493F-A04C-C4CC9D155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A85-AAC8-4D12-9945-283462978D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7AC2-77C3-4D31-9CB3-1A50C533B7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8A5A-F8E6-4F7D-A0C0-ABB316D704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E83A-778C-4B34-B429-ADC644A438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540A-9E28-4A7B-8AC5-09D04E1130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D521-0241-49FF-81AD-9453742240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5FF5-3478-4641-BA30-84A19FE9B3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4557-4B05-46D9-9550-C7EDD05183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长春藤1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1179000" y="260280"/>
            <a:ext cx="7290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陆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6"/>
          <p:cNvSpPr txBox="1"/>
          <p:nvPr/>
        </p:nvSpPr>
        <p:spPr>
          <a:xfrm rot="5400000">
            <a:off x="-1493640" y="1682640"/>
            <a:ext cx="4319640" cy="13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囚绿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6"/>
          <p:cNvSpPr/>
          <p:nvPr/>
        </p:nvSpPr>
        <p:spPr>
          <a:xfrm>
            <a:off x="0" y="0"/>
            <a:ext cx="2627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长春藤2"/>
          <p:cNvPicPr/>
          <p:nvPr/>
        </p:nvPicPr>
        <p:blipFill>
          <a:blip r:embed="rId1"/>
          <a:stretch/>
        </p:blipFill>
        <p:spPr>
          <a:xfrm>
            <a:off x="3492360" y="1341360"/>
            <a:ext cx="5651640" cy="55166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感知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179280" y="119700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用简洁的语言概述课文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文哪几段是写囚绿？囚绿之前、之后写了什么？请用与“囚绿”形式相同的短语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0" y="393372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择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近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囚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释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念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492360" y="26028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自己喜欢的方式阅读课文，并思考以下三个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0" y="4581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作者笔下的绿有怎样的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0" y="551664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蓬勃、向阳、固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长春藤"/>
          <p:cNvPicPr/>
          <p:nvPr/>
        </p:nvPicPr>
        <p:blipFill>
          <a:blip r:embed="rId1"/>
          <a:stretch/>
        </p:blipFill>
        <p:spPr>
          <a:xfrm>
            <a:off x="3348000" y="2511360"/>
            <a:ext cx="5796000" cy="4346640"/>
          </a:xfrm>
          <a:prstGeom prst="rect">
            <a:avLst/>
          </a:prstGeom>
          <a:ln w="0">
            <a:noFill/>
          </a:ln>
        </p:spPr>
      </p:pic>
      <p:sp>
        <p:nvSpPr>
          <p:cNvPr id="546" name="Oval 5"/>
          <p:cNvSpPr/>
          <p:nvPr/>
        </p:nvSpPr>
        <p:spPr>
          <a:xfrm>
            <a:off x="0" y="0"/>
            <a:ext cx="2627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感知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2700360" y="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试从文中找出有关本文写作时代背景的句子，联系作者简介，说说课文表达的思想感情，并说出你的根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陆蠡：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08-1942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，原名圣泉，浙江天台人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31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年毕业于上海国立劳动大学，后与友人创办泉州语文学社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35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年任上海文化生活出版社编辑，业余从事散文创作和翻译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38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年创办科学、文化综合性杂志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少年读物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。太平洋战争爆发后，日军进驻上海租界，由于在沦陷后的上海坚守文化工作岗位，他于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42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日被捕，不久由捕房转到虹口日本宪兵拘留所，刑审数月，惨遭杀害，时年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4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0" y="263700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我住在北平的一家公寓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卢沟桥事件发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在七月中旬，不能再留连于烽烟四逼中的旧都，火车已经断了数天，我每日须得留心开车的消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Oval 6"/>
          <p:cNvSpPr/>
          <p:nvPr/>
        </p:nvSpPr>
        <p:spPr>
          <a:xfrm>
            <a:off x="0" y="0"/>
            <a:ext cx="2627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花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50846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名家点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0" y="981000"/>
            <a:ext cx="39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0" y="83664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囚绿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中，作者借助对绿色植物常春藤的赞美，表露了自己乃至整个中华民族追求光明的圣洁灵魂。作者以“常春藤”为“绿友”，朝夕相处，息息相关。被“囚”的“绿友”，失去了阳光，“好像病了了孩子”，然而“它的尖端总朝着窗外的方向。”作者“珍重地开释了这永不屈服于黑暗的囚人”，并“向它至诚意的祝福”，“愿它繁茂苍绿”。在异族入侵、祖国受辱之际，作者写“绿”赞“绿”，显然不是迷恋景色，而是借助绿色的生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0" y="5157720"/>
            <a:ext cx="88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展示自己向往光明的心境，抒发自己热爱祖国的激情，赞颂中华民族渴求自由、坚贞不屈的精神。“绿色”，既是作者的本色，也是他的散文创作的基本色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袁振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《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陆蠡散文选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序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（摘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绿墙2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Oval 7"/>
          <p:cNvSpPr/>
          <p:nvPr/>
        </p:nvSpPr>
        <p:spPr>
          <a:xfrm>
            <a:off x="0" y="0"/>
            <a:ext cx="2627280" cy="981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动笔读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2771640" y="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读书要有自己的独特思考和感悟，请参照前一课文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隶书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隶书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之圈点评注法，对课文进行赏析点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0" y="1182600"/>
            <a:ext cx="9144000" cy="32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示例：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我了解自然无声的语言，正如它了解我的语言一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表现作者和绿的心灵相通。这里主要是表达作者对绿的热爱，对这样一个安宁、平和的环境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我好像发现了一种“生的欢喜”，超过了任何的喜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表达作者对生命的活力的赞美。所谓“生的欢喜”，就是对富有生命力的东西的热爱。作者认为面对蓬勃生机所产生的喜悦超过在任何时候所产生的喜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、离开北平一年了。我怀念着我的圆窗了绿友。有一天，得重和它们见面的时候，会和我面生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两者的关系改变了，由主宰者和被支配者的关系，化为朋友关系。同时也隐含了作者对沦陷于敌人手中的土地和人民的深情怀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绿墙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Oval 8"/>
          <p:cNvSpPr/>
          <p:nvPr/>
        </p:nvSpPr>
        <p:spPr>
          <a:xfrm>
            <a:off x="0" y="0"/>
            <a:ext cx="2843280" cy="83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深情朗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0" y="83664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对自己所喜欢的段落反复朗读，并与同学交流自己的心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绿叶对根的情意.[音频].mp3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8609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涸辙      揠苗助长       婆娑         急不暇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移徙       蕈菌        淅沥       抑郁    葱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繁茂苍绿     瞥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绿树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571" name="Oval 6"/>
          <p:cNvSpPr/>
          <p:nvPr/>
        </p:nvSpPr>
        <p:spPr>
          <a:xfrm>
            <a:off x="0" y="0"/>
            <a:ext cx="270036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词语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是多宝贵的啊！它是生命，它是希望，它是慰安，它是快乐。”在寂寞中，常春藤不离不弃地陪伴着作者，这绿色的常春藤在作者的眼中已不是一株植物，而是一个老友，也许作者常常会与这位老友交谈。在“择绿、近绿、囚绿、释绿、念绿”这几个部分中任选一部分，设计一组作者与常春藤的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求：对话要符合作者在每个时段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体现绿象征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要求生动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绿液"/>
          <p:cNvPicPr/>
          <p:nvPr/>
        </p:nvPicPr>
        <p:blipFill>
          <a:blip r:embed="rId1"/>
          <a:stretch/>
        </p:blipFill>
        <p:spPr>
          <a:xfrm>
            <a:off x="2987640" y="3284640"/>
            <a:ext cx="6156360" cy="3573360"/>
          </a:xfrm>
          <a:prstGeom prst="rect">
            <a:avLst/>
          </a:prstGeom>
          <a:ln w="0">
            <a:noFill/>
          </a:ln>
        </p:spPr>
      </p:pic>
      <p:sp>
        <p:nvSpPr>
          <p:cNvPr id="575" name="Oval 6"/>
          <p:cNvSpPr/>
          <p:nvPr/>
        </p:nvSpPr>
        <p:spPr>
          <a:xfrm>
            <a:off x="0" y="0"/>
            <a:ext cx="2627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0" y="0"/>
            <a:ext cx="32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课后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9:00:51Z</dcterms:created>
  <dc:creator>ZHOU</dc:creator>
  <dc:description/>
  <dc:language>en-US</dc:language>
  <cp:lastModifiedBy>a</cp:lastModifiedBy>
  <dcterms:modified xsi:type="dcterms:W3CDTF">2015-02-10T03:04:49Z</dcterms:modified>
  <cp:revision>9</cp:revision>
  <dc:subject/>
  <dc:title>幻灯片 1</dc:title>
</cp:coreProperties>
</file>