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C32-CE3E-4065-8318-BDC610CB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CD4-7C29-45AB-9570-424381BD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63A0-2BD2-456D-A6FD-5235344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149BE-42EC-4F74-949D-C745EC4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E5FD3-9CA4-46BE-88DD-F8137A20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5ED19-7E7D-4D29-B104-1A7A1951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34D46-A63C-4020-B527-3F5E09DC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21303-DF56-4266-BB9B-37438A0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D63A3-CD26-4F48-B22C-40B2EEC3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6D68A-8B2C-4228-A305-C1A955CC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C59CB-C21E-4778-951A-CC15791D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40683-E576-4E5D-9202-6AF258DA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E99-2659-40B4-A5A9-92930690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57CCF-9C8D-4A2F-9FFA-D991132A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16CEF-2982-4B53-8241-C6C53F1D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C39B3-1F27-4AA6-9E22-FEFAB38A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4003F-2CA8-4C83-83BC-881770AE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BAF64-0A4D-41E2-B6E8-669228D4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2E624-B329-4345-96B5-73A289D4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E9720-08C6-4CA5-BAC7-2EAC105F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36E45-7182-4128-81AF-56D88267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61ECE-5DE5-4660-A5A0-BDE70628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8F4B4-15AB-4CB9-AED0-F53C6697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A3E-4686-4ABD-9095-B05D0319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62E19-FC61-4DEE-ADD8-CDD72899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55C21-E3E6-436B-921F-05CE5E14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560ED-2084-4DC6-B9E1-F2FA214C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4FB99-C42C-44D9-B993-D9842096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3CE9B-7D02-437A-888E-0DF1FF76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2D28D-A0C7-4BD3-B420-15C2583D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CC26C-EE3E-437B-AD52-1A738ED9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428F8-C920-40D1-84E0-BE4DAC43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1D5EC-5A20-44D5-B75E-23399583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A7857-C813-4A55-8E5C-C1F3B0B7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FF58-68F0-45F8-B84E-197AE8AF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00B9D-C1B1-42E3-8A5D-FA527756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C109D-55B6-4211-8011-69872DAA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1B549-39E8-47E5-A961-B3FF2A4E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4CC23-8090-47E3-B8AB-CA41CBD1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9306E-9052-4F80-A903-CC9701B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15180-CD1E-48B9-A7D1-DF6ADE2A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471BC-EEA7-4D80-A0DE-AC20B33D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08279-AD4E-4272-B11B-E8BD792E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86B4B-7461-47BB-93DA-87F0B0DA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9F21D-D639-4561-8386-618E5533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F1D1-882B-4E7E-A0C4-64299BE5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5BF5F-B7B1-45F6-A996-92194B33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2AD21-D847-44E9-9935-728A30C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F962A-A785-4719-86D5-1647071D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2BD13-A872-439C-9D15-42861EA1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635FC-9164-49C6-AE05-C619A7C1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64075-0491-478A-9583-F81D4C58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914A2-0D14-4B7B-B822-CDBF4A49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4B3F2-7555-4CAD-A320-3B21FF1F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4AA67-D21E-478C-BA54-AA4A25C0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A0E6F-347D-4DE7-A6F1-69C82164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B2CB-C92A-4300-8B71-3D5AB162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D9DDE-2B48-435C-956D-8963B9FF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F2552-32CC-4919-8C5F-568DA1B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4E4D7-3560-4D26-9828-32DB0DE2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68AEA-C56B-4178-AB67-1869181D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6992E-9AC0-40AA-B1BD-34AC3CED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36819-16BC-4CDB-B8EA-7879DFD1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73704-25C1-424B-897A-67260729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C539-FF9C-4665-B4AF-625BA65E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B149-DB96-44E3-BD82-CEF577CD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C5E7-2DB5-4D25-B873-BAF2B04A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208B-0D71-4C15-82E7-A8DEDFF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003-8E85-4EC8-A190-86D76B6A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4848-322D-4D89-87E7-B6A9D15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AA74-5E15-470A-8E0B-7E07BA32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B42-AC0E-44BB-BF06-A9E6813B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8A92-3EDA-4F94-9B0A-7431C2F0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0105-0C80-443D-AA11-6A3C0C06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E04C-AAE2-460B-82C3-3EDC5C99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0A93-FB81-461E-8AA6-F28901FA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4A4F-32CF-461F-AA1A-A3BC855F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5C38-C802-470F-A78B-C5766A5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612D-513F-48C1-B85C-618103E9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8FD-A6CF-4306-AD1F-3AA89914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F5A3-79FE-425F-8660-E1D033E0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E66F-9C7F-4433-8C70-ED2F254B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2A65-49C3-45C9-9579-A269ED39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685D-F9ED-40A5-BD7D-3836C5CB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94C8-F0CC-46AA-AD87-C53F745D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DDCD-9CC0-489B-9F94-66714485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BC3D-B773-4F82-B0FD-12E51A3D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B0460-FD18-46B4-8505-D6DE7B32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64B08-82BB-4AC3-90F2-89CC879A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BD064-1A94-41A2-8AA0-29FDDDBF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A08-308C-411E-AE96-2919E00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26BB2-0EF2-4FEF-B8F4-62C372BD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B24D-25B1-4260-A995-B5DE22B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5765-F046-4C52-AE9B-B08A6AE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66EC-60E0-44B4-AAEC-C2729C2B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899EC-9187-4364-A55F-50C357FB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3ADC2-8C75-41DB-BC65-10EAFC9B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CF27-DCED-4E57-9717-ACAA471E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94D7-F6C8-4575-9FDB-5E84C92E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81173-8181-4B20-A813-35BD3812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64501-E337-4E86-8153-10AC6265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1B5-5066-4BD7-BC16-2DDA026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BB7A2-592F-43F0-B466-76E3C77F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14D90-8C12-4A16-8080-A4D37913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0568B-76BF-4178-AF79-A5B921A9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B11A6-2B50-40BB-9CBE-6F5327A4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565C1-35FF-42C8-B1E2-F6B77314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8733F-7FD6-4FBE-9FB7-3BD4EB96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7962-8F0C-4839-96B3-3327A843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B7BC9-B5C9-45E9-8594-BD8B8F80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D09C-B815-4C4E-88F9-F2871650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C753-7C25-48E8-B7BD-F1A13AA9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E49-3E64-4A7C-9C12-C854BDC2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3D5E7-B096-4041-B419-9D350B70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B9CE4-C367-4BE5-947F-8B83C62A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40B55-836A-4C81-BEB6-AC3DA75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67A23-486D-4713-BC55-07A4133D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AB27B-F765-4728-9895-FF0B5015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1E812-8D21-4EB7-B940-B3D60623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D741E-C09C-4C09-9159-D002FEDB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9BB54-E05C-46D2-8FB6-D7010A43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C95F-F70D-4E3D-A9F6-B2E3034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A4656-E9CA-460F-929E-39526553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0DB-E089-4090-A613-5C5AEED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D1A2F-12A7-4A54-9EE4-2E86CE50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DB9F-0879-4A4F-B92C-2786DEEC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C1B28-9CE4-4017-B56C-2EE30061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71556-5CA4-476F-872B-2B0B0624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9E86E-31DA-4F85-973F-2EFCB119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0DB5-24FA-4732-AD32-F0235FF3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00125-AE4C-4A37-9DB7-0C26A69F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734A-43B5-4BAB-BE2C-9247B6C3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BFC4-5C6E-47D0-B031-12CE0B07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CBC0-9BFA-44F3-B539-DAF1E5C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006-3E08-4B15-BC78-F8B2F2B0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E6F4C-D65C-4B79-9317-5B07383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B1275-C7CF-40DE-878F-8E51D2CE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B6761-5CCD-4026-90CB-92450C1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1CF9F-0F14-4A3B-9FDA-FF2EED36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0A23-9AC4-4545-B233-9B14254A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865A3-D031-45D0-A3BF-A0B7A5AD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350D1-E128-4A81-8C2A-1A049795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A6F30-4855-491D-92B2-D5036969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9C941-8E2B-4465-954D-45542E94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6B334-54F9-4778-8FC3-078B5086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2FA-9A88-41A9-A031-897A4163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6D7E-ACF0-4A17-8942-01D9F79B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A36AB-5539-415E-B275-B74A9127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C2F0D-6CC5-49BD-B991-42B74D5A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F9D1F-3236-4E52-960C-2E1DC9CF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0C41-6513-45CE-B239-6F674C21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80251-0750-4A7B-A9E7-29960E0E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F6AE3-4492-4EFF-BBC6-70B12FE7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B1972-90D6-46FA-A50F-D6A8AA9A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7CF8F-5E9E-402A-A0E3-EB222D5C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9BA70-3A60-49D2-8C69-2D3FBBF7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B4C-B4B7-45CD-ABD2-C22698088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DFA6-FBEC-4E4B-829C-08DC191BA5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BECB-EB11-44F1-8E93-EB2955F7B3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2FCE-A890-49D1-8F41-FEEF113970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7252-1D3A-48C3-AC37-7B81B98B4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53B2-23CF-4100-BDF8-D813344C38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F084-7565-4FC4-A536-8FF230C0C9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2349-F9A6-4C6D-9648-934A9D28E7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865-34D2-4072-B663-5CF2F5B755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2039-9971-40BE-B40E-AC689388CE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7F3F-051B-4037-B648-BF088CB5E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2DC1-8043-49D0-859D-CED5E9715A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55DB-3873-474D-9354-B3B1306AF9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D972-9E06-463F-A140-6ADD43B66B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255B-0BB0-4D67-88F5-3536773302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10B9-4278-4DD0-86EE-3718847F65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2FCA-0AB1-4761-BFF8-B2CC710E1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2F3E-C922-469A-AA0F-CF5AF82CAA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785E-4AF5-4B96-AA88-E67394902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28FB-A8E7-4F02-B08F-991120B457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5ECA-8934-4FCF-AD98-EE9E36B24C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EA27-8675-4775-A0BA-AD2154B729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7DD5-E77C-4645-BEF1-A8239E191D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3B22-1651-4771-A379-23A60FB712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3BD6-8987-44CC-8668-C821ED5372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image" Target="../media/image2.pn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971640" y="1125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清平乐    村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771640" y="260280"/>
            <a:ext cx="439272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清平乐    村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茅檐低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溪上青青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醉里吴音相媚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白发谁家翁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大儿锄豆溪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儿正织鸡笼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最喜小儿无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溪头卧剥莲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8"/>
          <p:cNvSpPr/>
          <p:nvPr/>
        </p:nvSpPr>
        <p:spPr>
          <a:xfrm>
            <a:off x="1116000" y="890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将军令.mp3" descr=""/>
          <p:cNvPicPr/>
          <p:nvPr/>
        </p:nvPicPr>
        <p:blipFill>
          <a:blip r:embed="rId14"/>
          <a:stretch/>
        </p:blipFill>
        <p:spPr>
          <a:xfrm>
            <a:off x="3564000" y="907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1047246a243d8e37aa"/>
          <p:cNvPicPr/>
          <p:nvPr/>
        </p:nvPicPr>
        <p:blipFill>
          <a:blip r:embed="rId15">
            <a:lum contrast="6000"/>
          </a:blip>
          <a:stretch/>
        </p:blipFill>
        <p:spPr>
          <a:xfrm>
            <a:off x="324000" y="476280"/>
            <a:ext cx="3808440" cy="285588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"/>
          <p:cNvSpPr/>
          <p:nvPr/>
        </p:nvSpPr>
        <p:spPr>
          <a:xfrm>
            <a:off x="324000" y="2781360"/>
            <a:ext cx="8675640" cy="12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辛弃疾出生时，家乡山东已经被金人侵占。他亲眼目睹了汉人妻离子散、家破人亡，十分渴望百姓能过上安宁的生活。他二十一岁参加抗金义军，一生主张抗金。但他的主张不仅没被采纳，自己却遭到奸臣打击，在江西农村闲居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年！这首词就是在那个时候写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505620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428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01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809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250920" y="1557360"/>
            <a:ext cx="8569080" cy="23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选读辛弃疾的作品。推荐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破阵子  为陈同甫赋壮词以寄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永遇乐  京口北固亭怀古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菩萨蛮  书江西造口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3:49:08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02:14:15Z</dcterms:modified>
  <cp:revision>20</cp:revision>
  <dc:subject>第一PPT模板网-WWW.1PPT.COM</dc:subject>
  <dc:title>第一PPT模板网-WWW.1PPT.COM</dc:title>
</cp:coreProperties>
</file>