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7A2-26A0-4B47-AA2A-277C5C47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3420-A915-4004-A2ED-B6D8DD1A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1DD6-ED93-4BA7-9F6F-2E218F70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A1BD-28F0-4BE7-BFE1-AFAAB86E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F778-2683-4BAF-88BD-49AB72094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5932-2CE2-4CBD-916C-D516D3797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D75-47E6-4372-8E2D-CF1B9BA17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0F66-5D9F-426D-9C14-2CF31124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16A-71CA-4D95-85E7-06881E10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8181-32E7-4DB2-8324-0D6C9022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24C-6B10-48DE-88F0-F0483854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0410-B9C8-44F5-984E-E7E63859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EABC-4451-4B4F-BC5A-438DAA539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FE1F-8E74-4D56-AA23-61A5207D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57D-D34A-4067-8316-53216CD7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860-A6A9-4CA7-A282-29A92E1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1ED76-D4BA-4DF9-9D92-24470C4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17E5B-9612-4590-9A0A-CC43F308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F11BC-F9A9-4D4A-9D25-1C2937A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FCE41-352B-49D8-A422-78DB452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247F1-B94A-46C5-928B-883B87E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77831-CDBE-4766-ADDA-FC9C97F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59945-BE2D-48A1-AE2C-FD0C2611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18A35-CAA0-49D4-A605-2FC56A50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509F1-ACCE-4896-BE05-239E96DA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AE9E6-3E75-4E23-A182-F68BDB69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A8C-D9BD-4767-9C3C-E29991FD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2CFCD-5C66-44E5-9EB9-75B100E7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B806A-14E8-404F-ACE4-6245FB13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C166A-0D24-4E59-9BD7-A01581D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EF639-DFE0-48A1-9D52-35E41F43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F8939-E9B1-46C5-A22C-122DEABF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775B-C0FE-42A4-8194-7553250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CB098-898D-47DF-BCCC-9854AA9D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629CC-D465-4E13-A9F7-916C3D5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B7113-8E88-46D4-8BA6-AAC360FB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445A2-12FF-4D18-8755-68401C6A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E32-923F-4622-AB8B-93A67A66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7ADAE-F226-4ADA-B1F8-216E805A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0A712-7D19-4C0E-BFAF-F6849A3A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7DBED-FDE2-4AA1-B7E7-D42A72B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E0FC1-D32F-4406-8906-FBF266D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7ABD9-330D-41EF-8D0A-A8655316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9DC43-E5AE-4036-B34C-EAD0998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B7645-3AF6-4857-9147-AB39EA29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031F6-C681-433D-AFBA-D9BE979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AC69-0E77-467A-B6F7-72F34405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22FC-E23E-4441-9737-E748D7C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9895-644B-4D99-99AB-03F6FE7E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9494C-BB01-4A19-8827-0A5F5583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04F9C-3C56-4EE6-954D-367BECC3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7A2AF-0395-4879-A5FB-111E17F7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6C925-3804-414D-BF4F-2C1045FF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484DD-5EB1-451F-8FFA-CB479650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6148D-01C5-4720-9E8C-9F026112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E7DBA-659F-4E39-A825-6D251BF2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9225E-1688-42CD-BAE1-2BBBD49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5A250-6B29-4E08-AAF8-F0525C6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058B1-2280-495B-BBA2-A771E52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C867-8C6B-485D-8F0D-A384469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C85A7-6AAB-4E14-B837-B4179E4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E86E0-C834-42C3-A982-A6825ED5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C48CB-A390-4379-8DFF-02E3C44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1B65E-4064-4B8B-B6DB-9D8164DE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C8590-20FA-4701-8AB3-66BF85F5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70C6D-5501-4B07-B684-D9D6AAAA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7B133-C3EA-42BE-8C73-B8B3CA3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94A7B-3D9C-4661-A52C-852DD50B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27B4B-9E8A-4C04-B1A8-98EE56B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D3F3A-0DA3-4D94-8E13-74AFDD8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9C51-6F84-4F2B-A167-AB6B3FAC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341E5-4CC7-4C89-80A1-9BF78018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8075E-18A3-4B1B-B47A-AC6D5EB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42D13-E37C-4ACE-9470-8D417852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5A31D-B32C-4981-842A-DBE5DE6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8BF7D-B23B-4D02-A5EC-4490FEB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AC425-D3DC-437A-872F-CF09214A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E7449-A071-447E-B44B-FA4406B3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164-9C95-483C-A44B-E4D37806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6AD-7912-41FB-B2EF-D983308C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35D8-2013-4195-9E4F-D19A4F94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E26C-5078-47BB-981F-700B289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07D-97E8-45B5-81E8-2E99662F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DCF8-BDA7-46CA-9CA2-83193AC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2F2F-71DB-4D79-BC2E-2955011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9868-F794-42BE-B736-2AAFB504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258-62D6-4856-BC3A-DB3754FA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FBDD-12DC-4565-B082-F286C3DE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8A43-8C58-4FEC-ABE3-CBCCFC5B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F95A-561D-4D52-99EB-5D3E4E0A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62CE-CD75-4B6B-B6C7-5FFA9DFD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7DCF-CE3B-467B-B88F-47C1EFD6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2DC7-C91F-4605-A4F9-714EBEB9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835-D61D-4D8F-ADD0-3DF775A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46E7-8DE9-46BA-B853-947D23C0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F51C-D77F-42FE-8B27-937D7DA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A58D-B4D4-4C93-826B-D38DA49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B740-7D21-43C0-8A3D-19CDE68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DBD9-BFC7-49A1-8F33-DCC1C411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D213-9BFF-406A-AF72-37519657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A6F1-F2AE-4BBF-A83C-941EA7C1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CE4F-8092-41F7-A15A-38428679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682E-AD12-427E-A432-238A888E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350F-E390-49E8-B23D-D32E3E43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50F-C43C-465B-AE6A-38D357E9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4CBF-02D5-4932-A1C5-2A1779B2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CBBDA-DB66-4F1A-BE63-F9881DB6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DBA7-93F2-4A4D-A703-98AD84DC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C7AC-9494-43F4-A75C-A9531E50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A3BE-6388-45C2-8244-83AAD537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0757-3315-4937-977E-BB26445B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C7D4-9887-4921-9920-D61F40B8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060E-D42C-46EB-92A8-957FC0B7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A11E-0C49-4776-816C-FF7BD40D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7C21-C730-494E-8CAF-7CF44D46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5E2-BEFB-4906-97E3-6FDB2D93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2769-D209-4005-BE3B-E224C81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642C-C4A7-405C-8291-598218FC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EE9A1-02BB-40B4-AD43-895B1B2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3737-5839-4FA0-AFD2-01E096C4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CD7C-C75F-4AA2-A9DB-D7CE764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6FF1-A3E4-408D-9A7F-A4FB479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7B81-58A3-4116-8FB0-FB5DB21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822F-2FDF-4761-B580-1E54035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141F-CEC6-409F-A8DD-62103CC9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558D-0C2E-4FD5-8D9C-FB89D976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112-7C97-4833-8753-4CD05966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392B-3ED9-43D8-AC20-2D2DAD11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56FBD-7A9D-49C4-AE4B-A0FEBCF8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4E54-D562-4D98-92E7-F2F465D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87008-00D5-4A8A-94F4-8B22BE9B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F90A-FFC5-4430-A284-BA9EFFE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5F13-E9C4-47FA-B765-5C0F91B5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C584-94CB-4753-B701-5B5525E2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294C-B0FB-4B31-8D37-2C960B3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F70E-6B4A-47BF-A40E-9E577706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1331-38DF-4A4C-837B-1099F17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C1F-4664-4C78-B20F-2EB1221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EEC2-16F6-472D-B2A6-17B769A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6AC2-F635-4437-B5C9-86B5553C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D319-9B74-483A-AE4A-FEB40C40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130C-66C7-459D-8CFB-F3E6483C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9252A-62A7-413F-A872-E0495DE2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22D8-DF30-4DE5-AE5C-A3CE6143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FD073-F351-4653-AD93-5F52452A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2DC37-A52C-49B8-B25E-721D6FEA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C9F9-7889-4D62-84C0-5D7E1DD9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4092-8AA9-47B0-A545-41F3BCD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7C0-79B2-45A5-95A8-B88C3976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B7AE-CBCC-402A-AB7E-FBFE6F5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ADF6-FFF2-4D9B-A126-4F48E7FB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2555C-6FDA-432B-BF20-A6A753F6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7B66-261A-4906-86FB-8553AFB3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80C6B-12AB-4922-AE17-2FDFF467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A4554-A2BD-49BB-A8C6-8D62C044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23C68-0CCE-4FFF-845E-3BE8B06C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8FC8-DECB-4ABA-8EBB-35CD87D5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41DBF-C1E1-4E4D-A1D6-A0F054B9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A2C76-BE11-464A-AD3D-41F1C9C6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770-EACA-459C-A46A-2CFCE1A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66149-C30B-440D-B33D-F21D668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1199-E9C5-4261-8945-7DDC2D9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72048-F358-4806-BEA1-FDB9363A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7235-1C55-47E8-A90D-BD8DE98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714E4-2516-41BF-B0EC-15F38392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75D60-0289-4AD9-9BBC-4C2446BF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E128-7686-4E80-BAAE-2858C2EC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6E1B7-8010-4308-9DA1-53FFABAA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DAD2C-9AA1-421B-B9AD-A5969262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56E1D-28A2-4FA7-B54A-6194226E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59EB-32E8-46FA-B76E-16CCBE55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048-DA0A-49D4-A7B9-9BD15172CE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A39-D4FD-4A39-BAE9-A77884FE1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E22-1AD8-4251-8C96-3020E53FCB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579F-E571-455A-B5CD-89617D396E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129C-4948-4463-9652-3FD0450309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F436-DE1E-42E0-A862-12E4493DAA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8AAD-67F6-412C-8C40-12CB86B19F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3D09-3303-494E-9DCF-24E938084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AB4-89EC-4454-AE90-6B264D12BE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0506-A596-4C78-A3A5-F6FF30EFB0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FD88-C2AA-41C5-835B-0D5947C0AC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2456-A97E-4EA8-8908-93BEA2D8A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DB6-63A9-490B-817A-022B55F93C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4418-7113-400E-A00E-C7B4CDAC0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ADBE-0427-4D30-95B5-A5E1F9D4FD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EE09-39CC-4F44-90C0-C3221C8C3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F774-05E7-4F6B-8261-C25DD6DC85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7970-F200-4208-9AF3-3A174B5ED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1751-F3FD-434B-80C2-501AC96B3B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80B-BD03-4A40-A67B-70EBE6764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22B9-2E1D-4E3A-9463-0B40917AB2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3F8E-7971-480C-80EC-66156B429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426C-4D93-434A-8450-57A8D459C3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B040-2D81-406D-BE00-3CE104D10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Text Box 3" descr=""/>
          <p:cNvPicPr/>
          <p:nvPr/>
        </p:nvPicPr>
        <p:blipFill>
          <a:blip r:embed="rId2"/>
          <a:stretch/>
        </p:blipFill>
        <p:spPr>
          <a:xfrm>
            <a:off x="2876400" y="981000"/>
            <a:ext cx="33782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3"/>
          <p:cNvSpPr/>
          <p:nvPr/>
        </p:nvSpPr>
        <p:spPr>
          <a:xfrm>
            <a:off x="609480" y="41148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老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吼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道：“少废话，快走。”他用力把小伙子推上木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380880" y="4191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380880" y="533520"/>
            <a:ext cx="7696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老汉突然冲上前，从队伍里　出一个小伙子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吼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道：“你还算是个党员吗？排到后面去！”老汉凶得像只豹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1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2"/>
          <p:cNvSpPr/>
          <p:nvPr/>
        </p:nvSpPr>
        <p:spPr>
          <a:xfrm>
            <a:off x="-152280" y="380880"/>
            <a:ext cx="9372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黎明的时候，雨突然大了。像泼。像倒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山洪咆哮着，像一群受惊的野马，从山谷里狂奔而来，势不可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近一米高的洪水已经在路面上跳舞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死亡在洪水的狞笑声中逼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水渐渐窜上来，放肆地舔着人们的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水，爬上了老汉的胸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laohan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TextBox 2"/>
          <p:cNvSpPr/>
          <p:nvPr/>
        </p:nvSpPr>
        <p:spPr>
          <a:xfrm>
            <a:off x="4800600" y="11556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他像一座山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152280" y="198036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当洪水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_______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老汉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_________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0" y="0"/>
            <a:ext cx="9144000" cy="62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黎明的时候，雨突然大了。像泼。像倒。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山洪咆哮着，像一群受惊的野马，从山谷里狂奔而来，势不可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村庄惊醒了。人们翻身下床，却一脚踩进水里。是谁惊慌地喊了一嗓子，一百多号人你拥我挤地往南跑。近一米高的洪水已经在路面上跳舞了。人们又疯了似的折回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东面、西面没有路。只有北面有座窄窄的木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死亡在洪水的狞笑声中逼近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人们跌跌撞撞地向那木桥拥去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木桥前，没腿深的水里，站着他们的党支部书记，那个全村人都拥戴的老汉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清瘦的脸上淌着雨水。他不说话，盯着乱哄哄的人们。他像一座山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人们停住脚，望着老汉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沙哑地喊话：“桥窄！排成一队，不要挤！党员排在后边！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有人喊了一声：“党员也是人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冷冷地说：“可以退党，到我这儿报名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竟没人再喊。一百多人很快排成队，依次从老汉身边奔上木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水渐渐窜上来，放肆地舔着人们的腰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突然冲上前，从队伍里揪出一个小伙子，吼道：“你还算是个党员吗？排到后面去！”老汉凶得像只豹子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小伙子瞪了老汉一眼，站到了后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木桥开始发抖，开始痛苦地呻吟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水，爬上了老汉的胸膛。最后，只剩下了他和小伙子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小伙子推了老汉一把，说：“你先走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吼道：“少废话，快走。”他用力把小伙子推上木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突然，那木桥轰地一声塌了。小伙子被洪水吞没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似乎要喊什么，猛然间，一个浪头也吞没了他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一片白茫茫的世界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五天以后，洪水退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一个老太太，被人搀扶着，来这里祭奠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她来祭奠两个人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她丈夫和她儿子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untitled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7" name="再见警察.mp3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2"/>
          <p:cNvSpPr/>
          <p:nvPr/>
        </p:nvSpPr>
        <p:spPr>
          <a:xfrm>
            <a:off x="0" y="13424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五天以后，洪水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一个老太太，被人搀扶着，来这里祭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来祭奠两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丈夫和她儿子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16380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untitled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2"/>
          <p:cNvSpPr/>
          <p:nvPr/>
        </p:nvSpPr>
        <p:spPr>
          <a:xfrm>
            <a:off x="0" y="13424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五天以后，洪水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一个老太太，被人搀扶着，来这里祭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来祭奠两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丈夫和她儿子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3733920" y="533520"/>
            <a:ext cx="601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像一座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座屹立不倒的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更像一座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座联结生命的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鲜红的党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放光芒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6.mp3" descr=""/>
          <p:cNvPicPr/>
          <p:nvPr/>
        </p:nvPicPr>
        <p:blipFill>
          <a:blip r:embed="rId1"/>
          <a:stretch/>
        </p:blipFill>
        <p:spPr>
          <a:xfrm>
            <a:off x="8001000" y="5638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58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083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-76320" y="22716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桥前，没腿深的水里，站着他们的党支部书记，那个全村人都拥戴的老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清瘦的脸上淌着雨水。他不说话，盯着乱哄哄的人们。他像一座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沙哑地喊话：“桥窄！排成一队，不要挤！党员排在后边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冷冷地说：“可以退党，到我这儿报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突然冲上前，从队伍里揪出一个小伙子，吼道：“你还算是个党员吗？排到后面去！”老汉凶得像只豹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吼道：“少废话，快走。”他用力把小伙子推上木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似乎要喊什么，猛然间，一个浪头也吞没了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28600" y="11430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457200" y="16002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木桥前，没腿深的水里，站着他们的党支部书记，那个全村人都拥戴的老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97388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laohan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2"/>
          <p:cNvSpPr/>
          <p:nvPr/>
        </p:nvSpPr>
        <p:spPr>
          <a:xfrm>
            <a:off x="4800600" y="1155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老汉清瘦的脸上淌着雨水。他不说话，盯着乱哄哄的人们。他像一座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012000" y="3357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704200" y="48020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像一座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2"/>
          <p:cNvSpPr/>
          <p:nvPr/>
        </p:nvSpPr>
        <p:spPr>
          <a:xfrm>
            <a:off x="457200" y="16002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汉沙哑地喊话：“桥窄！排成一队，不要挤！党员排在后边！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187280" y="24210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7308720" y="24210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3924360" y="3213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0" y="152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老汉沙哑地喊话：“桥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排成一队，不要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党员排在后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72160" y="1844640"/>
            <a:ext cx="484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汉沙哑地喊话：“乡亲们，桥太窄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家排成一队，不要拥挤，不要慌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产党员，注意了，你们要发扬高风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的精神，请主动排到群众的后面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30492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汉突然冲上前，从队伍里　出一个小伙子，吼道：“你还算是个党员吗？排到后面去！”老汉凶得像只豹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815120" y="2438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984480" y="62784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096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30332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6294960" y="40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6877080" y="40766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只豹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3"/>
          <p:cNvSpPr/>
          <p:nvPr/>
        </p:nvSpPr>
        <p:spPr>
          <a:xfrm>
            <a:off x="380880" y="9144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汉吼道：“少废话，快走。”他用力把小伙子 上木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7800120" y="167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04920" y="374976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　老汉似乎要    什么，猛然间，一个浪头也吞没了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4599720" y="37497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270960" y="907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3768480" y="1700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用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7806240" y="170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4639320" y="3716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TextBox 3"/>
          <p:cNvSpPr/>
          <p:nvPr/>
        </p:nvSpPr>
        <p:spPr>
          <a:xfrm>
            <a:off x="38088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突然冲上前，从队伍里揪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吼道：“你还算是个党员吗？排到后面去！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凶得像只豹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瞪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眼，站到了后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533520" y="3962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把，说：“你先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吼道：“少废话，快走。”他用力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上木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219320" y="29718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2:18:2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50:31Z</dcterms:modified>
  <cp:revision>13</cp:revision>
  <dc:subject>第一PPT模板网-WWW.1PPT.COM</dc:subject>
  <dc:title>第一PPT模板网-WWW.1PPT.COM</dc:title>
</cp:coreProperties>
</file>