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0F6-C808-413D-B5D4-DC14F1ED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74A-57BD-4325-8960-65428632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FA23A-A043-442F-8E7F-AE877A1E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98DFB-E41B-4294-9732-1412180E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CCD98-FD0B-4129-B27C-19B2567E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D5043-DDB9-4C72-88FE-E6293977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5BEB7-FCC9-4ECF-8F86-317214C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500DB-2D66-4B78-A9BF-3527B671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08920-03D0-42D4-9A8D-F41FD8B0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7167F-0E04-4B58-9571-5D622A49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33C32-B1E6-4BE4-9BEE-A102F552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40DC4-4F2E-4B08-9C4A-A1C953F3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1F6-1B9E-42FC-8EEF-C6A47E5B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73EF9-CB1E-4262-8B03-CFEE05D2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FF9DE-404C-4330-86E3-86189286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8B076-9714-45DF-A2A2-40328876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1631C-E2EE-4988-952D-7C11615E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6219D-D6DB-4087-999F-4D77EBCE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3167D-EE77-4819-B0C3-A500420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52D5B-0A79-4DA2-9E2F-DBE8F08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60919-32ED-46BF-9BF9-3837A20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75537-F21B-41A2-89A2-EE83BA7B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A69C4-D9F8-485F-B64B-5CCD46FB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3F0-4FCA-43FA-84FC-2E46C221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816A6-6919-44BD-ACC6-1807A279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36F4F-2D78-48B8-9997-128F949E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E66D1-5C73-4108-A255-4A7BD78E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12AB3-5031-4D4C-ABE6-036CCCBF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1DA7F-73EB-4C4F-95C5-2BB23B36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6F21D-C370-4620-B20E-D6E80649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9E1E2-14F8-4FDF-A20B-05B1488E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3F66E-80F0-4368-9B46-95D43039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5CEEF-E93D-4CDB-BCE6-6B7E33B5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04916-1D5D-498C-B68D-7CAD0A91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BB62-BE7A-443E-B0B1-6E9F8416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9B80A-77DF-43C8-BEDC-4CEFD3A8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5866C-96E9-4679-8694-A1CD9FB1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0DCBF-991E-4894-80AA-B7CCDCDF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C58C6-D5F1-43E4-8072-5D7CEBA2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0852E-5DD5-4E69-8C15-9B0D4C2F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F4EB0-876B-4E91-9173-AB2DFBFF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1284F-3DED-4D0E-A8AA-DA3F0825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F6786-EA05-42CA-B6E5-94DFF3D0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C7B01-44D1-4E0F-A637-3CB1D4F6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F42F2-386C-43FA-9C90-E8AE1FD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BC56-22FC-43C8-BDAA-3AFE3303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E1401-0907-4B55-A223-EEF809F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BC233-F78B-4A3B-95E6-F5814FC4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29877-5F82-4902-AE2B-1CFD0E4E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6E2AD-F63B-4B31-ACDC-188A8EBC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143E5-C497-47D3-91BD-ACFA8BD4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0EDCE-C323-42DA-B372-4BF7E475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57475-5D46-4891-94AE-5B0561F8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3B660-B44F-433C-BC12-D60BFFF1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FDCCD-2A9A-4FFB-A212-876E7DED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27CC2-451E-40FB-9AB7-B6DDE2D2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27FB-A2B3-496F-A2DE-F84BE1B4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FF674-6B2C-4531-9622-9C92ABC1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C74F6-BA6E-44C7-A2FA-B49A64D6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520DE-8ACF-44C6-A088-38A8188D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7EEF8-1B94-46AB-BC4F-D01F43A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183EF-A8AF-41B1-B613-8C4D53D5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30175-24AD-48F4-BC63-77009C7B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78D66-B4C5-43E1-BD3B-53B4DDDB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B6D5-D913-4C74-9718-E3952297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A7D0-C802-4A64-B0DD-BA6E3F92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3B38-82E5-4B4C-9404-AB2EDA49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052E-B137-4C23-B337-83170F4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E57-833A-4215-9692-3D397172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E04D-60FC-444C-A7C7-7D2F1728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AEC1-2EFB-4CA1-9F3F-FBCC4A0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402C-1156-41A6-8A9C-098B3E9A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BBAB-ED3C-468C-BD61-A9202694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57CE-3BBF-4F55-B506-1171268D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6A18-2251-4E2C-96F1-3AE394F3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EA1D-BA3D-4EB1-9F9F-AF3816A1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1AB3-F547-4774-8B1B-FA572997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97C3-5715-460B-8BC3-2D7EDBE7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7D1A-2EAD-49B1-AA49-0E1ADB77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416-ACEE-47FF-B8D4-11AD7D04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1D6E-A01F-40BF-98CE-E03772DD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94452-5101-4930-B2F0-EFBAD8ED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4D54-81D6-4AEC-8743-1AA29853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3152-249A-4962-AD53-B001C770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3817-F90B-462A-A552-4D27C330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001C-8913-480E-9B19-B409DAB1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FD92-03E3-4E19-BFB0-70269373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C8D4-F502-4123-8600-76E86EE6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2DF3-1EBB-424C-8E74-3EB88940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4A477-B9CE-4AF2-B0F1-529FF9E6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F04-EA7C-42DF-9C80-760EFB3D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22E4-834E-49E9-8962-24ED5E97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B86DE-7086-44FB-A59F-D35B68C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259E-8FEB-4235-9C41-A6ED123D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34B20-B77B-48B6-B685-9F418A1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8290-787A-4293-B9FD-4D5B72F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687D-1919-4729-9C74-A8F365EC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4CD8-763A-4644-A926-4C7D4266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BD4B-2661-466C-95E4-1F3D3D69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C4E5-C117-421F-B6F5-67B1ACB0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18552-4992-4680-9653-36DB14D1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877-0775-46D0-A5DD-A622140B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F869D-8BA5-4B5C-9C6D-9A4EC578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BAAF6-3A73-4D1C-9E9C-C15BA6B8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1061-2320-4AE5-9DB1-369E1EDF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8B538-C2AC-4E60-A16A-0BAF7D48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69F62-6416-4B89-BFCF-51E3786E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EFA67-CFA2-48E5-9C19-0E8D3EF5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19859-08CA-45D3-9612-D8489CE6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38DFA-172C-4CDB-92D3-A37E6782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62469-85FF-46BF-8F8D-0776A167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C770E-57B2-4BFB-87F7-E6BC2A5A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01D-AB6B-469B-8EB9-9FBD8935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43A2-3C18-4655-B8BA-E98FDBB1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1AC66-1E9F-4BD5-812D-87E3F4F3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66CA6-B694-4280-AA66-77E13586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4905D-D1AD-41E0-B026-558FB71D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B8B11-041C-4BDF-90A7-1A75AE1D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29DD7-523E-4C3D-8D41-873CB557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AAF03-EFB0-4283-A29A-76D21DF0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000D-42E7-4FB0-8679-9814A52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53AEF-FF33-4328-965C-FDC2B8E5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52AB-E692-4614-BDC5-17B27CA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294-8722-4872-91D8-B379C83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021F2-D4EC-4BDF-B7A0-95EECB8A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7C04B-E641-46C0-87D7-911F76D7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66A9-E726-4924-9D89-F6434818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433B7-9EA1-4463-B40F-28102CB1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08749-FEC2-492C-93CD-9753AA5B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4D7F0-CF5B-4DE8-9195-C0EEE6EA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B6C57-3747-4448-882F-4E806E88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75A88-4A65-4448-A087-79864443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540BD-66E5-44C6-B649-A85BDC17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CAABC-FCD1-4FDD-A854-03DBB6F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2C8-A563-4F7D-991E-448FC20E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9D8A0-09F6-40FD-BFCD-ADC94DB1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6792B-D235-415B-893E-EF592344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C8E4-FEEA-4EE6-BE27-67F17D39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7580-26E3-43E7-A06D-F5994037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610AE-DC96-435D-A9FD-2F792731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F9AF1-9AA7-4200-8B9F-4D8127B2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98281-8BF7-491F-A878-94DDE2EE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01542-D825-4CDF-8413-5F2EBFE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782BC-4778-4CF3-9373-6D97DC86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2BF2-7890-4E4A-9BF5-98723571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806-48B8-4915-9E74-ECDC892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D5C3A-3CE1-4D77-B0D8-4468FBA4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3269F-01DC-4BFE-AC8D-967D9CDE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CECB6-D33D-4CB2-A41D-7063E930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E67C1-F19C-44FA-BC70-0333231A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CA631-2B48-4C06-B934-87FA83BA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02F26-901F-4C0B-849F-A5960328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ED808-9E69-470C-8166-8CE039D7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A604F-6B1E-40FC-8E17-AB3F4693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4C83F-88C5-4958-8CDF-452E02FF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4FA1C-932F-47E4-AE22-D63CA156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55FB-ECD4-494C-A643-04D39AA7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7A2A-A866-4967-943D-08FEE8A04E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2894-34DC-4623-8DDA-1524CC122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41A0-0EF9-496C-8805-285371FBFC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D3C9-EB89-4A59-932F-6196D785E7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824-4F9E-46CC-B7DD-ED1EA801B8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4E85-1CB0-4A2E-AA6B-A2B02B1067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F1AA-DF0A-4534-A9BE-8DD578E114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154C-36E6-480F-A680-80990FF042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AAA5-E07B-43BA-BCF6-3877F4AAE4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B566-B20A-4DD9-BE59-1212B5674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808C-875F-4DF9-87F2-F0E963A385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D4D2-B249-4379-A659-309DCCDEF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32DF-0E38-4925-8582-28316C053D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1C7-D1D5-41D0-9F71-2191524F6B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FA4D-19D0-4C89-A6DE-CCC9992AB7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C943-CE1E-4ED8-969D-1DD0F15905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C54F-2FC3-40FD-8B7B-D085E0FB42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9389-5585-4B6F-BC4E-B07C8040B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B622-1685-4ED1-860F-AF0D272E87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AA8A-A2CF-4B4C-BB5F-B43B8BA636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3B22-6E4D-4501-9CE0-E2B8E1AC28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AE2C-2710-4E42-BAF0-AD1A817CEB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7131-4433-45A6-8366-B88D03B493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1B37-A344-4103-9E0A-A860F2B8D7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WordArt 4" descr=""/>
          <p:cNvPicPr/>
          <p:nvPr/>
        </p:nvPicPr>
        <p:blipFill>
          <a:blip r:embed="rId2"/>
          <a:stretch/>
        </p:blipFill>
        <p:spPr>
          <a:xfrm>
            <a:off x="3078000" y="371520"/>
            <a:ext cx="5085000" cy="1262160"/>
          </a:xfrm>
          <a:prstGeom prst="rect">
            <a:avLst/>
          </a:prstGeom>
          <a:ln w="0">
            <a:noFill/>
          </a:ln>
        </p:spPr>
      </p:pic>
      <p:sp>
        <p:nvSpPr>
          <p:cNvPr id="534" name="WordArt 27"/>
          <p:cNvSpPr txBox="1"/>
          <p:nvPr/>
        </p:nvSpPr>
        <p:spPr>
          <a:xfrm>
            <a:off x="1447920" y="1981080"/>
            <a:ext cx="66294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青山不老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9"/>
          <p:cNvGrpSpPr/>
          <p:nvPr/>
        </p:nvGrpSpPr>
        <p:grpSpPr>
          <a:xfrm>
            <a:off x="304920" y="1066680"/>
            <a:ext cx="8458200" cy="5257800"/>
            <a:chOff x="304920" y="1066680"/>
            <a:chExt cx="8458200" cy="5257800"/>
          </a:xfrm>
        </p:grpSpPr>
        <p:pic>
          <p:nvPicPr>
            <p:cNvPr id="571" name="Picture 7" descr="b49"/>
            <p:cNvPicPr/>
            <p:nvPr/>
          </p:nvPicPr>
          <p:blipFill>
            <a:blip r:embed="rId2"/>
            <a:stretch/>
          </p:blipFill>
          <p:spPr>
            <a:xfrm>
              <a:off x="304920" y="1066680"/>
              <a:ext cx="845820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6" descr="list-down"/>
            <p:cNvPicPr/>
            <p:nvPr/>
          </p:nvPicPr>
          <p:blipFill>
            <a:blip r:embed="rId3"/>
            <a:stretch/>
          </p:blipFill>
          <p:spPr>
            <a:xfrm>
              <a:off x="3962520" y="5029200"/>
              <a:ext cx="48006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8" descr="pic_27067202"/>
            <p:cNvPicPr/>
            <p:nvPr/>
          </p:nvPicPr>
          <p:blipFill>
            <a:blip r:embed="rId4"/>
            <a:stretch/>
          </p:blipFill>
          <p:spPr>
            <a:xfrm>
              <a:off x="1219320" y="5410080"/>
              <a:ext cx="289548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WordArt 4"/>
          <p:cNvSpPr txBox="1"/>
          <p:nvPr/>
        </p:nvSpPr>
        <p:spPr>
          <a:xfrm>
            <a:off x="2590920" y="1752480"/>
            <a:ext cx="3429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中宋"/>
              </a:rPr>
              <a:t>小组活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295280" y="31240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四人小组分工合作，结合课文内容分析：老人在种树造林的过程中遇到了哪些困难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52320" y="137160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要点点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42640" y="243792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山沟的自然条件十分恶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老人年老、瘦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生活条件艰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同伴、老伴相继逝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从课文中找出相关语句，大家一起来读一读，体会老人植树的艰辛和精神的可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76360" y="11426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知识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晋西北土地沙漠化日趋严重，属于沙尘暴高发区，素有“一年一场风，从春刮到冬，无风三尺土，风起土满天”的说法。这些主要分布于大同、朔州、忻州三市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县（区）的风沙带，土地沙漠化面积每年都在增加。右玉县老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米高的城墙如今已被黄沙埋没，人可以沿坡直接上到城墙；五寨县许多村庄，由于风沙侵害，每一二十年就被迫搬迁一次。由于气候恶劣，植被稀少，从西伯利亚吹过来的强劲季风，经大同、朔州地区时把当地粒碎质轻的栗钙土卷向高空吹向河北平原、京津地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ico09"/>
          <p:cNvPicPr/>
          <p:nvPr/>
        </p:nvPicPr>
        <p:blipFill>
          <a:blip r:embed="rId2"/>
          <a:stretch/>
        </p:blipFill>
        <p:spPr>
          <a:xfrm>
            <a:off x="304920" y="1219320"/>
            <a:ext cx="8458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1086846_8551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我们应该如何理解</a:t>
            </a:r>
            <a:r>
              <a:rPr b="1" lang="zh-CN" sz="4400" spc="-1" strike="noStrike">
                <a:solidFill>
                  <a:srgbClr val="3333ff"/>
                </a:solidFill>
                <a:latin typeface="华文仿宋"/>
                <a:ea typeface="黑体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青山不老</a:t>
            </a:r>
            <a:r>
              <a:rPr b="1" lang="zh-CN" sz="4400" spc="-1" strike="noStrike">
                <a:solidFill>
                  <a:srgbClr val="3333ff"/>
                </a:solidFill>
                <a:latin typeface="华文仿宋"/>
                <a:ea typeface="黑体"/>
              </a:rPr>
              <a:t>”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的含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4"/>
          <p:cNvSpPr txBox="1"/>
          <p:nvPr/>
        </p:nvSpPr>
        <p:spPr>
          <a:xfrm>
            <a:off x="2209680" y="3505320"/>
            <a:ext cx="5105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华文中宋"/>
              </a:rPr>
              <a:t>难点理解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１、是的，保住了这黄土，我们才有这绿树；有了这绿树，我们才守住了这片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5943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黄土提供了绿树成长所需的养料，而绿树的根则扎紧、牵绊着黄土，使之不至于流失。这正如老农与青山是息息相关、不可分离的。这片青山养育了老农，而老农用自己一生的努力，创造了这片绿色的奇迹，作为对青山的回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图片7"/>
          <p:cNvPicPr/>
          <p:nvPr/>
        </p:nvPicPr>
        <p:blipFill>
          <a:blip r:embed="rId2"/>
          <a:stretch/>
        </p:blipFill>
        <p:spPr>
          <a:xfrm>
            <a:off x="6553080" y="2666880"/>
            <a:ext cx="180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95280" y="1447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２、他觉得种树是命运的选择，屋后的青山就是生命的归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仿宋"/>
              </a:rPr>
              <a:t>　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面临享福与吃苦的抉择，老农毫不犹豫地选择了开辟山沟、改造山林的艰苦之路，因为他知道这条山沟需要他不断地种树绿化，因此他愿意将自己的一生都奉献给这山沟，将自己的生命都奉献给这青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３、他已经将自己的生命转化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另一种东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。他是真正与山川共存、与日月同辉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6019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另一种东西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表面上指的是这片绿洲，事实上还包含着开辟山林、绿化家园的精神和造福后代的情怀。老人用自己有限的生命创造了无限的价值，生命的意义在茫茫青山中得到无限扩张，而且将随着青山永垂不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20063917574731822"/>
          <p:cNvPicPr/>
          <p:nvPr/>
        </p:nvPicPr>
        <p:blipFill>
          <a:blip r:embed="rId2"/>
          <a:stretch/>
        </p:blipFill>
        <p:spPr>
          <a:xfrm>
            <a:off x="6553080" y="2743200"/>
            <a:ext cx="1981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520" y="487692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青山是不会老的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238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老人用自己的勤劳善良创造了这片绿洲，以有限的生命创造了无限的价值，生命的意义在茫茫青山中得到无限扩张，而且将随着青山永垂不朽，这是不会因为年龄的增长而变老的。这位普通的老人让我们领悟到：青山是不会老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20062285471074710"/>
          <p:cNvPicPr/>
          <p:nvPr/>
        </p:nvPicPr>
        <p:blipFill>
          <a:blip r:embed="rId2"/>
          <a:stretch/>
        </p:blipFill>
        <p:spPr>
          <a:xfrm>
            <a:off x="7010280" y="472428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0" descr="2_248_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WordArt 7"/>
          <p:cNvSpPr txBox="1"/>
          <p:nvPr/>
        </p:nvSpPr>
        <p:spPr>
          <a:xfrm>
            <a:off x="2666880" y="68580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再见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ircl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057040" y="25146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治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归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荡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领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风雨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舟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2590920" y="1523880"/>
            <a:ext cx="3352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中宋"/>
              </a:rPr>
              <a:t>字词正音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5181480" y="25146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zh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5257800" y="32004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s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5105520" y="388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y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5334120" y="4648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w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5105520" y="5410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zh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0" descr="1012539724"/>
          <p:cNvPicPr/>
          <p:nvPr/>
        </p:nvPicPr>
        <p:blipFill>
          <a:blip r:embed="rId2"/>
          <a:stretch/>
        </p:blipFill>
        <p:spPr>
          <a:xfrm>
            <a:off x="5867280" y="10666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198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肆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盘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归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劲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淤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荡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200400" y="2133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任意残杀或迫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3200400" y="2666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非法占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200400" y="3276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或事物的最终的着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3200400" y="3886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坚强有力地挺立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3200400" y="4495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沉积的泥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3048120" y="5105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水波）一起一伏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13"/>
          <p:cNvSpPr txBox="1"/>
          <p:nvPr/>
        </p:nvSpPr>
        <p:spPr>
          <a:xfrm>
            <a:off x="2362320" y="1371600"/>
            <a:ext cx="3124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词语理解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51" name="Picture 15" descr="1012539724"/>
          <p:cNvPicPr/>
          <p:nvPr/>
        </p:nvPicPr>
        <p:blipFill>
          <a:blip r:embed="rId2"/>
          <a:stretch/>
        </p:blipFill>
        <p:spPr>
          <a:xfrm>
            <a:off x="5943600" y="1066680"/>
            <a:ext cx="2857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8"/>
          <p:cNvSpPr/>
          <p:nvPr/>
        </p:nvSpPr>
        <p:spPr>
          <a:xfrm>
            <a:off x="609480" y="13701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6" descr="bottom-cao-bgimg"/>
          <p:cNvPicPr/>
          <p:nvPr/>
        </p:nvPicPr>
        <p:blipFill>
          <a:blip r:embed="rId2"/>
          <a:stretch/>
        </p:blipFill>
        <p:spPr>
          <a:xfrm>
            <a:off x="304920" y="106668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73356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老农创造了怎样的奇迹？</a:t>
            </a:r>
            <a:br>
              <a:rPr sz="3600"/>
            </a:b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请从文中找出有关的句段加以说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WordArt 4"/>
          <p:cNvSpPr txBox="1"/>
          <p:nvPr/>
        </p:nvSpPr>
        <p:spPr>
          <a:xfrm>
            <a:off x="2971800" y="19051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自读课文，</a:t>
            </a:r>
            <a:endParaRPr b="1" lang="en-US" sz="1800" spc="1" strike="noStrike">
              <a:ln w="12600">
                <a:solidFill>
                  <a:srgbClr val="00cc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思考问题：</a:t>
            </a:r>
            <a:endParaRPr b="1" lang="en-US" sz="1800" spc="1" strike="noStrike">
              <a:ln w="12600">
                <a:solidFill>
                  <a:srgbClr val="00cc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6" name="Picture 8" descr="g_cha_p_08"/>
          <p:cNvPicPr/>
          <p:nvPr/>
        </p:nvPicPr>
        <p:blipFill>
          <a:blip r:embed="rId3"/>
          <a:stretch/>
        </p:blipFill>
        <p:spPr>
          <a:xfrm>
            <a:off x="6934320" y="160020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U98P33T148D49979F2100DT20040722105707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914400" y="1523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狂风肆虐、沙尘暴盘踞的山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500_4Vnn0yHG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68580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现在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绿意荡漾的青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１、我们盘腿坐在土炕上，就像坐在船上，四周全是绿色的波浪，风一吹，树梢卷过涛声，叶间闪着粼粼的波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09680" y="320004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仿宋"/>
              </a:rPr>
              <a:t>作者用比喻的方法，描写了漫山遍野绿意盎然，林间松涛阵阵、叶间微泛绿波的画面，喻示着老人投身山林、为改造山沟所做的巨大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2005911133437813"/>
          <p:cNvPicPr/>
          <p:nvPr/>
        </p:nvPicPr>
        <p:blipFill>
          <a:blip r:embed="rId2"/>
          <a:stretch/>
        </p:blipFill>
        <p:spPr>
          <a:xfrm>
            <a:off x="609480" y="327672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5" descr="b49"/>
          <p:cNvPicPr/>
          <p:nvPr/>
        </p:nvPicPr>
        <p:blipFill>
          <a:blip r:embed="rId2"/>
          <a:stretch/>
        </p:blipFill>
        <p:spPr>
          <a:xfrm>
            <a:off x="304920" y="1066680"/>
            <a:ext cx="8458200" cy="52578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bottom-cao-bgimg"/>
          <p:cNvPicPr/>
          <p:nvPr/>
        </p:nvPicPr>
        <p:blipFill>
          <a:blip r:embed="rId3"/>
          <a:stretch/>
        </p:blipFill>
        <p:spPr>
          <a:xfrm>
            <a:off x="304920" y="5715000"/>
            <a:ext cx="8458200" cy="6094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678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２、</a:t>
            </a:r>
            <a:r>
              <a:rPr b="0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15</a:t>
            </a: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年啊，绿化了</a:t>
            </a:r>
            <a:r>
              <a:rPr b="0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8</a:t>
            </a: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条沟，造了</a:t>
            </a:r>
            <a:r>
              <a:rPr b="0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7</a:t>
            </a: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条防风林带，</a:t>
            </a:r>
            <a:r>
              <a:rPr b="0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3700</a:t>
            </a: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亩林网，这是多么了不起的奇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３、杨树、柳树，如臂如股，劲挺在山洼山腰。看不见它们的根，山洪涌下的泥埋住了树的下半截，树却勇敢地顶住了它的凶猛。这山已失去了原来的坡形，依着一层层的树形成一层层的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7" descr="200591113351127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19520" y="182880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老人是在什么样的情况下创造了这样的奇迹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WordArt 4"/>
          <p:cNvSpPr txBox="1"/>
          <p:nvPr/>
        </p:nvSpPr>
        <p:spPr>
          <a:xfrm>
            <a:off x="2666880" y="3809880"/>
            <a:ext cx="4648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再读课文，思考问题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14:57:02Z</dcterms:modified>
  <cp:revision>3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