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EB757-45F4-482A-920D-4B56C72B8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83D7B-2CF0-4E98-9A79-0A6A04867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380EC5-99F5-46AA-BFEE-0468BAB53D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CDC9C6-F80B-4BEE-8ACC-97A060FCF2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5D671C-0F35-4D69-AB8E-447A124EAB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5E900D-0791-489C-B98E-D85E1EEF92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FF5F5D-9916-4EB3-839A-2569E869A4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31884F-340E-4DD7-B5B9-345AFE3F28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89346D-F420-4B03-88B2-0538470A1C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8ADC12-A634-4BA0-AACD-3CAC8FEE25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2B529F-9FD2-4C90-B56C-CE6F675835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789D32F-37C2-4BE0-AB17-1FFCDB13B5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0CDA7-FEA8-42DF-A944-072A16C20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5E850F-DD6F-4C3C-84EC-4E77187CFC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4BB973-16F7-487B-9048-2F7461F890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26E772-F67E-4F4C-9E78-B3383C1932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15A0F5-A4DD-49AF-9C94-F33B08628C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C59204-AD78-466B-B55A-0916D317F7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4BE3EF-DA48-415B-BFE8-E1C1724CCE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B6F265-058D-4C23-A9E8-561EA45CEB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C2ABBB-4CD8-46A0-B758-3C3E50316C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01F059-DDC1-4B98-8017-8ED44CB274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1CE330-81E8-465D-BC1F-05C381DE1AE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19CE8-E44B-459D-A4B7-8E3C860F3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50C657-748F-4CC2-8362-A81B6698ED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F4BDD91-7B61-439E-866D-311A1B0666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A8F0F5-15D4-4FD5-8258-53929D6439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C8000E-069E-40DB-BA6E-1CFBCE0756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131AEC-85B6-4EBC-BA5A-7B3493E4CF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ABEE45-58B3-4ADA-B726-611C9B3613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B17A42-99D4-48ED-BD11-080A9CA395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A5960E-41A7-46AE-9A2A-A2C2EABCCA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57AA35-2EAF-4592-8912-6CB10F8E68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F7C89C-A99D-4AA5-9F22-DA531C9D09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2A60A8-B6C7-4075-923E-AC886D0BF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E15BBF-0587-4C8D-AE55-DC1B44DC6B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1D7DFD-1A44-4B1A-A20B-BBB3BD7BB01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F3E25A8-4F3D-4596-9328-27BD5B7D8B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92932A8-40AA-4B45-9E38-37B1C6A0EB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3421FF-02E2-442F-9B46-1097AC018C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46BBD0-29A8-447A-BB8C-2B5F46013F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93675D-CDF7-4368-B376-61AD9EE439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C84068-17B5-4C08-BC6F-39D12CF91C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2ED90F-83B4-4262-BCDF-D26E1B05B3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BF4A48-0E76-494B-911A-6AFCA3BAC0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2A88E-140F-4033-A1D1-5DE66D100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30DC6C-7AAD-4E64-AE1D-93B1C3BCF2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C6113F-CF54-4139-ABA1-263C4F1FD2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E11C07C-B821-4427-8E05-761C3FED9A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B2989AC-F8A6-4384-89B4-E68C5A7AEE5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0F9E53D-66C4-496C-AABA-628BE23E3B4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A11E4E7-9256-4BC8-945B-765B5BF8264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2372278-8C73-4927-83B8-86E6EF26EB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4856AEF-49B8-49EC-9EEB-F5CC9F3AECF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19B6AB-FB78-4F0E-8D03-E506D664E4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E4F9A6-8879-420C-AF74-0B63F699C4F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13954-6415-43D1-8ED1-A122731D7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99D583-B407-4002-BD86-71B6DD440BE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33A2AD-21A6-4AE4-AA6A-741AFD752E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CD86EB-91C6-4CD5-B85B-BB3D18A82F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B5852D-0BFD-4DBD-A437-A898E00E70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9A5EC05-897E-4777-AF88-033431AC0F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EA3F43E-8F28-4706-AE3D-C73974F2487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54065A9-2EE4-42B8-BDE3-5AB28AC578F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230E9-0610-486A-A809-906EEE9F3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A25F8-3FF3-45B5-BA3C-BAB306065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719E7-52EB-428D-B1ED-7EF8AFE71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3A53A-47CA-447D-A65B-5F2E0DF0D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46257-D4BA-44E5-9AE3-A201331FD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DA4A1-3271-4FC3-A01A-468BC62E6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15F3B-0C14-4333-8B08-DE6383705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84C8C-2D0D-4299-8194-239D55B4D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E935C7-A6D4-46AA-93D1-F4194CDBB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C9B69-84B4-4E0C-BB31-9AA7BF649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583286-2587-46C1-B358-58D88D0E19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5BA3CD-E504-4EAE-901E-5C067F79B6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8B36F6-2780-466B-832C-D436DA3360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43FC38-F21C-4EA0-8D94-1B75BBCE6B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1C8E53-692F-4E91-9BE4-758DB65605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71AF6-DFDC-47F0-B65A-18098E899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AECD4-9AA8-42CF-9E3C-D22DE50636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ADFCEA-61B0-4FF3-9448-754B525D3C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E0EAC-B113-4A67-AA14-9E833B2AA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1149D-3AF3-44AF-8CBD-28E45CD6D1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11ADAC-B569-49B9-A340-174E6B011F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05C09A-6F01-4F67-A04B-4BD6237902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3A752C-C5BC-4A2E-A9D9-5824FE8533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71DF41-FCBC-49BE-86F4-C125CE69DD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300725-FC03-4F4C-9A6E-C9663615CB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9B7C42-32BD-400C-B292-E0E6924820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21EB1-E2F7-4031-B9A1-EE829D4C6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9A4EBD-6DE1-4417-BF26-EA2492E90B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8D4E32-311A-41E2-A868-011A814C35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8D44F9-262F-4AEE-BD36-436F3CC28A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A67B70-8D6D-4430-B8F8-67F36A3998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209347-3373-404B-AAA0-4D9C0692CA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FE0A2-30A7-43C3-90F8-F89DC0D9F8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584FC7-6AF2-4BEB-842A-4A77620A7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17920A-66BD-4C79-866D-A7B6755A82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1FFF10-4E03-4590-8EBF-F0BF52A4D5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604BCF-7FA6-44B7-820A-C39FF09F28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1D713-BE19-4E94-AF15-74DD026C6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DCD950-4A02-4039-B580-1F6219BE01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234C74-7533-424C-BFE8-8FFDE23A40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4C3963-5EB3-433A-A8C9-D8F3B9AF5E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D920C5-2E2A-469F-ABF2-A4DB942F90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0D82E9-BAF3-4BEF-A84E-E25558F7AD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95FDEF-9A1D-4BCD-A5FC-304C632907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C043FE-9415-4B17-B669-1794E7B58C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C43573-7B46-4EF2-B027-9791DC2A08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A3286B-886B-4E83-A8AD-F20B259A74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B67FF0-18B0-4ABF-89AD-5E0787108B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1B4E2-5014-4EEB-A26E-B657CB4BA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6F68D3-5DE9-4EAF-9BC6-058CAAED79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7EB379-AB0B-4F58-B276-9397850DFD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9A8C59-328B-4987-9A52-981D8E0462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0D4D0F-0F4A-4C78-B499-57187B40C2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A80389-3452-4310-95E1-39A4F655FB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97B6BF-B24B-4E8E-9F88-EDC465C8DB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EE787D-472C-4A07-A149-46F6A9CBA3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3D71FE-AF95-4A96-80EE-36C16153D5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203DFD-6FD4-48AB-963E-9AD17761B6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239FF-2A83-444B-AB5A-84A6478FBB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BA37B-C7C3-4767-A7C2-E9A28E2B2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1426F0-3244-4AAC-BC0C-C86ED11D9A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D87ECE-F669-42DB-AAF8-76CC3E10F6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CB47B1-AFEB-456B-A142-A2725FDA07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DD69F8-70C5-4ACE-9847-83F6ED3C73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29271F-C28E-4F25-8AC1-BA84F7BFF7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ED020E-88CC-404D-A0C7-1971690791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E146EA-8C91-453C-B464-96AC077C86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16E5B0-79CD-4944-9075-DAD4A9E1E6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2B13A6-18B9-4EE9-83D8-B3D8EA7E2B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3470F0-95D0-4010-876F-BB9234AF2E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34E75-8A34-4AB5-8057-BF75ED681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DBD93D-98D8-4C48-99D3-88E10D1E8F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818D0E-4648-449F-8858-19B6D571EE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D8BC8F-9DC5-4FC1-865C-22FC73FC80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B5E2F4-F4AC-40ED-9A78-7E1A854E6D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E7FF8B-B068-4E48-87C9-20B5F37FB1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38F7B1-8BFC-4D06-ACA0-91D5424B40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07AD49-719C-408C-81FE-7D62809759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06D0BD-FAB1-4287-99A2-09F6325295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129695-C3E9-4B7B-AAC7-15A1319271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6DAC94-744F-465D-BF5B-0E841FEE4C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A6F75-4C95-48CA-9860-3129C3272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936780-9CE9-45E2-B92F-28FF14E66D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55441E-6B6B-4CB6-84CA-7946FC0A33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902BEE-49B7-400A-8277-FC9404001C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3952BD-6CE9-4DE9-ADD2-2F8A1D61F0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299A8C-088E-450C-8277-36EA6BCE92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26175C-3A2F-4A8D-8A1E-95F792ED3A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63BA6B-5C69-4F5C-8136-1C0681A6D7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F48769-6E5F-4FED-82C5-29BC7F404C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C6F15D-6181-4DF8-874D-AEEED9D439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D2F8EE-A748-4E47-BE13-0DE926123D9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60F6-A233-43BA-BD45-199EA84E93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33DC-7431-4EAF-94CC-8CA3659A5C32}"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53247-FDC8-4640-9EA3-384D8CF07D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F1D8-1264-47E0-B356-F9E4FDF7050E}"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1F60-B036-4DAC-885B-0E2AB7EB1E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6E52-E523-4ED6-8A18-E94DAE41A4F6}"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9DE7-6A0F-4357-8375-893E0B15AF5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0469-F798-44C3-8ED7-7FF321130F33}"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B7C3-755F-475D-99EB-C33819F804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584C-A9C8-41C5-9D5A-417D251F125E}" type="datetime">
              <a:rPr b="0" lang="zh-CN" sz="1400" spc="-1" strike="noStrike">
                <a:solidFill>
                  <a:srgbClr val="000000"/>
                </a:solidFill>
                <a:latin typeface="Arial"/>
              </a:rPr>
              <a:t>26/7/29</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3DCF-54E6-47F6-BB1F-A66D7833F51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A4CB-DF12-426C-8C33-49B4EE15574E}"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3A00-644E-4463-9184-4A4103BABD6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BCED-4945-480D-90F0-91EB868382DA}"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070D-661C-475C-813B-9B34820FA67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4FE6F-C957-41A7-89B1-DFADE825AF9B}"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FAF45-6A41-4153-8CC3-C77EADEC439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243C0-BF8E-4FFB-BA0B-14E49459FD53}"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E6DE-7765-49DC-A732-F86278B231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391A-266B-425D-A312-173DAD036794}"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A0DA-F4CB-4D10-8E07-F2766C0D74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70C7-64E6-4C69-8278-EAEE85277910}"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E035A-1AA8-49E5-8F0D-F5F12FDFA39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3A70-996C-4C09-8197-6989227F0646}"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F754-CB6A-4E25-8F3D-B15E7610427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image" Target="../media/image3.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3" name="Text Box 1026" descr=""/>
          <p:cNvPicPr/>
          <p:nvPr/>
        </p:nvPicPr>
        <p:blipFill>
          <a:blip r:embed="rId2"/>
          <a:stretch/>
        </p:blipFill>
        <p:spPr>
          <a:xfrm>
            <a:off x="1116000" y="762120"/>
            <a:ext cx="6357960" cy="378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2514600" y="304920"/>
            <a:ext cx="48769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Times New Roman"/>
                <a:ea typeface="华文新魏"/>
              </a:rPr>
              <a:t>学习要求</a:t>
            </a:r>
            <a:endParaRPr b="0" lang="en-US" sz="6600" spc="-1" strike="noStrike">
              <a:solidFill>
                <a:srgbClr val="000000"/>
              </a:solidFill>
              <a:latin typeface="Times New Roman"/>
            </a:endParaRPr>
          </a:p>
        </p:txBody>
      </p:sp>
      <p:sp>
        <p:nvSpPr>
          <p:cNvPr id="555" name="Text Box 4"/>
          <p:cNvSpPr/>
          <p:nvPr/>
        </p:nvSpPr>
        <p:spPr>
          <a:xfrm>
            <a:off x="838080" y="2209680"/>
            <a:ext cx="73152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a:t>
            </a:r>
            <a:r>
              <a:rPr b="1" lang="zh-CN" sz="2800" spc="-1" strike="noStrike">
                <a:solidFill>
                  <a:srgbClr val="3333cc"/>
                </a:solidFill>
                <a:latin typeface="Times New Roman"/>
              </a:rPr>
              <a:t>、再读课文，勾画出你深受感动的语句，多读几遍，仔细体会人物的情感。</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a:t>
            </a:r>
            <a:r>
              <a:rPr b="1" lang="zh-CN" sz="2800" spc="-1" strike="noStrike">
                <a:solidFill>
                  <a:srgbClr val="3333cc"/>
                </a:solidFill>
                <a:latin typeface="Times New Roman"/>
              </a:rPr>
              <a:t>．集体交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2"/>
          <p:cNvSpPr/>
          <p:nvPr/>
        </p:nvSpPr>
        <p:spPr>
          <a:xfrm>
            <a:off x="990720" y="53352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华文新魏"/>
                <a:ea typeface="华文新魏"/>
              </a:rPr>
              <a:t>学习描写人物的方法</a:t>
            </a:r>
            <a:r>
              <a:rPr b="0" lang="zh-CN" sz="2400" spc="-1" strike="noStrike">
                <a:solidFill>
                  <a:srgbClr val="cc0000"/>
                </a:solidFill>
                <a:latin typeface="华文新魏"/>
                <a:ea typeface="华文新魏"/>
              </a:rPr>
              <a:t> </a:t>
            </a:r>
            <a:endParaRPr b="0" lang="en-US" sz="2400" spc="-1" strike="noStrike">
              <a:solidFill>
                <a:srgbClr val="000000"/>
              </a:solidFill>
              <a:latin typeface="Times New Roman"/>
            </a:endParaRPr>
          </a:p>
        </p:txBody>
      </p:sp>
      <p:sp>
        <p:nvSpPr>
          <p:cNvPr id="557" name="Text Box 3"/>
          <p:cNvSpPr/>
          <p:nvPr/>
        </p:nvSpPr>
        <p:spPr>
          <a:xfrm>
            <a:off x="609480" y="2209680"/>
            <a:ext cx="769644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a:t>
            </a:r>
            <a:r>
              <a:rPr b="1" lang="zh-CN" sz="2800" spc="-1" strike="noStrike">
                <a:solidFill>
                  <a:srgbClr val="3333cc"/>
                </a:solidFill>
                <a:latin typeface="Times New Roman"/>
              </a:rPr>
              <a:t>．通过对毛泽东动作、语言、神态的细致刻画来反映毛泽东的内心世界。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a:t>
            </a:r>
            <a:r>
              <a:rPr b="1" lang="zh-CN" sz="2800" spc="-1" strike="noStrike">
                <a:solidFill>
                  <a:srgbClr val="3333cc"/>
                </a:solidFill>
                <a:latin typeface="Times New Roman"/>
              </a:rPr>
              <a:t>．通过心理描写来突出性格特点。</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58" name="Group 2"/>
          <p:cNvGrpSpPr/>
          <p:nvPr/>
        </p:nvGrpSpPr>
        <p:grpSpPr>
          <a:xfrm>
            <a:off x="0" y="0"/>
            <a:ext cx="8466120" cy="6858000"/>
            <a:chOff x="0" y="0"/>
            <a:chExt cx="8466120" cy="6858000"/>
          </a:xfrm>
        </p:grpSpPr>
        <p:sp>
          <p:nvSpPr>
            <p:cNvPr id="55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560"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561"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矩形 5"/>
          <p:cNvSpPr/>
          <p:nvPr/>
        </p:nvSpPr>
        <p:spPr>
          <a:xfrm>
            <a:off x="2556000" y="2708280"/>
            <a:ext cx="64764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ccccff"/>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ccccff"/>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ccccff"/>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ccccff"/>
                </a:solidFill>
                <a:uFillTx/>
                <a:latin typeface="Calibri"/>
                <a:hlinkClick r:id="rId4"/>
              </a:rPr>
              <a:t>www.1ppt.com/suca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ccccff"/>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ccccff"/>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ccccff"/>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ccccff"/>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ccccff"/>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ccccff"/>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资料下载：</a:t>
            </a:r>
            <a:r>
              <a:rPr b="0" lang="en-US" sz="100" spc="-1" strike="noStrike" u="sng">
                <a:solidFill>
                  <a:srgbClr val="ccccff"/>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ccccff"/>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范文下载：</a:t>
            </a:r>
            <a:r>
              <a:rPr b="0" lang="en-US" sz="100" spc="-1" strike="noStrike">
                <a:solidFill>
                  <a:srgbClr val="4a452a"/>
                </a:solidFill>
                <a:latin typeface="Calibri"/>
              </a:rPr>
              <a:t>www.1ppt.com/fanwen/             </a:t>
            </a:r>
            <a:r>
              <a:rPr b="0" lang="zh-CN" sz="100" spc="-1" strike="noStrike">
                <a:solidFill>
                  <a:srgbClr val="4a452a"/>
                </a:solidFill>
                <a:latin typeface="Calibri"/>
              </a:rPr>
              <a:t>试卷下载：</a:t>
            </a:r>
            <a:r>
              <a:rPr b="0" lang="en-US" sz="100" spc="-1" strike="noStrike">
                <a:solidFill>
                  <a:srgbClr val="4a452a"/>
                </a:solidFill>
                <a:latin typeface="Calibri"/>
              </a:rPr>
              <a:t>www.1ppt.com/shit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rPr>
              <a:t>教案下载：</a:t>
            </a:r>
            <a:r>
              <a:rPr b="0" lang="en-US" sz="100" spc="-1" strike="noStrike">
                <a:solidFill>
                  <a:srgbClr val="4a452a"/>
                </a:solidFill>
                <a:latin typeface="Calibri"/>
              </a:rPr>
              <a:t>www.1ppt.com/jiaoa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rPr>
              <a:t>  </a:t>
            </a:r>
            <a:endParaRPr b="0" lang="en-US" sz="100" spc="-1" strike="noStrike">
              <a:solidFill>
                <a:srgbClr val="000000"/>
              </a:solidFill>
              <a:latin typeface="Times New Roman"/>
            </a:endParaRPr>
          </a:p>
        </p:txBody>
      </p:sp>
      <p:pic>
        <p:nvPicPr>
          <p:cNvPr id="535" name="Picture 1027" descr="C:\Documents and Settings\q\My Documents\My Pictures\F200511251351332815716430.jpg"/>
          <p:cNvPicPr/>
          <p:nvPr/>
        </p:nvPicPr>
        <p:blipFill>
          <a:blip r:embed="rId13"/>
          <a:stretch/>
        </p:blipFill>
        <p:spPr>
          <a:xfrm>
            <a:off x="2556000" y="2408400"/>
            <a:ext cx="3456000" cy="3987720"/>
          </a:xfrm>
          <a:prstGeom prst="rect">
            <a:avLst/>
          </a:prstGeom>
          <a:ln w="0">
            <a:noFill/>
          </a:ln>
        </p:spPr>
      </p:pic>
      <p:sp>
        <p:nvSpPr>
          <p:cNvPr id="536" name="Text Box 2"/>
          <p:cNvSpPr/>
          <p:nvPr/>
        </p:nvSpPr>
        <p:spPr>
          <a:xfrm>
            <a:off x="439560" y="260280"/>
            <a:ext cx="84582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9900"/>
                </a:solidFill>
                <a:latin typeface="Times New Roman"/>
              </a:rPr>
              <a:t>拟</a:t>
            </a:r>
            <a:r>
              <a:rPr b="1" lang="zh-CN" sz="5400" spc="-1" strike="noStrike">
                <a:solidFill>
                  <a:srgbClr val="3333cc"/>
                </a:solidFill>
                <a:latin typeface="Times New Roman"/>
              </a:rPr>
              <a:t>定   功</a:t>
            </a:r>
            <a:r>
              <a:rPr b="1" lang="zh-CN" sz="5400" spc="-1" strike="noStrike">
                <a:solidFill>
                  <a:srgbClr val="009900"/>
                </a:solidFill>
                <a:latin typeface="Times New Roman"/>
              </a:rPr>
              <a:t>勋</a:t>
            </a:r>
            <a:r>
              <a:rPr b="1" lang="zh-CN" sz="5400" spc="-1" strike="noStrike">
                <a:solidFill>
                  <a:srgbClr val="3333cc"/>
                </a:solidFill>
                <a:latin typeface="Times New Roman"/>
              </a:rPr>
              <a:t>   </a:t>
            </a:r>
            <a:r>
              <a:rPr b="1" lang="zh-CN" sz="5400" spc="-1" strike="noStrike">
                <a:solidFill>
                  <a:srgbClr val="009900"/>
                </a:solidFill>
                <a:latin typeface="Times New Roman"/>
              </a:rPr>
              <a:t>殉</a:t>
            </a:r>
            <a:r>
              <a:rPr b="1" lang="zh-CN" sz="5400" spc="-1" strike="noStrike">
                <a:solidFill>
                  <a:srgbClr val="3333cc"/>
                </a:solidFill>
                <a:latin typeface="Times New Roman"/>
              </a:rPr>
              <a:t>职  </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Times New Roman"/>
              </a:rPr>
              <a:t> </a:t>
            </a:r>
            <a:r>
              <a:rPr b="1" lang="zh-CN" sz="5400" spc="-1" strike="noStrike">
                <a:solidFill>
                  <a:srgbClr val="3333cc"/>
                </a:solidFill>
                <a:latin typeface="Times New Roman"/>
              </a:rPr>
              <a:t>奔</a:t>
            </a:r>
            <a:r>
              <a:rPr b="1" lang="zh-CN" sz="5400" spc="-1" strike="noStrike">
                <a:solidFill>
                  <a:srgbClr val="009900"/>
                </a:solidFill>
                <a:latin typeface="Times New Roman"/>
              </a:rPr>
              <a:t>赴</a:t>
            </a:r>
            <a:r>
              <a:rPr b="1" lang="zh-CN" sz="5400" spc="-1" strike="noStrike">
                <a:solidFill>
                  <a:srgbClr val="3333cc"/>
                </a:solidFill>
                <a:latin typeface="Times New Roman"/>
              </a:rPr>
              <a:t>   </a:t>
            </a:r>
            <a:r>
              <a:rPr b="1" lang="zh-CN" sz="5400" spc="-1" strike="noStrike">
                <a:solidFill>
                  <a:srgbClr val="009900"/>
                </a:solidFill>
                <a:latin typeface="Times New Roman"/>
              </a:rPr>
              <a:t>嘛</a:t>
            </a:r>
            <a:r>
              <a:rPr b="1" lang="zh-CN" sz="5400" spc="-1" strike="noStrike">
                <a:solidFill>
                  <a:srgbClr val="3333cc"/>
                </a:solidFill>
                <a:latin typeface="Times New Roman"/>
              </a:rPr>
              <a:t>   </a:t>
            </a:r>
            <a:r>
              <a:rPr b="1" lang="zh-CN" sz="5400" spc="-1" strike="noStrike">
                <a:solidFill>
                  <a:srgbClr val="009900"/>
                </a:solidFill>
                <a:latin typeface="Times New Roman"/>
              </a:rPr>
              <a:t>踌躇</a:t>
            </a:r>
            <a:r>
              <a:rPr b="1" lang="zh-CN" sz="5400" spc="-1" strike="noStrike">
                <a:solidFill>
                  <a:srgbClr val="3333cc"/>
                </a:solidFill>
                <a:latin typeface="Times New Roman"/>
              </a:rPr>
              <a:t>   </a:t>
            </a:r>
            <a:r>
              <a:rPr b="1" lang="zh-CN" sz="5400" spc="-1" strike="noStrike">
                <a:solidFill>
                  <a:srgbClr val="009900"/>
                </a:solidFill>
                <a:latin typeface="Times New Roman"/>
              </a:rPr>
              <a:t>黯</a:t>
            </a:r>
            <a:r>
              <a:rPr b="1" lang="zh-CN" sz="5400" spc="-1" strike="noStrike">
                <a:solidFill>
                  <a:srgbClr val="3333cc"/>
                </a:solidFill>
                <a:latin typeface="Times New Roman"/>
              </a:rPr>
              <a:t>然</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533520" y="1219320"/>
            <a:ext cx="8153280" cy="283140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Times New Roman"/>
                <a:ea typeface="隶书"/>
              </a:rPr>
              <a:t>自学要求：</a:t>
            </a:r>
            <a:endParaRPr b="0" lang="en-US" sz="5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a:t>
            </a:r>
            <a:r>
              <a:rPr b="1" lang="zh-CN" sz="2800" spc="-1" strike="noStrike">
                <a:solidFill>
                  <a:srgbClr val="3333cc"/>
                </a:solidFill>
                <a:latin typeface="Times New Roman"/>
              </a:rPr>
              <a:t>、自读课文，要求读准字音，通顺、流利，同时用笔勾画出不理解的生词。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a:t>
            </a:r>
            <a:r>
              <a:rPr b="1" lang="zh-CN" sz="2800" spc="-1" strike="noStrike">
                <a:solidFill>
                  <a:srgbClr val="3333cc"/>
                </a:solidFill>
                <a:latin typeface="Times New Roman"/>
              </a:rPr>
              <a:t>．默读课文，思考：课文讲了一件什么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Text Box 2"/>
          <p:cNvSpPr/>
          <p:nvPr/>
        </p:nvSpPr>
        <p:spPr>
          <a:xfrm>
            <a:off x="457200" y="15238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3333cc"/>
                </a:solidFill>
                <a:latin typeface="Times New Roman"/>
              </a:rPr>
              <a:t>新中国刚成立，急需和平建设，但现在美帝的矛头直指我国的东北，假如它真的把朝鲜搞垮了，我们在它的威胁中过日子，要进行和平建设也会有困难。所以，我们对朝鲜问题假若置之不理，美帝必然得寸进尺，走日本侵略中国的老路，它要把三把尖刀插在中国的身上，从朝鲜一把刀插在我国的头上，从台湾一把刀插在我国的腰上，从越南一把刀插在我们的脚上。倘若天下有变，它就从三个方面向我们进攻，那我们就被动了。我们抗美援朝就是不许它的如意算盘得逞。打得一拳开，免得百拳来。我们抗美援朝，就是保家卫国。</a:t>
            </a:r>
            <a:r>
              <a:rPr b="1" lang="zh-CN"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539" name="Text Box 3"/>
          <p:cNvSpPr/>
          <p:nvPr/>
        </p:nvSpPr>
        <p:spPr>
          <a:xfrm>
            <a:off x="1676520" y="457200"/>
            <a:ext cx="60958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ea typeface="华文新魏"/>
              </a:rPr>
              <a:t>为什么要抗美援朝？</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2"/>
          <p:cNvSpPr/>
          <p:nvPr/>
        </p:nvSpPr>
        <p:spPr>
          <a:xfrm>
            <a:off x="228600" y="201924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zh-CN" sz="2400" spc="-1" strike="noStrike">
                <a:solidFill>
                  <a:srgbClr val="3333cc"/>
                </a:solidFill>
                <a:latin typeface="Times New Roman"/>
              </a:rPr>
              <a:t>毛岸英，１９２２年１０月出生在湖南省长沙市。８岁时，由于母亲杨开慧被捕入狱，毛岸英也被关进牢房。杨开慧牺牲后，地下党安排毛岸英和两个弟弟来到上海。以后，由于地下党组织遭到破坏，毛岸英兄弟流落街头。他当过学徒，捡过破烂，卖过报纸，推过人力车。１９３６年，毛岸英和弟弟毛岸青被安排到苏联学习。在苏联期间，他开始在军政学校和军事学院学习，以后参加了苏联卫国战争，曾冒着枪林弹雨，转战欧洲战场。１９４６年，毛岸英回到延安，同年加入中国共产党。毛岸英遵照毛泽东“补上劳动大学这一课”的要求，在解放区搞过土改，做过宣传工作，当过秘书。解放初期，任过工厂的党委副书记。他虽然是毛泽东的儿子，但从不以领袖的儿子自居，相反，总是处处严格要求自己，努力和普通劳动群众打成一片。</a:t>
            </a:r>
            <a:endParaRPr b="0" lang="en-US" sz="2400" spc="-1" strike="noStrike">
              <a:solidFill>
                <a:srgbClr val="000000"/>
              </a:solidFill>
              <a:latin typeface="Times New Roman"/>
            </a:endParaRPr>
          </a:p>
        </p:txBody>
      </p:sp>
      <p:sp>
        <p:nvSpPr>
          <p:cNvPr id="541" name="Text Box 3"/>
          <p:cNvSpPr/>
          <p:nvPr/>
        </p:nvSpPr>
        <p:spPr>
          <a:xfrm>
            <a:off x="914400" y="685800"/>
            <a:ext cx="457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Times New Roman"/>
                <a:ea typeface="华文新魏"/>
              </a:rPr>
              <a:t>毛岸英简介</a:t>
            </a:r>
            <a:endParaRPr b="0" lang="en-US" sz="6000" spc="-1" strike="noStrike">
              <a:solidFill>
                <a:srgbClr val="000000"/>
              </a:solidFill>
              <a:latin typeface="Times New Roman"/>
            </a:endParaRPr>
          </a:p>
        </p:txBody>
      </p:sp>
      <p:pic>
        <p:nvPicPr>
          <p:cNvPr id="542" name="Picture 4" descr="C:\Documents and Settings\q\My Documents\My Pictures\F200511251351332815716430.jpg"/>
          <p:cNvPicPr/>
          <p:nvPr/>
        </p:nvPicPr>
        <p:blipFill>
          <a:blip r:embed="rId1"/>
          <a:stretch/>
        </p:blipFill>
        <p:spPr>
          <a:xfrm>
            <a:off x="5791320" y="0"/>
            <a:ext cx="167616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2"/>
          <p:cNvSpPr/>
          <p:nvPr/>
        </p:nvSpPr>
        <p:spPr>
          <a:xfrm>
            <a:off x="228600" y="1523880"/>
            <a:ext cx="8686800" cy="177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ea typeface="华文新魏"/>
              </a:rPr>
              <a:t>    </a:t>
            </a:r>
            <a:r>
              <a:rPr b="1" lang="zh-CN" sz="4000" spc="-1" strike="noStrike">
                <a:solidFill>
                  <a:srgbClr val="cc0000"/>
                </a:solidFill>
                <a:latin typeface="Times New Roman"/>
                <a:ea typeface="华文新魏"/>
              </a:rPr>
              <a:t>毛主席说：</a:t>
            </a:r>
            <a:r>
              <a:rPr b="1" lang="zh-CN" sz="2800" spc="-1" strike="noStrike">
                <a:solidFill>
                  <a:srgbClr val="3333cc"/>
                </a:solidFill>
                <a:latin typeface="Times New Roman"/>
              </a:rPr>
              <a:t>我作为党的主席，作为一个领导人，自己的儿子不派他去朝鲜，又派谁的儿子去呢？光派别人的儿子去前线打仗，这还算什么领导人呢？这是一方面；另一方面，岸英是个青年人，他从苏联留学回国后，到农村进行过劳动锻炼，但却没有正式上过战场。青年人就是要到艰苦的环境中去锻炼，要在战斗中成长。基于这些原因，我才派他到朝鲜去的。”</a:t>
            </a: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380880" y="1219320"/>
            <a:ext cx="83822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3333cc"/>
                </a:solidFill>
                <a:latin typeface="Times New Roman"/>
              </a:rPr>
              <a:t>１９５０年，抗美援朝战争爆发。新婚不久的毛岸英主动请求入朝参战，任中国人民志愿军司令部俄语翻译和秘书。他工作积极，认真负责，迅速熟悉了机关业务。１９５０年１１月２５日上午，美空军轰炸机突然飞临志愿军司令部上空，投下了几十枚凝固汽油弹。在作战室紧张工作的毛岸英壮烈牺牲。毛泽东得知毛岸英牺牲的消息后，强忍丧子之痛，缓缓地说：“打仗总是要死人的。中国人民志愿军已经献出了那么多指战员的生命，他们的牺牲是光荣的。岸英是一个普通战士，不要因为是我的儿子，就当成一件大事。”这是毛泽东一家为了中国人民的革命事业献出的第六位亲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Text Box 3"/>
          <p:cNvSpPr/>
          <p:nvPr/>
        </p:nvSpPr>
        <p:spPr>
          <a:xfrm>
            <a:off x="2590920" y="152280"/>
            <a:ext cx="5029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Times New Roman"/>
                <a:ea typeface="华文新魏"/>
              </a:rPr>
              <a:t>相关资料（一）</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09480" y="144792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zh-CN" sz="2800" spc="-1" strike="noStrike">
                <a:solidFill>
                  <a:srgbClr val="3333cc"/>
                </a:solidFill>
                <a:latin typeface="Times New Roman"/>
              </a:rPr>
              <a:t>志愿军司令部办公室实际上是一个小木房。早上</a:t>
            </a:r>
            <a:r>
              <a:rPr b="1" lang="en-US" sz="2800" spc="-1" strike="noStrike">
                <a:solidFill>
                  <a:srgbClr val="3333cc"/>
                </a:solidFill>
                <a:latin typeface="Times New Roman"/>
              </a:rPr>
              <a:t>9</a:t>
            </a:r>
            <a:r>
              <a:rPr b="1" lang="zh-CN" sz="2800" spc="-1" strike="noStrike">
                <a:solidFill>
                  <a:srgbClr val="3333cc"/>
                </a:solidFill>
                <a:latin typeface="Times New Roman"/>
              </a:rPr>
              <a:t>点多，毛岸英和参谋高瑞欣刚从休息的山志愿军司令部办公室实际上是一个小木房。早上</a:t>
            </a:r>
            <a:r>
              <a:rPr b="1" lang="en-US" sz="2800" spc="-1" strike="noStrike">
                <a:solidFill>
                  <a:srgbClr val="3333cc"/>
                </a:solidFill>
                <a:latin typeface="Times New Roman"/>
              </a:rPr>
              <a:t>9</a:t>
            </a:r>
            <a:r>
              <a:rPr b="1" lang="zh-CN" sz="2800" spc="-1" strike="noStrike">
                <a:solidFill>
                  <a:srgbClr val="3333cc"/>
                </a:solidFill>
                <a:latin typeface="Times New Roman"/>
              </a:rPr>
              <a:t>点多，毛岸英和参谋高瑞欣刚从休息的山洞回到办公室，两人还没有吃早点，正围着火炉热鸡蛋炒米饭。还没来得及吃，美军飞机来空袭了。杨凤安见有敌机飞来，便喊了一声</a:t>
            </a:r>
            <a:r>
              <a:rPr b="1" lang="en-US" sz="2800" spc="-1" strike="noStrike">
                <a:solidFill>
                  <a:srgbClr val="3333cc"/>
                </a:solidFill>
                <a:latin typeface="Times New Roman"/>
              </a:rPr>
              <a:t>:“</a:t>
            </a:r>
            <a:r>
              <a:rPr b="1" lang="zh-CN" sz="2800" spc="-1" strike="noStrike">
                <a:solidFill>
                  <a:srgbClr val="3333cc"/>
                </a:solidFill>
                <a:latin typeface="Times New Roman"/>
              </a:rPr>
              <a:t>不好，快跑！”这时敌机的凝固汽油弹已有几十枚投在办公室周围，成普、徐西元两位参谋和彭总的两个警卫员逃出了火海，可是离房门较远的毛岸英和高瑞欣却没跑出来。</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7" name="Text Box 3"/>
          <p:cNvSpPr/>
          <p:nvPr/>
        </p:nvSpPr>
        <p:spPr>
          <a:xfrm>
            <a:off x="1905120" y="457200"/>
            <a:ext cx="5715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Times New Roman"/>
                <a:ea typeface="华文新魏"/>
              </a:rPr>
              <a:t>相关资料（二）</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1026"/>
          <p:cNvSpPr/>
          <p:nvPr/>
        </p:nvSpPr>
        <p:spPr>
          <a:xfrm>
            <a:off x="1143000" y="838080"/>
            <a:ext cx="556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Text Box 1027"/>
          <p:cNvSpPr/>
          <p:nvPr/>
        </p:nvSpPr>
        <p:spPr>
          <a:xfrm>
            <a:off x="1828800" y="457200"/>
            <a:ext cx="6781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Times New Roman"/>
                <a:ea typeface="华文新魏"/>
              </a:rPr>
              <a:t>相关资料（三）</a:t>
            </a:r>
            <a:endParaRPr b="0" lang="en-US" sz="5400" spc="-1" strike="noStrike">
              <a:solidFill>
                <a:srgbClr val="000000"/>
              </a:solidFill>
              <a:latin typeface="Times New Roman"/>
            </a:endParaRPr>
          </a:p>
        </p:txBody>
      </p:sp>
      <p:pic>
        <p:nvPicPr>
          <p:cNvPr id="550" name="Picture 1028" descr="C:\Documents and Settings\q\My Documents\My Pictures\2024222_322944434.jpg"/>
          <p:cNvPicPr/>
          <p:nvPr/>
        </p:nvPicPr>
        <p:blipFill>
          <a:blip r:embed="rId1"/>
          <a:stretch/>
        </p:blipFill>
        <p:spPr>
          <a:xfrm>
            <a:off x="5867280" y="1905120"/>
            <a:ext cx="3276720" cy="2279520"/>
          </a:xfrm>
          <a:prstGeom prst="rect">
            <a:avLst/>
          </a:prstGeom>
          <a:ln w="0">
            <a:noFill/>
          </a:ln>
        </p:spPr>
      </p:pic>
      <p:pic>
        <p:nvPicPr>
          <p:cNvPr id="551" name="Picture 1029" descr="C:\Documents and Settings\q\My Documents\My Pictures\s_2024222_322944119.jpg"/>
          <p:cNvPicPr/>
          <p:nvPr/>
        </p:nvPicPr>
        <p:blipFill>
          <a:blip r:embed="rId2"/>
          <a:stretch/>
        </p:blipFill>
        <p:spPr>
          <a:xfrm>
            <a:off x="228600" y="4191120"/>
            <a:ext cx="3809880" cy="2401920"/>
          </a:xfrm>
          <a:prstGeom prst="rect">
            <a:avLst/>
          </a:prstGeom>
          <a:ln w="0">
            <a:noFill/>
          </a:ln>
        </p:spPr>
      </p:pic>
      <p:pic>
        <p:nvPicPr>
          <p:cNvPr id="552" name="Picture 1030" descr="C:\Documents and Settings\q\My Documents\My Pictures\s_2024222_322944223.jpg"/>
          <p:cNvPicPr/>
          <p:nvPr/>
        </p:nvPicPr>
        <p:blipFill>
          <a:blip r:embed="rId3"/>
          <a:stretch/>
        </p:blipFill>
        <p:spPr>
          <a:xfrm>
            <a:off x="4572000" y="4357800"/>
            <a:ext cx="3505320" cy="2408040"/>
          </a:xfrm>
          <a:prstGeom prst="rect">
            <a:avLst/>
          </a:prstGeom>
          <a:ln w="0">
            <a:noFill/>
          </a:ln>
        </p:spPr>
      </p:pic>
      <p:pic>
        <p:nvPicPr>
          <p:cNvPr id="553" name="Picture 1031" descr="C:\Documents and Settings\q\My Documents\My Pictures\s_2024222_322944521.jpg"/>
          <p:cNvPicPr/>
          <p:nvPr/>
        </p:nvPicPr>
        <p:blipFill>
          <a:blip r:embed="rId4"/>
          <a:stretch/>
        </p:blipFill>
        <p:spPr>
          <a:xfrm>
            <a:off x="1143000" y="1752480"/>
            <a:ext cx="3714840" cy="230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7T03:02:46Z</dcterms:created>
  <dc:creator>第一PPT模板网-WWW.1PPT.COM</dc:creator>
  <dc:description>第一PPT模板网-WWW.1PPT.COM
</dc:description>
  <dc:language>en-US</dc:language>
  <cp:lastModifiedBy>a</cp:lastModifiedBy>
  <dcterms:modified xsi:type="dcterms:W3CDTF">2015-02-09T02:48:53Z</dcterms:modified>
  <cp:revision>7</cp:revision>
  <dc:subject/>
  <dc:title>第一PPT模板网-WWW.1PPT.COM</dc:title>
</cp:coreProperties>
</file>