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type.wav" ContentType="audio/x-wav"/>
  <Override PartName="/ppt/media/image2.jpeg" ContentType="image/jpeg"/>
  <Override PartName="/ppt/media/whoosh.wav" ContentType="audio/x-wav"/>
  <Override PartName="/ppt/media/image3.jpeg" ContentType="image/jpeg"/>
  <Override PartName="/ppt/media/image4.png" ContentType="image/pn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A07A-6DB2-42BD-9762-29478CB1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5C41-E303-4BB6-B5F2-F2CC322A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C59FA-03EA-41A5-9DEF-24888033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6683C-AB5D-4C6C-83E8-9F30F42D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5FD86-2AAA-4AA3-92E7-3F8DDDB6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F1C11-FAE8-4DBC-BF53-6319214F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8FE919-955C-43C2-9C15-46EF18C6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EB09C-CC85-4886-BE15-D94214C1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03043-4B5B-46AE-B2CA-AAB3D871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E32D9-FAA7-45D2-939B-D4E6E81B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5F740-8B8C-444E-B024-7FBA1AC5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C76EC-C801-4345-9BF3-67CF0592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302E-C4FC-4E8F-B9F9-7A65FA98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37B4B-3967-4308-B834-439A14B9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5E4A7-E322-41FC-A253-A6A792C9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BF601-BF40-4209-908C-0190FB12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AA239-4F8D-4966-9531-7B11534E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AC7B7-CE40-466D-9426-4C1CCBC0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DA0C4E-732D-434F-9806-56EE8E97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DFD39-8EFF-45D8-9297-50EC388B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3C2AA-3DB1-4A16-842C-8B11DE99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C17C1-A5AE-4594-B99C-B7FD6AD2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F35E9-5281-4BB1-BF06-90386807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9DBF-7AB5-4624-9AA4-B75C38A7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AA787-06D7-46C3-B6A0-B15DBD10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1DFCD-FC7D-4080-AEEA-FD99D7BF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0D62D-01A9-474E-ADF3-4C90812D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1337D-EEB4-4C6C-9904-D0BE7C0A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53A59-9930-49F1-A74E-99A23C09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2AD90-7643-4F3E-A387-1C8E2FBB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C1B17-8364-4E84-9375-8B0E6A20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5600E-D761-4712-8E47-0A4A0292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61018-F4B7-46EF-8667-6CE1EC03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F6F25-2AC3-49AA-8305-16550611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54D6-3BE6-4DD0-BAB9-C1403AFB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4E892-F1B9-4B25-84B5-5D6A92C9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6880B-1480-49C3-B010-4E77121B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8D2C5-729A-4305-B8EC-F4DAFDEB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584D7-E9D9-4034-8C9F-BFEC4706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60162-AF92-49AD-8372-606412A9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3CF5D-9879-412A-BB29-2A6D6A16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5D087-DAC8-49F3-B8AC-8F1C31EA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1DB1D-B099-4B52-A84E-0606502E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C649D-765B-4561-84B0-75BC40F6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D742B-9C04-4A30-9F09-75E427BE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765B-03A1-4005-B117-26FE0BF3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604CD2-3592-4B70-94DB-177E2780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58E81-3D82-4EC9-B5D4-7C774F9B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DDE48-36BF-4CA4-92FF-014E6A90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2661B-F31F-403E-B997-3F80142B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31962-0572-4859-9697-89E03C45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686823-686E-436C-A272-31164C87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0AA9D9-D4F0-49E0-9755-B3E203A4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114FD7-994C-43BF-B48D-C68F7C0A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93EA7C-89C2-4698-B2AB-80BD3003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C5D621-B7E7-4549-906E-BBD30EF2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80C2-F2DF-4FE4-A619-F14598F1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60BC18-B1A5-4732-BB32-BD903226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938C72-31FC-4A9A-A7E6-69858BC2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0527AA-4FCC-4EB2-AF39-34E95466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AA943A-7360-4584-80A5-2FDE938C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5E645B-6959-4D50-ACFE-E27A0981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B6E0ED-8E0E-4FE4-9C3A-0D5F8078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539DD1-C6D3-4CB1-AC7E-ABDA5ED8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25E1-943F-4CCF-918B-E4524F98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0851-1841-41F8-AE0F-C7D7E5AD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1E49-B33D-47D2-B2D4-42D8BDD8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E803-50C8-44EA-BFB8-1609CB42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9D29-724A-4A6F-AFE4-34436679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C0A0-2632-47D6-B0A3-46E965A8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55C3-03CB-484E-84C3-50A23651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2BD5-9CA9-44D6-818B-9AA3F4CF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5232-5701-439C-A391-B72640FA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0331-4CC4-4932-929F-4624837C4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18352-7A48-4C5A-8972-2C3C2860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B222D-DD69-4BF4-92B6-0C192D2E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D7FAF-4121-4870-9456-CE037993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FCDBB-1450-47E3-8D18-02AB7914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954C6-0528-4211-B36D-42CF8BE3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0C92-9A96-461B-A090-7BC663F3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65A96-5FE7-4C41-8F59-750A0E65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9F2CF-65F8-46CA-B984-2AFE9EC4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4AB77-6E93-437F-AF6B-B0F503B4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36B37-EAE4-4946-B2DE-CC0D7FEB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AC795-D3C1-48CE-9571-8B12E0FD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77DC0-AF73-4BB9-8E54-81865E8B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6ACC8-DDD6-448B-BA39-12FD12D6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59B73-83F5-4847-B955-B1508B88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66E8D-B3A5-4B6E-8F3E-4E3FECFB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E48D5-38AE-4873-92D7-1CD3634D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F21D-3D41-413C-AD0F-035AE990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F1B75-3D28-4FB0-BCC2-9646F730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0C7E2-0C1E-4B26-9B3E-F1264054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4AEBF-9EDE-4106-9ED8-7D4C360C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5B00B-3002-41A5-AEC1-4FEDA431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13836-4346-4B43-B4E5-9113541A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CEE9B-DAA7-4A9C-875B-409011E3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59F45-56BD-4909-9224-9D30ED0E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3ABDD-EB85-415F-9B03-947F4F77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B254F-64DE-43DE-B45B-68EC5D4F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1B8E5-7144-400E-B04B-3F1476F8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55AB-2275-44F8-8EA4-1D36FE88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31F08-E19C-4F20-BE90-721481D2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24D01-735B-48B8-92B6-57258549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D08E3-EC03-4668-A59B-4FC78A8E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86FFC-E536-4E42-9A19-38B6A3F8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E4E08-D637-4B1D-9E7C-8B94AA79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8E4B2-6132-45DE-AC80-EE5E48DC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5AFBF-E5A3-44F9-888F-78E51454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5FC6D-49AB-4C78-9D56-D8DFB57D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8044A-D0C8-4EE3-B8DB-15FEECCB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0E60D-3D4C-48B0-B7B8-2BA5A78B5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BE0A-9130-4D29-94E3-FAE78B72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4D83A-BB10-44B1-8D37-C39D4E83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0AA84-F43D-43F3-AA77-142B16B7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9508E-7A7B-4A69-8ABE-EDB87CB3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98D28-B7A6-4835-9B0C-E9F089C6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F12FA-B00A-4F51-9A6D-ED8405EC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19C0A-828F-4DC0-96DD-5DBEB204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B886F-0EF0-4285-B489-427B88E7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F7CFA-E52A-4361-89DC-3599B882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A6A5D-2897-4D00-B239-D997F25F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DD0AC-4E81-47D0-BD29-4BDE4A57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4484-DDDE-41F8-BD18-ADC0F523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6EEE7-22A8-4421-A6D2-205EA8AD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145DE-6B24-468F-81FE-04410F16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59425-EDDC-4425-82EA-DA872456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63F1C-74B9-42FA-B867-3724F47A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DB3BA-A9BD-4668-88E9-06781F39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DBF74-3B4F-4322-9C20-A0DBA039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A70CD-14EC-4E84-AD4B-5DDC5DFA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6A2E4-3897-498A-BDC0-41D5F836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677BBA-3CC6-4CB8-99B7-4D68BB96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11A56-8B3F-4D15-8DDF-7007CC5C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0984-31F8-4FA0-AD97-476B2858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34524-273A-4D18-945D-71196D59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7F9F2-FABF-4839-9A57-9B898837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6D411-FF00-4718-BB5B-D4274B1A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D03D2-236B-40EF-8C69-F2D98EC9D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7CBD2-1BD4-426A-9C71-A9F35C1C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CE8B9-4685-4AC5-ACBB-9F7B3FE7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38ADC-495D-4338-9E5B-8380489E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83278-1170-440D-A38D-606EC3BC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9D11F-0297-437F-B3C0-5D152119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9033F-9EFE-423E-BEA2-2C149759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3C20-BD9F-417D-8929-EEB12D4D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4AF80-B31C-4C9A-8D82-3F006BBB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B6246-DF6E-4B1B-8578-26D8DF99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5A637-A284-4489-8C3D-A02C2922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76BB3-E0EF-4E67-BBCD-178A53FF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5D7DB-B5BD-4634-9EB7-138AA131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B170C-CD96-4676-BDC1-B67C7DCD0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3C97C-5DAD-4283-87D6-F01D28C9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3A725-7930-4C67-888E-18C3E2671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CBADC6-8AE5-46F0-8EEA-8ABF6039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5856E-B491-4185-8D04-395382BA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D659-986F-4F7A-9F2D-05315C5E2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6FD8-A393-4814-8B1F-6F0C8328FF3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567F-2DD7-4C07-81A6-6BE0278FE1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BF59-3CEC-48AD-9697-0C0C734EF42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EA66-EF27-4C51-B04E-A47D970A46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FF60-93FA-4E71-A871-E2D4090A3C6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1868-83EA-4F0C-9094-EE8FEC4759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D7C1-B34E-40CB-B9F5-4A901803340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9128-1636-44EE-B637-1D02BD8A5A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138F-B812-4F23-9557-152FEAC55D1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5A22-25EF-4AD5-9448-CA72AD7FFA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374E-6526-464C-B9D5-2215153AA52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B2E2-7C6B-4B2D-8801-15EB7296AC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133A-6FDE-4A56-8343-A9C76ADA0B4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606E-77DA-45FF-ADAA-9E76466431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E421-62A5-43AA-8ADD-B1CA5D661E1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DE94-0461-4705-880F-C9AD5B9D84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A2B6-351D-488D-97EB-89BB9843A37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E7C2-3006-41E7-AAF6-F7003600FA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6C7F-D93C-4FDE-902F-B9B25DFF31E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6792-C930-4CB3-9EF9-F3008FEB88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15EA-80AE-4ECF-8C46-C889F9E7A55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2267-898D-4C2E-9CC2-ADD3F55744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F7F5-3711-409D-9800-FCD45CFF87A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BBC5-BE8C-4A0A-B603-B6A563DF76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7"/>
          <p:cNvSpPr/>
          <p:nvPr/>
        </p:nvSpPr>
        <p:spPr>
          <a:xfrm>
            <a:off x="1609560" y="1712880"/>
            <a:ext cx="61214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ff"/>
                </a:solidFill>
                <a:latin typeface="华文隶书"/>
                <a:ea typeface="华文隶书"/>
              </a:rPr>
              <a:t>全神贯注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611280" y="76500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罗丹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40—191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近代法国著名大雕塑家。他出生于一个清贫的普通职员家庭，从小就对美术发生兴趣。他在学习，从事艺术学习、创作的同时，迫于生活，干过各种手艺，历经种种挫折，直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7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他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青铜时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完成，才促使罗丹成名。他的代表作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思想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沉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等等。罗丹还创作了各种形式的绘画作品和两本理论著述。他生前把自己的全部作品捐献给国家，政府以此建立了罗丹博物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75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矩形 5"/>
          <p:cNvSpPr/>
          <p:nvPr/>
        </p:nvSpPr>
        <p:spPr>
          <a:xfrm>
            <a:off x="4211640" y="1484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3" descr="曹1 副本1"/>
          <p:cNvPicPr/>
          <p:nvPr/>
        </p:nvPicPr>
        <p:blipFill>
          <a:blip r:embed="rId1"/>
          <a:stretch/>
        </p:blipFill>
        <p:spPr>
          <a:xfrm>
            <a:off x="108000" y="0"/>
            <a:ext cx="84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11"/>
          <p:cNvSpPr/>
          <p:nvPr/>
        </p:nvSpPr>
        <p:spPr>
          <a:xfrm>
            <a:off x="0" y="76212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见罗丹一会儿上前，一会儿后退，嘴里叽里咕噜的，好像跟谁在说悄悄话；忽然眼睛闪着异样的光，似乎在跟谁激烈地争吵。他把地板踩得吱吱响，手不停地挥动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刻钟过去了，半小时过去了，罗丹越干越有劲，情绪更加激动了。他像喝醉了酒一样，整个世界对他来讲好像已经消失了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大约过了一个小时，罗丹才停下来 ，对着女像痴痴地微笑，然后轻轻地吁了口气，重新把湿布披在塑像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4191120" y="7621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29"/>
          <p:cNvSpPr/>
          <p:nvPr/>
        </p:nvSpPr>
        <p:spPr>
          <a:xfrm>
            <a:off x="4191120" y="990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 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31"/>
          <p:cNvSpPr/>
          <p:nvPr/>
        </p:nvSpPr>
        <p:spPr>
          <a:xfrm>
            <a:off x="6934320" y="990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 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3"/>
          <p:cNvSpPr/>
          <p:nvPr/>
        </p:nvSpPr>
        <p:spPr>
          <a:xfrm>
            <a:off x="609480" y="1600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  •   •  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4"/>
          <p:cNvSpPr/>
          <p:nvPr/>
        </p:nvSpPr>
        <p:spPr>
          <a:xfrm>
            <a:off x="2057400" y="2635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 •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5"/>
          <p:cNvSpPr/>
          <p:nvPr/>
        </p:nvSpPr>
        <p:spPr>
          <a:xfrm>
            <a:off x="5029200" y="26668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•   •  •   •   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7"/>
          <p:cNvSpPr/>
          <p:nvPr/>
        </p:nvSpPr>
        <p:spPr>
          <a:xfrm>
            <a:off x="7924680" y="32004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 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8"/>
          <p:cNvSpPr/>
          <p:nvPr/>
        </p:nvSpPr>
        <p:spPr>
          <a:xfrm>
            <a:off x="0" y="38862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9"/>
          <p:cNvSpPr/>
          <p:nvPr/>
        </p:nvSpPr>
        <p:spPr>
          <a:xfrm>
            <a:off x="0" y="3733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41"/>
          <p:cNvSpPr/>
          <p:nvPr/>
        </p:nvSpPr>
        <p:spPr>
          <a:xfrm>
            <a:off x="8381880" y="4844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42"/>
          <p:cNvSpPr/>
          <p:nvPr/>
        </p:nvSpPr>
        <p:spPr>
          <a:xfrm>
            <a:off x="76320" y="5378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  •   •  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3"/>
          <p:cNvSpPr/>
          <p:nvPr/>
        </p:nvSpPr>
        <p:spPr>
          <a:xfrm>
            <a:off x="3276720" y="5378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  •   •  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44"/>
          <p:cNvSpPr/>
          <p:nvPr/>
        </p:nvSpPr>
        <p:spPr>
          <a:xfrm>
            <a:off x="3352680" y="16002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——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45"/>
          <p:cNvSpPr/>
          <p:nvPr/>
        </p:nvSpPr>
        <p:spPr>
          <a:xfrm>
            <a:off x="0" y="21337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————————————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46"/>
          <p:cNvSpPr/>
          <p:nvPr/>
        </p:nvSpPr>
        <p:spPr>
          <a:xfrm>
            <a:off x="4572000" y="3886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47"/>
          <p:cNvSpPr/>
          <p:nvPr/>
        </p:nvSpPr>
        <p:spPr>
          <a:xfrm>
            <a:off x="0" y="441972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————————————————————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75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75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75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75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Picture 1027" descr="曹2 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533520" y="68580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7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那一 天下午，我在罗丹工作室里学到的，比我多年在学校里学到的还要多。因为从那时起，我知道人类的一切工作，如果值得去做，而且要做得好，就应该全神贯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1"/>
          <p:cNvSpPr/>
          <p:nvPr/>
        </p:nvSpPr>
        <p:spPr>
          <a:xfrm>
            <a:off x="0" y="28195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茨威格的这段话讲了几层意思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2"/>
          <p:cNvSpPr/>
          <p:nvPr/>
        </p:nvSpPr>
        <p:spPr>
          <a:xfrm>
            <a:off x="304920" y="3886200"/>
            <a:ext cx="8458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强调了这一天下午的收获非同寻常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这一天下午他的感受和体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那一 天下午，我在罗丹工作室里学到的，比我多年在学校里学到的还要多。因为从那时起，我知道人类的一切工作，如果值得去做，而且要做得好，就应该全神贯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533520" y="26668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这段话是什么意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9"/>
          <p:cNvSpPr/>
          <p:nvPr/>
        </p:nvSpPr>
        <p:spPr>
          <a:xfrm>
            <a:off x="457200" y="35812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3"/>
          <p:cNvSpPr/>
          <p:nvPr/>
        </p:nvSpPr>
        <p:spPr>
          <a:xfrm>
            <a:off x="685800" y="41148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1"/>
          <p:cNvSpPr/>
          <p:nvPr/>
        </p:nvSpPr>
        <p:spPr>
          <a:xfrm>
            <a:off x="1219320" y="3352680"/>
            <a:ext cx="6629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切值得做的工作，想要做得好，就应该全神贯注。这是罗丹的工作态度对茨威格的启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2" descr="Fr50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3"/>
          <p:cNvSpPr/>
          <p:nvPr/>
        </p:nvSpPr>
        <p:spPr>
          <a:xfrm>
            <a:off x="762120" y="91440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学了这一 课，你想怎样做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0" y="2209680"/>
            <a:ext cx="9144000" cy="1434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老师希望大家：只要值得我们做的，                    都要全神贯注地去做。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1T02:59:47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7T06:00:55Z</dcterms:modified>
  <cp:revision>17</cp:revision>
  <dc:subject>第一PPT模板网-WWW.1PPT.COM</dc:subject>
  <dc:title>第一PPT模板网-WWW.1PPT.COM</dc:title>
</cp:coreProperties>
</file>