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8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557-8DA8-419C-BF7E-35ECBE5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75E-D0E3-4072-A723-7664DF77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7B8AA-6CE6-4040-944A-16846A6C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C0650-5044-4582-8D2D-B062BC0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193E-C579-4336-807B-04DDEA3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3BF11-A0E8-4460-BC06-D3089B2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263AA-CCBB-411C-9D6F-7388A2B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0740F-1D7B-485A-9332-20B8282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D195F-307D-4DFD-973A-E2CDD2CA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AAB58-B61A-4B27-8965-37862F9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69CC3-D7A3-4D08-800C-99821407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DD05-2D16-477A-8AF5-3B00E055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C5E-5405-4D38-989D-B56C46B7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588FB-0615-431E-B507-C4DC03D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A1BEF-45B2-4B17-A9F7-AAC053BA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76BAB-E00F-4C75-950F-309C6826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D16E6-8323-49B9-8A48-B8AD780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91E0F-2BF5-4F1D-B2C6-0EB25900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AF059-7B12-4BE0-8FF1-500D68C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D450-205A-4E0B-9C8D-ED32492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D89ED-0F01-479C-841D-F80C376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ACF4C-22C6-4C09-AFC3-E03589D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B37A4-2A25-4B68-995E-3E2AC0C0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9A1-698C-4178-A159-F17364E8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AAA16-4547-4923-957F-F5B136BA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7D0F1-FF6A-48EA-8A2B-76006E24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44DA2-605B-4D5A-B517-F923A699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B9526-D43C-44D3-91EC-5A5D839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C87DE-EC53-4DBB-BF04-B139818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28F50-1056-44B2-BC91-E6ABCB35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C0860-987C-4EC5-B8DA-FB39364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26DF-72EB-4FA8-B667-B1196C9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A00DC-566C-464A-9579-ADAE056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C258C-FE94-4AB9-8E43-AFC13708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4B3-B0CE-4BC0-862D-0EC37662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5052D-2990-4440-BC8A-DE735AB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3DC36-E1DF-4623-B41F-8E383E22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3B82D-7133-49EA-B6C9-F7E89DEE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8A06-BFB9-49B7-A6BF-FA37EA9C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339B2-1CBC-4F8E-A2B0-2B8E869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3A29B-0E5D-4EF5-8859-17626757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145EC-2169-426A-B30B-86402ED8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4D95A-2E81-40B3-B7BF-1FA5938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F1DC4-67A0-4BE7-9CF2-043B66BC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C36A5-9BCC-4751-867A-5E208A1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60A6-5CCC-437F-BB58-D98A6399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EA8AE-887A-4926-A718-EAE530D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B1D1E-A68A-440E-957E-BC8166A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29FE8-EE23-4526-BBB4-EB7645BA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F8BB0-E4AA-46B3-8BED-C5C9C27B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1A122-A143-4FCA-BC67-9543471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5C845-A939-4755-BF21-0456954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11D0C-FD38-46CE-855F-44CA741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5935E-7025-4A6F-80A6-A8692081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6DB3D-80E8-4682-B087-DB85564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45C58-FAE8-453B-89E4-EB9FA75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1963-F385-4AC6-B703-FC04FEA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29F4C-3FB0-4321-8194-23E0C88D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55AD7-25F5-4D8F-BAC6-40B6D31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2A977-6FC5-411A-A818-2A488B6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4330A-A8B6-4600-923A-D5B7BFA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80665-5CEF-4EA0-8B2A-21BB37BC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48B74-A39F-4FD8-ABE4-CFF1A259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9761E-05C4-4C6D-B601-1D29FB97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F4E-5AA1-42B1-BF8B-7746F00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9DA3-AD05-4B2B-838C-D6DCFD3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18C1-8145-4E75-A3F6-AC7669F5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7CB2-CF99-4189-B728-755F7A7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98D-891D-4539-BDF1-A0EB9C34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C144-A7C2-4BCE-909B-2BEC3CF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85B-4ED6-4419-AA5E-7DEAF91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B1D6-7F1F-4DEC-8152-9800999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102F-F198-4651-8E63-858448D5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78E0-A649-4FE4-8CC1-0165F123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C43D-D4F8-4887-9DD5-D8C8A2C0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A8DC-1940-4B78-9F2A-4A3A2D5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1A22-AB5C-4507-BAE9-DE14AE0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66B0-E1C3-4A7F-8527-4483EB3D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F971C-8A1B-43D3-95EE-82D47D1F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216-376B-4034-A289-1485691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B078-B245-41B5-B8DA-21472F1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173F-DA45-481D-B115-74BBD5D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3608-1C22-443C-87F2-FB9F55FC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F1B3-5705-4CA1-945F-CC84817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DCF1-FB90-474C-AC88-199CA51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4304-BB7E-4A42-AF99-BCCE3A45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E68C-6BB3-4872-A68E-0F3502E7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7128-6B0D-4928-9353-4850D7B1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D15A-220B-406B-B639-8790D90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9680-F129-46C4-847A-5D939DA3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2DE-2902-4896-95BE-8E5248F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F7CE-0D66-43F3-A2D3-C2D303F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A744-8D7E-4B33-A128-E64525FE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203EC-0482-460F-940F-F745860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B7FA-ADAC-4CDD-94E9-2114723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D3CA9-6758-48B6-9CA5-06F2556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B925-D135-4778-8243-3E1C0D2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C0A5-B041-4B39-B805-805C53D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F70F-1A5F-4E44-BC41-959A26F0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D83A-BBF1-4403-9EDE-05B01E74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7336-2B9B-413B-9631-65EFADD3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779-6F12-4059-BC2C-891AB727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57BC-E505-408F-8301-C3EEF084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5ED4-0B7B-4278-B31F-1F658771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BFE01-6336-4F90-8968-3812F165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74A9-EAC5-488A-AEEA-BF452026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2CED-F4CB-4444-92A5-408665C3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34C0-054E-48FB-9FC6-CB396B8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2707-933F-4E20-98DF-7D256BF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DE64-1C2B-4BC4-8BBA-9545AA0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D0AE-D57C-4BA3-9E1A-199AB74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6BEF-BAF6-4556-9A51-9E4F293E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2CD-2447-41AC-91A1-4F42B1D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C4F8-B730-4CD6-8099-F2500E05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1B0D-1B99-4934-B499-34CFD3AC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97C3-039B-4CC9-8A86-1B01A81A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0E76-80DD-4152-A376-670213B8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CF3F-A17F-4746-8C7C-84D9D33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B11E-BBBD-4AC7-ABDF-AF7E519F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D5C1-A05B-4063-9ADF-467005CE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9BD45-D0C8-4F1D-AF2F-3CF514D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F11A-566F-42A8-AE51-371D8BD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8EBC-D03C-4E07-9084-26CD5BB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F8E-496D-4F61-B8E9-A2ECBC3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E9A76-12A7-4C62-9406-85C0E8E8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0603-BB5B-4010-A90A-57E63E9C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4270-0871-4885-B484-CBE77085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C7C07-E25B-452B-B3B4-9E0B7336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B01B-64A4-4674-AC31-C3AAA3C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B813-5FFA-45C7-B2B4-964CC886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62C3-4A04-424F-AD2F-F7CDEE1F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EC0B-A35C-4A6D-8E98-E2CF8DB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42791-4699-4414-AD96-D87CB9E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4548-470D-48FC-834C-796D03C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9B0-0101-4CC8-B744-1DAFE84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F1D9-24FB-4AE0-826F-737AAE2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7EEFE-EBA5-4639-AC2B-CE415B10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D17E-BA93-4A4D-8EF8-CF1728CF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A33E-FD44-4859-B4EE-04B0FC14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0F3C9-2400-45B0-8AF2-3CB49F46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CAE4-1D26-4902-BA2C-7FD61E73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918F-0E38-4CA1-893F-1DCD401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C3A8-9883-4195-B79C-AC57A16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850B-40AD-4813-BB39-C4CC12A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FBC90-64F6-44F3-9449-1E15F66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844-6054-4072-8DBC-3CCBA7F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46876-1D1D-458C-B788-977FB856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19CCE-3B19-4638-B530-72CA410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7ED5-8C42-4DE3-951B-A369490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627D8-6395-4D00-B185-B65D2D3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94DBD-F450-4A0B-A7E5-3A77DEFC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13802-0B94-4161-85A3-45737A00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22F21-0AC8-45F4-B5E5-EFE15510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CE141-350B-4646-B3F5-58CB0AC9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17AA9-13E4-4C5A-A0A5-14283C0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C10C9-F115-48EB-94A7-46487F40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981-E249-4314-AEB4-09D89293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D92E-7674-46BF-8A27-AD8C544473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782C-9849-4F53-B300-56D1019DBC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1D0-4F17-4F08-8358-B5B7A2B053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0DB-AC40-4A30-AED8-1240363709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E91-4249-4427-A076-AEA734DDEF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07D-0A32-452C-B40E-09FF218DF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80B0-2ABD-4866-BE90-BFEC0A50E4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A00-9D19-4E53-BDB8-F45371F35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B73-CFAE-4540-8455-13A59E74A7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583-B461-42AE-A313-B6058EB9E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364-7A18-4169-A655-C8E2A304C7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675-6A0D-478F-BC6D-C482A5AF4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0BD0-6051-49B7-A09B-0B17EDE379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B6B-6960-4ECD-8ECA-EA20543288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E50B-FD4E-4AE5-B293-3F7C06973B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FFCF-B8A7-439A-B469-1289F41655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AAEA-1002-4E2F-A3B1-3E5E0B501E7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6B3-D0CB-486D-9EBD-1980A65D5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8D9E-BF89-4B01-9F27-FCAF4D7DE35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EC59-1896-40DD-AFA4-914C46085D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F2F-E4A6-4F64-AA77-676ACDD6B0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ED2-C09D-45D1-B165-8BC288A690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B8BC-788D-43B4-A4B6-68563BF725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4D9-5C42-49AB-8B73-48A848CF1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3000"/>
          <p:cNvPicPr/>
          <p:nvPr/>
        </p:nvPicPr>
        <p:blipFill>
          <a:blip r:embed="rId1"/>
          <a:stretch/>
        </p:blipFill>
        <p:spPr>
          <a:xfrm>
            <a:off x="-324000" y="-243000"/>
            <a:ext cx="9720360" cy="7417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85800" y="278136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10*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秋 天 的 怀 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eqyy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7"/>
          <p:cNvSpPr/>
          <p:nvPr/>
        </p:nvSpPr>
        <p:spPr>
          <a:xfrm>
            <a:off x="0" y="0"/>
            <a:ext cx="22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Object 2" descr=""/>
          <p:cNvPicPr/>
          <p:nvPr/>
        </p:nvPicPr>
        <p:blipFill>
          <a:blip r:embed="rId1"/>
          <a:stretch/>
        </p:blipFill>
        <p:spPr>
          <a:xfrm>
            <a:off x="-3492360" y="-558720"/>
            <a:ext cx="13033080" cy="74167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567" name="Rectangle 3"/>
          <p:cNvSpPr/>
          <p:nvPr/>
        </p:nvSpPr>
        <p:spPr>
          <a:xfrm>
            <a:off x="-2341440" y="0"/>
            <a:ext cx="114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板书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黑体"/>
              </a:rPr>
              <a:t>10*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秋 天 的 怀 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0" y="141300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                                                             母 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暴 怒 无 常                                                耐 心 抚 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3213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浑 然 不 知                                               重 病 缠 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0" y="4076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 意 看 花                                                喜 出 望 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-468360" y="501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懂 得母 亲                                                临 终 嘱 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8" descr="xing4"/>
          <p:cNvPicPr/>
          <p:nvPr/>
        </p:nvPicPr>
        <p:blipFill>
          <a:blip r:embed="rId2"/>
          <a:stretch/>
        </p:blipFill>
        <p:spPr>
          <a:xfrm>
            <a:off x="2700360" y="3645000"/>
            <a:ext cx="3384360" cy="2089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laoren"/>
          <p:cNvPicPr/>
          <p:nvPr/>
        </p:nvPicPr>
        <p:blipFill>
          <a:blip r:embed="rId3"/>
          <a:stretch/>
        </p:blipFill>
        <p:spPr>
          <a:xfrm>
            <a:off x="2771640" y="1557360"/>
            <a:ext cx="3384720" cy="2016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0"/>
          <p:cNvSpPr/>
          <p:nvPr/>
        </p:nvSpPr>
        <p:spPr>
          <a:xfrm>
            <a:off x="3851280" y="4005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987640" y="3860640"/>
            <a:ext cx="898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愧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怀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4788000" y="4005360"/>
            <a:ext cx="165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伟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烛光里的妈妈.mp3" descr=""/>
          <p:cNvPicPr/>
          <p:nvPr/>
        </p:nvPicPr>
        <p:blipFill>
          <a:blip r:embed="rId4"/>
          <a:stretch/>
        </p:blipFill>
        <p:spPr>
          <a:xfrm>
            <a:off x="824400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2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菊花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04920" y="103320"/>
            <a:ext cx="838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母爱是伟大的无私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692360" y="26028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908000" y="407664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6516720" y="350028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3132000" y="83664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340000" y="119700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2411280" y="1413000"/>
            <a:ext cx="547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2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826920" y="1773360"/>
            <a:ext cx="831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作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完了这篇课文，你想怎样表达对母亲的一片深情呢？请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妈妈，我想对你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题，可运用本课的写作方法，给妈妈写一封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524880" cy="72230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1447920" y="2940120"/>
            <a:ext cx="5867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539640" y="1052640"/>
            <a:ext cx="6048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ān   huàn        pí                       n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瘫     痪          脾   气           暴 怒  无  常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ì          qiáo    cuì             j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   寂           憔      悴             诀     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ǎ           mǐn                   x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淡    雅            敏    感             絮  絮  叨  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02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-181080" y="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自学提纲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-181080" y="549360"/>
            <a:ext cx="93250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母亲重病缠身，还要推着下肢瘫痪的“我”去北海公园看花，结果怎样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母亲是怎样关心“我”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、作者是怎样透过这些小事，来表达对母亲   的一片深情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、假如清明节到了，作者会面对母亲的遗像，说些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468360" y="587700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33"/>
            </a:gs>
            <a:gs pos="50000">
              <a:srgbClr val="ff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395280" y="765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说北海的花儿都开了，我推着你去走走。”她总是这么说。母亲喜欢花，可自从我的腿瘫痪后，她侍养的那些花都死了。。“不，我不去！”我狠命捶打这两条可恨的腿，喊着：“我活着有什么劲！”母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扑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过来抓住我的手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住哭声说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“咱娘儿俩在一块儿，好好儿活，好好儿活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《秋天的怀念》插图"/>
          <p:cNvPicPr/>
          <p:nvPr/>
        </p:nvPicPr>
        <p:blipFill>
          <a:blip r:embed="rId1"/>
          <a:stretch/>
        </p:blipFill>
        <p:spPr>
          <a:xfrm>
            <a:off x="-324000" y="0"/>
            <a:ext cx="378936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140360" y="1052640"/>
            <a:ext cx="50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4067280" y="83664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3780000" y="0"/>
            <a:ext cx="5364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天我又独自坐在屋里，看着窗外的树叶“刷刷拉拉”地飘落。母亲进来了， 挡在窗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：“北海的菊花开了，我推着你去看看吧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憔悴的脸现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央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般的神色。“什么时候？”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你要是愿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就明天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说。我的回答已经让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喜出望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。“好吧，就明天。”我说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她高兴得一会儿坐下，一会儿站起：”那就赶紧准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“”哎呀，烦不烦？几步路，有什么好准备的！”她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笑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坐在我身边，絮絮叨叨地说着：”看完菊花，咱们就去‘仿膳’，你小时侯最爱吃那儿的豌豆黄儿。还记得那回我带你去北海吗？你偏说那杨树花是毛毛虫，跑着，一脚踩扁一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忽然不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对于”跑“和”踩“一类的字眼儿，她比我还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又悄悄地出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>
            <a:hlinkClick r:id="rId2" action="ppaction://hlinksldjump"/>
          </p:cNvPr>
          <p:cNvSpPr/>
          <p:nvPr/>
        </p:nvSpPr>
        <p:spPr>
          <a:xfrm>
            <a:off x="755640" y="566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邻居的小伙子背着我去看她的时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正艰难地呼吸着。别人告诉我，她昏迷前的最后一句话是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那个生病的儿子，还有那个未成年的女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又是秋天，妹妹推着我去北海看了菊花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黄色的花淡雅，白色的花高洁，紫红色的花热烈而深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泼泼洒洒，秋风中正开花得烂漫。我懂得母亲没有说完的话，妹妹也懂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俩在一块儿，要好好儿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DSCF13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324000" y="3789360"/>
            <a:ext cx="3816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2484360" y="25653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黄色的花淡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3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菊花6"/>
          <p:cNvPicPr/>
          <p:nvPr/>
        </p:nvPicPr>
        <p:blipFill>
          <a:blip r:embed="rId1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1476360" y="292428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619280" y="2565360"/>
            <a:ext cx="6769080" cy="1557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白的花高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1547640" y="263700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黑体"/>
                <a:ea typeface="黑体"/>
              </a:rPr>
              <a:t>紫红的花热烈而深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1746360" y="3200400"/>
            <a:ext cx="56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     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黄   白  红      板     像     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2:53:50Z</dcterms:created>
  <dc:creator>Den</dc:creator>
  <dc:description/>
  <dc:language>en-US</dc:language>
  <cp:lastModifiedBy>a</cp:lastModifiedBy>
  <dcterms:modified xsi:type="dcterms:W3CDTF">2015-02-10T11:33:16Z</dcterms:modified>
  <cp:revision>34</cp:revision>
  <dc:subject/>
  <dc:title>PowerPoint 演示文稿</dc:title>
</cp:coreProperties>
</file>