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D89-2C51-492B-B924-147A574A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299-EE2F-4319-846D-22290F8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81CCF-C832-4BCB-AF77-7939A363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1859E-783B-4627-94A8-416217D9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65D7A-0B38-4C11-B111-7E981D6F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15C7-D266-44EE-B4B2-5BB4B6E9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8FBE5-F7DA-4243-832F-AA40A41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1B8BF-B341-48A9-A6E4-7AEBA854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7081C-E256-482B-9F76-1963A6C5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DEA65-1B49-4C94-8B8A-272117D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9896B-2B28-4232-A3C8-5FB2185C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B2611-E8B7-4439-AAEF-97257C68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9B2-D3CA-421C-A4A5-A4F9547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CDB82-2F3B-428C-B4B0-99F121C0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888D-66A1-4C79-8541-B098408A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7E315-E3FB-477C-A33F-A8BB0499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C5F8-76EA-450C-81C5-637C12A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F1B0F-6A35-4618-8ECA-0C4A76E9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6336-AD8D-48EC-A826-44F393B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FF98B-C07B-4052-BD3E-FB8EAD7C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54054-6794-40CB-BAAB-4B74EE47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42C7A-81F6-4DDD-92CE-1270216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88C0C-6A55-45AB-BDC0-5055C5EC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4B3-D700-46E2-91C5-188F22E7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FBE87-0733-43F9-83EF-CD98124A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B2581-0D39-4832-AF71-7F152952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C2023-44D6-4C55-A29A-C7B9FD8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52216-DD83-459D-9B90-C69D3FF9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D0A2C-7B97-4E7F-B563-E770994B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68D4-E03C-4657-93AC-2A1C4EB7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E1142-A97C-40FE-AC05-3B8A772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1D26A-5E2A-4E31-9136-AB9667B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8942B-76D1-433E-A2CB-9608B4D1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53C16-E760-43CB-B717-5C3255FE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4AC7-D9AE-4D67-9338-0189F553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16FC0-01D1-42FF-BA38-0AD0B1E6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2903-D63C-4BB7-B26D-C59EEC79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B3C9-C508-4D4D-89DB-8D9E0BE9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06128-94A6-4B63-AE29-1BD011F9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09D78-CBEF-4E5A-A138-850E49BD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563D7-5E0F-46AB-896D-DBF35C3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96303-1C8E-45F0-BEBB-892122F9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8D88D-9839-4BB0-8F7C-2A334D9C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34EC4-9BA3-4898-811A-0008CA9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DFC1C-D44C-46F4-948B-99B968C1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E77E-0733-42DB-A7EC-0D9579B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3690A-752A-4EF8-A939-228A85B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4BA9C-ECA1-48A1-8806-1186E25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D32F1-0F17-460D-B693-60C3ED10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E32DE-92A0-4B08-A52D-8D82F20B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C078-590E-40AD-A4C0-C9134A8A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CB0F4-93A9-4AC5-8A33-1D0CA156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03250-E38C-445F-A8D2-5225DD4B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65E96-BE2D-4BAE-AC99-DE59D992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701E3-1F1E-4BA7-A152-7E4B874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02F30-0ECA-4194-BA67-2BDFA2AD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249-D633-49E5-B6E9-CA1FAEF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DFA1C-19FB-4CBC-8D6C-ED2A3219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446C1-DE2A-4077-BD97-1E497B1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D83C4-7C20-4716-AD98-A412150F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58D4A-5A57-492C-8BA0-953E5BAC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115B9-871D-4C18-AF81-CE3F4130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06945-601F-4800-AFA2-DAB681F5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F9C45-54E5-4A5D-A3A3-0A2DE0ED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4DE7DD-8CA8-4A13-B2FB-3B34EDA85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14EA8-0DB2-4F8C-B139-B92F451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52C7B-142A-4D2E-8EB8-122B9D9E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1D8E-FE15-42E9-995A-DAFF36CE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C5C90-083F-441D-B90A-A3C014D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F4E331-57F3-4BFB-8FD8-5EE4DDCE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F8AD5-07C4-4DE3-9B91-BE17396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49364-AAAE-4186-B244-88CDE2D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208A3-A7EA-4A02-A583-B0949C2C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0CC71-FFF7-462E-A02E-9133CAA2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C994D-43D5-421B-92BF-32ED9711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7EB7A-E359-4AD0-BDA1-4969E77D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B4236-3695-48DD-B992-36194BC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145-5541-42EF-B401-E9261E7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B6E1-1F99-445D-9F19-A64E498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D606-E73F-483C-A5CF-ACDEBB8C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F45-B756-4502-9E6C-1B95A8AB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2971-092F-4419-9CA5-70FFA2F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D014-6C20-43B5-869A-0D8D752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4401-0D06-4CBA-BBA7-51320DD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B179-4357-4F3D-A96E-C951DB88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736-65EB-4DB7-8C85-2011D81F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4B54-DD5A-4DFA-88B6-F645E56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27A87-098B-4FEA-A6F1-4DEAA3B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F6A1-CE37-4212-AD89-F8C48E1F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24D6-58E7-4BEA-B11B-EC86B5F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DD70-7B59-4491-B274-83A2719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4E6-E7E9-497C-8709-38D718D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E524-9AC2-438F-8D61-B20D86F8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14E4-0982-4080-A7A3-0F061B14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975F-39EE-46C0-BFFC-C1694BDE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967A-81C8-4347-A2D2-7D24AE6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550A-2AB7-406E-A56A-AA9EDCE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7402-D591-41F7-9B73-DB70511E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E889-861D-4BC0-9D0B-D4BBFE6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35959-8517-4B64-B010-1807CFBE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4D3FA-2D16-4FA0-A2A3-4FA0E98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4EC51-FF17-4DAC-9829-20A9028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52B-ED55-4490-BFD0-305CEFEF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B31D5-3FBA-4A08-9987-FB923D3A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E206-0401-4E80-9EFF-47E14119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952FB-B4BD-4270-B0A9-4F31C2CD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1A06-53DD-4C75-8D02-D91ECF3C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DED96-43C1-4956-817A-BADE497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699F3-9DE4-450B-A882-1926542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104D-379A-4009-B53B-2C78378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10239-A62B-4204-93E1-897A7A78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8D9C-884A-4A01-9F1C-C2B94453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2CB2-6337-4B66-B180-2550271D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C9E-A952-4B04-8B13-DCF7C302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085A2-7D8A-4842-8A74-176624E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97720-5ED1-4E5A-9DDE-D1B9F1B6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09BBA-A81D-4BF7-ABC0-4298F98F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E102-84E9-4AC8-ABAB-DBE574AB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D616-DCAE-4582-8D63-45CB344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9227-32F8-4695-8A34-4089B69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C682C-5493-40B5-B135-3541E34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B6402-700B-48DC-8D27-72B183D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7F6C-B7E1-4310-B914-5EB2CC9D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793BD-E023-4CA5-88F4-0EBAC7E5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FB4-4980-4344-B047-BB4EC2F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2C60E-FA83-46C8-B070-4C3F9B9F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3E1F-EF48-4D00-89FA-F4A97002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D33C-ED95-495C-883C-03981F9B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C82D-5084-4233-B7FE-F917937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31F4-17BE-4C80-B3AF-4B1F14A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46F51-CF79-452B-949E-40DCE50E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BA435-BF70-4C7E-B24E-3F6D8AAA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4B51D-7382-4782-BD69-6A33C75E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1C4F9-8433-499C-9E39-04EA18B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44F52-ED37-4890-9318-6EAB093A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9A6-E2F9-4FCD-AE02-AB29B24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AC77-D7D3-446A-ABDE-C4CA9EC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DD65-F5F6-46BE-9646-2EF58117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37F3-04A6-4A66-A11B-897F824C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86301-F1CA-48B9-9826-827EC069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F46FF-4FA0-4C9A-ACFE-654664DE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3225-260B-473C-A7FA-232836B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681A-3977-45A4-A7C7-719D63F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E959A-A7FB-4EA6-8425-C966884E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3966-ED5F-46CF-BBF6-CFEEF02B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16358-D309-4BD9-9B8B-03D12E9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A9A-BAE7-4A46-BF8D-6132C9A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9CD4-A509-4FA9-A782-1D431EE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E5A7-1E8B-4365-A7F1-A19F766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54BC-7688-495B-A0EE-CD4C570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79B9C-80F5-4DE1-AAF2-321FB034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5ACF4-3C14-4D92-840C-97108A5D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6D74E-15CC-4D0F-B545-3C8EA9D8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21D75-1AED-46BC-95E1-A327F22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1994-F83C-4466-9EC0-DA6ACCCF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E3296-A366-4011-9E9D-A2E845BC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5A0D7-1889-420C-892A-EA5E67DA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132-2D0C-4BE2-A44E-179FE70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F56FD-F35F-4BED-B95F-DD448490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08AE-DD04-4BAB-98F9-1ABB46BD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8D2CC-A977-44F2-A769-0781984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630C0-5BC2-4530-BE2B-CF2CDA1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7FC6-5E29-4831-9E61-9DCB214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A8DB8-9A56-434A-AA57-451C47E2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BCB8E-44D7-49B6-A3BF-450DB996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0A425-119B-46B5-AA45-2A9F5FE6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2563F-6D58-467E-9AA6-A7E833F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C8D30-8456-4840-93E0-299C716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B759-20E2-427F-961C-AD8C8B03541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0381-5E7D-4553-A41C-5C1F1EC9F1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B545-3959-4D6D-9AC4-72E15038F5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3D6-53C4-4948-AF84-13FBEA64DEA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9121-E4FE-43AF-88EC-0951EDF54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EDE2-3FA7-43C9-82D9-65AC4F2884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727F-E9DF-4F3C-AA0B-35E757C06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0384-16D2-4BBD-93A4-03BC27444F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6F57-2FE2-43C8-B379-C8D28FD87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8DEC-F83A-4526-ADCD-0B684F7081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B73B-4330-43CB-80FC-7169CFBD9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0B0-6122-4795-8C43-482B9259BD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C41-6866-4E3D-A0AB-6168475C34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C44-E5F3-4869-98D7-30B59442609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7922-0E64-4356-827E-F0A1B44BC1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16E2-BB2A-4AAE-9D36-1674232651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CC53-C5DA-4642-87CC-1C478B10EB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68FF-3FD2-44B4-86F2-EFFE67EC7A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DDC8-1C17-4942-959B-2F838ED8CEE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41A-C0BB-4472-B959-A588119787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E76F-E837-45CC-9D6C-7AD2EB6B90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D7A-A653-4131-AFBB-0608B8947A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42EA-5BAB-43D2-B77A-A245685971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D60-79CD-4A8E-A842-04348655D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7D2-20D0-46D5-A4C3-377E54966F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22E-FDC8-4A06-B2CA-A3280D5621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赵州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765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单　位：曲阜市董庄乡中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执教人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翟 国 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129528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桥  之  美</a:t>
            </a:r>
            <a:br>
              <a:rPr sz="4800"/>
            </a:b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  者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吴冠中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2057400" y="3124080"/>
            <a:ext cx="6267240" cy="2364840"/>
            <a:chOff x="2057400" y="3124080"/>
            <a:chExt cx="6267240" cy="2364840"/>
          </a:xfrm>
        </p:grpSpPr>
        <p:pic>
          <p:nvPicPr>
            <p:cNvPr id="618" name="Picture 7" descr="清明上河图1"/>
            <p:cNvPicPr/>
            <p:nvPr/>
          </p:nvPicPr>
          <p:blipFill>
            <a:blip r:embed="rId1"/>
            <a:stretch/>
          </p:blipFill>
          <p:spPr>
            <a:xfrm>
              <a:off x="2057400" y="3124080"/>
              <a:ext cx="62672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8"/>
            <p:cNvSpPr/>
            <p:nvPr/>
          </p:nvSpPr>
          <p:spPr>
            <a:xfrm>
              <a:off x="3429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2" name="Picture 7" descr="赵州桥"/>
          <p:cNvPicPr/>
          <p:nvPr/>
        </p:nvPicPr>
        <p:blipFill>
          <a:blip r:embed="rId1"/>
          <a:stretch/>
        </p:blipFill>
        <p:spPr>
          <a:xfrm>
            <a:off x="1905120" y="2849400"/>
            <a:ext cx="62481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5" name="Picture 7" descr="南京长江大桥"/>
          <p:cNvPicPr/>
          <p:nvPr/>
        </p:nvPicPr>
        <p:blipFill>
          <a:blip r:embed="rId1"/>
          <a:stretch/>
        </p:blipFill>
        <p:spPr>
          <a:xfrm>
            <a:off x="1600200" y="2971800"/>
            <a:ext cx="7162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7621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正面举例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4800600" y="1600200"/>
            <a:ext cx="2666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芦苇—舒畅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细柳—销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孔—满足         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廊、亭—驻足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行人—高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形与色—乐曲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7391520" y="19526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不同环境中的多种多样的形式作用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8380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面举例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74674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欠缺配合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648320" y="4479840"/>
            <a:ext cx="26668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想寻找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构不成图画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划断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33" name="Group 16"/>
          <p:cNvGrpSpPr/>
          <p:nvPr/>
        </p:nvGrpSpPr>
        <p:grpSpPr>
          <a:xfrm>
            <a:off x="2666880" y="1600200"/>
            <a:ext cx="2895480" cy="4913640"/>
            <a:chOff x="2666880" y="1600200"/>
            <a:chExt cx="2895480" cy="4913640"/>
          </a:xfrm>
        </p:grpSpPr>
        <p:sp>
          <p:nvSpPr>
            <p:cNvPr id="634" name="Text Box 13"/>
            <p:cNvSpPr/>
            <p:nvPr/>
          </p:nvSpPr>
          <p:spPr>
            <a:xfrm>
              <a:off x="2666880" y="4495680"/>
              <a:ext cx="2743200" cy="20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南京长江大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钱塘江大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成昆铁路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Text Box 15"/>
            <p:cNvSpPr/>
            <p:nvPr/>
          </p:nvSpPr>
          <p:spPr>
            <a:xfrm>
              <a:off x="2666880" y="1600200"/>
              <a:ext cx="2895480" cy="30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故乡乌镇石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江南乡间石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湖 上  长 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山区 风雨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清明上河图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小径尽头小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比较本文与《中国石拱桥》一文在表达手法和阅读感受上的不同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拓展迁移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请用上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小桥、流水、人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”三个词写一段话，最好能用上一两种修辞手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0" y="22860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作者简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99"/>
                </a:solidFill>
                <a:latin typeface="Times New Roman"/>
                <a:ea typeface="黑体"/>
              </a:rPr>
              <a:t>吴冠中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919—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江苏宜兴人，中国现代画家，油画代表作有《长江三峡》、《鲁迅的故乡》，中国画有《春雪》、《狮子林》、《长城》。散文作品《吴冠中人生小品》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99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感情的朗读课文，理解作者爱桥的原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品味优美而又富有意味的语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学习从某一角度欣赏艺术作品的方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）、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正音正字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媒介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煞风景（  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）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和谐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纤细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 ）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销魂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颐和园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点缀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摄影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）、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理解下列词语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美感：对于美的感受或体会。　　驻足：停止脚步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煞它风景：破坏人的兴致的意思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失之毫厘，差之千里：相差虽小而造成的误差或错误极大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）文章引用或化用的名言诗句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落霞与孤鹜齐飞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，秋水共长天一色。     王勃 《滕王阁序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今宵酒醒何处？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杨柳岸晓风残月。       柳永 《雨 霖 铃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失之毫厘，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谬以千里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。                                   《易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枯藤老树昏鸦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，小桥流水人家，古道西风瘦马。夕阳西下，　断肠人在天涯。                  马致远  《天净沙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秋思》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371600" y="1219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</a:rPr>
              <a:t>词语卡片：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92" name="Group 7"/>
          <p:cNvGrpSpPr/>
          <p:nvPr/>
        </p:nvGrpSpPr>
        <p:grpSpPr>
          <a:xfrm>
            <a:off x="2590920" y="1981080"/>
            <a:ext cx="6553080" cy="825480"/>
            <a:chOff x="2590920" y="1981080"/>
            <a:chExt cx="6553080" cy="825480"/>
          </a:xfrm>
        </p:grpSpPr>
        <p:sp>
          <p:nvSpPr>
            <p:cNvPr id="593" name="Text Box 5"/>
            <p:cNvSpPr/>
            <p:nvPr/>
          </p:nvSpPr>
          <p:spPr>
            <a:xfrm>
              <a:off x="2590920" y="198108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PMingLiU"/>
                </a:rPr>
                <a:t>méi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shà             xié              xiān</a:t>
              </a:r>
              <a:endParaRPr b="1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2590920" y="228600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xiāo                yí              zhuì              shè</a:t>
              </a:r>
              <a:r>
                <a:rPr b="0" lang="en-US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说明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是客观的说明事物、阐明事理的一种文体，目的是给读者以科学的知识，科学的认识事物的方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常见说明方法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举例子、作比较、下定义、打比方、分类别、列数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98" name="Group 8"/>
          <p:cNvGrpSpPr/>
          <p:nvPr/>
        </p:nvGrpSpPr>
        <p:grpSpPr>
          <a:xfrm>
            <a:off x="1981080" y="2362320"/>
            <a:ext cx="6267240" cy="2364480"/>
            <a:chOff x="1981080" y="2362320"/>
            <a:chExt cx="6267240" cy="2364480"/>
          </a:xfrm>
        </p:grpSpPr>
        <p:pic>
          <p:nvPicPr>
            <p:cNvPr id="599" name="Picture 9" descr="清明上河图1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62672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0"/>
            <p:cNvSpPr/>
            <p:nvPr/>
          </p:nvSpPr>
          <p:spPr>
            <a:xfrm>
              <a:off x="3352680" y="4267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02" name="Picture 9" descr="南京长江大桥"/>
          <p:cNvPicPr/>
          <p:nvPr/>
        </p:nvPicPr>
        <p:blipFill>
          <a:blip r:embed="rId1"/>
          <a:stretch/>
        </p:blipFill>
        <p:spPr>
          <a:xfrm>
            <a:off x="1143000" y="17524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南京长江大桥1"/>
          <p:cNvPicPr/>
          <p:nvPr/>
        </p:nvPicPr>
        <p:blipFill>
          <a:blip r:embed="rId2"/>
          <a:stretch/>
        </p:blipFill>
        <p:spPr>
          <a:xfrm>
            <a:off x="5638680" y="3809880"/>
            <a:ext cx="3505320" cy="28576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2"/>
          <p:cNvSpPr/>
          <p:nvPr/>
        </p:nvSpPr>
        <p:spPr>
          <a:xfrm>
            <a:off x="213372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南京长江大桥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思      考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是怎样引出“桥”这一话题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人们（美术工作者）爱桥的原因是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爱桥的原因是什么？作者如何产生这样的感情的呢？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743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用一句俗语“我走过的桥比你走过的路还长”引出“桥”的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08" name="Group 8"/>
          <p:cNvGrpSpPr/>
          <p:nvPr/>
        </p:nvGrpSpPr>
        <p:grpSpPr>
          <a:xfrm>
            <a:off x="2362320" y="3767040"/>
            <a:ext cx="5943600" cy="1572120"/>
            <a:chOff x="2362320" y="3767040"/>
            <a:chExt cx="5943600" cy="1572120"/>
          </a:xfrm>
        </p:grpSpPr>
        <p:sp>
          <p:nvSpPr>
            <p:cNvPr id="609" name="Text Box 5"/>
            <p:cNvSpPr/>
            <p:nvPr/>
          </p:nvSpPr>
          <p:spPr>
            <a:xfrm>
              <a:off x="2362320" y="3767040"/>
              <a:ext cx="5943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圆的桥洞     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结构美      方的石块     相处和谐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弧的桥背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AutoShape 6"/>
            <p:cNvSpPr/>
            <p:nvPr/>
          </p:nvSpPr>
          <p:spPr>
            <a:xfrm>
              <a:off x="3657600" y="3886200"/>
              <a:ext cx="304920" cy="1219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AutoShape 7"/>
            <p:cNvSpPr/>
            <p:nvPr/>
          </p:nvSpPr>
          <p:spPr>
            <a:xfrm>
              <a:off x="5257800" y="3886200"/>
              <a:ext cx="304920" cy="1219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2" name="Text Box 9"/>
          <p:cNvSpPr/>
          <p:nvPr/>
        </p:nvSpPr>
        <p:spPr>
          <a:xfrm>
            <a:off x="1066680" y="6248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缘于桥在不同环境中的多种多样的形式作用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并非……也并非……而是……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一组关联词语仿写一个句子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0:39:03Z</dcterms:created>
  <dc:creator>print</dc:creator>
  <dc:description/>
  <dc:language>en-US</dc:language>
  <cp:lastModifiedBy>a</cp:lastModifiedBy>
  <dcterms:modified xsi:type="dcterms:W3CDTF">2015-02-10T11:32:58Z</dcterms:modified>
  <cp:revision>26</cp:revision>
  <dc:subject/>
  <dc:title>桥之美 作者：吴冠中</dc:title>
</cp:coreProperties>
</file>