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4.png" ContentType="image/png"/>
  <Override PartName="/ppt/media/image12.wmf" ContentType="image/x-wmf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E5596-2A63-4D75-8E3B-90CC10FB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8198C-7DDE-4241-8935-C9570683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D1A2-2A55-4F2E-A2C6-B779202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2A6A0-8D1C-419B-A05C-D956F81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AD0D8-3D85-4DCA-A865-F5C3891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CBEE-3FEA-497D-A336-24BD6327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9017-7337-4C07-8F40-66E3DFB4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B236E-2E06-4920-866F-27C3E74C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793F-8FA1-4A73-83F6-FBAE8A34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C61E7-8C1D-4B37-81FD-79E03142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AF7A7-6AC7-42F0-B3AD-2BC05FF6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B43E3-5AEE-428E-9475-03F8E432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EA7EC-7F75-4DFC-9515-853E6D4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28B0C-903F-4120-9830-8C072647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FE363-33A9-4F5F-B039-4EC44DBB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BEDD6-41A8-45DD-A34E-7B89C76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30512-6420-4421-91AD-2B1780C6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446D6-65AE-482D-AEAC-56CC190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CC71D-F294-4377-BA5B-7AA38F3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F90A3-F0B4-4674-BCE0-867A9729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358B2-DE19-4221-8596-769A93D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F238A-2878-490A-AB5B-507F1A28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78A51-7B07-45AD-BE5F-9FEC58A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401DC-071D-40A0-A86F-7A63673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DD59D-A176-484D-8B20-3480C3B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CD98B-11F5-43AF-BA1F-EE7B3B49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AC446-0894-4C60-8C58-3AF81C6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D9D3E-3CB1-491E-B990-CA2BD07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10090-BE25-4F61-B60A-1481F98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2B662-8E70-464E-9311-8AB0FB0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D2C-D7BF-4597-ABDD-B9562476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C742C-B901-42A1-8DD1-9595592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5DC5D-C935-479A-AF46-E0CD0DBF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6328C-7C5D-4921-9A8E-A76AC469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A3780-AD5D-44F3-A37E-AA453998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627B-C6D3-4A94-94A7-C4B6BDF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A45A6-D47F-410D-B796-4DF0D09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6B39-8E6B-4CD7-B417-B153E6BC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B8F15-DBBF-4FFD-90C3-7CBAC80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494DF-FAD2-4A66-B698-76A4FBC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7E88B-F216-4C16-B9F6-32FEE4F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782-2694-4697-A5DB-46142C86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506CB-811E-49A5-8180-AE09307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79D93-3DE1-42A3-B02E-F77A3576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4E955-C0AF-4F52-B974-0DCB180E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B577-6491-46F2-BD8F-67078ED2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0ABE8-7329-4825-A59E-10D97430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08A09-DB4B-4A9D-9554-46537CF2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013AA-56E8-47F6-94B5-F29802C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6BB03-2ABB-4819-891E-92476F9C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376B9-4829-49C0-9E03-E824AF68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BEF12-0030-4A51-93B9-4827C5E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FA6-8B0A-4D27-BBE6-8B4997FB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B9FE1-00E6-4FD6-9CC2-00CA9A9B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756AA-B33F-4F92-AB72-134BE4D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6961F-0C76-43CD-8903-90F5E85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4CD9B-5A66-4FFE-A9E7-20F71C7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612F1-1461-4896-B970-ED75980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7AA06-A2DC-4777-84DC-7EEAB314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EB34F-0053-459E-88E9-8B8E0CF0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B87-A7FC-45C5-9C66-A47E0E7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E63-EC1E-4532-A40F-D0A8FF6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108-2542-4FDA-B8EE-2B3CC29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319-86A9-48DC-8B24-2042CAA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24D-75E7-452F-8A20-AD28559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8DE-76B3-450F-8A9B-C171B85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9F2-AB1F-4B4B-AC44-3EF1AFE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43B-2E95-4A36-BF27-032DCC8E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793-46B3-4C9A-9316-A580AEBF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506-240D-458E-8A0B-637561FA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D37A-D574-49E4-A10B-99AF6708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5C22-8D7D-45D3-9187-919E47E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8EE-4A63-4270-BE8F-D3393BC3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93CE-A806-43A7-8A6F-504B2EA2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75DB-F5D0-412A-BFCC-ADC40669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20AC-5B23-482F-B63A-693D02E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32DD-7ECC-406D-BA93-B65AAC7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0060-C695-43A2-BBC8-09188A1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54E-C139-41E4-83FB-2AB475F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1E4-52FD-4DCB-81DE-8C4E43EA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9DE-188B-40B5-B9A4-4FEBC37A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ADC8-3792-4087-92AE-00DE4FE0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0AFF-5B35-4193-9D30-42B2E18F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20E2-D2B7-40A7-A917-C5A4BEE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D862-7C96-4618-99B4-90C86A6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C0C9-E707-49B0-B426-A21B625F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CAFE-95A1-48BB-A30F-4BB942A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F9CE-B09E-46CE-B9E6-7DA0913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6E4B-4934-49C1-A423-28002F7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86FD-7F6F-413D-BC75-A3B1D45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ACDF-0470-4420-A951-E83D98F2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753F-F265-4AF2-8A62-025E51C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9C0E-3784-44F5-B69F-4E3EB7E8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029B-2B3B-4396-B144-D41AEE5A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3E6A-D761-4680-BD38-67ECBAF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8C2D-33A2-40B0-8377-4FAFD82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C5F04-0C31-468E-AB3E-5D2A51A8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BF68-52E8-4FF7-ADA6-1CEB9EF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7DE2-F9EF-4788-93C8-6B97DBFA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3A86-D581-47CD-BA79-93A8999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3698-E24C-4709-9F9A-F6149C3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79FA-780C-4AA4-95B4-4F3046F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20AD-BAA9-4C09-B7E0-26325A0D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642A-8568-40FC-9BA9-85847D14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DF84-7850-4801-B419-A063509A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2178-A519-43D8-9F0D-FCE4DAF2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29C9-1133-438B-9C9B-8853B89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E8A1-C2C0-407E-B20B-1097C13F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C8E66-BD28-4D3D-A391-087F57B3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1B06-0165-44F3-9AA5-89EB1324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5E7E-6640-45BC-BB69-EA9393F7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CF656-54E4-4F9D-AFCD-D9EA472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D7C4-22AB-4095-AAF6-3AB7C69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F88B-8C3B-4FAC-A388-83E7813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8A7D-B2BF-4E11-A23E-AE64C5D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6287-0B78-491A-A773-DFF64882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C7D7-FAA0-4479-B604-CFBDF014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AADB0-8DA4-4419-9F3B-F84E30C9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DDF6-FB25-4F9A-984A-CE58411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864C-5477-4CFC-B8BC-25BF3FE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B825-9AF0-457C-888A-4F8EED9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ADD6-7B61-4EEE-90B4-1B706D72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2C30-6918-42B4-9F52-42ECBD7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17B7-A904-4230-8C82-8E20C5B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6B51-9A91-4D3F-8198-7C09BCB6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344D-38D7-4115-A7E5-F07AB47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64D73-BB77-4236-8263-94E6C3A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E8718-E55C-4E64-8B3F-5962C5A1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F1E0-1BA1-40A3-ADD3-9D751047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C119-F070-4544-AF80-10076545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6A16-C79A-49EF-83F1-DFFE942A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0099-6644-4D22-B787-F3F35FE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0100-2C4A-40F9-9655-1468D428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FC572-A4BD-4A27-A1C8-A80CDF2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9EFC-F1AF-48E4-A8AC-BD97ACF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C210-4084-4F6E-A92C-9EB9A937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49761-F28B-41B9-BBEE-E99C43B9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21EB5-911B-4627-B24E-C43A5CF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F52E-1380-493E-ADEE-ACF47B0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9C6A-5486-400C-8634-3FE3B784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BE24-EC53-4C01-B04E-A59EE0DA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B981-AF97-43F4-9E11-8FB17F8A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FDA0-8DD0-47BB-9501-A7376027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85D3-40CD-4321-B7CB-2842BD20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" name="Rectangle 9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5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9" name="Freeform 16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Group 1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3" name="Freeform 20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AutoShape 21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AutoShape 22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AutoShape 23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AutoShape 24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AutoShape 25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AutoShape 26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AutoShape 27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AutoShape 28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AutoShape 29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" name="Text Box 30"/>
          <p:cNvSpPr/>
          <p:nvPr/>
        </p:nvSpPr>
        <p:spPr>
          <a:xfrm>
            <a:off x="6095880" y="6477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  <a:ea typeface="华文楷体"/>
              </a:rPr>
              <a:t>中央电教馆资源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" name="Group 31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5" name="Rectangle 32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33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3d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F3A-FFBC-4BDA-A334-413B40FEE8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E87-D739-4204-8C98-9D30533F3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8BB5-7AA6-43AB-A0A9-261324E981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81C-75AD-4A5E-B8E4-BB492D5710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0AE-2C7D-48F0-A699-D7A140893C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74CD-611B-4A89-AD64-82446FE4C5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D76C-C940-418E-A30D-183C347B78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75C5-DBAF-4499-8ABF-6732D1878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DAEA-89B1-40EB-96F1-5093A36FA8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36E-0616-4BF0-B66F-F9B6E99C45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7448-7C6C-45C7-ABEC-B4268C49A4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6F7-6448-4457-8C8C-130CB696B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40B1-0FFC-4C0F-AFEE-7F34EB22E4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3060-4F24-4B7B-9290-DEEE6AA54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8E57-FF6A-43B0-BC39-DA18461EEE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4D9-334D-4FC3-91A9-F93C614C2A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BCDC-0DF7-49B7-B6D1-37EC9658CD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80BB-A27A-40B9-A93C-256619C23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C8C-72DA-48F0-BFC4-5A1E8AF5CD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B77F-1169-4A67-AF64-506A601C8F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2C2-2F26-43E2-AFAB-57770E606B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FEB5-9806-4604-928E-D65F7BF36A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16D-6F25-4638-B36B-BA1A5D40DF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1D0D-7A05-4A98-8967-EB0E4AA81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1000song.mid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2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6" descr="C:\Documents and Settings\yjl\My Documents\My Pictures\scenery_49.jpg"/>
          <p:cNvPicPr/>
          <p:nvPr/>
        </p:nvPicPr>
        <p:blipFill>
          <a:blip r:embed="rId2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2.wav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"/>
          <p:cNvSpPr/>
          <p:nvPr/>
        </p:nvSpPr>
        <p:spPr>
          <a:xfrm>
            <a:off x="-380880" y="0"/>
            <a:ext cx="9524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28600" y="1219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  <a:ea typeface="宋体"/>
              </a:rPr>
              <a:t> 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阿普顿是美国普林斯顿大学数学系毕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有一次，爱迪生让他测算一只梨形灯泡的容积。于是，他拿起灯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然后加以计算。阿普顿在好几张白纸上写满了密密麻麻的数据和算式，也没算出来。爱迪生等了很长时间，也不见阿普顿报告结果，只见爱迪生取来一大杯水，轻轻地往灯泡里倒满了水，然后把水倒进量筒，几秒钟就量出了水的体积，当然也就等于算出了玻璃灯泡的容积。这时，羞红了脸的阿普顿傻呆呆地站在一旁，恨不得找条地缝钻下去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609480" y="44136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小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2" descr="C:\Documents and Settings\yjl\My Documents\My Pictures\1.gif"/>
          <p:cNvPicPr/>
          <p:nvPr/>
        </p:nvPicPr>
        <p:blipFill>
          <a:blip r:embed="rId2"/>
          <a:stretch/>
        </p:blipFill>
        <p:spPr>
          <a:xfrm>
            <a:off x="0" y="0"/>
            <a:ext cx="10317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14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565" name="Rectangle 8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Rectangle 23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Group 4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572" name="Freeform 25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6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3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576" name="Freeform 29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AutoShape 30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AutoShape 34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35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AutoShape 36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AutoShape 37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8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49"/>
          <p:cNvGrpSpPr/>
          <p:nvPr/>
        </p:nvGrpSpPr>
        <p:grpSpPr>
          <a:xfrm>
            <a:off x="8153280" y="304920"/>
            <a:ext cx="990720" cy="1523880"/>
            <a:chOff x="8153280" y="304920"/>
            <a:chExt cx="990720" cy="1523880"/>
          </a:xfrm>
        </p:grpSpPr>
        <p:sp>
          <p:nvSpPr>
            <p:cNvPr id="587" name="Rectangle 47"/>
            <p:cNvSpPr/>
            <p:nvPr/>
          </p:nvSpPr>
          <p:spPr>
            <a:xfrm>
              <a:off x="8153280" y="30492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45"/>
            <p:cNvSpPr/>
            <p:nvPr/>
          </p:nvSpPr>
          <p:spPr>
            <a:xfrm>
              <a:off x="8305920" y="38124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3d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54"/>
          <p:cNvGrpSpPr/>
          <p:nvPr/>
        </p:nvGrpSpPr>
        <p:grpSpPr>
          <a:xfrm>
            <a:off x="1523880" y="2133720"/>
            <a:ext cx="6628680" cy="2209320"/>
            <a:chOff x="1523880" y="2133720"/>
            <a:chExt cx="6628680" cy="2209320"/>
          </a:xfrm>
        </p:grpSpPr>
        <p:sp>
          <p:nvSpPr>
            <p:cNvPr id="590" name="Rectangle 55"/>
            <p:cNvSpPr/>
            <p:nvPr/>
          </p:nvSpPr>
          <p:spPr>
            <a:xfrm>
              <a:off x="1839240" y="2354400"/>
              <a:ext cx="6102720" cy="176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6"/>
            <p:cNvSpPr/>
            <p:nvPr/>
          </p:nvSpPr>
          <p:spPr>
            <a:xfrm>
              <a:off x="1523880" y="3900960"/>
              <a:ext cx="420480" cy="442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7"/>
            <p:cNvSpPr/>
            <p:nvPr/>
          </p:nvSpPr>
          <p:spPr>
            <a:xfrm>
              <a:off x="1523880" y="2133720"/>
              <a:ext cx="420480" cy="441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58"/>
            <p:cNvSpPr/>
            <p:nvPr/>
          </p:nvSpPr>
          <p:spPr>
            <a:xfrm>
              <a:off x="7731720" y="3900960"/>
              <a:ext cx="420840" cy="442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59"/>
            <p:cNvSpPr/>
            <p:nvPr/>
          </p:nvSpPr>
          <p:spPr>
            <a:xfrm>
              <a:off x="7731720" y="2133720"/>
              <a:ext cx="420840" cy="441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60"/>
            <p:cNvSpPr/>
            <p:nvPr/>
          </p:nvSpPr>
          <p:spPr>
            <a:xfrm>
              <a:off x="1944360" y="2243520"/>
              <a:ext cx="57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61"/>
            <p:cNvSpPr/>
            <p:nvPr/>
          </p:nvSpPr>
          <p:spPr>
            <a:xfrm>
              <a:off x="1734120" y="2575080"/>
              <a:ext cx="0" cy="13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62"/>
            <p:cNvSpPr/>
            <p:nvPr/>
          </p:nvSpPr>
          <p:spPr>
            <a:xfrm>
              <a:off x="1944360" y="4232520"/>
              <a:ext cx="58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63"/>
            <p:cNvSpPr/>
            <p:nvPr/>
          </p:nvSpPr>
          <p:spPr>
            <a:xfrm>
              <a:off x="8047440" y="2575080"/>
              <a:ext cx="0" cy="13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Text Box 66"/>
          <p:cNvSpPr/>
          <p:nvPr/>
        </p:nvSpPr>
        <p:spPr>
          <a:xfrm>
            <a:off x="2286000" y="2819520"/>
            <a:ext cx="5257800" cy="764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楷体_GB2312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</a:rPr>
              <a:t>容积和容积单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029" descr="C:\Documents and Settings\yjl\My Documents\My Pictures\u=570964172,2928837345&amp;gp=2.jpg"/>
          <p:cNvPicPr/>
          <p:nvPr/>
        </p:nvPicPr>
        <p:blipFill>
          <a:blip r:embed="rId1"/>
          <a:stretch/>
        </p:blipFill>
        <p:spPr>
          <a:xfrm>
            <a:off x="6248520" y="12193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030"/>
          <p:cNvSpPr/>
          <p:nvPr/>
        </p:nvSpPr>
        <p:spPr>
          <a:xfrm>
            <a:off x="304920" y="4572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31"/>
          <p:cNvSpPr/>
          <p:nvPr/>
        </p:nvSpPr>
        <p:spPr>
          <a:xfrm>
            <a:off x="388620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集装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32"/>
          <p:cNvSpPr/>
          <p:nvPr/>
        </p:nvSpPr>
        <p:spPr>
          <a:xfrm>
            <a:off x="7162920" y="4572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冰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033" descr="6-1"/>
          <p:cNvPicPr/>
          <p:nvPr/>
        </p:nvPicPr>
        <p:blipFill>
          <a:blip r:embed="rId2"/>
          <a:srcRect l="3505" t="15445" r="14035" b="9927"/>
          <a:stretch/>
        </p:blipFill>
        <p:spPr>
          <a:xfrm>
            <a:off x="3048120" y="12952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34" descr="C:\Documents and Settings\yjl\My Documents\My Pictures\u=2711249505,539998275&amp;gp=3.jpg"/>
          <p:cNvPicPr/>
          <p:nvPr/>
        </p:nvPicPr>
        <p:blipFill>
          <a:blip r:embed="rId3"/>
          <a:stretch/>
        </p:blipFill>
        <p:spPr>
          <a:xfrm>
            <a:off x="76320" y="1676520"/>
            <a:ext cx="297180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09" name="Rectangle 4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5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8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16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20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Group 26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631" name="Rectangle 27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28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3d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Text Box 88"/>
          <p:cNvSpPr/>
          <p:nvPr/>
        </p:nvSpPr>
        <p:spPr>
          <a:xfrm>
            <a:off x="1219320" y="160020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、在括号里填上适当的单位名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一瓶钢笔水的容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摩托车油箱的容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一瓶农夫果园的容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89"/>
          <p:cNvSpPr/>
          <p:nvPr/>
        </p:nvSpPr>
        <p:spPr>
          <a:xfrm>
            <a:off x="6095880" y="2362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609588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91"/>
          <p:cNvSpPr/>
          <p:nvPr/>
        </p:nvSpPr>
        <p:spPr>
          <a:xfrm>
            <a:off x="48610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93"/>
          <p:cNvSpPr/>
          <p:nvPr/>
        </p:nvSpPr>
        <p:spPr>
          <a:xfrm>
            <a:off x="6781680" y="5257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95"/>
          <p:cNvSpPr/>
          <p:nvPr/>
        </p:nvSpPr>
        <p:spPr>
          <a:xfrm>
            <a:off x="914400" y="5335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试一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96" descr="C:\Documents and Settings\yjl\My Documents\My Pictures\u=3244391978,1749246268&amp;gp=2.jpg"/>
          <p:cNvPicPr/>
          <p:nvPr/>
        </p:nvPicPr>
        <p:blipFill>
          <a:blip r:embed="rId4"/>
          <a:stretch/>
        </p:blipFill>
        <p:spPr>
          <a:xfrm>
            <a:off x="3886200" y="297180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7" descr="C:\Documents and Settings\yjl\My Documents\My Pictures\u=2122981743,421636503&amp;gp=2.jpg"/>
          <p:cNvPicPr/>
          <p:nvPr/>
        </p:nvPicPr>
        <p:blipFill>
          <a:blip r:embed="rId5"/>
          <a:stretch/>
        </p:blipFill>
        <p:spPr>
          <a:xfrm>
            <a:off x="3809880" y="4419720"/>
            <a:ext cx="1270080" cy="838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9" descr="C:\Documents and Settings\yjl\My Documents\My Pictures\u=3521728828,50884117&amp;gp=3.jpg"/>
          <p:cNvPicPr/>
          <p:nvPr/>
        </p:nvPicPr>
        <p:blipFill>
          <a:blip r:embed="rId6"/>
          <a:stretch/>
        </p:blipFill>
        <p:spPr>
          <a:xfrm>
            <a:off x="8112240" y="5029200"/>
            <a:ext cx="103176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050"/>
          <p:cNvSpPr/>
          <p:nvPr/>
        </p:nvSpPr>
        <p:spPr>
          <a:xfrm>
            <a:off x="1295280" y="20574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一种汽车上的油箱，里面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这个油箱可以装汽油多少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051"/>
          <p:cNvSpPr/>
          <p:nvPr/>
        </p:nvSpPr>
        <p:spPr>
          <a:xfrm>
            <a:off x="838080" y="914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考考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0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053"/>
          <p:cNvSpPr/>
          <p:nvPr/>
        </p:nvSpPr>
        <p:spPr>
          <a:xfrm>
            <a:off x="1143000" y="236232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种汽车上的油箱，里面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，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，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。这个油箱可以装汽油多少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2055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5048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2056"/>
          <p:cNvSpPr/>
          <p:nvPr/>
        </p:nvSpPr>
        <p:spPr>
          <a:xfrm>
            <a:off x="23623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宋体"/>
              </a:rPr>
              <a:t>考考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50" name="Rectangle 4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5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6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57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61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Text Box 59"/>
          <p:cNvSpPr/>
          <p:nvPr/>
        </p:nvSpPr>
        <p:spPr>
          <a:xfrm>
            <a:off x="1295280" y="1828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扶拖拉机的油箱，从里面量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米，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米，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米。这个油箱可以装柴油多少升？每升柴油重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克计算，装的柴油重多少千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74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78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Rectangle 77"/>
          <p:cNvSpPr/>
          <p:nvPr/>
        </p:nvSpPr>
        <p:spPr>
          <a:xfrm>
            <a:off x="3200400" y="45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5"/>
          <p:cNvSpPr/>
          <p:nvPr/>
        </p:nvSpPr>
        <p:spPr>
          <a:xfrm>
            <a:off x="1295280" y="68580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一个正方体水槽，棱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分米，向水槽中倒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升水后，再把一个鹅卵石放入水中，这时量得水深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分米，石头的体积是多少立方分米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130" descr="C:\Documents and Settings\yjl\My Documents\My Pictures\u=1651109874,2230947165&amp;gp=0.jpg"/>
          <p:cNvPicPr/>
          <p:nvPr/>
        </p:nvPicPr>
        <p:blipFill>
          <a:blip r:embed="rId2"/>
          <a:stretch/>
        </p:blipFill>
        <p:spPr>
          <a:xfrm>
            <a:off x="762120" y="3733920"/>
            <a:ext cx="2687400" cy="2743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2" descr="C:\Documents and Settings\yjl\My Documents\My Pictures\u=1651109874,2230947165&amp;gp=0.jpg"/>
          <p:cNvPicPr/>
          <p:nvPr/>
        </p:nvPicPr>
        <p:blipFill>
          <a:blip r:embed="rId3"/>
          <a:stretch/>
        </p:blipFill>
        <p:spPr>
          <a:xfrm>
            <a:off x="5181480" y="3657600"/>
            <a:ext cx="2687760" cy="2743200"/>
          </a:xfrm>
          <a:prstGeom prst="rect">
            <a:avLst/>
          </a:prstGeom>
          <a:ln w="0">
            <a:noFill/>
          </a:ln>
        </p:spPr>
      </p:pic>
      <p:sp>
        <p:nvSpPr>
          <p:cNvPr id="692" name="Line 133"/>
          <p:cNvSpPr/>
          <p:nvPr/>
        </p:nvSpPr>
        <p:spPr>
          <a:xfrm>
            <a:off x="838080" y="5410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36"/>
          <p:cNvSpPr/>
          <p:nvPr/>
        </p:nvSpPr>
        <p:spPr>
          <a:xfrm>
            <a:off x="10666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37"/>
          <p:cNvSpPr/>
          <p:nvPr/>
        </p:nvSpPr>
        <p:spPr>
          <a:xfrm>
            <a:off x="18288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38"/>
          <p:cNvSpPr/>
          <p:nvPr/>
        </p:nvSpPr>
        <p:spPr>
          <a:xfrm>
            <a:off x="228600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0"/>
          <p:cNvSpPr/>
          <p:nvPr/>
        </p:nvSpPr>
        <p:spPr>
          <a:xfrm flipV="1">
            <a:off x="3048120" y="487656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41"/>
          <p:cNvSpPr/>
          <p:nvPr/>
        </p:nvSpPr>
        <p:spPr>
          <a:xfrm flipH="1">
            <a:off x="31240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143"/>
          <p:cNvSpPr/>
          <p:nvPr/>
        </p:nvSpPr>
        <p:spPr>
          <a:xfrm>
            <a:off x="6629400" y="5791320"/>
            <a:ext cx="5335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44"/>
          <p:cNvSpPr/>
          <p:nvPr/>
        </p:nvSpPr>
        <p:spPr>
          <a:xfrm>
            <a:off x="54864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45"/>
          <p:cNvSpPr/>
          <p:nvPr/>
        </p:nvSpPr>
        <p:spPr>
          <a:xfrm>
            <a:off x="5334120" y="4800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46"/>
          <p:cNvSpPr/>
          <p:nvPr/>
        </p:nvSpPr>
        <p:spPr>
          <a:xfrm>
            <a:off x="6172200" y="5638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47"/>
          <p:cNvSpPr/>
          <p:nvPr/>
        </p:nvSpPr>
        <p:spPr>
          <a:xfrm>
            <a:off x="563868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48"/>
          <p:cNvSpPr/>
          <p:nvPr/>
        </p:nvSpPr>
        <p:spPr>
          <a:xfrm flipH="1">
            <a:off x="754344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49"/>
          <p:cNvSpPr/>
          <p:nvPr/>
        </p:nvSpPr>
        <p:spPr>
          <a:xfrm flipH="1">
            <a:off x="754344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50"/>
          <p:cNvSpPr/>
          <p:nvPr/>
        </p:nvSpPr>
        <p:spPr>
          <a:xfrm flipH="1">
            <a:off x="754344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52"/>
          <p:cNvSpPr/>
          <p:nvPr/>
        </p:nvSpPr>
        <p:spPr>
          <a:xfrm>
            <a:off x="2590920" y="4800600"/>
            <a:ext cx="3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3"/>
          <p:cNvSpPr/>
          <p:nvPr/>
        </p:nvSpPr>
        <p:spPr>
          <a:xfrm>
            <a:off x="12952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54"/>
          <p:cNvSpPr/>
          <p:nvPr/>
        </p:nvSpPr>
        <p:spPr>
          <a:xfrm>
            <a:off x="30481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56"/>
          <p:cNvSpPr/>
          <p:nvPr/>
        </p:nvSpPr>
        <p:spPr>
          <a:xfrm>
            <a:off x="49528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57"/>
          <p:cNvSpPr/>
          <p:nvPr/>
        </p:nvSpPr>
        <p:spPr>
          <a:xfrm>
            <a:off x="495288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59"/>
          <p:cNvSpPr/>
          <p:nvPr/>
        </p:nvSpPr>
        <p:spPr>
          <a:xfrm flipV="1">
            <a:off x="51055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60"/>
          <p:cNvSpPr/>
          <p:nvPr/>
        </p:nvSpPr>
        <p:spPr>
          <a:xfrm>
            <a:off x="51055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62"/>
          <p:cNvSpPr/>
          <p:nvPr/>
        </p:nvSpPr>
        <p:spPr>
          <a:xfrm>
            <a:off x="411480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26"/>
          <p:cNvSpPr/>
          <p:nvPr/>
        </p:nvSpPr>
        <p:spPr>
          <a:xfrm>
            <a:off x="-228600" y="0"/>
            <a:ext cx="9372600" cy="7086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27"/>
          <p:cNvSpPr/>
          <p:nvPr/>
        </p:nvSpPr>
        <p:spPr>
          <a:xfrm>
            <a:off x="1447920" y="1295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  <a:ea typeface="宋体"/>
              </a:rPr>
              <a:t>考考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028"/>
          <p:cNvSpPr/>
          <p:nvPr/>
        </p:nvSpPr>
        <p:spPr>
          <a:xfrm>
            <a:off x="762120" y="2514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种背负式喷雾器，药液箱的容积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升。如果每分钟喷出药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毫升，喷完一箱药液需用多少分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1029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-457200" y="380880"/>
            <a:ext cx="2438280" cy="15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yangjiuling</dc:creator>
  <dc:description/>
  <dc:language>en-US</dc:language>
  <cp:lastModifiedBy>a</cp:lastModifiedBy>
  <dcterms:modified xsi:type="dcterms:W3CDTF">2015-03-17T06:01:08Z</dcterms:modified>
  <cp:revision>176</cp:revision>
  <dc:subject/>
  <dc:title>PowerPoint 演示文稿</dc:title>
</cp:coreProperties>
</file>