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3.jpeg" ContentType="image/jpeg"/>
  <Override PartName="/ppt/media/image4.gif" ContentType="image/gif"/>
  <Override PartName="/ppt/media/image6.gif" ContentType="image/gif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7EC-A21D-4E13-B1C2-57891F22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D64-19E1-4395-9C82-A436C88F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2EA2A-E3F9-42BE-B211-8378D992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99F8A-D08A-4443-9BA4-A5EDE598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2625F-FB1F-400B-B83C-1BE00DAB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6C01-F84F-41E0-ACAA-2E2DF7F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E69A-76BC-43EF-8558-A3DF437B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C8222-8E3B-4F1B-9DC3-E46895F3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0CD89-9DFC-45E4-BC17-9665F104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A2BB-1688-45C5-827B-E79B6FF8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25E26C-D6A9-4C7B-887A-857D352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AF3F7-C8E7-4C53-A2D0-B82F93B1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1018-7018-4065-8290-6386E4CA6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51F8F-B365-4C34-8502-A8930780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50D91-CC57-4E27-A8F2-D45587EA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FC2BA-A57E-4886-909E-5684B26C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367CA-8EB9-4103-9669-238E54BD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0E83-BA3B-4CD2-A28F-EF8BE7E4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395B6-7D1B-4BC2-BCC8-F11BC74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97AF4-3EA5-4B80-9AD1-0DC51B8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BC2DD-83C8-4823-BB93-3BB8555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A1297-2C47-4D40-A6A2-DDD7AC4A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4576-7F1A-40B4-B66F-7730971D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BB1-A173-4D71-909C-97BB16BC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7BD6-6B18-4442-9999-72FC4250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F091-B060-404A-BFE6-EC4DD737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22FB-A022-4BFC-AD66-E77B4050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0C588-1D29-450F-8F73-6DD59786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218D-F392-4ACB-B7FA-6304600E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78E43-2D9B-4EA2-8C27-0DF2AD64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37D55-8072-40CC-9DB1-B0580F65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EFDAE-71E3-4522-B1A2-7697B5E5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6B1F-63F3-407F-A261-A1215F5A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B6D2-A0AE-4445-BE4B-9650B7F9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B1EB-2FE3-4566-BBA0-17F40AC3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5303E-619D-4137-B8FB-D5610537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7E25A-D361-4816-AB3A-6818E9D7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78A6-523D-4585-AB60-B62DF218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D1748-770E-4B42-B5C2-D644B2F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A8CBE-B82A-4FFE-A127-74063B05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05FEA-CF1F-433F-A22D-ECCCA786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97D47-3037-4161-8B41-E3BC2C6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88398-E7DC-4468-AD97-6A2DB3D3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33020-8AB5-43A7-B5B9-A99BAA30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0C550-3BFC-4B5C-B2D0-F95DD793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276-9F05-4098-A238-BC9CFC7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53E89-7F4D-4A2D-AD02-21A70A0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40CF9-6851-47F1-A865-B8687F67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BFB9D-2536-495F-A026-77C26339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6926-5E4E-49DB-8184-3AE6D329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4BDD7-9190-47CB-835B-35FFBD55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4F640-E05D-4E29-B372-7692AD30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CD2A2A-A6CC-4BC8-B43D-C253C622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6C6FE-5B0C-46CE-ABA4-C6AAF488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03D5B-D0BD-4A60-80E3-220B577E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39F16-CA63-494D-B84F-BBF639E4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D625-00D1-454E-9F4A-EB0B759D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A3A0B3-5C86-46C3-970F-45776959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9706F-A7C0-4D06-8EC9-01C7CBA8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697049-A5A7-4176-897C-81A33E16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0F0E4-AF3D-4426-B199-21655F6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8C74C-3E3B-4D93-BC53-7B2BA6C7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CEF58-BD52-4C57-BFB8-124F41B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B80245-6A78-487D-B98C-A614C5F9B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A01F-E6AA-47B1-8936-CB314FA7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A920-0AA3-4714-89A0-65A20518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89F3-8B6C-45A1-8F15-146BDF53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6E4F-A565-484E-A463-FBCBA274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032-968A-4D03-974A-AF5B8026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4EA4-6F6F-4203-943D-05DAE7C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069-6F05-4D13-95AE-7790E46C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A8C7-18D4-4FD9-A80D-C430516F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A472-6876-47AB-9B57-163D2A32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E393-2EBF-4B17-B210-93F10B5FF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9522-3C66-4C02-AC25-B7AC917C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42F6-A71F-4F59-AA03-1AC8E510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DE9CF-8975-4A16-B20C-FA12C53C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F394A-7845-49AF-8EB1-49EA827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1CC34-871A-4627-89C7-BDB3703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93A-4445-4404-90A4-492AE3B4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EFC4-CD1E-4A3B-9A5B-6DC897E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6CAF0-5E03-4EF8-B1A0-7AF7B94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689F-C711-4C5B-8122-4300F77A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4056-EDD3-483A-90C1-4560AF2B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F84C-2DD1-4E3C-B882-E6CDF3D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F8C0-4D0C-4D2F-8C58-9DD53546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2FD1-0F29-4AA5-A893-EED6D428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C01F-624A-472E-9826-36815F369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1D30-9E66-4814-BE28-25B346BC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47C6-9220-490A-97FF-CD09E2FC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C63-CED7-4E55-B835-C8D87190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A5BC-DE89-4BDF-B5F3-792F8E36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8248F-3E3D-4B29-ADD4-FEF33FE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6FEF-0BA8-4501-A0F6-8D22CFC6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AB703-63EE-477B-9638-5F203749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854DA-1AFD-4368-ADED-687E611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0AB2-8EBB-4F3F-9EEA-C9FF6004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2770D-8A73-4B2A-AC8D-8D613C3C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227C-C1C8-4369-833C-A62E274C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3F64-569A-475E-B1FF-CBB7B2A8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90FE-4F82-4BEA-82AE-1B221794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AE2-25FB-4BC4-8B50-6FA2C891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6EB8-92E9-4050-BA60-D0CD344C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A5399-4818-4883-BC7E-A549ABC8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E11F-3132-4BCD-A2EE-4852AF09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B600C-F321-490A-9E39-881EDA0B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4C6BC-35DE-40D4-8D5A-9336CD7E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F882-39AB-49AB-80D6-64573FB1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16708-F143-4190-B1A6-505A66D6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59E6-3FC9-44C2-9D41-CE1CDF7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4A549-4909-4D4A-AF8B-EB84442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AE9A-736D-4BA2-A40A-17F04167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CE4-84BF-4BF9-B9D0-87C0A330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51C7-574B-4157-8F87-DFFA0714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7CD9-9BE2-48FF-94E8-D727D4EC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097BA-1996-4452-BD2B-0E29F95A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8C43D-471B-46FF-A5D7-795C03E1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4343-C43A-4715-A949-D2888578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7FDB2-00AF-4824-8C1A-DA97EAA4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41DF4-7604-49A3-AFAF-2171A7C7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C72D-3A37-4F10-8948-6C8789A9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E7A13-EC97-4315-9B21-4A2BADBC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D6399-ECF9-4244-8F31-2AA3F3B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371-71CB-4F5B-9183-4455778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B3C1A-5F1C-4CFC-A023-4289E0E5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792E-E8AD-4DB7-89DC-3B6EA0AA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A8E51-736A-49A8-907D-726688C17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8E7E-A110-4606-9220-7E8B580A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935AD-FBE0-4F1E-9381-B0B1D8FC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823EB-9BED-44C7-B317-0F41D05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4DA1C-D9D5-4162-A1E3-3E71CE70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F2487-6EF1-407C-8A74-B6D53E82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9900A-C063-487D-8C40-0F951E64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C90E6-3B47-4C0F-9949-8F836B44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2C4C-2508-4AAB-9208-9DE4638D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9E7C-5DD9-4B72-91FD-6F33DE1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3D17-BB9D-4FED-AD32-CC2B3691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8ADC0-7C03-4239-8DF1-F6A3698A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972B6-CBCE-453A-91D3-E565371A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81AB2-E20C-42C2-9C14-FC794631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0BFD-FA26-4D14-9E67-1B0D0D7E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53C3-AFE8-4FE6-80E3-74DA537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378E8-9AEF-4085-A173-7E4D20F3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DC314-BBFF-49C3-AA1B-C94FCB63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D4E01-02C4-48F8-9950-D48A0C37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38E8-352D-4328-B521-28C93CC7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278CA-0C3E-4345-8E1C-F1AE2AA2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6A475-0B66-443B-8408-64B20FB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7C46A-1EFA-49CB-9015-C6CF4D5A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6E9E2-44DE-4CBC-A9A9-DCF60BA6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11062-E50C-48D5-A8E0-CE4DF81C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6303F-1498-444E-B15E-1401FB39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1771-4781-4181-9D5D-B5B484F5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14790-4158-46E4-8002-4E4ABEAA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59A16-A740-4107-84D3-4377BD6D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B7F39-7D2C-4CDA-A4B8-7B9B0B0B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982E-6BDF-490F-B6B0-B1D5704DA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F679-0D3C-4A51-94AD-E0AD8DF199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CE2E-1E66-4C87-808C-7402BFC024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5D9E-1351-4C77-9A6E-E27B0D262A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0CA-BCF6-485B-9B1A-42398F6957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11B9-124B-4011-BEF6-5C89EC992E3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F3BE-E621-4CDE-A63B-0928D70970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722A-6545-4003-BB5A-D607EDA37E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2944-F5C7-4590-981E-C76B3D0120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C56D-474A-40FD-BBF7-D986BCA4D2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53A5-A492-488A-9795-0CCBB4FEEC1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D3B-419B-4532-920F-140D999FAA9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4FB-5ABD-47D2-BAD3-B9A3FC0993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AAD5-D75E-48C6-885B-D27A667E92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F9DC-3AE6-482A-9B02-0A2BDCD3F8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3982-67E8-4082-8DF8-AAF9CF57BE9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B62-AE47-4D3E-9DE1-FF02528565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4EE0-FD72-4030-A74F-D627E9B7A5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D916-0CAD-4F65-98DE-68236D7999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A6BF-A941-4B81-B1D6-FD52FA3651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F68-6313-4751-A960-7948E54BC0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4719-0056-4250-8346-F44617C7857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B1B-9782-4815-9B36-A36CA2617D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040D-DD69-42CE-8C74-047E7E6255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7679-539B-4407-BF79-939B2D34EE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pic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1981080" y="1676520"/>
            <a:ext cx="50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隶书"/>
              </a:rPr>
              <a:t>散   步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34120" y="33526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莫怀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685800" y="685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1981080" y="38862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浓 浓 的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亲 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57200" y="1738440"/>
            <a:ext cx="82296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文 中 的 词  语、句 子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看 似               却 传 达 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3048120" y="259092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平 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685800" y="6858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819520" y="35053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浓 浓 的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亲 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90920" y="1143000"/>
            <a:ext cx="579096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文 中看似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平 淡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词 语、句 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04920" y="30492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圈 划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6" descr="1-47"/>
          <p:cNvPicPr/>
          <p:nvPr/>
        </p:nvPicPr>
        <p:blipFill>
          <a:blip r:embed="rId1"/>
          <a:stretch/>
        </p:blipFill>
        <p:spPr>
          <a:xfrm>
            <a:off x="6324480" y="4300560"/>
            <a:ext cx="2819520" cy="255744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304920" y="335268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体 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a1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2"/>
          <p:cNvSpPr/>
          <p:nvPr/>
        </p:nvSpPr>
        <p:spPr>
          <a:xfrm>
            <a:off x="533520" y="1522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老师的理解和认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0" y="838080"/>
            <a:ext cx="8534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曲温馨隽永亲情 之歌、伦理之歌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命之歌；展示了家人间浓浓的亲情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中年人所肩负的责任感、使命感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家人，两对母子，这是世代的延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现了生命“生生不息”的哲理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语言看似平淡，却饱含深情，值得体会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1066680" y="1143000"/>
            <a:ext cx="6934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在你们的日常生活中，有没有虽平淡，却很生动、有趣儿的词语？想一想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说一说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bear015"/>
          <p:cNvPicPr/>
          <p:nvPr/>
        </p:nvPicPr>
        <p:blipFill>
          <a:blip r:embed="rId1"/>
          <a:stretch/>
        </p:blipFill>
        <p:spPr>
          <a:xfrm>
            <a:off x="5867280" y="3886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1828800" y="2286000"/>
            <a:ext cx="5715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谈 谈 你 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收 获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6" descr="2-346"/>
          <p:cNvPicPr/>
          <p:nvPr/>
        </p:nvPicPr>
        <p:blipFill>
          <a:blip r:embed="rId2"/>
          <a:stretch/>
        </p:blipFill>
        <p:spPr>
          <a:xfrm>
            <a:off x="609480" y="457200"/>
            <a:ext cx="16002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F03.mp3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00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WordArt 5"/>
          <p:cNvSpPr txBox="1"/>
          <p:nvPr/>
        </p:nvSpPr>
        <p:spPr>
          <a:xfrm>
            <a:off x="1828800" y="2057400"/>
            <a:ext cx="5562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谢谢光临指导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1:54:21Z</dcterms:created>
  <dc:creator/>
  <dc:description>中小学教育资源中心 全心全意为中小学教育服务</dc:description>
  <dc:language>en-US</dc:language>
  <cp:lastModifiedBy>a</cp:lastModifiedBy>
  <dcterms:modified xsi:type="dcterms:W3CDTF">2015-02-10T11:48:22Z</dcterms:modified>
  <cp:revision>12</cp:revision>
  <dc:subject/>
  <dc:title>中小学教育资源站www.edudown.net</dc:title>
</cp:coreProperties>
</file>