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060-8948-403A-B18E-8A7BBC38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D0A-2967-4011-93EE-91B42395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F332B-F606-477A-9A1C-C0128EAD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6711-4022-46A0-B439-F3A1550F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70482-B9F8-4C14-BBCD-2FADA337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DCD8-6E94-4CA0-990C-94EA71F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391A-4475-4326-9337-126A21A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46C45-7A64-49FE-8E36-BDE1855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96E00-438C-4CEB-87AF-44CCA74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AE8C2-E96B-42A7-9C5A-81E1D389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D69B6-0BDF-43CE-8CBE-5545EE55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E38A-338C-4A73-BEEC-84E1E0A0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5F0-CE74-4665-8AA2-531680B8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DABE-8CD4-4182-B937-82EBB90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0694A-6AA0-47EF-A4ED-E2C60CD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57CDB-5341-4CF0-92F9-1F9EAA2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22F12-B85C-4E65-8450-B95F529A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60896-41D7-4FB7-8286-ADA9C1C2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A1FFF-D960-4A13-842A-D4A4A61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7DC2B-371F-4ACA-AD65-651772E1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81A6A-3D5C-4267-9678-A84A6E1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2DF88-8B66-4487-82DB-FC97DD82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3884-2C39-42C1-BCEE-FF9AAEF3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100-B6B0-41E8-97F4-64A86559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78CEF-5CDF-4FC1-BB92-F27D997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EAEFD-390A-47B7-8C83-F093778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B8766-8672-40CC-8EA2-E143DFE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050CE-A007-4471-9EE7-006BC86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A228-852B-4593-A3A6-CD486C4B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51D5-6FD9-4F0C-AFA7-DDBFBB9A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5CF8-4F9C-4374-B7CC-377566E8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405EE-B780-46F7-8811-53DB0F37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E442A-68C8-46A0-8D33-029BC111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46C5C-9F22-4003-A743-A7EF137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835A-1939-45A0-9FB0-D46CA207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97FC-48CF-42A9-81ED-B17DA48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9671A-D71D-4DF8-AFC7-5D691B98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EC0F1-BD0B-4C90-8F33-1A7DC669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43BC8-C250-4CF5-8D80-7B5C7C4B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CE012-F9D2-4EB1-92C2-D07ED36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681D4-E86B-41BF-9F9B-285D5B0A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76C1B-5408-4736-811C-64000D6F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99B40-E54A-46DE-A157-C6FC8601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9622C-EB8F-41E1-8B65-067CD049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F6524-4BB3-4F61-81C0-6F88962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62E-5365-4C32-B12C-38764C3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FA52F-C654-4D38-8F12-D537C48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A135-6724-474D-AA11-7482F00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DAED-82C7-4D0A-979D-6CA1A39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E908D-F1B8-4DC5-8578-0A7C052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140F8-0A43-4C61-BA62-B5333DBB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15786-0A9D-4966-8258-549B16E6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992B1-BF35-4024-87ED-74748D4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E7CBA-AAAF-4E76-A6EF-83E6218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3E960-5252-44CA-8748-78BD16F6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FA8B1-0106-4A12-A97A-E0929E0B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868E-3BFF-41D9-858A-7CF131E8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3B4F5-D482-40B4-9FCE-22FF218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D5305-EBEF-48FB-880B-4E284FE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4B549-A633-4156-9D3E-562354F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FA623-6FF6-40F7-A8A9-9CC79B7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D6C00-E587-4A72-80E7-BC755FE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11020-2D7B-4666-B14E-847B8C3A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F7B07-6C7B-4E18-898A-2ADC3C42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BA9-7B7E-4460-9D8D-F65C1FAC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36FC-F840-4CA6-89DF-09CA166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29F5-305D-491F-9560-A900BF9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064E-21B1-45C7-97DC-06F860A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B56-28B0-4714-B403-53A0E37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05D-025B-49B5-8579-219AE5C9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2EB-AC94-42C7-BC7C-B0FA623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631-CCB9-4F5D-8A97-4C40A2E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E480-4E8A-445B-BA6B-6717C3E2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92BE-1C2A-4B2D-8B72-862E4DA8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2A8D-1047-49E1-B948-30FCFB5D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F3CE-A9D8-4E97-956A-5DA6B7B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433D-1561-4D33-A336-BF7A72C5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BCD4-F930-45F0-979D-9B0FA79E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1F58-8A0B-4A13-B3FC-EB92F58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0C7-048D-4105-A7FA-2E34E1BA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45EB-1C43-4887-9C66-4F29A893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9740-CE8B-4D97-88F3-B8C7C6A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5C4A-E7E6-45E1-ACAB-0105FB0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D46F-8DDD-4678-AFC8-BBF3EF9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39EB-5AAD-4EEF-9127-02F283C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DF2D-E535-4138-AB35-5404E859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5EC1-3D8F-4E0F-8CEF-1C00FCAE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825E-A9F4-49CD-989E-B83F48F4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28AF2-FFEE-40D6-972E-0545D1C3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E675-BE5D-4043-83A7-A294B2AC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738-F37A-40AD-8E7D-B5B9F65E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18D8-3D04-4E9F-A10A-4D386AD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C7DA-F89C-4CA5-B7FA-46285872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2CA5-D60D-49A6-A280-132919B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EACF-E490-47D7-ACCC-29C944D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F7DE-5D81-4DBB-92C2-11035A9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4D0A-612A-4032-91C8-60946B2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1AC4-77E6-4A1E-87C4-7499568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AB79-D98D-4154-A386-213F9DC0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9BEF-0C29-4981-A397-891FB2C8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770B-6440-4839-85E2-D548CFE6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B59-8E7D-4BE2-94A4-548A0AE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EA49-16F4-4C45-911F-62A6E96A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CE2C2-71C9-4E0B-BA42-F105BF4B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CB06-FF54-4A30-BBF8-DF3C8E1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254E8-B656-4F48-B903-E2BB67C2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79CB-1D4B-4B95-8E96-AE6976C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6D25-9F97-454A-889A-2B34247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0B79-FBE1-4272-A3D6-96E7ED8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175A-5221-4268-9A66-1B5F115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B576-81B1-4F9B-BB58-D0C2293C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F6EE-A6C9-44ED-A9E5-1B76EB8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8DB-541B-4602-BB36-193338D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67863-D771-45FA-A04C-6FEDEEDF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A9C3-9655-47C6-B4AA-BBF89B7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5E5F-E3A9-47BA-B9A8-FFBCAB8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2C93-17E2-4EF3-A420-424ADD33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D397-7A85-4EFB-BB28-E90515E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F3DC-A64D-4A08-B17D-AAAB573B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7BEE-6F7C-46AA-881C-A6CF1D1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ABB4-4072-46D6-837E-848F869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4699-564A-4368-AB4C-06F280D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75F4-5B0C-4B1D-A671-889119F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05F-7A8C-4988-A00B-FADAA76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B4B6-CB3E-499D-9945-161E5BB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A918-E3F6-4C81-A5E2-D512BDC4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4147-12F2-4FA4-B144-794CC48C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F203-B114-405E-8616-2E7CCD56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028F-4F35-4499-88FE-BAD80F6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8678F-553A-4C02-BF42-6601064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1B08-4140-4246-8FBF-2BBB626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AB4A-69DF-4814-B472-0FC8E9C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E7EA-A17C-4F22-8835-E9536F36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15CE-4DCC-4141-9E98-C70DFA3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A89-B472-4A9F-9905-89C2FAC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8EC06-9101-402B-9276-17D6D08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0B65-55A9-4147-85A2-FCD9F1A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6886-D2B0-4984-B23E-07CE385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53B7-3CF8-4B9B-975C-2C860EB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5D7B-DF46-47B0-9A9A-4BD56073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443C-EAA8-4C98-85C4-1E4FA121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3DD8-A04D-4278-86FC-FE45855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491D6-9FE6-4B8D-B629-6C2F24F1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41128-E956-4C6A-8AE1-AFFC4E28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77D34-24E4-4405-B78F-D6A16F0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A4D-20CE-47EF-8127-378A37F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2A404-B7D1-4432-A445-C6E3B437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16813-C63A-4A9D-B726-B0B5CFB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790C4-9ADD-4A81-A704-4F8ADB09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5DCE7-0153-48E3-A923-9890EE3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9F91-6854-4542-A04A-AF5DE78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9AE8D-5FC2-4460-A101-97868A1E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043A-7964-4D3D-8129-F602B5C5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2B50-35FE-44B6-89C5-A3C75CC8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E462-B5C1-4C45-A488-34E7D6A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5A7C-7A39-45D0-89D1-05248FD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2CC-DB43-4E57-AC8D-2CE78EBA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361-2840-47DB-8775-2AB8DF84A9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1D9-0FF9-421D-A289-A060E1314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4C8-991B-4A54-90DD-2D6EA7C58E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CE36-5EB8-4E27-A05E-2AA0551EF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DAA-18AB-44C0-B368-48FF4280C3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0D8-6217-433B-8901-F9FE31FB2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748D-15A3-4F38-8D85-E3B30B031F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BD4-F0F1-44BE-80DB-E1B99D593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A290-D06F-474A-9D73-D05EA8A4FA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4EA-0025-4E75-BBFF-523E9471A9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A51-92C8-402F-9672-84FECBB553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D180-F04F-4082-B47B-CB976D58B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579-0D02-4D64-942E-48E5EBA028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E65-BD93-4767-BE82-5C8BCE6111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C641-445F-451C-B14C-17ECADD00B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973-CFEE-4D55-AEB5-781041B09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D8B7-94D7-4A1C-91E2-D9221BB0F2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02D-17F3-40B4-B6D0-1AF11A9240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856-1D63-4D4F-A854-4B8276A8A7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EA26-9EA5-46B3-BEC4-03327851A6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A32A-3592-4E07-8793-F9D70170CB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A00-C9EA-40A0-B45C-331F84FC7B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E8D-0162-4298-93FF-EFD341BB18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C5B-7A46-4D34-94CB-838734DE2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E:\李红\图片\200211817249788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3962520" y="259092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宋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1357200" y="685800"/>
            <a:ext cx="68724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送东阳马生序 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WordArt 2" descr=""/>
          <p:cNvPicPr/>
          <p:nvPr/>
        </p:nvPicPr>
        <p:blipFill>
          <a:blip r:embed="rId1"/>
          <a:stretch/>
        </p:blipFill>
        <p:spPr>
          <a:xfrm>
            <a:off x="128520" y="251784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1371600" y="0"/>
            <a:ext cx="2133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 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895480" y="15228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，奔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157920" y="885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29718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、跟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0" y="4038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到成年时候，更加仰慕古代圣贤的学说，又担心没有大师、名人交游，向他们请教，曾跑到百里之外，捧着经书向当地有名望的前辈请教。那位前辈道德高、声望高，向他求教的学生挤满了屋子，他的言辞态度一直极为严肃。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2971800" y="2438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塞，挤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WordArt 2" descr=""/>
          <p:cNvPicPr/>
          <p:nvPr/>
        </p:nvPicPr>
        <p:blipFill>
          <a:blip r:embed="rId1"/>
          <a:stretch/>
        </p:blipFill>
        <p:spPr>
          <a:xfrm>
            <a:off x="128520" y="2365200"/>
            <a:ext cx="1949400" cy="21276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609480" y="0"/>
            <a:ext cx="71629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5791320" y="2286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867280" y="167652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273276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站着陪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2367720" y="990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答，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6510600" y="914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2144160" y="1720800"/>
            <a:ext cx="17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" y="3886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站在他的身边，提出疑难，探问道理，弯着身子，侧着耳朵，恭恭敬敬地求教；有时遇到他的斥责，（我的）态度更加恭顺，礼节更加周到，一句话也不敢辩说；等他高兴了，就又去请教。所以我虽然愚笨，但终于还能够有所收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WordArt 2" descr=""/>
          <p:cNvPicPr/>
          <p:nvPr/>
        </p:nvPicPr>
        <p:blipFill>
          <a:blip r:embed="rId1"/>
          <a:stretch/>
        </p:blipFill>
        <p:spPr>
          <a:xfrm>
            <a:off x="128520" y="2749680"/>
            <a:ext cx="1949400" cy="21207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609480" y="46080"/>
            <a:ext cx="457200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僵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438280" y="9586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僵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1981080" y="175248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缓解过来，暖和过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2534760" y="76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时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2557440" y="2608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04920" y="3809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从师求学的时候，背着书箱，拖着鞋子，走在深山大谷里，冒着严冬凛冽的寒风，踏着几尺深的积雪，脚上皮肤冻裂了（我）还不知道。到了住所，四肢冻僵了不能动弹，服侍的人拿来热水（给我）洗手暖脚，用被子（替我）盖上，很久很久（我）才暖和过来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2" descr=""/>
          <p:cNvPicPr/>
          <p:nvPr/>
        </p:nvPicPr>
        <p:blipFill>
          <a:blip r:embed="rId1"/>
          <a:stretch/>
        </p:blipFill>
        <p:spPr>
          <a:xfrm>
            <a:off x="128520" y="251784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295280" y="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绮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90920" y="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2971800" y="1676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绣有彩色花纹的丝织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2590920" y="243828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帽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222000" y="806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饭吃，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152280" y="3886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在旅店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旅训主人每天给准备两顿饭，没有新鲜肥美的东西可以享受。跟我同住在旅舍的同学们都穿着华丽的衣服，头戴红缨和宝石装饰的帽子，腰上佩有白玉圈子，左边带着佩刀，右边挂着香袋子。浑身光闪闪的，就像神仙一样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WordArt 2" descr=""/>
          <p:cNvPicPr/>
          <p:nvPr/>
        </p:nvPicPr>
        <p:blipFill>
          <a:blip r:embed="rId1"/>
          <a:stretch/>
        </p:blipFill>
        <p:spPr>
          <a:xfrm>
            <a:off x="128520" y="221292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1459440" y="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507680" y="152388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口体之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1491480" y="76212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足乐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3831840" y="733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足以快乐的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4808880" y="1492200"/>
            <a:ext cx="11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的穿的。奉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304920" y="3733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是我却穿着旧棉袄，破衣衫，生活在他们当中，一点也没有羡慕他们的意思。因为我心中有自己的乐趣，不感到吃的穿的不如他人。我求学时辛勤艰苦的情况大体就是这样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590920" y="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3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581280" cy="15951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4"/>
          <p:cNvSpPr/>
          <p:nvPr/>
        </p:nvSpPr>
        <p:spPr>
          <a:xfrm>
            <a:off x="91440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结构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5"/>
          <p:cNvSpPr/>
          <p:nvPr/>
        </p:nvSpPr>
        <p:spPr>
          <a:xfrm>
            <a:off x="4267080" y="2362320"/>
            <a:ext cx="152640" cy="3429000"/>
          </a:xfrm>
          <a:custGeom>
            <a:avLst/>
            <a:gdLst>
              <a:gd name="textAreaLeft" fmla="*/ 0 w 152640"/>
              <a:gd name="textAreaRight" fmla="*/ 55080 w 1526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4621680" y="2209680"/>
            <a:ext cx="1155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青少年时期求学经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1897200" y="1752480"/>
            <a:ext cx="6678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9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52280" y="1219320"/>
            <a:ext cx="88394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求学过程中遇到了哪些困难？他是如何克服的？（可引用原文的词语或者句子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困难：无书、无师、家贫（生活艰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能克服种种困难，而“卒获有所闻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依靠精神的力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中有足乐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写自己艰苦求学的经历的目的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勉励马生勤奋学习，成为德才兼备的人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6"/>
          <p:cNvSpPr/>
          <p:nvPr/>
        </p:nvSpPr>
        <p:spPr>
          <a:xfrm>
            <a:off x="76320" y="0"/>
            <a:ext cx="89154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要写同舍生的衣饰豪华的情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过对比写自己生活的艰苦，突出学习勤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成年求学时对老师是什么态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态度：毕恭毕敬，不敢出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本文作者勉励马生勤奋学习，并不讲大道理，却直接以自身经历相告，这样写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自身经历相告，现身说法，晓之以理，动之以情，态度恳切，易于接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隶书"/>
              </a:rPr>
              <a:t>小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囊萤映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晋车胤和孙康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悬梁刺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战国苏秦的学习故事，也叫“头悬梁，锥刺股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凿壁偷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西汉匡衡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韦编三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孔子晚年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画荻教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欧阳修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962520" cy="176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"/>
          <p:cNvSpPr/>
          <p:nvPr/>
        </p:nvSpPr>
        <p:spPr>
          <a:xfrm>
            <a:off x="76212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清思路，理解全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解“以”字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学习古人求知若渴，克服艰难困苦勤奋学习的精神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762120" y="457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30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162864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1028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743200" cy="4514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027"/>
          <p:cNvSpPr/>
          <p:nvPr/>
        </p:nvSpPr>
        <p:spPr>
          <a:xfrm>
            <a:off x="152280" y="201600"/>
            <a:ext cx="56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宋濂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(1310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—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1381)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，字景濂，号潜溪，谥文宪，浦江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在今浙江义乌县西北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人。明朝初期著名文学家。受业于元末古文大家吴莱、柳贯等，明初主修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元史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，后历任国子司业、侍讲学士，后官至翰林学士承旨，知制诰。学识渊博，工散文，文字简练朴素，与刘基、高启并列为明初诗文三大家。宋濂很受朱元璋器重，为明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开国文臣之首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”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。平生著作很多，有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宋学士文集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29"/>
          <p:cNvSpPr/>
          <p:nvPr/>
        </p:nvSpPr>
        <p:spPr>
          <a:xfrm>
            <a:off x="6248520" y="380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429000" cy="152712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685800" y="304884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赠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给东阳马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369800" y="272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解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026"/>
          <p:cNvSpPr/>
          <p:nvPr/>
        </p:nvSpPr>
        <p:spPr>
          <a:xfrm>
            <a:off x="533520" y="5335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，文体名。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是一篇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序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赠序是古代的一种文体，其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并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赠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为文章的体裁，序有书序和赠序之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书序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即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言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相当于前言后记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。赠序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为推重、赞许或勉励之辞。它与书序的性质不同，为文人之间的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言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本文即属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东阳，在今浙江省，当时与浦江、义乌等县同属金华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Object 1027" descr=""/>
          <p:cNvPicPr/>
          <p:nvPr/>
        </p:nvPicPr>
        <p:blipFill>
          <a:blip r:embed="rId1"/>
          <a:stretch/>
        </p:blipFill>
        <p:spPr>
          <a:xfrm>
            <a:off x="7620120" y="5541840"/>
            <a:ext cx="1523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2819520" cy="1255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1366920" y="-105120"/>
            <a:ext cx="7777080" cy="76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缊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514600" y="1371600"/>
            <a:ext cx="9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04920" y="304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2743200" y="19810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 d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6248520" y="137160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6400800" y="19810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2819520" y="259092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800600" y="2514600"/>
            <a:ext cx="16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6705720" y="251460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514600" y="3124080"/>
            <a:ext cx="15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6172200" y="312408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6324480" y="358128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65760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2895480" y="4267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6400800" y="42670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14600" y="487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9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124080" cy="13921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2"/>
          <p:cNvSpPr/>
          <p:nvPr/>
        </p:nvSpPr>
        <p:spPr>
          <a:xfrm>
            <a:off x="380880" y="3650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翻译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371600"/>
            <a:ext cx="45720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 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981080" y="14479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438280" y="28195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4359240" y="22096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从何处。这里指没有办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57200" y="45687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小时就爱好读书。家里穷，没有办法找到书来读，常向有书的人家去借，（借来）就亲手抄写，计算着日子（按时）归还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WordArt 8" descr=""/>
          <p:cNvPicPr/>
          <p:nvPr/>
        </p:nvPicPr>
        <p:blipFill>
          <a:blip r:embed="rId2"/>
          <a:stretch/>
        </p:blipFill>
        <p:spPr>
          <a:xfrm>
            <a:off x="128520" y="3279600"/>
            <a:ext cx="1949400" cy="21276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0"/>
          <p:cNvSpPr/>
          <p:nvPr/>
        </p:nvSpPr>
        <p:spPr>
          <a:xfrm>
            <a:off x="3124080" y="35053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12408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亲手。  用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WordArt 2" descr=""/>
          <p:cNvPicPr/>
          <p:nvPr/>
        </p:nvPicPr>
        <p:blipFill>
          <a:blip r:embed="rId1"/>
          <a:stretch/>
        </p:blipFill>
        <p:spPr>
          <a:xfrm>
            <a:off x="360360" y="2749680"/>
            <a:ext cx="1949400" cy="21207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838080" y="0"/>
            <a:ext cx="4572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弗之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438280" y="38088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，引伸为“赶快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3200400" y="1371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否定句代词作宾语前置  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抄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3520" y="41911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有时）天气很冷，砚池里（的水）结成很硬的冰，手指（冻僵）不能弯曲和伸直，也不（因此有所）放松。抄完，赶快送还，不敢稍稍超过期限。因此，人家多愿意把书借给我，我因此能够看到各种各样的书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3:03:59Z</dcterms:created>
  <dc:creator>hanqy</dc:creator>
  <dc:description/>
  <dc:language>en-US</dc:language>
  <cp:lastModifiedBy>a</cp:lastModifiedBy>
  <dcterms:modified xsi:type="dcterms:W3CDTF">2015-02-09T03:21:17Z</dcterms:modified>
  <cp:revision>21</cp:revision>
  <dc:subject/>
  <dc:title>PowerPoint 演示文稿</dc:title>
</cp:coreProperties>
</file>