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18.png" ContentType="image/png"/>
  <Override PartName="/ppt/media/type.wav" ContentType="audio/x-wav"/>
  <Override PartName="/ppt/media/image4.png" ContentType="image/png"/>
  <Override PartName="/ppt/media/image12.wmf" ContentType="image/x-wmf"/>
  <Override PartName="/ppt/media/image21.jpeg" ContentType="image/jpeg"/>
  <Override PartName="/ppt/media/camera.wav" ContentType="audio/x-wav"/>
  <Override PartName="/ppt/media/image25.jpeg" ContentType="image/jpeg"/>
  <Override PartName="/ppt/media/image10.wmf" ContentType="image/x-wmf"/>
  <Override PartName="/ppt/media/image31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13.wmf" ContentType="image/x-wmf"/>
  <Override PartName="/ppt/media/image27.jpeg" ContentType="image/jpeg"/>
  <Override PartName="/ppt/media/image1.wmf" ContentType="image/x-wmf"/>
  <Override PartName="/ppt/media/image11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97A-C0DA-4E87-9C76-F11597C7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881-1851-4B38-8895-797EDD01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48DEF-C0E2-4A8F-892E-5BCA0CD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D8D28-C8A5-4C60-91C3-5D811933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54204-E315-4CF5-B34C-B0F1B392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9C22C-A208-4E16-88D8-859F806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80330-E77D-40B4-A4E3-6D00780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0B92B-2DD4-4D5B-9F86-41D98269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BC09C-6E14-435A-93E2-8313F974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19F94-3566-45F6-BCCC-3646F587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71ECA-5C6E-48A4-97A9-2DB349D8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6CF3A-166D-4920-AA58-2A2121C4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216-7C04-442F-BBB8-D055EF81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3EDEE-9D71-4533-9C5D-249DF06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61D66-BA89-4BF8-A8D6-567903CC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E3F3C-C6ED-4E07-854F-15BCB62F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822F0-6306-41A5-BD76-F6E907E6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5BDD7-EE9A-42A9-B5A4-379FF7D8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4692C-8FC3-448E-9CC8-D4CC93A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A69F-3990-4A33-A6A1-A578EDD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67DD7-22EC-4E83-B067-C8BDD10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49933-366A-4F84-B5EF-84EA35C6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D01A5-8B04-421B-87C6-5548FB15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12D-B73C-4954-906E-69B99B1D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75C57-314A-4F6E-844B-6550F91E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CB2D6-F3C2-4703-9696-61FA17A6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9B10B-BAA8-45F4-ACE2-A1F26AE0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F25A5-0DAC-4C16-BC88-1BE9FF85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1AC9A-D181-400D-9C43-551700E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CEF1-A6B6-4BE0-897F-FF84831C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C106-77F2-4DA1-83D9-58B92F99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83730-1768-4748-8365-9917E5C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483FF-B181-4C2B-86CA-6A83AB3E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63BCA-5623-4466-90AC-6041A581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673C-C4D9-423D-9BE2-6841FD56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7C6F6-6CDA-48A5-BCFE-ED95E77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3A259-E195-4E9B-8C8D-36695C8A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494CF-BD75-4BE7-8E2E-0385DF7D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A3767-025B-4321-8B95-8C6A7EBF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96276-1E92-4E1F-BD9C-86163EB4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51076-5FDC-47C6-9350-DABD5210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2F512-611C-441A-AF0E-D9011C3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03EED-58D5-4B16-9C29-4B35F06E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E72C7-52D7-460B-A00C-A2B07782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11EB4-0777-4E2C-ABE0-0D2A9A5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0F85-B16D-4912-A994-8BEEAE7C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96847-6098-4736-BE1E-56592E4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54D8F-9AFE-486C-92C9-57959A3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AD1ED-0F2D-40AB-A0A1-FB14B6D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855A6-B58D-4381-A873-7754D8AF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9A33A-2D31-43F3-BB60-5097C451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51F9F-324B-466D-AB3F-42F29E15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012E9-8D81-442D-8AC3-E9E16D09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7A3F3-CBE1-40AB-B273-3F04819D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FBB6E-278C-42FD-BF40-AD0B2A91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1B89D-272F-437E-BA5D-9F5392D2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41B-7251-47FC-9F1B-A7202DD1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17C38-BB4F-4C4D-8DF7-579B4441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ED617-212A-49E7-9EF7-6F22427E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EE3A6-BD5D-44D4-8F89-A976E9A1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C0B2F-FFDB-4842-806E-B44E728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B4BEA-9C6A-458B-90F9-02BDC3F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6A441-76DA-43C8-ACD6-3A6E0B35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6B5C6-28C1-4B7C-A8DF-E9CEE7EA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7CC-4B71-4424-B83D-65B0F48A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725-0C5E-4035-A8F8-74DB13A7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8917-676A-42D2-B497-3494EA4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5F91-341B-4D2B-99A7-0B8AF01E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2C9-2B0A-4121-88A9-F8D6D2F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DB08-3EF3-4850-95CE-3220914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028-5D92-4B86-98E8-4E6D1B7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5475-BBF6-4B28-866F-A78221A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C2E6-8E1A-4023-B873-C116C39D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91B7-1E66-4907-9C1B-4E5DA3A2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B691-509E-4CC2-BD5A-5141CCB6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C96D-332C-4897-A386-8D1C27F4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FC6B8-F2F5-4331-BA68-49E9F906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ABA3-FDA1-4A54-9827-19B9029C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F8F1-4415-4648-A68B-6E11CA1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F80-563B-4F9F-8BF3-D7751DE5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0BA7-F1BA-415C-AC2A-D58A8CDA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9A2B-0BB5-464F-A9ED-62327DF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ECE3-D9FA-49E1-AF91-443C844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935F-12D0-4EE2-9536-32EE97BA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E6B7-1546-4F6A-8B88-E3783940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8DCE-0DAB-49CF-A3D6-BC70CE76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7F51-BFC8-4952-8BCB-EEF2584A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814E-6073-40C9-872F-B2C34CDE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78E4-500C-4DFF-8360-EE8392D5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9795-D44B-4ECD-8DBD-B54E0A4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25B-0AA3-4D69-A8F0-81436660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6A7E-125D-49F6-B2E5-B15381DC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8027-428E-4AB8-B5C0-C220402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5976-4AF2-4CA0-98A8-EC99F4CA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4053-59A9-49F9-9ED1-533AFA7B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C8B7-DC42-4EE9-BC99-80CE01C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E57F-876C-4202-8066-5963B48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B645-552E-47A7-AB1D-A1D1DC72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D015-1E85-4E3D-9E79-67B90A93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1A96-B5C5-48AD-ABA2-4EECC9E2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78DF-ADA0-4FC1-B4E6-80C6B169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643-BC89-4000-B1FB-2E3902F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6EF0-EC45-4442-A62F-0E816691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8ECB6-CE6C-4DD9-94B7-5172DF6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CAF6-9DF8-43A4-9761-6BB7084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973D-16E5-4157-B0BC-FC2FC7ED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CFF6-BAFC-44B6-B5A2-0756418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F4E3-51A9-4ED5-99A0-6942C5D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D433-CFC7-4A57-BFE0-9A39036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29BA-5B03-48C1-AD9C-096BCD9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FA36D-F7B3-4D53-8A08-732254B6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DCAB6-A03B-452A-B195-89FC7B2E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3AB-C4B5-47E0-A4B7-86B08C95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CF551-4EB0-45C2-8894-81FF6D77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4771-0BAC-4DBE-AAC3-08D7FF41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F1B41-0020-4B64-BEF8-732E8872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2D40A-D981-4FE5-9961-8E3207D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0D41B-0417-4E9C-AC49-ABD956B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AB85-2A12-447A-A919-2E5B0BF1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AA63-9A7D-4DE2-B23B-0BA32B83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5BA3-E50E-4BF1-A93D-756772FF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731F-CA64-493A-84B9-9B8F96C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D653-90A9-404C-83C9-69E3629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C49-ED1C-43A0-A037-ED586CF7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0BD4-D675-4ACD-BB4D-68B43A8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FBF1-D855-415C-9D50-011C289F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91A4-3B52-41EC-91F3-17C9383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C0654-2110-44E1-950F-9A03B414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BF176-59B4-40DF-B494-25A21F1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6366B-CEDE-4AE1-8EA4-F44E668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A076C-F719-4D98-A7FC-7148894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F8DA-5D2A-42CA-BED7-C0A6DF79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328CB-EE40-4DE2-82ED-2CD0FB84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C76FF-82BB-484B-8F88-234EA530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5F2-CC73-4D4F-995C-C9131AE2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948ED-6203-4600-A2AC-4FE59BF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C75D-A5C7-4661-A561-58AEEA5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75366-30BC-4E2B-A7F3-1188E01E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E54E-9489-4447-A380-C8125EFB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E922-2674-46DE-B815-A999846D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99231-9F05-4290-A21F-11829F27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3535-4145-4CF8-98A0-DBF8486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F22A-66D5-4D91-9CEC-9B241EE0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5E674-5F0A-4F19-A52E-4F55CFB9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9A9BA-D259-4CF8-A27C-78FCF8BE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FB8-5E53-49B0-8FBA-11B95D2F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265B0-0D02-451A-84CA-97210477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921A-1424-43B7-9001-9E7DCD2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913C-BABC-49D6-8362-234E11CC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F66D-39B2-4BE1-9604-982F3E9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BE4D-B53B-462C-B6B1-3F06BCF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365AB-8A33-418C-B480-6FBB96F4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1076-F8C8-474A-967C-8BE1929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B4B38-F335-4220-AF40-64F6A353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2D45A-32F6-4740-9789-10CB29FC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EF12C-58BF-4F6B-9A25-65DCAE1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59F4-85F6-4B8A-9CAF-072CE03EE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29C6-C1B5-4AE2-B69E-4E7B135590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7DF-09A2-4724-946F-7920AC26FD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C5D4-0ACA-4414-AD99-271B9073CB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B39-8932-4652-9128-4DBF66B7E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DD7-27AC-42B7-B00D-BD0F25E153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4E91-DFDE-414A-A979-F4CE17A6BC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FE6-F9FE-4C38-9698-31BE052A76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332-BF10-4A44-A456-312F191931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AE4-159D-4D44-81CB-07D6E4B9B2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B47-9718-464F-AC64-06155A4FD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298A-844C-4E66-8A88-B0FAE27AAA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3100-7B86-468D-B50B-9249A27B00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428D-EBDE-43B5-992F-666E574187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0811-8685-44EB-A588-CEEA3C9F6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0D6-AE11-4C4F-88ED-981665C718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5F1-E4C5-4288-B3B0-EA23915DE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A34-7F1E-48D9-92CF-A45E1BFC7B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CFD-FBD8-489C-8D83-76A71E2095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8274-A48E-472D-A78F-1B02C539A3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9D02-D218-470E-8804-80E501B7F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5C2-26DA-420A-821B-DE95ADAD93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5482-5409-4447-85ED-00D6F8CA67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837-E439-4406-8A69-17C555242B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438F-B0F3-42F1-816B-5D812C826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0" y="1523880"/>
            <a:ext cx="8964720" cy="5191200"/>
            <a:chOff x="0" y="1523880"/>
            <a:chExt cx="8964720" cy="5191200"/>
          </a:xfrm>
        </p:grpSpPr>
        <p:sp>
          <p:nvSpPr>
            <p:cNvPr id="534" name="Rectangle 3"/>
            <p:cNvSpPr/>
            <p:nvPr/>
          </p:nvSpPr>
          <p:spPr>
            <a:xfrm>
              <a:off x="2773440" y="1523880"/>
              <a:ext cx="6191280" cy="22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苏科版初一数学第一章</a:t>
              </a:r>
              <a:br>
                <a:rPr sz="4400"/>
              </a:br>
              <a:br>
                <a:rPr sz="4400"/>
              </a:br>
              <a:r>
                <a:rPr b="0" lang="zh-CN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1.1  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生活  数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4" descr="BS00580_"/>
            <p:cNvPicPr/>
            <p:nvPr/>
          </p:nvPicPr>
          <p:blipFill>
            <a:blip r:embed="rId1"/>
            <a:stretch/>
          </p:blipFill>
          <p:spPr>
            <a:xfrm>
              <a:off x="0" y="3505320"/>
              <a:ext cx="3809880" cy="320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BS00823_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34686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457200" y="4572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楷体_GB2312"/>
              </a:rPr>
              <a:t>日用之</a:t>
            </a:r>
            <a:r>
              <a:rPr b="1" lang="zh-CN" sz="8000" spc="-1" strike="noStrike">
                <a:solidFill>
                  <a:srgbClr val="009999"/>
                </a:solidFill>
                <a:latin typeface="Tahoma"/>
                <a:ea typeface="楷体_GB2312"/>
              </a:rPr>
              <a:t>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BS00975_"/>
          <p:cNvPicPr/>
          <p:nvPr/>
        </p:nvPicPr>
        <p:blipFill>
          <a:blip r:embed="rId2"/>
          <a:stretch/>
        </p:blipFill>
        <p:spPr>
          <a:xfrm>
            <a:off x="0" y="1905120"/>
            <a:ext cx="4584600" cy="282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BRIDGE"/>
          <p:cNvPicPr/>
          <p:nvPr/>
        </p:nvPicPr>
        <p:blipFill>
          <a:blip r:embed="rId3"/>
          <a:stretch/>
        </p:blipFill>
        <p:spPr>
          <a:xfrm>
            <a:off x="1752480" y="3733920"/>
            <a:ext cx="6443640" cy="266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3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70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数学无处不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1-02汽车票"/>
          <p:cNvPicPr/>
          <p:nvPr/>
        </p:nvPicPr>
        <p:blipFill>
          <a:blip r:embed="rId1"/>
          <a:stretch/>
        </p:blipFill>
        <p:spPr>
          <a:xfrm>
            <a:off x="108000" y="1257480"/>
            <a:ext cx="882000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1-03自行车"/>
          <p:cNvPicPr/>
          <p:nvPr/>
        </p:nvPicPr>
        <p:blipFill>
          <a:blip r:embed="rId1"/>
          <a:stretch/>
        </p:blipFill>
        <p:spPr>
          <a:xfrm>
            <a:off x="34920" y="595440"/>
            <a:ext cx="8893080" cy="56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1-04高速公路服务区"/>
          <p:cNvPicPr/>
          <p:nvPr/>
        </p:nvPicPr>
        <p:blipFill>
          <a:blip r:embed="rId1"/>
          <a:stretch/>
        </p:blipFill>
        <p:spPr>
          <a:xfrm>
            <a:off x="144360" y="333360"/>
            <a:ext cx="8820360" cy="621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371600" y="-144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4a"/>
                </a:solidFill>
                <a:latin typeface="Tahoma"/>
              </a:rPr>
              <a:t>1.</a:t>
            </a:r>
            <a:r>
              <a:rPr b="1" lang="zh-CN" sz="4000" spc="-1" strike="noStrike">
                <a:solidFill>
                  <a:srgbClr val="00644a"/>
                </a:solidFill>
                <a:latin typeface="Tahoma"/>
              </a:rPr>
              <a:t>当天最高价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4a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00644a"/>
                </a:solidFill>
                <a:latin typeface="Tahoma"/>
              </a:rPr>
              <a:t>13:00</a:t>
            </a:r>
            <a:r>
              <a:rPr b="0" lang="zh-CN" sz="4000" spc="-1" strike="noStrike">
                <a:solidFill>
                  <a:srgbClr val="00644a"/>
                </a:solidFill>
                <a:latin typeface="Tahoma"/>
              </a:rPr>
              <a:t>时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复件 600057"/>
          <p:cNvPicPr/>
          <p:nvPr/>
        </p:nvPicPr>
        <p:blipFill>
          <a:blip r:embed="rId1"/>
          <a:stretch/>
        </p:blipFill>
        <p:spPr>
          <a:xfrm>
            <a:off x="0" y="1600200"/>
            <a:ext cx="8839080" cy="50562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0" y="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补充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1-05股市行情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1-06水果价格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1-07身份证"/>
          <p:cNvPicPr/>
          <p:nvPr/>
        </p:nvPicPr>
        <p:blipFill>
          <a:blip r:embed="rId1"/>
          <a:stretch/>
        </p:blipFill>
        <p:spPr>
          <a:xfrm>
            <a:off x="0" y="1076400"/>
            <a:ext cx="9144000" cy="47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1-08五环旗"/>
          <p:cNvPicPr/>
          <p:nvPr/>
        </p:nvPicPr>
        <p:blipFill>
          <a:blip r:embed="rId1"/>
          <a:stretch/>
        </p:blipFill>
        <p:spPr>
          <a:xfrm>
            <a:off x="71280" y="514440"/>
            <a:ext cx="9072720" cy="59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识技能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通过对生活中常见的图形、数字的观察、思考，感受生活中处处有数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了解数学是我们表达和交流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力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触社会环境中的数字，图形信息，了解数学是我们表带交流的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情感态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学生学会尊重他人的见解，敢于发表自己的见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议一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0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途汽车票中的数字告诉了我们哪些 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息？你的学籍号表达了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1-09红十字"/>
          <p:cNvPicPr/>
          <p:nvPr/>
        </p:nvPicPr>
        <p:blipFill>
          <a:blip r:embed="rId1"/>
          <a:stretch/>
        </p:blipFill>
        <p:spPr>
          <a:xfrm>
            <a:off x="1476360" y="371628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1-10农行标志"/>
          <p:cNvPicPr/>
          <p:nvPr/>
        </p:nvPicPr>
        <p:blipFill>
          <a:blip r:embed="rId2"/>
          <a:stretch/>
        </p:blipFill>
        <p:spPr>
          <a:xfrm>
            <a:off x="4716360" y="3357720"/>
            <a:ext cx="3095640" cy="30859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"/>
          <p:cNvSpPr/>
          <p:nvPr/>
        </p:nvSpPr>
        <p:spPr>
          <a:xfrm>
            <a:off x="1258920" y="24195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从下面图形中你获得了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处处有数学，你能举出一些例子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估一估大树有多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让学生动脑如何设计方案估算树有多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学校打算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的篱笆围成长方形形状的生物园来饲养小兔．可以围成的面积是多少？怎样围可使小兔的活动范围较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1-12篱笆"/>
          <p:cNvPicPr/>
          <p:nvPr/>
        </p:nvPicPr>
        <p:blipFill>
          <a:blip r:embed="rId1"/>
          <a:stretch/>
        </p:blipFill>
        <p:spPr>
          <a:xfrm>
            <a:off x="1763640" y="1844640"/>
            <a:ext cx="7020000" cy="53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Line 2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193840" y="42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ART_2797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447920"/>
            <a:ext cx="7543800" cy="5410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594" name="Text Box 6"/>
          <p:cNvSpPr/>
          <p:nvPr/>
        </p:nvSpPr>
        <p:spPr>
          <a:xfrm>
            <a:off x="3635280" y="285264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学伴我们成长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类离不开数学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人都能学会数学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要与数学交朋友，数学是人们生活、劳动和学习必不可少的工具，能够帮助人们处理数据、进行计算、推理和证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1736640" y="523800"/>
            <a:ext cx="34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琥珀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491760" y="2925360"/>
            <a:ext cx="60696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回头一看，我想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5"/>
          <p:cNvPicPr/>
          <p:nvPr/>
        </p:nvPicPr>
        <p:blipFill>
          <a:blip r:embed="rId2"/>
          <a:stretch/>
        </p:blipFill>
        <p:spPr>
          <a:xfrm>
            <a:off x="44280" y="7920"/>
            <a:ext cx="1422720" cy="131112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10"/>
          <p:cNvSpPr/>
          <p:nvPr/>
        </p:nvSpPr>
        <p:spPr>
          <a:xfrm>
            <a:off x="7949880" y="420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3564000" y="2276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谈谈你这节课学习的感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335556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1-2 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生活与数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准备剪刀，两张长方形的纸，日历，牙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152280" y="380880"/>
            <a:ext cx="6705720" cy="2243160"/>
            <a:chOff x="152280" y="380880"/>
            <a:chExt cx="6705720" cy="2243160"/>
          </a:xfrm>
        </p:grpSpPr>
        <p:grpSp>
          <p:nvGrpSpPr>
            <p:cNvPr id="602" name="Group 4"/>
            <p:cNvGrpSpPr/>
            <p:nvPr/>
          </p:nvGrpSpPr>
          <p:grpSpPr>
            <a:xfrm>
              <a:off x="152280" y="380880"/>
              <a:ext cx="3048120" cy="2133720"/>
              <a:chOff x="152280" y="380880"/>
              <a:chExt cx="3048120" cy="2133720"/>
            </a:xfrm>
          </p:grpSpPr>
          <p:pic>
            <p:nvPicPr>
              <p:cNvPr id="603" name="Picture 5" descr="D096"/>
              <p:cNvPicPr/>
              <p:nvPr/>
            </p:nvPicPr>
            <p:blipFill>
              <a:blip r:embed="rId1"/>
              <a:stretch/>
            </p:blipFill>
            <p:spPr>
              <a:xfrm>
                <a:off x="152280" y="380880"/>
                <a:ext cx="304812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WordArt 6"/>
              <p:cNvSpPr txBox="1"/>
              <p:nvPr/>
            </p:nvSpPr>
            <p:spPr>
              <a:xfrm>
                <a:off x="1092600" y="1143000"/>
                <a:ext cx="1477440" cy="62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latin typeface="宋体"/>
                  </a:rPr>
                  <a:t>布置作业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宋体"/>
                  <a:ea typeface="宋体"/>
                </a:endParaRPr>
              </a:p>
            </p:txBody>
          </p:sp>
        </p:grpSp>
        <p:pic>
          <p:nvPicPr>
            <p:cNvPr id="605" name="Picture 7" descr="B_023"/>
            <p:cNvPicPr/>
            <p:nvPr/>
          </p:nvPicPr>
          <p:blipFill>
            <a:blip r:embed="rId4"/>
            <a:stretch/>
          </p:blipFill>
          <p:spPr>
            <a:xfrm>
              <a:off x="4952880" y="1143000"/>
              <a:ext cx="1905120" cy="148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24000" y="2852640"/>
            <a:ext cx="784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24000" y="3786120"/>
            <a:ext cx="824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68360" y="1897200"/>
            <a:ext cx="8136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重点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充分利用数学的内在规律，解决现实生活中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够读取一些图形、表格中的信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用数学知识，对图形、表格中所提供信息，作出的判断的准确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066680" y="16765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371600" y="44643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004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PE07677_"/>
          <p:cNvPicPr/>
          <p:nvPr/>
        </p:nvPicPr>
        <p:blipFill>
          <a:blip r:embed="rId2"/>
          <a:stretch/>
        </p:blipFill>
        <p:spPr>
          <a:xfrm>
            <a:off x="0" y="39625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6"/>
          <p:cNvSpPr/>
          <p:nvPr/>
        </p:nvSpPr>
        <p:spPr>
          <a:xfrm>
            <a:off x="38098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宇宙之</a:t>
            </a:r>
            <a:r>
              <a:rPr b="1" i="1" lang="zh-CN" sz="8800" spc="-1" strike="noStrike">
                <a:solidFill>
                  <a:srgbClr val="009999"/>
                </a:solidFill>
                <a:latin typeface="Tahoma"/>
              </a:rPr>
              <a:t>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3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705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19200" y="1600200"/>
            <a:ext cx="654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8" name="Picture 4" descr="BD15056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DD00261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HM00363_"/>
          <p:cNvPicPr/>
          <p:nvPr/>
        </p:nvPicPr>
        <p:blipFill>
          <a:blip r:embed="rId4"/>
          <a:stretch/>
        </p:blipFill>
        <p:spPr>
          <a:xfrm>
            <a:off x="1371600" y="2209680"/>
            <a:ext cx="5791320" cy="41911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7"/>
          <p:cNvSpPr/>
          <p:nvPr/>
        </p:nvSpPr>
        <p:spPr>
          <a:xfrm>
            <a:off x="609480" y="68580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粒子之</a:t>
            </a:r>
            <a:r>
              <a:rPr b="1" i="1" lang="zh-CN" sz="4400" spc="-1" strike="noStrike">
                <a:solidFill>
                  <a:srgbClr val="009999"/>
                </a:solidFill>
                <a:latin typeface="Tahoma"/>
              </a:rPr>
              <a:t>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3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SHUTT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7623000" y="0"/>
            <a:ext cx="152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ahoma"/>
                <a:ea typeface="华文新魏"/>
              </a:rPr>
              <a:t>火箭之</a:t>
            </a:r>
            <a:r>
              <a:rPr b="1" lang="zh-CN" sz="8800" spc="-1" strike="noStrike">
                <a:solidFill>
                  <a:srgbClr val="99cc00"/>
                </a:solidFill>
                <a:latin typeface="Tahoma"/>
                <a:ea typeface="华文新魏"/>
              </a:rPr>
              <a:t>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3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DD00261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5360" y="-50760"/>
            <a:ext cx="9369360" cy="6908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CLASS1"/>
          <p:cNvPicPr/>
          <p:nvPr/>
        </p:nvPicPr>
        <p:blipFill>
          <a:blip r:embed="rId2"/>
          <a:stretch/>
        </p:blipFill>
        <p:spPr>
          <a:xfrm>
            <a:off x="609480" y="1905120"/>
            <a:ext cx="7099560" cy="46735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2411280" y="620640"/>
            <a:ext cx="4876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999"/>
                </a:solidFill>
                <a:latin typeface="Tahoma"/>
              </a:rPr>
              <a:t>化工之</a:t>
            </a:r>
            <a:r>
              <a:rPr b="1" i="1" lang="zh-CN" sz="8000" spc="-1" strike="noStrike">
                <a:solidFill>
                  <a:srgbClr val="00644a"/>
                </a:solidFill>
                <a:latin typeface="Tahoma"/>
                <a:ea typeface="黑体"/>
              </a:rPr>
              <a:t>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3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838080" y="66996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WATERCY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MP00640_"/>
          <p:cNvPicPr/>
          <p:nvPr/>
        </p:nvPicPr>
        <p:blipFill>
          <a:blip r:embed="rId2"/>
          <a:srcRect l="10338" t="0" r="0" b="20756"/>
          <a:stretch/>
        </p:blipFill>
        <p:spPr>
          <a:xfrm>
            <a:off x="5727600" y="3416400"/>
            <a:ext cx="3416400" cy="3441600"/>
          </a:xfrm>
          <a:prstGeom prst="rect">
            <a:avLst/>
          </a:prstGeom>
          <a:ln w="0">
            <a:noFill/>
          </a:ln>
        </p:spPr>
      </p:pic>
      <p:sp>
        <p:nvSpPr>
          <p:cNvPr id="561" name="WordArt 5"/>
          <p:cNvSpPr txBox="1"/>
          <p:nvPr/>
        </p:nvSpPr>
        <p:spPr>
          <a:xfrm rot="21347400">
            <a:off x="5562360" y="609120"/>
            <a:ext cx="304776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192000"/>
                </a:gradFill>
                <a:latin typeface="华文新魏"/>
              </a:rPr>
              <a:t>地球之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192000"/>
              </a:gradFill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76320" y="-73080"/>
            <a:ext cx="906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SY3"/>
          <p:cNvPicPr/>
          <p:nvPr/>
        </p:nvPicPr>
        <p:blipFill>
          <a:blip r:embed="rId1"/>
          <a:stretch/>
        </p:blipFill>
        <p:spPr>
          <a:xfrm>
            <a:off x="1295280" y="1676520"/>
            <a:ext cx="6946920" cy="4673520"/>
          </a:xfrm>
          <a:prstGeom prst="rect">
            <a:avLst/>
          </a:prstGeom>
          <a:ln w="0">
            <a:noFill/>
          </a:ln>
        </p:spPr>
      </p:pic>
      <p:sp>
        <p:nvSpPr>
          <p:cNvPr id="564" name="WordArt 4"/>
          <p:cNvSpPr txBox="1"/>
          <p:nvPr/>
        </p:nvSpPr>
        <p:spPr>
          <a:xfrm>
            <a:off x="2514600" y="4572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0000"/>
                  </a:outerShdw>
                </a:effectLst>
                <a:latin typeface="华文新魏"/>
              </a:rPr>
              <a:t>生物之谜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2:20:31Z</dcterms:created>
  <dc:creator>wwh</dc:creator>
  <dc:description/>
  <dc:language>en-US</dc:language>
  <cp:lastModifiedBy>a</cp:lastModifiedBy>
  <dcterms:modified xsi:type="dcterms:W3CDTF">2015-03-18T05:56:18Z</dcterms:modified>
  <cp:revision>2</cp:revision>
  <dc:subject/>
  <dc:title>幻灯片 1</dc:title>
</cp:coreProperties>
</file>