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058-AFDD-47D1-BC4E-DB0471E4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620-D45D-4127-8C83-B33B691D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31A02-906B-4656-9C1A-3DA5EFA7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0A107-9A50-4C02-807A-E1995285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8DDC9-21BE-4230-94DB-C0804788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52722-BF3B-4F94-A4A1-CB9ED0E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977D-E7F7-4855-B1A5-C55BDB5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7E43D-01D5-4A58-90B5-0E53F8B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37FFB-8A9D-4756-9215-8C3C58E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DCE02-67C3-4E24-A3B1-DBB56C2C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41924-04AC-4D80-A657-6D991AFF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05E9D-7F4E-4090-A1DD-2C485F60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AE1-9694-413A-A542-C4AFCC5C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449F4-F208-4D57-8F47-A3EEE7E3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3B081-82C9-4545-86C8-2BEE375C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B2594-D819-4BCA-9D24-F25E50D2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6402F-4825-449C-9099-13FFEF0A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7D36-1594-4FD1-86C9-1BAFD5D4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5430-1283-4A37-84A8-2FED36E0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618CC-100A-4FA1-BEA5-E6D9DE4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EAA7C-D5BC-4BE7-8DBA-518AE736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BD8ED-09DF-4351-A775-229F90F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BB568-9675-4203-8F8E-DAA1CB31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553-AFAE-4B4B-AC09-C00FB5FB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2D616-8240-46FC-8D52-3055329C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93E27-6507-425E-A240-B922FF92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566B-875A-4F25-897B-A09AC0A4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3AAE-DD77-4ECC-9DF5-184EB3C1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4CEED-5AEE-4B51-8225-D81AAE8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47416-B6A7-475C-A24B-D2F7E970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D93A2-0986-40F8-8934-06F0E82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AEECE-1304-4FF3-870A-840AFDF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519CE-CB96-45AC-ABFA-691F61D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ED685-C786-4EF9-A11F-2117C4A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FF34-1288-42C3-B2C8-41D751D3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11448-CF57-4516-8C2E-7C957FCF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9EC80-23F7-44FC-A603-C0AA14DD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2B47-FD4A-4948-9B14-5E9FE7AE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341B1-E337-4B58-B5F8-AD60C3E7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39832-B59C-478B-84AD-DD7BCE45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FCA44-7F6A-49FB-AC1C-CFCA42F0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35C72-1927-4582-B29A-D732C3F3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9CD44-40CF-4E64-A284-F13BFDC2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FA575-2250-4CD0-96F9-450E334A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DB07D-C5DD-4A25-8D64-2D24660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B8B-F704-4F49-BF4C-88393A89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2EA27-2544-4F00-A546-9D5D3938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A403A-D576-4600-BD6B-2BD264F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D1AF1-F6FC-4D1B-8F82-C445835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A11BF-BCD1-4F13-8E7F-FA9B19AA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541C9-A58A-4EAC-88C1-195A4B5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016FF-41FD-4600-B0D0-5EE794DA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94133-563E-4667-B9DF-6C51E556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C524C-B701-4F6E-BDE0-01CAF08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5359E-7806-41A5-B12A-F9539874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20267-4F33-47A5-80B5-5BCBE11A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E0E-EC3E-4709-8812-DACC8304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4657C-C4F3-4017-AC18-F5D613D0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ECDB6-21F8-40B3-81CD-6706F0E7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7D652-0662-4371-B782-EA827B3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E7577-C06B-40A8-88E5-1EC35C6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9FF2D-9ECC-48E0-B610-F5E6F6F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4B201-4304-4D31-AA1B-EC7B7E14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04D7E-B0BD-44C6-9809-0C6B0669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B326-7138-4B8D-9FE3-45E4568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819B-949C-4A4C-BD64-AB5D51DD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A538-41C1-4E0C-BE4D-96F7EFB8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CC3-BC92-4872-BA28-5D9B339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0EE-B43C-459D-9790-25FD46D7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F54-C872-46BC-A305-3A072BD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B66E-D904-4E32-BDBA-5D6639C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C378-B8DD-41AC-9E99-A65981B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387-95DE-44EA-8079-8A046D48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B865-88BD-4BA5-9272-215F371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6613-F45E-423B-8394-7160D889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58E6-F3AF-4D7E-9CAC-CA57C882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B3D5-FEE7-45BA-8AEE-FF4DE0E9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95C1-7020-4D14-BC18-3960196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13F3-FD40-4C67-ABAF-77FC3F0B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E03-535D-4BF9-8448-E7B858B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F327-B99E-427E-8BEB-7054334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2435-67CE-4FD5-BD47-448C93EE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6223-62F3-433E-BAFD-D4EFC60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A2D5-34A4-4DBE-B7A6-E09044A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8996-7E01-41F2-8A1F-6B5BFE2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47C9-D6CF-4B03-8947-476DAFA0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A2EC-BA66-41EC-9E30-A20D5BEA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657C-2810-4B5C-AA2A-F091AA23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5500-326A-4E8A-AECD-1B9C5C64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9F3D-E57C-4F85-9CFB-05E8E95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175-6F70-40C9-AAFF-FCF7D1D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68A7-96EE-4BA1-BA92-166668E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5891-5323-404C-A61A-337CE86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7337-BF6C-47B3-939D-0709DD4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6327-0A56-4204-A1B8-86E5913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23B2-8598-4CED-8358-84C2769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A936-F70D-447F-8F12-2391A2E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1D66A-E645-46E5-A3FF-D691EA2C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5B4B-D6FD-4419-88D9-6C13DEA9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8B83-878F-4FEB-AE0A-BB06AA0D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7F592-C05F-4D2A-8582-1A0009D6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29E-8CFA-4AB6-A4D4-A3DA7507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0786A-1D19-422B-B5C8-7CBC0B5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6583-A4E2-441C-8489-40079CEE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6D8E4-5C2E-48C3-8872-B7FC724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8916-EBD5-45A5-AB76-32478F3F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EEB52-25CD-450C-A373-51DFAAF2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74B5-E23A-47C7-850F-A5EC8D8E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425E-0DB7-4BBF-8B0F-8D8D147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E5E2-C018-4EA0-8E38-61710EDE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34D9E-D9AC-4C67-9AA9-B8ED33F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30CD-FE66-4F9A-9821-A38CCA75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59E-818E-4ED9-979D-7BA964E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6F4D-FB26-40AB-97E3-732010D8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7718-DB0A-4BA9-9AEE-E7FA264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6FAE-A7D8-4A6F-AC79-35D7BA96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F0E8-C5D7-47C3-99C6-34BD81A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C257D-BF2A-4883-A8F7-E8B38713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E6EC5-961E-4DCC-A9E7-B600EE5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5D4F-5C40-43FE-AD59-A6CA9882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2A2F-8EA9-4166-8D43-FDF06DA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9319-F26D-416A-8BC4-E8C9482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51A5-6D36-4C7D-BCC0-04091FB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E10-A198-424D-A6C5-1FFCC394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7A8D-EDE3-4D74-A4E8-3512A49A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47CFB-878D-4741-AED1-48C6A93C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41508-AAEE-462A-9BD3-AE2766AB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0A538-E818-482F-B12D-11AD5DB1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81D6E-9499-4B9D-AA13-E27F43D2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31D92-FFD4-42F1-9B79-BDEADD67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7E55C-D947-42F3-9F70-D70F3635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63CC-E8B1-4B7D-AC37-67205389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20CC2-F8D1-4FB4-8B11-1F519A94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9BE4-9505-4711-AAB4-F8815F80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BB5-FBF6-466E-B131-106522C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90332-8B45-47F2-8D46-55A47FE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8D4D-F257-413E-8CA9-4CE52672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19FC-5C17-41D2-853A-BB97E80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BC2A-0DF5-48A0-92CE-7192EBF0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C28A-AA45-4D02-BADE-92242606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0FBE-96B6-4F5C-BCDB-48768A21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7111-9A69-442E-B46C-F1BCB8AA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AD108-B311-4C03-A746-860A0922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9E66-BFC5-40B1-BF12-D280EC8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D4E06-3CC1-497F-9D7E-7D651C7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7D2-1FFF-48E6-9173-EA3F67E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DFCEF-8AFB-4CE8-910A-82314A7B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6839-8DB1-4F74-AA7E-D68DAE5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82D54-2135-4A14-AA69-8796048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17FA-F84C-4C41-B29E-E147D40D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012B0-EC9C-4242-B5DC-463D4DC8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9272-2DE9-4674-9D1D-BB32E238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4CF2-912B-47D4-B888-1943B419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B1DAB-A799-4D9D-83CD-B740ED70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293C2-7D52-4D1D-859C-481B125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786E7-D0AE-4CB7-93A5-7E73783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FC87-8563-4178-909C-C9CF0C1D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F5DC-36A9-42EC-B70C-EA6A5B22B8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2785-CD04-435C-85DD-D57E00882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5818-E747-4ADE-BA39-629CD6E591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40F0-4072-455F-AB8B-F582BFCE4D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C29-1651-4A7C-A797-01FBBF69F2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8E6-4BC6-4E33-8FA4-9548CB4696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A44-BD5F-43A5-A6D1-5074E59414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C92-BC0C-4191-AB89-B5CD6F90F5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64E9-D17B-4625-A14B-A36686EDDA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3E08-BC72-474C-B778-58F30F4AA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4E5-4B34-483E-9BC9-481811D83C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1C9-6BEF-4411-B288-3CD6A56F1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A898-A830-4828-8F56-108E718D65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618-4DDF-451B-9C9A-8ECF7E21D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5EC3-8460-415F-921D-0C25010BA6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0C19-7E6C-4A8F-88DB-E0613F35EC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F76-0632-43AC-9268-716E9821B1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113C-829D-48CD-9895-C3EA305FA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8BEB-A47F-41AD-A82C-0A4CA2BA9A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B912-C0CE-4613-A927-06FF6E7A28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BEF-21BA-4A11-912C-6DB8951635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AFE-1962-4656-9E18-7D79860102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7680-B00D-4D77-B447-D816D3E37E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34BD-7704-46D4-876D-DE2253D90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209680" y="4572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二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生活中的透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80880" y="1143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习相关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>
            <a:hlinkClick r:id="rId1" action="ppaction://hlinksldjump"/>
          </p:cNvPr>
          <p:cNvSpPr/>
          <p:nvPr/>
        </p:nvSpPr>
        <p:spPr>
          <a:xfrm>
            <a:off x="380880" y="762120"/>
            <a:ext cx="2895840" cy="1143000"/>
          </a:xfrm>
          <a:custGeom>
            <a:avLst/>
            <a:gdLst>
              <a:gd name="textAreaLeft" fmla="*/ 73800 w 2895840"/>
              <a:gd name="textAreaRight" fmla="*/ 2822040 w 28958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4714" h="21600">
                <a:moveTo>
                  <a:pt x="0" y="0"/>
                </a:moveTo>
                <a:lnTo>
                  <a:pt x="54714" y="0"/>
                </a:lnTo>
                <a:lnTo>
                  <a:pt x="54714" y="21600"/>
                </a:lnTo>
                <a:lnTo>
                  <a:pt x="0" y="21600"/>
                </a:lnTo>
                <a:close/>
              </a:path>
              <a:path fill="lightenLess" w="54714" h="21600">
                <a:moveTo>
                  <a:pt x="0" y="0"/>
                </a:moveTo>
                <a:lnTo>
                  <a:pt x="54714" y="0"/>
                </a:lnTo>
                <a:lnTo>
                  <a:pt x="53314" y="1400"/>
                </a:lnTo>
                <a:lnTo>
                  <a:pt x="1400" y="1400"/>
                </a:lnTo>
                <a:close/>
              </a:path>
              <a:path fill="darken" w="54714" h="21600">
                <a:moveTo>
                  <a:pt x="54714" y="0"/>
                </a:moveTo>
                <a:lnTo>
                  <a:pt x="54714" y="21600"/>
                </a:lnTo>
                <a:lnTo>
                  <a:pt x="53314" y="20200"/>
                </a:lnTo>
                <a:lnTo>
                  <a:pt x="53314" y="1400"/>
                </a:lnTo>
                <a:close/>
              </a:path>
              <a:path fill="darkenLess" w="54714" h="21600">
                <a:moveTo>
                  <a:pt x="54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14" y="20200"/>
                </a:lnTo>
                <a:close/>
              </a:path>
              <a:path fill="lighten" w="54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572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照相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">
            <a:hlinkClick r:id="rId2" action="ppaction://hlinksldjump"/>
          </p:cNvPr>
          <p:cNvSpPr/>
          <p:nvPr/>
        </p:nvSpPr>
        <p:spPr>
          <a:xfrm>
            <a:off x="304920" y="205740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33520" y="2895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凸透镜成缩小的倒立的实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4572000" y="2895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暗箱长度是像距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f&lt;v&lt;2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11">
            <a:hlinkClick r:id="rId3" action="ppaction://hlinksldjump"/>
          </p:cNvPr>
          <p:cNvSpPr/>
          <p:nvPr/>
        </p:nvSpPr>
        <p:spPr>
          <a:xfrm>
            <a:off x="609480" y="2209680"/>
            <a:ext cx="2057400" cy="838440"/>
          </a:xfrm>
          <a:custGeom>
            <a:avLst/>
            <a:gdLst>
              <a:gd name="textAreaLeft" fmla="*/ 54360 w 2057400"/>
              <a:gd name="textAreaRight" fmla="*/ 2003040 w 2057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2990" h="21600">
                <a:moveTo>
                  <a:pt x="0" y="0"/>
                </a:moveTo>
                <a:lnTo>
                  <a:pt x="52990" y="0"/>
                </a:lnTo>
                <a:lnTo>
                  <a:pt x="52990" y="21600"/>
                </a:lnTo>
                <a:lnTo>
                  <a:pt x="0" y="21600"/>
                </a:lnTo>
                <a:close/>
              </a:path>
              <a:path fill="lightenLess" w="52990" h="21600">
                <a:moveTo>
                  <a:pt x="0" y="0"/>
                </a:moveTo>
                <a:lnTo>
                  <a:pt x="52990" y="0"/>
                </a:lnTo>
                <a:lnTo>
                  <a:pt x="51590" y="1400"/>
                </a:lnTo>
                <a:lnTo>
                  <a:pt x="1400" y="1400"/>
                </a:lnTo>
                <a:close/>
              </a:path>
              <a:path fill="darken" w="52990" h="21600">
                <a:moveTo>
                  <a:pt x="52990" y="0"/>
                </a:moveTo>
                <a:lnTo>
                  <a:pt x="52990" y="21600"/>
                </a:lnTo>
                <a:lnTo>
                  <a:pt x="51590" y="20200"/>
                </a:lnTo>
                <a:lnTo>
                  <a:pt x="51590" y="1400"/>
                </a:lnTo>
                <a:close/>
              </a:path>
              <a:path fill="darkenLess" w="52990" h="21600">
                <a:moveTo>
                  <a:pt x="52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90" y="20200"/>
                </a:lnTo>
                <a:close/>
              </a:path>
              <a:path fill="lighten" w="52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2">
            <a:hlinkClick r:id="rId4" action="ppaction://hlinksldjump"/>
          </p:cNvPr>
          <p:cNvSpPr/>
          <p:nvPr/>
        </p:nvSpPr>
        <p:spPr>
          <a:xfrm>
            <a:off x="4067280" y="1844640"/>
            <a:ext cx="4038480" cy="990720"/>
          </a:xfrm>
          <a:custGeom>
            <a:avLst/>
            <a:gdLst>
              <a:gd name="textAreaLeft" fmla="*/ 64080 w 4038480"/>
              <a:gd name="textAreaRight" fmla="*/ 3974400 w 4038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88024" h="21600">
                <a:moveTo>
                  <a:pt x="0" y="0"/>
                </a:moveTo>
                <a:lnTo>
                  <a:pt x="88024" y="0"/>
                </a:lnTo>
                <a:lnTo>
                  <a:pt x="88024" y="21600"/>
                </a:lnTo>
                <a:lnTo>
                  <a:pt x="0" y="21600"/>
                </a:lnTo>
                <a:close/>
              </a:path>
              <a:path fill="lightenLess" w="88024" h="21600">
                <a:moveTo>
                  <a:pt x="0" y="0"/>
                </a:moveTo>
                <a:lnTo>
                  <a:pt x="88024" y="0"/>
                </a:lnTo>
                <a:lnTo>
                  <a:pt x="86624" y="1400"/>
                </a:lnTo>
                <a:lnTo>
                  <a:pt x="1400" y="1400"/>
                </a:lnTo>
                <a:close/>
              </a:path>
              <a:path fill="darken" w="88024" h="21600">
                <a:moveTo>
                  <a:pt x="88024" y="0"/>
                </a:moveTo>
                <a:lnTo>
                  <a:pt x="88024" y="21600"/>
                </a:lnTo>
                <a:lnTo>
                  <a:pt x="86624" y="20200"/>
                </a:lnTo>
                <a:lnTo>
                  <a:pt x="86624" y="1400"/>
                </a:lnTo>
                <a:close/>
              </a:path>
              <a:path fill="darkenLess" w="88024" h="21600">
                <a:moveTo>
                  <a:pt x="8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624" y="20200"/>
                </a:lnTo>
                <a:close/>
              </a:path>
              <a:path fill="lighten" w="8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685800" y="3657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投影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4">
            <a:hlinkClick r:id="rId5" action="ppaction://hlinksldjump"/>
          </p:cNvPr>
          <p:cNvSpPr/>
          <p:nvPr/>
        </p:nvSpPr>
        <p:spPr>
          <a:xfrm>
            <a:off x="609480" y="335268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68580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凸透镜成放大的倒立的实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609480" y="4267080"/>
            <a:ext cx="7924680" cy="993240"/>
            <a:chOff x="609480" y="4267080"/>
            <a:chExt cx="7924680" cy="993240"/>
          </a:xfrm>
        </p:grpSpPr>
        <p:sp>
          <p:nvSpPr>
            <p:cNvPr id="546" name="Text Box 17"/>
            <p:cNvSpPr/>
            <p:nvPr/>
          </p:nvSpPr>
          <p:spPr>
            <a:xfrm>
              <a:off x="4647960" y="4267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幻灯片和透镜的距离是物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8"/>
            <p:cNvSpPr/>
            <p:nvPr/>
          </p:nvSpPr>
          <p:spPr>
            <a:xfrm>
              <a:off x="609480" y="48006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f&lt; u &lt;2f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Text Box 20"/>
          <p:cNvSpPr/>
          <p:nvPr/>
        </p:nvSpPr>
        <p:spPr>
          <a:xfrm>
            <a:off x="6094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大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1"/>
          <p:cNvSpPr/>
          <p:nvPr/>
        </p:nvSpPr>
        <p:spPr>
          <a:xfrm>
            <a:off x="68580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凸透镜成放大的正立的虚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24"/>
          <p:cNvGrpSpPr/>
          <p:nvPr/>
        </p:nvGrpSpPr>
        <p:grpSpPr>
          <a:xfrm>
            <a:off x="685800" y="5791320"/>
            <a:ext cx="8458200" cy="840600"/>
            <a:chOff x="685800" y="5791320"/>
            <a:chExt cx="8458200" cy="840600"/>
          </a:xfrm>
        </p:grpSpPr>
        <p:sp>
          <p:nvSpPr>
            <p:cNvPr id="551" name="Text Box 22"/>
            <p:cNvSpPr/>
            <p:nvPr/>
          </p:nvSpPr>
          <p:spPr>
            <a:xfrm>
              <a:off x="4876920" y="579132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人要透过凸透镜才能看到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23"/>
            <p:cNvSpPr/>
            <p:nvPr/>
          </p:nvSpPr>
          <p:spPr>
            <a:xfrm>
              <a:off x="685800" y="6172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u&lt;f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ShockwaveFlash1"/>
          <p:cNvGraphicFramePr/>
          <p:nvPr/>
        </p:nvGraphicFramePr>
        <p:xfrm>
          <a:off x="-380880" y="457200"/>
          <a:ext cx="93708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457200"/>
                    <a:ext cx="9370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3"/>
          <p:cNvSpPr/>
          <p:nvPr/>
        </p:nvSpPr>
        <p:spPr>
          <a:xfrm>
            <a:off x="2057400" y="-7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透镜成像规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0" y="3179880"/>
          <a:ext cx="8915400" cy="3676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  <a:gridCol w="1486080"/>
                <a:gridCol w="1485720"/>
                <a:gridCol w="1486080"/>
                <a:gridCol w="14857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物距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即物体到凸透镜的距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距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即像到凸透镜的距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的大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放大或缩小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的正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与物同侧或异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像或虚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Text Box 55"/>
          <p:cNvSpPr/>
          <p:nvPr/>
        </p:nvSpPr>
        <p:spPr>
          <a:xfrm>
            <a:off x="1522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&g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6"/>
          <p:cNvSpPr/>
          <p:nvPr/>
        </p:nvSpPr>
        <p:spPr>
          <a:xfrm>
            <a:off x="2286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7"/>
          <p:cNvSpPr/>
          <p:nvPr/>
        </p:nvSpPr>
        <p:spPr>
          <a:xfrm>
            <a:off x="1522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&lt;u&l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152280" y="5791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9"/>
          <p:cNvSpPr/>
          <p:nvPr/>
        </p:nvSpPr>
        <p:spPr>
          <a:xfrm>
            <a:off x="22860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&lt;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0"/>
          <p:cNvSpPr/>
          <p:nvPr/>
        </p:nvSpPr>
        <p:spPr>
          <a:xfrm>
            <a:off x="16765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&lt;v&l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1"/>
          <p:cNvSpPr/>
          <p:nvPr/>
        </p:nvSpPr>
        <p:spPr>
          <a:xfrm>
            <a:off x="32004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缩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62"/>
          <p:cNvSpPr/>
          <p:nvPr/>
        </p:nvSpPr>
        <p:spPr>
          <a:xfrm>
            <a:off x="4648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3"/>
          <p:cNvSpPr/>
          <p:nvPr/>
        </p:nvSpPr>
        <p:spPr>
          <a:xfrm>
            <a:off x="62485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4"/>
          <p:cNvSpPr/>
          <p:nvPr/>
        </p:nvSpPr>
        <p:spPr>
          <a:xfrm>
            <a:off x="76201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5"/>
          <p:cNvSpPr/>
          <p:nvPr/>
        </p:nvSpPr>
        <p:spPr>
          <a:xfrm>
            <a:off x="15238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&g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6"/>
          <p:cNvSpPr/>
          <p:nvPr/>
        </p:nvSpPr>
        <p:spPr>
          <a:xfrm>
            <a:off x="304812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7"/>
          <p:cNvSpPr/>
          <p:nvPr/>
        </p:nvSpPr>
        <p:spPr>
          <a:xfrm>
            <a:off x="44956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8"/>
          <p:cNvSpPr/>
          <p:nvPr/>
        </p:nvSpPr>
        <p:spPr>
          <a:xfrm>
            <a:off x="60958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9"/>
          <p:cNvSpPr/>
          <p:nvPr/>
        </p:nvSpPr>
        <p:spPr>
          <a:xfrm>
            <a:off x="74674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0"/>
          <p:cNvSpPr/>
          <p:nvPr/>
        </p:nvSpPr>
        <p:spPr>
          <a:xfrm>
            <a:off x="75438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1"/>
          <p:cNvSpPr/>
          <p:nvPr/>
        </p:nvSpPr>
        <p:spPr>
          <a:xfrm>
            <a:off x="3124080" y="6400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2"/>
          <p:cNvSpPr/>
          <p:nvPr/>
        </p:nvSpPr>
        <p:spPr>
          <a:xfrm>
            <a:off x="457200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3"/>
          <p:cNvSpPr/>
          <p:nvPr/>
        </p:nvSpPr>
        <p:spPr>
          <a:xfrm>
            <a:off x="617220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4"/>
          <p:cNvSpPr/>
          <p:nvPr/>
        </p:nvSpPr>
        <p:spPr>
          <a:xfrm>
            <a:off x="75438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虚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75"/>
          <p:cNvSpPr/>
          <p:nvPr/>
        </p:nvSpPr>
        <p:spPr>
          <a:xfrm>
            <a:off x="1676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6"/>
          <p:cNvSpPr/>
          <p:nvPr/>
        </p:nvSpPr>
        <p:spPr>
          <a:xfrm>
            <a:off x="32004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7"/>
          <p:cNvSpPr/>
          <p:nvPr/>
        </p:nvSpPr>
        <p:spPr>
          <a:xfrm>
            <a:off x="4643280" y="4653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8"/>
          <p:cNvSpPr/>
          <p:nvPr/>
        </p:nvSpPr>
        <p:spPr>
          <a:xfrm>
            <a:off x="6248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79"/>
          <p:cNvSpPr/>
          <p:nvPr/>
        </p:nvSpPr>
        <p:spPr>
          <a:xfrm>
            <a:off x="762012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0">
            <a:hlinkClick r:id="" action="ppaction://hlinkshowjump?jump=firstslide"/>
          </p:cNvPr>
          <p:cNvSpPr/>
          <p:nvPr/>
        </p:nvSpPr>
        <p:spPr>
          <a:xfrm>
            <a:off x="0" y="0"/>
            <a:ext cx="8763120" cy="838080"/>
          </a:xfrm>
          <a:custGeom>
            <a:avLst/>
            <a:gdLst>
              <a:gd name="textAreaLeft" fmla="*/ 54000 w 8763120"/>
              <a:gd name="textAreaRight" fmla="*/ 8709120 w 8763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25766" h="21600">
                <a:moveTo>
                  <a:pt x="0" y="0"/>
                </a:moveTo>
                <a:lnTo>
                  <a:pt x="225766" y="0"/>
                </a:lnTo>
                <a:lnTo>
                  <a:pt x="225766" y="21600"/>
                </a:lnTo>
                <a:lnTo>
                  <a:pt x="0" y="21600"/>
                </a:lnTo>
                <a:close/>
              </a:path>
              <a:path fill="lightenLess" w="225766" h="21600">
                <a:moveTo>
                  <a:pt x="0" y="0"/>
                </a:moveTo>
                <a:lnTo>
                  <a:pt x="225766" y="0"/>
                </a:lnTo>
                <a:lnTo>
                  <a:pt x="224366" y="1400"/>
                </a:lnTo>
                <a:lnTo>
                  <a:pt x="1400" y="1400"/>
                </a:lnTo>
                <a:close/>
              </a:path>
              <a:path fill="darken" w="225766" h="21600">
                <a:moveTo>
                  <a:pt x="225766" y="0"/>
                </a:moveTo>
                <a:lnTo>
                  <a:pt x="225766" y="21600"/>
                </a:lnTo>
                <a:lnTo>
                  <a:pt x="224366" y="20200"/>
                </a:lnTo>
                <a:lnTo>
                  <a:pt x="224366" y="1400"/>
                </a:lnTo>
                <a:close/>
              </a:path>
              <a:path fill="darkenLess" w="225766" h="21600">
                <a:moveTo>
                  <a:pt x="225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66" y="20200"/>
                </a:lnTo>
                <a:close/>
              </a:path>
              <a:path fill="lighten" w="225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ShockwaveFlash1"/>
          <p:cNvGraphicFramePr/>
          <p:nvPr/>
        </p:nvGraphicFramePr>
        <p:xfrm>
          <a:off x="0" y="152280"/>
          <a:ext cx="91440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6">
            <a:hlinkClick r:id="" action="ppaction://hlinkshowjump?jump=firstslide"/>
          </p:cNvPr>
          <p:cNvSpPr/>
          <p:nvPr/>
        </p:nvSpPr>
        <p:spPr>
          <a:xfrm>
            <a:off x="838080" y="6027840"/>
            <a:ext cx="5562720" cy="838080"/>
          </a:xfrm>
          <a:custGeom>
            <a:avLst/>
            <a:gdLst>
              <a:gd name="textAreaLeft" fmla="*/ 54000 w 5562720"/>
              <a:gd name="textAreaRight" fmla="*/ 5508720 w 5562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3317" h="21600">
                <a:moveTo>
                  <a:pt x="0" y="0"/>
                </a:moveTo>
                <a:lnTo>
                  <a:pt x="143317" y="0"/>
                </a:lnTo>
                <a:lnTo>
                  <a:pt x="143317" y="21600"/>
                </a:lnTo>
                <a:lnTo>
                  <a:pt x="0" y="21600"/>
                </a:lnTo>
                <a:close/>
              </a:path>
              <a:path fill="lightenLess" w="143317" h="21600">
                <a:moveTo>
                  <a:pt x="0" y="0"/>
                </a:moveTo>
                <a:lnTo>
                  <a:pt x="143317" y="0"/>
                </a:lnTo>
                <a:lnTo>
                  <a:pt x="141917" y="1400"/>
                </a:lnTo>
                <a:lnTo>
                  <a:pt x="1400" y="1400"/>
                </a:lnTo>
                <a:close/>
              </a:path>
              <a:path fill="darken" w="143317" h="21600">
                <a:moveTo>
                  <a:pt x="143317" y="0"/>
                </a:moveTo>
                <a:lnTo>
                  <a:pt x="143317" y="21600"/>
                </a:lnTo>
                <a:lnTo>
                  <a:pt x="141917" y="20200"/>
                </a:lnTo>
                <a:lnTo>
                  <a:pt x="141917" y="1400"/>
                </a:lnTo>
                <a:close/>
              </a:path>
              <a:path fill="darkenLess" w="143317" h="21600">
                <a:moveTo>
                  <a:pt x="143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17" y="20200"/>
                </a:lnTo>
                <a:close/>
              </a:path>
              <a:path fill="lighten" w="143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MediaPlayer1"/>
          <p:cNvGraphicFramePr/>
          <p:nvPr/>
        </p:nvGraphicFramePr>
        <p:xfrm>
          <a:off x="304920" y="228600"/>
          <a:ext cx="8534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AutoShape 5">
            <a:hlinkClick r:id="" action="ppaction://hlinkshowjump?jump=firstslide"/>
          </p:cNvPr>
          <p:cNvSpPr/>
          <p:nvPr/>
        </p:nvSpPr>
        <p:spPr>
          <a:xfrm>
            <a:off x="838080" y="6172200"/>
            <a:ext cx="5562720" cy="838080"/>
          </a:xfrm>
          <a:custGeom>
            <a:avLst/>
            <a:gdLst>
              <a:gd name="textAreaLeft" fmla="*/ 54000 w 5562720"/>
              <a:gd name="textAreaRight" fmla="*/ 5508720 w 5562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3317" h="21600">
                <a:moveTo>
                  <a:pt x="0" y="0"/>
                </a:moveTo>
                <a:lnTo>
                  <a:pt x="143317" y="0"/>
                </a:lnTo>
                <a:lnTo>
                  <a:pt x="143317" y="21600"/>
                </a:lnTo>
                <a:lnTo>
                  <a:pt x="0" y="21600"/>
                </a:lnTo>
                <a:close/>
              </a:path>
              <a:path fill="lightenLess" w="143317" h="21600">
                <a:moveTo>
                  <a:pt x="0" y="0"/>
                </a:moveTo>
                <a:lnTo>
                  <a:pt x="143317" y="0"/>
                </a:lnTo>
                <a:lnTo>
                  <a:pt x="141917" y="1400"/>
                </a:lnTo>
                <a:lnTo>
                  <a:pt x="1400" y="1400"/>
                </a:lnTo>
                <a:close/>
              </a:path>
              <a:path fill="darken" w="143317" h="21600">
                <a:moveTo>
                  <a:pt x="143317" y="0"/>
                </a:moveTo>
                <a:lnTo>
                  <a:pt x="143317" y="21600"/>
                </a:lnTo>
                <a:lnTo>
                  <a:pt x="141917" y="20200"/>
                </a:lnTo>
                <a:lnTo>
                  <a:pt x="141917" y="1400"/>
                </a:lnTo>
                <a:close/>
              </a:path>
              <a:path fill="darkenLess" w="143317" h="21600">
                <a:moveTo>
                  <a:pt x="143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17" y="20200"/>
                </a:lnTo>
                <a:close/>
              </a:path>
              <a:path fill="lighten" w="143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制照相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M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ShockwaveFlash1"/>
          <p:cNvGraphicFramePr/>
          <p:nvPr/>
        </p:nvGraphicFramePr>
        <p:xfrm>
          <a:off x="0" y="0"/>
          <a:ext cx="91440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AutoShape 5">
            <a:hlinkClick r:id="" action="ppaction://hlinkshowjump?jump=firstslide"/>
          </p:cNvPr>
          <p:cNvSpPr/>
          <p:nvPr/>
        </p:nvSpPr>
        <p:spPr>
          <a:xfrm>
            <a:off x="1447920" y="6400800"/>
            <a:ext cx="6933960" cy="685800"/>
          </a:xfrm>
          <a:custGeom>
            <a:avLst/>
            <a:gdLst>
              <a:gd name="textAreaLeft" fmla="*/ 44280 w 6933960"/>
              <a:gd name="textAreaRight" fmla="*/ 6889680 w 6933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8289" h="21600">
                <a:moveTo>
                  <a:pt x="0" y="0"/>
                </a:moveTo>
                <a:lnTo>
                  <a:pt x="218289" y="0"/>
                </a:lnTo>
                <a:lnTo>
                  <a:pt x="218289" y="21600"/>
                </a:lnTo>
                <a:lnTo>
                  <a:pt x="0" y="21600"/>
                </a:lnTo>
                <a:close/>
              </a:path>
              <a:path fill="lightenLess" w="218289" h="21600">
                <a:moveTo>
                  <a:pt x="0" y="0"/>
                </a:moveTo>
                <a:lnTo>
                  <a:pt x="218289" y="0"/>
                </a:lnTo>
                <a:lnTo>
                  <a:pt x="216889" y="1400"/>
                </a:lnTo>
                <a:lnTo>
                  <a:pt x="1400" y="1400"/>
                </a:lnTo>
                <a:close/>
              </a:path>
              <a:path fill="darken" w="218289" h="21600">
                <a:moveTo>
                  <a:pt x="218289" y="0"/>
                </a:moveTo>
                <a:lnTo>
                  <a:pt x="218289" y="21600"/>
                </a:lnTo>
                <a:lnTo>
                  <a:pt x="216889" y="20200"/>
                </a:lnTo>
                <a:lnTo>
                  <a:pt x="216889" y="1400"/>
                </a:lnTo>
                <a:close/>
              </a:path>
              <a:path fill="darkenLess" w="218289" h="21600">
                <a:moveTo>
                  <a:pt x="218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89" y="20200"/>
                </a:lnTo>
                <a:close/>
              </a:path>
              <a:path fill="lighten" w="218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3:14:12Z</dcterms:created>
  <dc:creator>ll</dc:creator>
  <dc:description/>
  <dc:language>en-US</dc:language>
  <cp:lastModifiedBy>a</cp:lastModifiedBy>
  <dcterms:modified xsi:type="dcterms:W3CDTF">2015-03-17T07:14:31Z</dcterms:modified>
  <cp:revision>11</cp:revision>
  <dc:subject/>
  <dc:title>PowerPoint 演示文稿</dc:title>
</cp:coreProperties>
</file>