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79232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F06-EF33-48B7-AF0B-2816D085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B8F-F449-420E-A6C8-6AC6FFB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BDD4D-4813-4B19-9C3A-8CF1285A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CA037-69B1-4259-AFC5-B9E67FEC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C321B-4170-4DBC-A831-5DF26EF7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E24F7-E253-4384-8733-B0DFBD5D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25FA3-18C7-481C-967C-18605A90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6044C-38AC-4C8B-B2F3-01DE560A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3BAB5-07F4-4F68-A6EE-82B5FDE7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5F6D3-98D8-4400-A5F4-2C67C8D2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53278-0520-4B22-A864-67EA3A04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6235A-6538-4F27-8CC0-24FB1A10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CAA-43E7-4837-A360-71F08AB2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1E8D1-85F0-4112-9433-BB26AF2F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C9333-DD26-4087-B824-8995D8FD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FD447-74A2-460C-ABA2-851791C5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403DE-9BB2-434E-8F3D-29E6B387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393CB-C249-42D7-9FFC-6CAC14D2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E6548-EA3E-4177-9306-EE0ED7B8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5B852-BFA9-411D-A3B2-ABE70F95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07C8E-F83B-4421-82FB-D71EAF30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DFAA9-16C4-4159-B663-B7A9B72B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8F2C4-769F-4792-AD7E-B49B510C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3BE-045D-42AF-B1B8-B3E216C7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17758-A1BA-4832-8BEB-68769EEC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2CA76-21F8-478C-8E82-1D032171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81B89-2F38-4813-A484-070C126C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6F0A8-B942-45F2-B770-F21AB8DE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BE10C-9968-4B18-ACAE-F5429336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3A9E6-F615-4A3A-B09D-92D8F8C6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D57AE-F816-4D5A-B872-69E54E54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09C8C-6B9E-484C-986A-593FA187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6D58E-A6BC-48E7-A8D1-7011E8F0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62D1D-11F1-436E-8D23-07F5FBB0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94FF-2FDA-4B44-B4E3-E9E331DE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2684D-ADFB-4599-86BF-5BEF9AED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C2D1F-F732-41F8-921C-E95D22BE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0CAB4-91D4-48AE-B3A1-A16829CE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70CAE-D38A-40A6-A296-E5E9A2F4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38502-97B5-459B-A585-AA269C0B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2F4AB-FC21-4C17-ACDB-EF808FCB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5CF1E-E2F7-4D74-ABFB-9F9E036C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FE91D-A80A-44D8-987C-63CD3197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96023-44FF-408F-9674-F525CFC7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B169D-97A2-41E4-BD31-C95A8574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E0F4-70AE-4C03-8346-D22B4861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8474B-BC58-4227-B866-1CA17A0D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6DC59-F8D4-4361-9504-B07F46EC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10AEF-A347-465D-ACCA-C97B23C0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909E3-09E3-4BEC-B34A-65F5A641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37DEA-75B9-4D8B-849C-A67200A6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09BE1-70A7-405E-A995-DA89C272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5FC3D-5ADA-421C-8BE3-5BD7D19B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A5CC8-814B-4A31-93EF-BC27330C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24CB1-10E7-4D25-8A60-FEEA3CE2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390A9-211C-4BE0-BDB9-2296B727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2B68-1126-45C0-876B-063C91F5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E332F-D446-44FD-8F1B-A1592877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BD02F-3998-45E5-AE9F-EB7928B8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4D0A7-ED83-418A-9B41-87C5F24D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C6773-071E-46BC-A973-DA3C5BC9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CF287-8993-4A40-B61F-95EBE7F4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55BEB-7184-4597-AF86-FF961BDD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77256-1EB2-4FD3-8739-D2D66FB8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12FCE-1066-4838-94F6-4CD3D17F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6B173-84F4-43B0-BB93-FC7931F7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719C7-26BC-440C-8CA3-F6750931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19D4-18FB-4C45-9E3A-F779642D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DDC0E-A046-4A37-B1A6-4132D4B9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A78B8-AA60-4369-990D-7E740DA3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D7F80-DB2B-4A4F-BC9C-75968788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720EE-33D1-4B16-B84F-853E5B50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595D3-B442-41A8-8E68-5EC34873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99868-ACFD-49E5-BFFC-CC355ABC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F7884-9084-41E4-8C2E-400D3C5D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10AF5-8450-41D2-BBB7-EABC6B5C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94F950-918C-4615-B415-B6826C53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B8A1-37A9-4122-B0E5-D54543CC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A0C4-056B-43F0-9BF7-A8E19CFF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AFBE-2874-49BF-BB83-7803F911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C53-2187-4972-894F-89594DAF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5E8D-4284-40A4-A1A8-DA5C15F5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D4C0-F749-4F0B-B8A0-EB89088A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6DFD-8E89-411F-916E-5D3EF4EF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1614-1ADF-42F2-A7F2-71F9382C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413A-3681-4F9C-A607-1768DCE6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366D2-ADA9-45B3-985A-CB6822B5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A69A-7C25-4967-91B6-50805100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C144-03ED-4F53-926C-E6B69D1B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41263-3722-4225-A169-ED6912F3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C9DD-889D-48DB-BB20-6EEC88F7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893-B673-4EC2-9A8B-1D04D97E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82A4-7D70-4A29-A7F5-5CAD8230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77CD-4004-42B0-8225-104A3918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EF60-440A-40AA-BA66-BD06D5DA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B70E-EB40-4D10-8386-5BC898CC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050E-5D93-4767-AD72-519EF6B6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B3A6-0735-4F6B-B1FF-F4002BB3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CF21-EC99-4A4F-A87B-88DF6E4A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9844C-4E09-44FC-9979-E622750D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822B7-26BE-4A97-9AE5-905AFCA2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6C778-143E-4991-9903-FA7B67BD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2A7-0977-4191-968A-B99138DA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E78D9-A059-4391-A310-61E1DC03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4F3C-CD09-49C7-8A10-152FB7C0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E7E24-2A84-4788-B0D7-E18F78DB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11CF3-853E-4FBA-B339-DB5BCCB2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C8A43-6F46-4763-96D6-555C70CB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4B70-B32A-4CA0-9677-15803016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19791-F840-405A-ADFB-FB864DE3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6D01-3802-4BF3-913B-DB6AD21B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8714D-9CBB-4968-AE12-2ED150A0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AC415-C6F7-4EF9-BEA8-11DF1D4F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8FE-5DF5-4D3C-8751-C339FA3E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5130E-A327-45BD-AEEE-6391B781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B8DA3-9763-4436-97E8-17550FA6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19C5A-395D-4490-877D-4F5F9098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6C970-1937-42BC-B18F-AC6F9717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49B1E-46D6-4C7B-8021-4C2FF739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B7AE-3198-438B-A638-8CA4CDAE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2C343-5DFB-4864-A14B-A3473AFF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C3C21-1F9A-4243-BF86-79DBEB63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64FB-ECE2-40F0-820B-48507446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A411F-C4A9-4874-90B8-CFE2A7A3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06C-1D8B-41DF-8076-F59FB3B6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59739-A1EE-4943-8244-5BCDCA20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4703B-5A2D-48A3-908D-FC9C1D8C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82C45-3450-4CEC-934C-B36E47D1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A5AB6-3038-42CD-A53F-852DBE46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44A21-DAE3-4C1E-90DA-1AF31360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6AD11-3625-4FD7-82AD-A3B85524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6BBE5-71A4-43E8-B0D1-C65C3418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242DB-EC89-43A8-916D-DC942A53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5F386-A09E-4FA8-BF73-6F8237B8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3EF6F-7C6E-4DF3-8A1F-6B9A9E84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727-9FE5-49FA-8126-1B057043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20730-BC1C-492C-BD01-494CA10A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8CC55-FD33-46E8-97E3-8B2675FE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967F4-7EBE-4DBA-A2EF-7E48C013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CE495-DE53-4376-B157-430E213B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F8897-C8DC-4AA8-AB77-3573883A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07690-38B6-40B8-8471-23D8F322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4B557-A313-4AC3-87A3-6FF7E11B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BF74A-446A-4B0D-BBA9-D23F988C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D851F-1D25-4D08-A58C-2E65B66F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80B0D-881D-4201-A8E4-B57CC353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43A-8AF4-4869-9735-C758A046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9F504-2790-45B0-945B-80DAB489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7D9CD-D101-45A2-A8F2-D52655BD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EA6E4-B5DE-40FA-90BF-55FCFC56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5EF21-9B55-4398-A146-6E5C805D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5B7C3-DF15-4797-8E7D-404183B9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6583B-3199-4E17-B4B0-921681EE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742BC-8ACA-47E7-BA0C-80B6FAB5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C4D4C-8BB3-4D70-9D63-7218572F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CEE7D-4FBE-4958-9646-0FFC741E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B5BC3-2951-44B4-9488-6AB64D51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647-0B0B-4F70-B170-1C31C2B1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288720"/>
            <a:ext cx="713088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8598D-398C-4D3B-A50D-FC730ED5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6779B-EBEE-4AF3-996F-3CDFC83B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F2AE0-971F-4AF1-B6CA-33913A86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43AD9-056E-4010-A92C-D7C6F69B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5280" y="4161600"/>
            <a:ext cx="7130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CF4F0-8C7F-4DB4-9846-A9BAACA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049280" y="167904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95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049280" y="4161600"/>
            <a:ext cx="34797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622E0-5E33-43E7-A8A8-FAC67760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80620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217120" y="167904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9528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80620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217120" y="4161600"/>
            <a:ext cx="2295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F9CB2-0551-4AB0-9D59-465FB956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8F990-9CE1-4506-B6A3-714EEE12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08693-2C91-44EA-818B-01DB7D55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7CF12-D91A-4402-95FB-23397F69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96360" y="6557760"/>
            <a:ext cx="1847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A3DE-0C82-4964-B029-472527B07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60360" y="3239640"/>
            <a:ext cx="712944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79EB-E80D-41CF-B6A2-DE2CB99CC357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668F-D466-4095-87D1-BF58C6210C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354B-DC84-44D5-B292-3A3C1FB03AE1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360F-C25D-4F16-815A-B6E80A49DB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C0C9-2EC4-45AE-B4BA-5270A9D0C9B6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A9A8-93AC-483B-AE45-50E3C39C2A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1920-AD4A-4F1A-9400-46350D5B1E21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6CEC-A0FE-4E6D-B5B5-A15664CAC0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1D1B-1843-45E0-A3DD-B770D52DCBEA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020B-D98A-4540-88A9-A1950B2A52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720" y="288720"/>
            <a:ext cx="71294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6720" y="1679040"/>
            <a:ext cx="7129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96360" y="6557760"/>
            <a:ext cx="18478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0044-3CB4-4965-A2EC-63002909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5FA8-2D80-4225-9609-BE374D4D1B2A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FC16-AAE1-42C9-84D7-71F916D461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3EF4-BFBB-4CAC-A15A-45E291BEA7A1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EB22-DD3B-4CC1-84E8-E75DB6BECD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62C5-545C-4164-BAAE-03438E48B7CE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D61C-076E-473A-A0E1-86B0C13ECF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9991-DE1A-400F-AB11-C1B7ED7292F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59D7-88C5-4CCB-98D5-B7AA922292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80BA-C8E7-43F3-930E-B98884620D52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8CF9-48FF-43DE-B6B9-9570E0A23F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9583-7591-451B-9936-70C4744D46D1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0E09-4EC5-4A62-857A-D2C5828512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288720"/>
            <a:ext cx="71308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95280" y="1679040"/>
            <a:ext cx="7130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462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88920" indent="-1969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86000" indent="-1969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8128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9492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7601-0F44-4D2B-AA7D-88F4E2967205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706480" y="6557760"/>
            <a:ext cx="25081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5676480" y="6557760"/>
            <a:ext cx="1849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FCFB-1D29-422E-9FFD-CB14E0F9AA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5" descr="12823264179007"/>
          <p:cNvPicPr/>
          <p:nvPr/>
        </p:nvPicPr>
        <p:blipFill>
          <a:blip r:embed="rId1"/>
          <a:stretch/>
        </p:blipFill>
        <p:spPr>
          <a:xfrm>
            <a:off x="0" y="0"/>
            <a:ext cx="7921800" cy="51134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7"/>
          <p:cNvSpPr/>
          <p:nvPr/>
        </p:nvSpPr>
        <p:spPr>
          <a:xfrm>
            <a:off x="3745080" y="533088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幼圆"/>
                <a:ea typeface="幼圆"/>
              </a:rPr>
              <a:t>时间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管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5329080" y="6480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808080"/>
                </a:solidFill>
                <a:latin typeface="黑体"/>
                <a:ea typeface="黑体"/>
              </a:rPr>
              <a:t>李开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0" y="4896000"/>
            <a:ext cx="7921800" cy="7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12823264179007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0" y="1079640"/>
            <a:ext cx="7921800" cy="6121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4"/>
          <p:cNvSpPr/>
          <p:nvPr/>
        </p:nvSpPr>
        <p:spPr>
          <a:xfrm>
            <a:off x="0" y="0"/>
            <a:ext cx="7921800" cy="2879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0" y="2087640"/>
            <a:ext cx="79218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>
                <a:alpha val="2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0" y="1368360"/>
            <a:ext cx="792180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>
                <a:alpha val="2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0" y="863640"/>
            <a:ext cx="792180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>
                <a:alpha val="2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0" y="1655640"/>
            <a:ext cx="79218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>
                <a:alpha val="2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3"/>
          <p:cNvSpPr/>
          <p:nvPr/>
        </p:nvSpPr>
        <p:spPr>
          <a:xfrm>
            <a:off x="0" y="1154160"/>
            <a:ext cx="792180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>
                <a:alpha val="2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1440000" y="384120"/>
            <a:ext cx="51116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7000"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Arial"/>
                <a:ea typeface="幼圆"/>
              </a:rPr>
              <a:t>周末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愉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630360"/>
            <a:ext cx="7334280" cy="5940360"/>
            <a:chOff x="0" y="630360"/>
            <a:chExt cx="7334280" cy="5940360"/>
          </a:xfrm>
        </p:grpSpPr>
        <p:sp>
          <p:nvSpPr>
            <p:cNvPr id="617" name="矩形 4"/>
            <p:cNvSpPr/>
            <p:nvPr/>
          </p:nvSpPr>
          <p:spPr>
            <a:xfrm>
              <a:off x="588960" y="630360"/>
              <a:ext cx="5756040" cy="6116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2115360"/>
              <a:ext cx="7334280" cy="44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Box 7"/>
            <p:cNvSpPr/>
            <p:nvPr/>
          </p:nvSpPr>
          <p:spPr>
            <a:xfrm rot="20926800">
              <a:off x="1661040" y="3714120"/>
              <a:ext cx="4043160" cy="10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7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7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7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7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7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7913520" cy="360036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-360" y="3889440"/>
            <a:ext cx="7921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714831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人的一生两个最大的财富是：你的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楷体"/>
              </a:rPr>
              <a:t>才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和你的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楷体"/>
              </a:rPr>
              <a:t>时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。才华越来越多，但是时间越来越少，我们的一生可以说是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楷体"/>
              </a:rPr>
              <a:t>用时间来换取才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。如果一天天过去了，我们的时间少了，而才华没有增加，那就是虚度了时光。所以，我们必须节省时间，有效率地使用时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000"/>
              </a:spcBef>
              <a:buClr>
                <a:srgbClr val="714831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如何有效率地利用时间呢？我有下面几个建议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14" descr="12964936561439"/>
          <p:cNvPicPr/>
          <p:nvPr/>
        </p:nvPicPr>
        <p:blipFill>
          <a:blip r:embed="rId1"/>
          <a:stretch/>
        </p:blipFill>
        <p:spPr>
          <a:xfrm>
            <a:off x="0" y="0"/>
            <a:ext cx="7921800" cy="35290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15"/>
          <p:cNvSpPr/>
          <p:nvPr/>
        </p:nvSpPr>
        <p:spPr>
          <a:xfrm>
            <a:off x="0" y="2808360"/>
            <a:ext cx="7921800" cy="720720"/>
          </a:xfrm>
          <a:prstGeom prst="rect">
            <a:avLst/>
          </a:prstGeom>
          <a:solidFill>
            <a:srgbClr val="e1c5d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360" y="2736720"/>
            <a:ext cx="79218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.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做你真正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</a:rPr>
              <a:t>感兴趣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、与自己人生目标一致的事情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0" y="3744720"/>
            <a:ext cx="7850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cc9cb4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我发现我的“生产力”和我的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“兴趣”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有着直接的关系，而且这种关系还不是单纯的线性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cc9cb4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如果面对我没有兴趣的事情，我可能会花掉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时间，但只能产生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效果；如果遇到我感兴趣的事情，我可能会花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时间而得到</a:t>
            </a:r>
            <a:r>
              <a:rPr b="1" lang="en-US" sz="1800" spc="-1" strike="noStrike">
                <a:solidFill>
                  <a:srgbClr val="ff6600"/>
                </a:solidFill>
                <a:latin typeface="楷体"/>
                <a:ea typeface="楷体"/>
              </a:rPr>
              <a:t>200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％的效果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cc9cb4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要在工作上奋发图强，身体健康固然重要，但是真正能改变你的状态的关键是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心理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而不是生理上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cc9cb4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真正地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投入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到你的工作中，你需要的是一种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态度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、一种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渴望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、一种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意志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" descr="12921741564035"/>
          <p:cNvPicPr/>
          <p:nvPr/>
        </p:nvPicPr>
        <p:blipFill>
          <a:blip r:embed="rId1"/>
          <a:stretch/>
        </p:blipFill>
        <p:spPr>
          <a:xfrm>
            <a:off x="0" y="0"/>
            <a:ext cx="7921800" cy="338472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5"/>
          <p:cNvSpPr/>
          <p:nvPr/>
        </p:nvSpPr>
        <p:spPr>
          <a:xfrm>
            <a:off x="0" y="2664000"/>
            <a:ext cx="7921800" cy="720720"/>
          </a:xfrm>
          <a:prstGeom prst="rect">
            <a:avLst/>
          </a:prstGeom>
          <a:solidFill>
            <a:srgbClr val="fb899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080" y="266364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二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知道你的时间是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</a:rPr>
              <a:t>如何花掉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的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-360" y="3600360"/>
            <a:ext cx="7921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caab2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挑一个星期，每天记录下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每</a:t>
            </a:r>
            <a:r>
              <a:rPr b="1" lang="en-US" sz="1800" spc="-1" strike="noStrike">
                <a:solidFill>
                  <a:srgbClr val="ff6600"/>
                </a:solidFill>
                <a:latin typeface="楷体"/>
                <a:ea typeface="楷体"/>
              </a:rPr>
              <a:t>30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分钟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做的事情，然后做一个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分类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例如：读书、准备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GRE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、和朋友聊天、社团活动等）和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统计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，看看自己什么方面花了太多的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caab2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凡事想要进步，必须先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理解现状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。每天结束后，把一整天做的事记下来，每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分钟为一个单位（例如：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:00—1:15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等车，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:15—1:45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搭车，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:45—2:45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与朋友喝茶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caab2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在一周结束后，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分析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下，这周你的时间如何可以更有效率地安排？有没有活动占太大的比例？有没有方法可以增加效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12608465532327"/>
          <p:cNvPicPr/>
          <p:nvPr/>
        </p:nvPicPr>
        <p:blipFill>
          <a:blip r:embed="rId1"/>
          <a:stretch/>
        </p:blipFill>
        <p:spPr>
          <a:xfrm>
            <a:off x="0" y="0"/>
            <a:ext cx="7921800" cy="338472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73080" y="3600360"/>
            <a:ext cx="7848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如果你做了上面的时间统计，你一定发现每天有很多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时间流失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了，例如等车、排队、走路、搭车等，可以用来背单字、打电话、温习功课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现在随时随地都能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上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，所以没有任何借口再发呆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我前一阵和同事一起出差，他们都很惊讶为什么我和他们整天在一起，但是我的电子邮件都可以及时回答？后来，他们发现，当他们在飞机上和汽车上聊天、读杂志和发呆的时候，我就把电子邮件全回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重点是，无论自己忙还是不忙，你要把那些可以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利用时间碎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做的事先准备好，到你有空闲的时候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有计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地拿出来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0" y="2664000"/>
            <a:ext cx="7921800" cy="720720"/>
          </a:xfrm>
          <a:prstGeom prst="rect">
            <a:avLst/>
          </a:prstGeom>
          <a:solidFill>
            <a:srgbClr val="97a78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-360" y="2664000"/>
            <a:ext cx="7921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三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使用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</a:rPr>
              <a:t>时间碎片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</a:rPr>
              <a:t>死时间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6" descr="12657735671992"/>
          <p:cNvPicPr/>
          <p:nvPr/>
        </p:nvPicPr>
        <p:blipFill>
          <a:blip r:embed="rId1"/>
          <a:stretch/>
        </p:blipFill>
        <p:spPr>
          <a:xfrm>
            <a:off x="0" y="0"/>
            <a:ext cx="7921800" cy="34560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-71280" y="3816360"/>
            <a:ext cx="7921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75a4b3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在工作和生活中每天都有干不完的事，唯一能够做的就是</a:t>
            </a:r>
            <a:r>
              <a:rPr b="1" lang="zh-CN" sz="2000" spc="-1" strike="noStrike">
                <a:solidFill>
                  <a:srgbClr val="ff6600"/>
                </a:solidFill>
                <a:latin typeface="楷体"/>
                <a:ea typeface="楷体"/>
              </a:rPr>
              <a:t>分清轻重缓急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。要理解急事不等于重要的事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75a4b3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天除了办又急又重要的事情外，一定要注意不要成为急事的奴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75a4b3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有些急但是不重要的事情，你要</a:t>
            </a:r>
            <a:r>
              <a:rPr b="1" lang="zh-CN" sz="2000" spc="-1" strike="noStrike">
                <a:solidFill>
                  <a:srgbClr val="ff6600"/>
                </a:solidFill>
                <a:latin typeface="楷体"/>
                <a:ea typeface="楷体"/>
              </a:rPr>
              <a:t>学会放掉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要能对人说 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no!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而且每天这三件事里最好有一件重要但是不急的，这样才能确保你没有成为急事的奴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0" y="2305080"/>
            <a:ext cx="7921800" cy="1150920"/>
          </a:xfrm>
          <a:prstGeom prst="rect">
            <a:avLst/>
          </a:prstGeom>
          <a:solidFill>
            <a:srgbClr val="75a4b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-360" y="2232000"/>
            <a:ext cx="792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四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要事为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每天一大早挑出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最重要的三件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当天一定要能够做完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5" descr="12739571696175"/>
          <p:cNvPicPr/>
          <p:nvPr/>
        </p:nvPicPr>
        <p:blipFill>
          <a:blip r:embed="rId1"/>
          <a:stretch/>
        </p:blipFill>
        <p:spPr>
          <a:xfrm>
            <a:off x="0" y="0"/>
            <a:ext cx="7921800" cy="33847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-360" y="360036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b6243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有的年轻人会说自己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没有时间学习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，其实，换个说法就是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学习没有被排上优先级次序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b6243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曾经有一个教学生做时间管理的老师，他上课时带来两个大玻璃缸和一堆大小不一的石头。他做了一个实验，在其中一个玻璃缸中先把小石、砂倒进去，最后大石头就放不下了。而另一个玻璃缸中先放大石头，其它小石和砂却可以慢慢渗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9b6243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他以此为比喻说：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时间管理就是要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找到自己的优先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，若颠倒顺序，一堆琐事占满了时间，重要的事情就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楷体"/>
              </a:rPr>
              <a:t>没有空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了。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0" y="2664000"/>
            <a:ext cx="7921800" cy="720720"/>
          </a:xfrm>
          <a:prstGeom prst="rect">
            <a:avLst/>
          </a:prstGeom>
          <a:solidFill>
            <a:srgbClr val="9b624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-360" y="2592360"/>
            <a:ext cx="79218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五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要有</a:t>
            </a:r>
            <a:r>
              <a:rPr b="1" lang="zh-CN" sz="2400" spc="-1" strike="noStrike">
                <a:solidFill>
                  <a:srgbClr val="ff6600"/>
                </a:solidFill>
                <a:latin typeface="楷体_GB2312"/>
              </a:rPr>
              <a:t>纪律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4" descr="12720287528888"/>
          <p:cNvPicPr/>
          <p:nvPr/>
        </p:nvPicPr>
        <p:blipFill>
          <a:blip r:embed="rId1"/>
          <a:stretch/>
        </p:blipFill>
        <p:spPr>
          <a:xfrm>
            <a:off x="0" y="0"/>
            <a:ext cx="7921800" cy="338472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-360" y="3600360"/>
            <a:ext cx="7921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61831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人如果利用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最高效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的时间，只要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投入就能产生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效率。相对来说，如果使用最低效的时间，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时间投入只能产生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效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c61831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天头脑最清楚的时候，应该放在最需要专心的工作上。与朋友、家人在一起的时间，相对来说，不需要头脑那么清楚。所以，我们要把握一天中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％的最高效时间（有些人是早晨，也有些人是下午和晚上；除了时间之外，还要看你的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心态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，血糖的高低，休息是否足够等综合考量），专门用于最困难的科目和最需要思考的学习上。许多同学喜欢熬夜，但是晚睡会伤身，所以还是尽量早睡早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0" y="2664000"/>
            <a:ext cx="7921800" cy="720720"/>
          </a:xfrm>
          <a:prstGeom prst="rect">
            <a:avLst/>
          </a:prstGeom>
          <a:solidFill>
            <a:srgbClr val="c6183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70920" y="2663640"/>
            <a:ext cx="785052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六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运用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％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原则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5" descr="12673269802390"/>
          <p:cNvPicPr/>
          <p:nvPr/>
        </p:nvPicPr>
        <p:blipFill>
          <a:blip r:embed="rId1"/>
          <a:stretch/>
        </p:blipFill>
        <p:spPr>
          <a:xfrm>
            <a:off x="0" y="0"/>
            <a:ext cx="7921800" cy="33130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-360" y="3384360"/>
            <a:ext cx="7921800" cy="36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f858b"/>
              </a:buClr>
              <a:buFont typeface="Wing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我对于家庭的时间分配是用下列的原则：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f858b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划清界限、言出必行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对家人做出承诺后，而且一定要做到，但是希望其他时间得到谅解。制定较低的期望值以免造成失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f858b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忙中偷闲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不要一投入工作就忽视了家人，有时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分钟的体贴比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小时的陪伴还更受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f858b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闲中偷忙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学会怎么利用时间碎片。例如：家人没起床的时候，你就可以利用这段空闲时间去做你需要的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8f858b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注重</a:t>
            </a:r>
            <a:r>
              <a:rPr b="1" lang="zh-CN" sz="1800" spc="-1" strike="noStrike">
                <a:solidFill>
                  <a:srgbClr val="ff6600"/>
                </a:solidFill>
                <a:latin typeface="楷体"/>
                <a:ea typeface="楷体"/>
              </a:rPr>
              <a:t>有质量的时间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quality time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时间不是每一分钟都是一样的，有时需要全神贯注，有时坐在旁边上网就可以了。要记得家人平时为你牺牲很多，度假、周末是你补偿的机会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0" y="2521080"/>
            <a:ext cx="7921800" cy="792000"/>
          </a:xfrm>
          <a:prstGeom prst="rect">
            <a:avLst/>
          </a:prstGeom>
          <a:solidFill>
            <a:srgbClr val="8f858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-360" y="2448000"/>
            <a:ext cx="79218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七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平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和家庭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3:20:47Z</dcterms:created>
  <dc:creator>monica.pan</dc:creator>
  <dc:description/>
  <dc:language>en-US</dc:language>
  <cp:lastModifiedBy>a</cp:lastModifiedBy>
  <dcterms:modified xsi:type="dcterms:W3CDTF">2015-02-10T11:33:37Z</dcterms:modified>
  <cp:revision>22</cp:revision>
  <dc:subject/>
  <dc:title>幻灯片 1</dc:title>
</cp:coreProperties>
</file>