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7.gif" ContentType="image/gif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E484-2037-41DE-84B7-8CAF774E8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7817-054A-4545-9F8A-9F6FE743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AC5EA-4C99-4437-A758-29EF5844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E6B27-B322-4331-84D9-687FFE90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A5E02-42C7-4390-8DC3-D077B204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D9330-088D-42D8-BF4A-66BDA3D8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36962-EB24-4408-A6F9-95F2719F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F5703-B790-4C32-BDD9-AB3B38AD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51333-93D3-4E1E-8954-C1605B6E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E9E2C-71F8-40EA-91C3-49DD031C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5B060-F1DE-4273-9A31-DFC3E2CB3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EF71D-8995-440B-912D-C1DA9D1DD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9B22-8977-46DE-B538-F151A9EE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0FFB4-77DA-4A9C-A70B-2DCD2C4B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18D2A9-110A-4B31-9D62-5E8167EA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FC221-AFA6-4F00-A946-1EE40410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8F51C-F0AE-4B5D-A7AA-7D25ADB9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FF770-644C-45BC-9984-262D01A9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5E33E4-2D80-46AD-B8BE-06A46FDE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3604C-D4BC-46E5-A53F-59F5BD5C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0576C-6228-45EB-802C-A338F71E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5FFCD-A5E7-41EC-A7E7-665438A8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4DCA8-2442-40FE-82C8-19E575DA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1CC4-6737-43F2-9B86-B2E04A51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956B1-5A3F-4499-902A-702550C59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70434-1777-4A53-B2B8-B64E3680C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5E7AF-400A-40E6-940C-CB8521FB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6A58F-0C41-4D71-8D8A-B638F405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38E06-6FDB-424E-A08A-71AE4DC4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BA690-DC37-4020-ABED-7C3B14A6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68364-0A5F-480B-8B63-49C20D22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282DA-5C19-4097-A735-B9916791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A9104-623F-42E8-8BDD-E0F07704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C962A-8E46-43DC-9453-D4D6D136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B8F8-B940-4A18-BBA4-8E0C3B121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955FF-085F-47AE-8C83-6C2A4653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0C14D-5BBA-4E7B-9163-D34227DC0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C6206-50DB-4DFE-AA91-661AA309E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0F7DDA-C912-4576-B6D7-CBC9879DE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8D7225-A807-4172-91A8-5868C86B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198418-4D38-4147-9201-30D52209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06EDB-4B83-4C69-B9A6-245C25D4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999740-965F-4E83-B1DB-9FDD627B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6BA2CC-5DCA-46F6-99EC-C8AA25B8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46DD59-7FD8-4F85-80A2-4B181AFA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6B03-4ACC-45F1-9F29-9458D2C9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F2ABD-3EFA-4ADA-883C-9F492673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0E34D-27B0-4745-BBB1-557A2FF9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06F15-7D25-43FA-B0BC-FFE36A7B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5208A3-EC0A-4494-94E7-330765BF8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C73C1A-04DA-4815-AFF5-B00C57957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144FE6-598C-4581-94EF-D59699CBB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ACFF26-E931-4BDF-90E9-78ACA721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B6F179-B4DE-4716-8B38-F1FA7DA7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4042BC-68B2-40AE-BEC4-C47439DE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7BB382-924D-411B-8288-9F03470B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8201-1415-4FA8-B957-946813D3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49341D-0761-4349-9252-30251416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070A25-EB95-4D16-BC43-DF396EDD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CAB235-6819-487A-BF4C-FA328A2E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64D057-6FDB-4EC0-BB6B-B03EEA7F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B103D6-B29C-4E85-B467-4B450FD8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FB7740-A81D-4E8E-868A-BD111E53F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456ACB-8EA5-4354-A906-1E2854DD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4990-D372-4CDE-8F8A-52B0108D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C9A6-2160-4446-9134-3F928A58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A283-FDC1-4662-93DC-4DDFD0BA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CC09-320A-4714-8F45-FE3BAC5B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ACFD-CB17-4E03-9E0A-5FF1CEA5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E85F-319A-4A5A-9A0B-7602DAB3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15CE-B46C-4EDF-BC37-FD39A6A4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12D4-3464-4D76-8B1D-3DB16741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DD92-0409-4081-906E-EB36626EB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F4A8-8A75-4BB9-AB29-BC1A83D5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F0051-D644-4F6C-AAA1-0971ECA5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9E527-EF1B-4962-B408-65EE5644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B0CA8-CB32-45BD-BD8C-B23FD6D6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B99C1-09F7-49CD-9F5D-464D700A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8EAA7-ADAC-4E4B-972B-49EF1C34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E8FF-A43E-4262-AE2A-1E024303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3F720-93C8-45C8-9287-0C4CC946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C3D75-D0E0-457E-B552-527F3005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AA994-8430-4C17-B24A-68C9EC07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1B1D8-E9B3-4709-B0B1-0FD5B401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CBDC9-626C-4410-B742-834E8AD8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DB95C-04CA-4035-A465-CC4AC2343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E046E-9FCE-460E-86EA-22415F65F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31F42-3FBB-4432-BFA9-815AB8B2B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46F08-BB1E-4E44-92AE-DD43B494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C5315-4749-4DED-8080-243B797B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626C-A1FE-4148-B585-0A516DB9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FB382-5F04-49CB-8DC8-9060C1AE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2C41A-CEEA-4DDF-BDC6-B8AE630F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88159-724E-4A6E-84F1-38B0B5FE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B3C29-C74A-43C9-B341-6D872817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21DE1-C798-4B9E-9623-9227114C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7347A-ADE1-4114-A01F-F7355AD9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4CAE6-1311-4C48-A9A5-01ECF5A5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F4B9F-EE1C-4B7E-A6FB-EB5A0CDD6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583A9-ECE7-45D4-AA78-064A0DE8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6998B-5586-436D-89C6-0E8378F9B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9B00-10E5-429F-AD5A-7A1EAA97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51320-B05E-47F8-82B6-0C3F4F02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F7566-177E-4A1B-886B-3FF56EDC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A389B-089B-419D-8C25-85A137D2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E68B2-547E-4A18-AEBE-6261DF67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CB2E3-789B-4A68-BE2F-21155129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90E0B-8E0E-4662-A8FB-F6E2AF2B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6D8C6-1A15-42CE-9968-FD8D45EF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CD85E-0B26-441F-B853-CA170F6B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134FC-6F88-4839-AA96-DCD918BC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A3121-4056-41F5-81F4-457C0598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6C1A-1B6B-4990-AAFF-99852780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2CBF1-484A-4E38-AD4B-7004D665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261C8-7F1F-4B65-99C3-66D42818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0A88C-0200-4032-88BA-A1F6EA5D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A213B-24C8-48AF-8971-90B536C4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2B54F-2815-412D-95AD-818FAF3A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8C80B-00D9-4367-96D6-1D76ED13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2B0D5-B95A-4321-BF8D-5026B396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9F681-9699-40C2-BB9C-84043055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FB875-89F6-429B-9F03-52091DE1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59446-3250-47A3-9B34-1265181E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A8BA-97D7-4A0A-8F52-C2363797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45DA4-461F-4531-A857-86FA763A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6DCD7-C356-4DCA-B710-356FC6F68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CD892-BC9D-491E-92CC-0160BB87D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14D26-81DF-4926-9F2B-2858E0B9C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10D53-47C5-4ECC-A2D1-E6C7E69B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4D6A2-404A-4C9E-A57E-E9E7754A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93872-3DDC-47FA-83BE-B7101884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0AFCB-B723-4CF8-B81B-8000E9FE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518D1-D48D-49BE-AE8C-649BC61E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50125-215B-4A02-B98F-2DAE5ED1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740F-04B5-49F9-9850-40F28636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34DF0-56C9-4E77-ACB4-E90D2D91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9242A-159C-449C-A898-485447F9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5194B-1941-47BA-BA3F-5E1D4DC6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A9A67-8DA4-42C8-A200-51C92ED9B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140D4-5985-49C2-8F9A-277DEF9A2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4131A-F070-4820-AB45-F3D745E3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EF5D5-8D78-4AC6-A20D-832FDC5C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01ED2-D03F-4B1C-8027-F19A0F58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BBBEC-47B5-4D8C-8305-A1FEDEF5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AB433-4AE2-41EE-9683-BFD7F83D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FF47-5B48-4166-9DBA-2CADC863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DEEBB-A4DE-4B4B-A3F9-33B4F026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00726-CFAE-421D-AFFC-4D697E72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F9835-1C57-4E28-A0AA-45D3D4E1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054C1-5D03-4CFC-AD29-ECD731A0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27A07-F609-4C29-B15E-CEB44EAA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F677C-4391-41DF-8861-154DD1978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6D43A-F7A6-402D-8907-3F640E2F5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5F1F6-27BF-4A42-BAE4-EDF2F671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F6920-C5DC-415E-852E-B09B1DB7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5FF7F-B598-48D1-B158-0FFE7451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6BCC-CC22-48CF-9FDD-849EAC295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94E0-BFD5-4407-A806-2974E3C4E53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CFC1-CAD0-4528-892C-BCC3658B90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525C-5CD0-465F-AEAE-58F4520EC51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C054-AE48-41F1-950F-0F14D585EC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523C-E22A-40E6-8EBA-34BF4951D32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5FB1-F846-40EF-AC43-1787CFF3AA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3957-0D8D-4B11-BAD6-F8B86290F53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718A-C1E0-4294-93E9-2516C1BF16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22EC-32EB-4DB7-AA53-6DD805AD581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A55C-0405-47CD-822E-AB224A6EC2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4798-634F-40D6-8871-DD347015BA2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BD56-8F9B-434C-978D-D1FB31E15A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35B1-B19F-4B99-8C7E-69B566612D7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6AF2-EA30-4B53-84BC-6F06A89E91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EAFF-DC16-40C1-BEE0-A592AFDF536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259F-7D2D-494F-BB3F-89ACB50DF7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8F2A-03B1-4C24-A5B4-A441FC0AC5B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283D-D2FA-4614-96A2-2F1C74F09B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EB4B-3FDD-4F48-922F-28FA493C211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0174-ABC0-40ED-A4E2-F74133D862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932F-CC0B-4A7E-AF51-A98AD9B059D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B5D7-F298-41E5-94B7-7D3161C287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E92C-0089-4D74-81EC-17903466C55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B40E-7642-40FB-958F-F698D7388B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image" Target="../media/image2.jpeg"/><Relationship Id="rId15" Type="http://schemas.openxmlformats.org/officeDocument/2006/relationships/image" Target="../media/image3.png"/><Relationship Id="rId16" Type="http://schemas.openxmlformats.org/officeDocument/2006/relationships/slide" Target="slide6.xml"/><Relationship Id="rId17" Type="http://schemas.openxmlformats.org/officeDocument/2006/relationships/image" Target="../media/image4.gif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6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8.jpeg"/><Relationship Id="rId5" Type="http://schemas.openxmlformats.org/officeDocument/2006/relationships/image" Target="../media/image10.jpeg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4"/>
          <p:cNvSpPr/>
          <p:nvPr/>
        </p:nvSpPr>
        <p:spPr>
          <a:xfrm>
            <a:off x="611280" y="40464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幼圆"/>
              </a:rPr>
              <a:t>义务教育课程标准实验教科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7"/>
          <p:cNvSpPr/>
          <p:nvPr/>
        </p:nvSpPr>
        <p:spPr>
          <a:xfrm>
            <a:off x="2268360" y="2060640"/>
            <a:ext cx="540072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800" spc="-1" strike="noStrike">
                <a:solidFill>
                  <a:srgbClr val="000099"/>
                </a:solidFill>
                <a:latin typeface="Arial"/>
                <a:ea typeface="文鼎中特广告体"/>
              </a:rPr>
              <a:t>四 季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矩形 7"/>
          <p:cNvSpPr/>
          <p:nvPr/>
        </p:nvSpPr>
        <p:spPr>
          <a:xfrm>
            <a:off x="250920" y="1341360"/>
            <a:ext cx="208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素材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背景图片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图表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excel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课件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chun"/>
          <p:cNvPicPr/>
          <p:nvPr/>
        </p:nvPicPr>
        <p:blipFill>
          <a:blip r:embed="rId14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6"/>
          <p:cNvSpPr/>
          <p:nvPr/>
        </p:nvSpPr>
        <p:spPr>
          <a:xfrm>
            <a:off x="5796000" y="1916280"/>
            <a:ext cx="2663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草芽尖尖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他对小鸟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是春天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chun.wav" descr=""/>
          <p:cNvPicPr/>
          <p:nvPr/>
        </p:nvPicPr>
        <p:blipFill>
          <a:blip r:embed="rId15"/>
          <a:stretch/>
        </p:blipFill>
        <p:spPr>
          <a:xfrm>
            <a:off x="5508720" y="6165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8" descr="0241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7740720" y="5661000"/>
            <a:ext cx="93348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1501" fill="hold"/>
                                        <p:tgtEl>
                                          <p:spTgt spid="5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4" descr="xia"/>
          <p:cNvPicPr/>
          <p:nvPr/>
        </p:nvPicPr>
        <p:blipFill>
          <a:blip r:embed="rId2"/>
          <a:stretch/>
        </p:blipFill>
        <p:spPr>
          <a:xfrm>
            <a:off x="3708360" y="0"/>
            <a:ext cx="543564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41" name="xia.wav" descr=""/>
          <p:cNvPicPr/>
          <p:nvPr/>
        </p:nvPicPr>
        <p:blipFill>
          <a:blip r:embed="rId3"/>
          <a:stretch/>
        </p:blipFill>
        <p:spPr>
          <a:xfrm>
            <a:off x="3059280" y="6093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6"/>
          <p:cNvSpPr/>
          <p:nvPr/>
        </p:nvSpPr>
        <p:spPr>
          <a:xfrm>
            <a:off x="324000" y="1341360"/>
            <a:ext cx="2808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荷叶圆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他对青蛙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是夏天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7" descr="0233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79280" y="5734080"/>
            <a:ext cx="89532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1251" fill="hold"/>
                                        <p:tgtEl>
                                          <p:spTgt spid="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4" descr="qiu"/>
          <p:cNvPicPr/>
          <p:nvPr/>
        </p:nvPicPr>
        <p:blipFill>
          <a:blip r:embed="rId1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5"/>
          <p:cNvSpPr/>
          <p:nvPr/>
        </p:nvSpPr>
        <p:spPr>
          <a:xfrm>
            <a:off x="5724360" y="1773360"/>
            <a:ext cx="2881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谷穗弯弯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他鞠着躬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是秋天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0" descr="024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28000" y="5877000"/>
            <a:ext cx="933480" cy="79056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11"/>
          <p:cNvSpPr/>
          <p:nvPr/>
        </p:nvSpPr>
        <p:spPr>
          <a:xfrm>
            <a:off x="5940360" y="0"/>
            <a:ext cx="32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全套免费课件下载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4" descr="dong"/>
          <p:cNvPicPr/>
          <p:nvPr/>
        </p:nvPicPr>
        <p:blipFill>
          <a:blip r:embed="rId2"/>
          <a:stretch/>
        </p:blipFill>
        <p:spPr>
          <a:xfrm>
            <a:off x="3629160" y="0"/>
            <a:ext cx="5514840" cy="6858000"/>
          </a:xfrm>
          <a:prstGeom prst="rect">
            <a:avLst/>
          </a:prstGeom>
          <a:ln w="0">
            <a:noFill/>
          </a:ln>
        </p:spPr>
      </p:pic>
      <p:pic>
        <p:nvPicPr>
          <p:cNvPr id="549" name="dong.wav" descr=""/>
          <p:cNvPicPr/>
          <p:nvPr/>
        </p:nvPicPr>
        <p:blipFill>
          <a:blip r:embed="rId3"/>
          <a:stretch/>
        </p:blipFill>
        <p:spPr>
          <a:xfrm>
            <a:off x="3132000" y="6165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6"/>
          <p:cNvSpPr/>
          <p:nvPr/>
        </p:nvSpPr>
        <p:spPr>
          <a:xfrm>
            <a:off x="250920" y="1700280"/>
            <a:ext cx="3816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雪人大肚子一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顽皮地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就是冬天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7" descr="qi08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79280" y="5877000"/>
            <a:ext cx="10479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2501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4" descr="chun"/>
          <p:cNvPicPr/>
          <p:nvPr/>
        </p:nvPicPr>
        <p:blipFill>
          <a:blip r:embed="rId2"/>
          <a:stretch/>
        </p:blipFill>
        <p:spPr>
          <a:xfrm>
            <a:off x="0" y="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5" descr="xia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34560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6" descr="qiu"/>
          <p:cNvPicPr/>
          <p:nvPr/>
        </p:nvPicPr>
        <p:blipFill>
          <a:blip r:embed="rId4"/>
          <a:stretch/>
        </p:blipFill>
        <p:spPr>
          <a:xfrm>
            <a:off x="0" y="3213000"/>
            <a:ext cx="4500720" cy="36450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7" descr="dong"/>
          <p:cNvPicPr/>
          <p:nvPr/>
        </p:nvPicPr>
        <p:blipFill>
          <a:blip r:embed="rId5"/>
          <a:stretch/>
        </p:blipFill>
        <p:spPr>
          <a:xfrm>
            <a:off x="4500720" y="3257640"/>
            <a:ext cx="4643280" cy="360036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8">
            <a:hlinkClick r:id="rId6" action="ppaction://hlinksldjump"/>
          </p:cNvPr>
          <p:cNvSpPr/>
          <p:nvPr/>
        </p:nvSpPr>
        <p:spPr>
          <a:xfrm>
            <a:off x="395280" y="333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华文新魏"/>
              </a:rPr>
              <a:t>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9"/>
          <p:cNvSpPr/>
          <p:nvPr/>
        </p:nvSpPr>
        <p:spPr>
          <a:xfrm>
            <a:off x="8172360" y="404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0"/>
          <p:cNvSpPr/>
          <p:nvPr/>
        </p:nvSpPr>
        <p:spPr>
          <a:xfrm>
            <a:off x="324000" y="350028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  <a:ea typeface="华文新魏"/>
              </a:rPr>
              <a:t>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1"/>
          <p:cNvSpPr/>
          <p:nvPr/>
        </p:nvSpPr>
        <p:spPr>
          <a:xfrm>
            <a:off x="8388360" y="3789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6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2T06:45:25Z</dcterms:created>
  <dc:creator>edu</dc:creator>
  <dc:description/>
  <dc:language>en-US</dc:language>
  <cp:lastModifiedBy>a</cp:lastModifiedBy>
  <dcterms:modified xsi:type="dcterms:W3CDTF">2015-03-17T07:14:46Z</dcterms:modified>
  <cp:revision>15</cp:revision>
  <dc:subject/>
  <dc:title>幻灯片 1</dc:title>
</cp:coreProperties>
</file>