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3.png" ContentType="image/png"/>
  <Override PartName="/ppt/media/image14.jpeg" ContentType="image/jpeg"/>
  <Override PartName="/ppt/media/image16.wmf" ContentType="image/x-wmf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31.png" ContentType="image/png"/>
  <Override PartName="/ppt/media/image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2F4-89F3-43F0-B1DE-7802D152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898-6EF6-499B-AD20-9FB04D53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813D2-C52F-4777-BD20-5FB7C1A6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3ADA7-0AD9-4F51-8B49-517CACA1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CC492-F853-4E2E-B313-FC58DDFB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08A76-B36B-4D99-A389-2189EF86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3E0F9-0FA4-48AB-ACDA-55094B8A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38683-1570-4689-A53C-1260FBDC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BB36E-C52A-447B-A661-CF382916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9CEB7-0118-4976-A22D-12B4EB2A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6E31E-014A-4215-8EFA-77AA36E6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CE3E0-6966-4C76-9543-77ADD1C7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1ED-9E60-46F8-ACE8-22AFC102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F5C63-4D69-4CFD-8A6D-D2531AAD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F564D-461F-4D37-A8FD-F328268D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88167-502B-45A3-B4C3-2D1C61CE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C42C1-BD48-4A47-A92C-A03DD6EF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6C39B-01FB-4CBB-A4BC-97EE842F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FF837-469D-4E0E-BC31-F0DD65A2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1A721-D4CB-40DB-A4F3-4D91AC78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5BC70-712C-4B2B-A34E-A9BF4FFB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4475E-8B8C-40BA-91E2-BC479CA0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3EFDF-FDBF-4FCB-95D1-407E364C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A7B5-ACDE-4BC7-AC99-FCE89391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12130-ACBD-4CD8-B78F-625E45C5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37B41-45D3-45A2-BF64-EE676094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7F478-9732-4B72-AA42-926D3239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73A3B-451A-42B4-AE28-23AAA978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4E6E6-D5B7-42E9-8935-E6ABA0EE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6BBD2-4509-47DC-861D-53E5A0C1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471DB-2E21-4AFF-9F66-E37EFF7C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D6998-687E-436D-96DD-137D4170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8DD65-7DEB-4BE8-A2C3-599A95B0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DE1DE-463D-48AF-AA7D-FD2AC038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3B49-99F0-4D0F-8BCD-2A0DF63E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8B75E-B345-4B57-B0C6-92248B0F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8581B-FF75-4EDC-9115-B76EF831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F64EA-BCAA-4DA1-A125-56804979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9BDA3-07F9-4FB0-A1AF-DECD30CF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0B143-6EF2-4AC0-9F2F-F2C6757F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BEE98-68F0-4AE8-AECE-5A48B094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853CF-3C8A-4FD4-B1B9-EFBBBA9B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5F3D7-A00A-4B45-B5D8-C64EB481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ABC14-68E7-4340-BFB7-E46CDFDB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79743-33B7-4A96-B215-093BC680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D858-6802-4679-8FD5-A8486001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94FBE-86D8-438F-8A56-66527793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08EEF-D36E-4570-9CB1-BCEE5999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18CE6-707C-4DE8-9C40-087303ED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74C0D-7BF0-4A1A-A33B-09E2C208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B794A-53E4-4F6E-8D19-727933AE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82308-D518-4756-9EEB-E9472CB3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71061B-02D7-48C9-9C0F-1E01CB50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29A6F9-001E-46BA-9B3C-15FE60AA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F9854-4695-4B27-80FF-867CE600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E0DE02-5675-424B-85F2-410A7B72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6FE6-4AF2-4499-803D-F535D946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DA614-FBB3-4C07-89EA-DC625B20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93C208-03AA-441D-B4A1-4F193C44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04827-057D-4DF5-818D-1427A247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AFB73-D878-4A9D-9141-C287BCCE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D10B2B-51B7-419C-9E06-A741214A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B63F65-015A-4534-B8CB-70BBEC35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15CBE-276A-4449-BC34-66316CD1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208231-16AF-444B-8713-56199CE8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D7DB91-1C4A-4525-B253-C0E35AA3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67F5EE-B734-4A79-97B0-96A7BA01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C84F-969C-4650-A2A8-957B471C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989C04-74BF-42C4-A895-D5E4F257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1AD40-BA02-4DD5-8F21-7EE6C333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B47C8-68BC-401B-AFFF-6C328F0A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7E11A4-895B-432D-9EAF-BBDC7B63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C7F45C-0BEC-498F-8473-433AA4DD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6372AC-31F3-4CD2-9367-CCFEA1DA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317EB-3E2A-4D76-A827-98D221B7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F4EC9-5E08-4E0B-B6D9-E44D16D3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334BE-F791-4BFE-9897-92511B90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F9E3-D345-464F-80C0-107E6931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242E-C1A4-42E4-A1D7-50DDC483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017E-4CAE-4644-8FE7-FE1C795D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4B7C-1A20-46E5-BCAA-1111136E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9844-D33C-4CD0-82AE-64E302C3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2B14-0D45-4C24-A74A-84EF1687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7882-F8BB-44A8-B907-7571F987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69F2-E4D3-4AF3-BB52-D8C99D51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A321-CF5D-46CF-863F-DC1C1067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91D0F-3AC4-4FA8-983F-63271EF4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74B70-B296-41BC-BD5C-858187F2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F1C4D-F65F-4A59-BB45-A1FCFF9A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C7BC8-8E64-4793-9D9F-06114D43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081F6-653F-4CAA-B15D-5B8B1BEC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BDB-B674-4A9D-B333-3A288E79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4CA14-D24C-454A-AB31-4DEA1D17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6D258-0A51-44B4-B1D9-E8ED48DC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7C05B-ABE0-4D4C-A00E-F22DF3E5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D1D64-9BE8-4B10-9C13-792D1124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07ED8-E4BA-4BBE-B28D-58CA5021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23003-543A-4DB0-9594-9165C380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C1F6B-0C37-4EF6-B6FE-E2F4FE30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0E801-4C8F-426F-B459-81B1836E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9F5E7-6FD4-403E-A362-837D4D03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321E5-311E-4807-AB7B-26DFAA0C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22FF-DCBC-4544-9238-A6CA95FA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89FB2-06AF-4DC7-AF77-D5F82AF3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2683E-6AF8-4E55-B894-53250479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7D4DA-70FF-4ECC-9A51-25D6B786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70A64-8F92-411A-AC2B-511C8F0C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380EB-43FD-444B-B728-FC2A8A56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0D748-094E-4895-9F6D-255C216E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9C586-2FAE-4948-AFC2-051CF3F2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12FBE-2E49-4179-8F32-AE7CA4D6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04B53-8556-42E5-B774-A26B3D36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CEF35-6981-4DB4-9663-C8923C35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0E6-55A3-42F5-8FD8-EF0DA680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B773A-7E5B-4721-B01D-1D1155CD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30FBB-559C-4892-B27C-67DC51AD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186F7-C712-4C09-A7AA-B386F867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1D49E-BE7F-4979-AC1F-FE576DCC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0631A-BE86-441D-8D75-87A31230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B18B4-D27B-4228-B4CC-25985F37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DD694-4CA0-46CC-972D-5A8B1460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0C74F-C014-49FF-83ED-CF97521A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E6990-CFDB-4E06-93AA-184F1A76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FD8A3-D3D1-44DA-8106-B78C4390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66EE-AD0E-4ED5-9ADF-603662EA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3BF29-D4E1-493F-8696-3C1D208B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6D3BB-11DE-40D6-97F4-321CA545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CCA28-E39A-4161-AF6A-C5237718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25D95-660E-47EF-8BBE-FB5CDD48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E19D2-AC1C-4E43-A389-C3435C7A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B60B0-0E80-4E55-855A-0E7B2292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03C97-98E7-484B-85EE-A2E31F11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86439-07FE-43D4-AA9F-D97F364E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0C0D8-B0D1-4DC2-9897-A2ADB05E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2E884-F18A-40A5-B401-D8683314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C27-3AEC-409C-878F-E1BACEEA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3B1DD-4DFE-4FF3-A10F-88EC9DB0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44277-4DA4-41B9-A703-F4A9E175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33984-C7CF-491B-B726-95BA9BDA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113A4-51D0-49D8-A05C-CC559F01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8B001-3DDD-4676-AF3F-F29C7C24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CA4A9-3DFA-4584-A0B5-24F2CFEA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96DF1-79B5-4815-BAF1-B35A035E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6B091-C726-4F98-B422-03160EC2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070BC-DD19-4CEB-880F-DC4BFEFD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695AD-52CC-45BD-8506-A0A12FA6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298-3AB8-4029-AE18-D001F9EB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5A2BE-E678-42B8-918A-A810F872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DF6AD-7392-4CB3-9D33-65A4EF4A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23DBE-74D7-435F-952C-76FDA336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57B80-97CD-4E70-801A-1CC3DC7A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AF425-2088-44A0-AF7A-36AE16AD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D1E8C-78BB-42FE-BF16-69C37A95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F80A1-6E71-4DF8-8417-46755ED7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E423C-9B7B-4B3E-B077-BEB36E40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D7725-772E-461F-B166-D2D32BFD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472C1-594A-426B-AB94-89BA3036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9151-3B43-4027-8F52-6877927F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CBF2A-5BA9-4B54-963A-6EE568A3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FA03F-8942-4AA8-BB40-34784C50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48180-F4AA-4D40-BEC8-9D8E6F40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C288A-E0F1-42AC-82EA-39188AB1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AD742-4A32-43C2-93FD-C28A37A8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4C9D0-BCA8-40ED-9452-1BEC4BEB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2A1EF-05E3-4A0F-A982-FF2089E3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D848D-40A7-4591-A3C9-B94C6A96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44D91-DC21-4EED-B0B9-E571932F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7447B-3143-47F7-8E01-CE6BCFF2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abitbetter\bamboo.gif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A394-169C-418A-87F1-DD8CFE3E6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D0AC-92DA-4E84-AF09-B83EB6CC2C6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9898-78E2-4346-A9EF-5657EA79A8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950E-D35C-4C82-ADD9-80A2AA17E2B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451B-7F34-4D6E-B8A1-CECB2FD0BB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D85D-1E2B-47BC-82B8-1E0546B6CA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6EEC-D52F-47B4-9556-C2C5DAD0E0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0D2C-BBA1-4282-906A-786DA14EDDF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8D19-386C-4F38-960E-34340E4C0F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6C67-E3BC-4629-8826-E8479F6EFAD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E15C-2889-4F6F-9DE7-1F7C4FC466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C37E-A2E5-4C6A-9DE7-EAED2A74797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225B-8CF9-4BE6-A40D-0DEC5E5DB1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abitbetter\bamboo.gif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14BE-F93D-434A-ABA3-487CD50A9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66F2-4BC5-4A9B-915B-0D9AB2E3D39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FC03-31A6-4AB9-A10D-EC0B19678A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1673-3B6A-47DF-AC11-8A76D37DDE3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8C54-02A5-4795-A10D-C7BEE24834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D9CD-FEE1-4B9B-803A-31EF57D47E9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0987-0284-4BF3-B857-12EA4F7631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05C2-712E-4EA6-AFC4-C05C368A234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2CC9-083D-46BD-B82F-0A2EB5456E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0BAD-76C1-4378-9E8B-D1BFC6FF928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0C02-582F-442E-B136-257F54352B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A187-16C2-40E0-89FB-9224E659F03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DDA0-AFE7-4396-8AF3-D33E4703A6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1032" descr="\\2\课件制作素材\图片\边框1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1026"/>
          <p:cNvSpPr/>
          <p:nvPr/>
        </p:nvSpPr>
        <p:spPr>
          <a:xfrm>
            <a:off x="2057400" y="2286000"/>
            <a:ext cx="495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9933"/>
                </a:solidFill>
                <a:latin typeface="华文行楷"/>
                <a:ea typeface="华文行楷"/>
              </a:rPr>
              <a:t>        </a:t>
            </a:r>
            <a:r>
              <a:rPr b="0" i="1" lang="zh-CN" sz="4000" spc="-1" strike="noStrike">
                <a:solidFill>
                  <a:srgbClr val="339933"/>
                </a:solidFill>
                <a:latin typeface="华文行楷"/>
                <a:ea typeface="华文行楷"/>
              </a:rPr>
              <a:t>第六章第二节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339933"/>
                </a:solidFill>
                <a:latin typeface="华文行楷"/>
                <a:ea typeface="华文行楷"/>
              </a:rPr>
              <a:t>    </a:t>
            </a:r>
            <a:r>
              <a:rPr b="0" i="1" lang="zh-CN" sz="4800" spc="-1" strike="noStrike">
                <a:solidFill>
                  <a:srgbClr val="339933"/>
                </a:solidFill>
                <a:latin typeface="华文行楷"/>
                <a:ea typeface="华文行楷"/>
              </a:rPr>
              <a:t>神经系统的组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029"/>
          <p:cNvSpPr/>
          <p:nvPr/>
        </p:nvSpPr>
        <p:spPr>
          <a:xfrm>
            <a:off x="5225760" y="594360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件制作：荆溪中学  薛小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11" descr="\\2\课件制作素材\图片\边框3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2"/>
          <p:cNvSpPr/>
          <p:nvPr/>
        </p:nvSpPr>
        <p:spPr>
          <a:xfrm>
            <a:off x="3679200" y="1295280"/>
            <a:ext cx="349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339933"/>
                </a:solidFill>
                <a:latin typeface="Times New Roman"/>
                <a:ea typeface="华文行楷"/>
              </a:rPr>
              <a:t>第二节  神经系统的组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1965240" y="337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2819520" y="2133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ff"/>
                </a:solidFill>
                <a:latin typeface="Times New Roman"/>
                <a:ea typeface="华文行楷"/>
              </a:rPr>
              <a:t>学习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3581280" y="2743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ff"/>
                </a:solidFill>
                <a:latin typeface="Times New Roman"/>
                <a:ea typeface="华文行楷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5410080" y="4800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ff"/>
                </a:solidFill>
                <a:latin typeface="Times New Roman"/>
                <a:ea typeface="华文行楷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4894200" y="3505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ff"/>
                </a:solidFill>
                <a:latin typeface="Times New Roman"/>
                <a:ea typeface="华文行楷"/>
              </a:rPr>
              <a:t>做一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5257800" y="4114800"/>
            <a:ext cx="13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神经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6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2"/>
          <p:cNvSpPr/>
          <p:nvPr/>
        </p:nvSpPr>
        <p:spPr>
          <a:xfrm>
            <a:off x="685800" y="11430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、利用学习资料，学会分析并解决问题，说明人体各部分的协调动作主要靠神经系统的调节来实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685800" y="2286000"/>
            <a:ext cx="74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、通过观察、阅读、自学、讨论和总结，描述神经系统与神经元的组成和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685800" y="3505320"/>
            <a:ext cx="78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、尝试从自己的生活经验出发，提出问题、作出假设。体验科学发现的本来面目，激励自己更加有效地学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7" descr="http://gxschool.beelink.com.cn/mid_edu/midschool/biology3/images/back1.gif"/>
          <p:cNvPicPr/>
          <p:nvPr/>
        </p:nvPicPr>
        <p:blipFill>
          <a:blip r:embed="rId2"/>
          <a:stretch/>
        </p:blipFill>
        <p:spPr>
          <a:xfrm>
            <a:off x="4038480" y="5029200"/>
            <a:ext cx="2133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9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2"/>
          <p:cNvSpPr/>
          <p:nvPr/>
        </p:nvSpPr>
        <p:spPr>
          <a:xfrm>
            <a:off x="533520" y="5335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患者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位老人突患脑血栓。脑血栓是指因脑动脉硬化、血管腔狭窄、血流缓慢而导致血栓形成，致使局部脑的血液供应受到影响。这时，老人的四肢没有任何损伤，却出现了一侧肢体不能活动的症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457200" y="3352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患者二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位运动员在跳马比赛中，不幸摔伤腰部，腰部脊髓因此受到了严重损害。尽管及时进行了治疗，并且该运动员的下肢没有任何损伤，动形成了截瘫：下肢丧失运动功能，大小便失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3129840" y="2666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33"/>
                </a:solidFill>
                <a:latin typeface="Times New Roman"/>
              </a:rPr>
              <a:t>由于一侧肢体的运动受到脑血栓的影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380880" y="5334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33"/>
                </a:solidFill>
                <a:latin typeface="Times New Roman"/>
              </a:rPr>
              <a:t>可能损伤了控制排尿的神经，由此推断排尿中枢在腰部脊髓。另外脊髓还有向下传导的功能，因为此人的下肢功能丧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8" descr="C:\Program Files\Common Files\Microsoft Shared\Clipart\cagcat50\BD00028_.WMF"/>
          <p:cNvPicPr/>
          <p:nvPr/>
        </p:nvPicPr>
        <p:blipFill>
          <a:blip r:embed="rId2"/>
          <a:stretch/>
        </p:blipFill>
        <p:spPr>
          <a:xfrm>
            <a:off x="8001000" y="30492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9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2"/>
          <p:cNvSpPr/>
          <p:nvPr/>
        </p:nvSpPr>
        <p:spPr>
          <a:xfrm>
            <a:off x="135576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4" descr="C:\Program Files\Common Files\Microsoft Shared\Clipart\cagcat50\BD00028_.WMF"/>
          <p:cNvPicPr/>
          <p:nvPr/>
        </p:nvPicPr>
        <p:blipFill>
          <a:blip r:embed="rId2"/>
          <a:stretch/>
        </p:blipFill>
        <p:spPr>
          <a:xfrm>
            <a:off x="8001000" y="30492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5"/>
          <p:cNvSpPr/>
          <p:nvPr/>
        </p:nvSpPr>
        <p:spPr>
          <a:xfrm>
            <a:off x="609480" y="838080"/>
            <a:ext cx="76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患者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位小伙子在劳动中不慎将腰部扭伤，致使由腰部脊髓通向右下肢的神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右侧坐骨神经受到了压迫。这位小伙子的右下肢没有任何损伤，却出现了麻木和疼痛等症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3965400" y="30481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33"/>
                </a:solidFill>
                <a:latin typeface="Times New Roman"/>
              </a:rPr>
              <a:t>支配右下肢的神经与右侧的坐骨神经受损引起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685800" y="396252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患者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位妇女脑颅内长了肿瘤。肿瘤压迫大脑，结果造成了这位妇女失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2670120" y="54100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33"/>
                </a:solidFill>
                <a:latin typeface="Times New Roman"/>
              </a:rPr>
              <a:t>肿瘤压迫了大脑中的视觉中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1033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1" name="Group 103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22" name="Picture 1027" descr="http://www.pep.com.cn/images/200306/pic_32036.jpg"/>
            <p:cNvPicPr/>
            <p:nvPr/>
          </p:nvPicPr>
          <p:blipFill>
            <a:blip r:embed="rId2"/>
            <a:stretch/>
          </p:blipFill>
          <p:spPr>
            <a:xfrm>
              <a:off x="5181480" y="0"/>
              <a:ext cx="39625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1029" descr="http://www.syjy.cn/jxzyk/sck/czsw/pjesa4/h09/h0901/h0901-01.jp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518148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2" descr="\\2\课件制作素材\图片\图片2.gif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625" name="Object 7" descr=""/>
          <p:cNvPicPr/>
          <p:nvPr/>
        </p:nvPicPr>
        <p:blipFill>
          <a:blip r:embed="rId2"/>
          <a:stretch/>
        </p:blipFill>
        <p:spPr>
          <a:xfrm>
            <a:off x="4114800" y="0"/>
            <a:ext cx="5029200" cy="678168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3"/>
          <p:cNvSpPr/>
          <p:nvPr/>
        </p:nvSpPr>
        <p:spPr>
          <a:xfrm>
            <a:off x="228600" y="13716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人的所有活动都受神系统的控制。不论是人的内部器官的机能、身体的动作、各种知觉或是人的思想、感情，如没有神经系统的统一调控，人就会变成由一堆盲目的细胞胡乱堆砌而成的行尸走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304920" y="4419720"/>
            <a:ext cx="78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人的神经系统分成两个主要部分：一是中枢神经系统，包括脑和脊髓；二是周围神经系统，包括脑神经、脊神经和内脏神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6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629" name="Rectangle 2"/>
          <p:cNvSpPr/>
          <p:nvPr/>
        </p:nvSpPr>
        <p:spPr>
          <a:xfrm>
            <a:off x="539640" y="3875040"/>
            <a:ext cx="834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4" descr="大脑和神经细胞"/>
          <p:cNvPicPr/>
          <p:nvPr/>
        </p:nvPicPr>
        <p:blipFill>
          <a:blip r:embed="rId2"/>
          <a:stretch/>
        </p:blipFill>
        <p:spPr>
          <a:xfrm>
            <a:off x="0" y="0"/>
            <a:ext cx="3352680" cy="231624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5"/>
          <p:cNvSpPr/>
          <p:nvPr/>
        </p:nvSpPr>
        <p:spPr>
          <a:xfrm>
            <a:off x="380880" y="60948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人如果学习、工作成绩优异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家会说 他“头脑很聪明”，而如果一个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老是犯错误，人们就会说他“没脑子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脑子很笨”。人之所以比所有的动物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明（总的说来如此，但不是所有方面，人许多地方不如一些动物），全靠人的头脑。人的思维活动在大脑里进行，人之所以能说话、写字、作出判断、学习绘画和音乐，全是头脑的作用。人的一切活动，都由头脑控制和调节。没有头脑，这个人就不成为一个人。而且，一旦脑子停止工作，死亡了，即使肉体一些细胞还活着，还有一些功能，这个人也被医生认为已经死亡了，这就是脑死亡。有的科学家认为，人的所有精神活动，本质上都是脑子工作的结果，因此，一切精神活动都是头脑中的电化学生物活动造成的。人的感觉、情绪、动作，包括人自己不能意识和控制的体内活动，全由头脑左右。人类的所有的有意识活动和无意识活动，都出自头脑的功能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8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3" name="Group 6"/>
          <p:cNvGrpSpPr/>
          <p:nvPr/>
        </p:nvGrpSpPr>
        <p:grpSpPr>
          <a:xfrm>
            <a:off x="2932200" y="-4869000"/>
            <a:ext cx="7497720" cy="360"/>
            <a:chOff x="2932200" y="-4869000"/>
            <a:chExt cx="7497720" cy="360"/>
          </a:xfrm>
        </p:grpSpPr>
        <p:sp>
          <p:nvSpPr>
            <p:cNvPr id="634" name="Rectangle 2"/>
            <p:cNvSpPr/>
            <p:nvPr/>
          </p:nvSpPr>
          <p:spPr>
            <a:xfrm>
              <a:off x="2932200" y="-4869000"/>
              <a:ext cx="7497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5"/>
            <p:cNvSpPr/>
            <p:nvPr/>
          </p:nvSpPr>
          <p:spPr>
            <a:xfrm>
              <a:off x="2932200" y="-4869000"/>
              <a:ext cx="7497720" cy="3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6" name="Picture 4" descr="http://www.pep.com.cn/images/200306/pic_32016.jpg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327672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7"/>
          <p:cNvSpPr/>
          <p:nvPr/>
        </p:nvSpPr>
        <p:spPr>
          <a:xfrm>
            <a:off x="304920" y="914400"/>
            <a:ext cx="883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体的其他器官和脑子比较起来，简单得几乎不值一提。脑子虽然也被列为一个系统中的器官，但是一个超出所有器官之上的统领。其他器官不像脑子那么重要。脑子是一个核心。因为脑子是人的意识中心，也是潜意识中心。使人成为万物之灵的，是脑子而不是其他器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脑子由大脑、小脑和脑干三大部分组成。大脑分为左右两个半球状部分。人的智力、学问和判断力受大脑两个斗球所左右和控制。大脑占据了头颅的整个上部，光从这一点可知道大脑的重要性了。小脑的体积约只有大脑的八分之一，主要功能是维持平衡和协调肌肉活动。脑干又称为下脑，内有控制饥、渴、睡眠等行为的丘脑和下丘脑；以及在脑子各部分之间传递脉冲的中脑和脑桥；还有控制呼吸、血压、心搏及其他重要功能的延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些部分组成了人的脑子，使人聪明敏捷、生龙活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1033"/>
          <p:cNvSpPr/>
          <p:nvPr/>
        </p:nvSpPr>
        <p:spPr>
          <a:xfrm>
            <a:off x="4479840" y="352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1037" descr="http://www.snsyzx.cn/wx/czpdx/jxzyc/sw/2/20/01/jasl2.files/image00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1" name="Group 7"/>
          <p:cNvGrpSpPr/>
          <p:nvPr/>
        </p:nvGrpSpPr>
        <p:grpSpPr>
          <a:xfrm>
            <a:off x="0" y="228600"/>
            <a:ext cx="9372600" cy="4876560"/>
            <a:chOff x="0" y="228600"/>
            <a:chExt cx="9372600" cy="4876560"/>
          </a:xfrm>
        </p:grpSpPr>
        <p:pic>
          <p:nvPicPr>
            <p:cNvPr id="642" name="Picture 4" descr="http://etc.cmu.edu.cn/n03/03/web/jipo/xitong/shenjing/zhongshu/xunhuan/image/jishui.jpg"/>
            <p:cNvPicPr/>
            <p:nvPr/>
          </p:nvPicPr>
          <p:blipFill>
            <a:blip r:embed="rId2"/>
            <a:stretch/>
          </p:blipFill>
          <p:spPr>
            <a:xfrm>
              <a:off x="0" y="228600"/>
              <a:ext cx="2664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Text Box 5"/>
            <p:cNvSpPr/>
            <p:nvPr/>
          </p:nvSpPr>
          <p:spPr>
            <a:xfrm>
              <a:off x="2438280" y="914040"/>
              <a:ext cx="670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脊髓能对外界的刺激产生有规律的反应，还能将对这些刺激的反应传导到大脑，是脑与躯干、内脏之间联系的通道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Rectangle 6"/>
            <p:cNvSpPr/>
            <p:nvPr/>
          </p:nvSpPr>
          <p:spPr>
            <a:xfrm>
              <a:off x="2133720" y="2514240"/>
              <a:ext cx="7238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脊髓里的神经中枢，是受大脑控制的，人能有意识地控制排便和排尿就是一个例证。小儿因大脑的发育尚未完善，对排尿的抑制能力较弱，所以排尿次数多，而且容易发生夜间遗尿现象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5" name="Picture 8" descr="http://gxschool.beelink.com.cn/mid_edu/midschool/biology3/images/back1.gif"/>
          <p:cNvPicPr/>
          <p:nvPr/>
        </p:nvPicPr>
        <p:blipFill>
          <a:blip r:embed="rId3"/>
          <a:stretch/>
        </p:blipFill>
        <p:spPr>
          <a:xfrm>
            <a:off x="7010280" y="5715000"/>
            <a:ext cx="2133720" cy="838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" descr="http://bj.cmr.com.cn/soccerclub/images/1_04.jpg"/>
          <p:cNvPicPr/>
          <p:nvPr/>
        </p:nvPicPr>
        <p:blipFill>
          <a:blip r:embed="rId1"/>
          <a:stretch/>
        </p:blipFill>
        <p:spPr>
          <a:xfrm>
            <a:off x="0" y="0"/>
            <a:ext cx="9829800" cy="6858000"/>
          </a:xfrm>
          <a:prstGeom prst="rect">
            <a:avLst/>
          </a:prstGeom>
          <a:ln w="0">
            <a:noFill/>
          </a:ln>
        </p:spPr>
      </p:pic>
      <p:pic>
        <p:nvPicPr>
          <p:cNvPr id="580" name="shimianmaifu.mp3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7" name=""/>
          <p:cNvGraphicFramePr/>
          <p:nvPr/>
        </p:nvGraphicFramePr>
        <p:xfrm>
          <a:off x="0" y="76320"/>
          <a:ext cx="9448920" cy="6553080"/>
        </p:xfrm>
        <a:graphic>
          <a:graphicData uri="http://schemas.openxmlformats.org/drawingml/2006/table">
            <a:tbl>
              <a:tblPr/>
              <a:tblGrid>
                <a:gridCol w="762120"/>
                <a:gridCol w="609480"/>
                <a:gridCol w="1295280"/>
                <a:gridCol w="6782040"/>
              </a:tblGrid>
              <a:tr h="76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8" name="Rectangle 21"/>
          <p:cNvSpPr/>
          <p:nvPr/>
        </p:nvSpPr>
        <p:spPr>
          <a:xfrm>
            <a:off x="733320" y="3038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神经系统的组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3"/>
          <p:cNvSpPr/>
          <p:nvPr/>
        </p:nvSpPr>
        <p:spPr>
          <a:xfrm>
            <a:off x="165240" y="690480"/>
            <a:ext cx="54612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枢神经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77"/>
          <p:cNvSpPr/>
          <p:nvPr/>
        </p:nvSpPr>
        <p:spPr>
          <a:xfrm>
            <a:off x="231840" y="4241880"/>
            <a:ext cx="54612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周围神经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78"/>
          <p:cNvSpPr/>
          <p:nvPr/>
        </p:nvSpPr>
        <p:spPr>
          <a:xfrm>
            <a:off x="884880" y="146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9"/>
          <p:cNvSpPr/>
          <p:nvPr/>
        </p:nvSpPr>
        <p:spPr>
          <a:xfrm>
            <a:off x="134280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脊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88"/>
          <p:cNvSpPr/>
          <p:nvPr/>
        </p:nvSpPr>
        <p:spPr>
          <a:xfrm>
            <a:off x="1707840" y="934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90"/>
          <p:cNvSpPr/>
          <p:nvPr/>
        </p:nvSpPr>
        <p:spPr>
          <a:xfrm>
            <a:off x="1800000" y="1905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91"/>
          <p:cNvSpPr/>
          <p:nvPr/>
        </p:nvSpPr>
        <p:spPr>
          <a:xfrm>
            <a:off x="172368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脑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92"/>
          <p:cNvSpPr/>
          <p:nvPr/>
        </p:nvSpPr>
        <p:spPr>
          <a:xfrm>
            <a:off x="1327680" y="4800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脑神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93"/>
          <p:cNvSpPr/>
          <p:nvPr/>
        </p:nvSpPr>
        <p:spPr>
          <a:xfrm>
            <a:off x="1251360" y="6019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脊神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95"/>
          <p:cNvSpPr/>
          <p:nvPr/>
        </p:nvSpPr>
        <p:spPr>
          <a:xfrm>
            <a:off x="4390920" y="3049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神经系统各组成部分的功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96"/>
          <p:cNvSpPr/>
          <p:nvPr/>
        </p:nvSpPr>
        <p:spPr>
          <a:xfrm>
            <a:off x="2666880" y="914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具有感觉、语言、运动等多种神经中枢，调节人体多种生理活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00"/>
          <p:cNvSpPr/>
          <p:nvPr/>
        </p:nvSpPr>
        <p:spPr>
          <a:xfrm>
            <a:off x="5113080" y="1828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运动协调、准确，维持身体平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2"/>
          <p:cNvSpPr/>
          <p:nvPr/>
        </p:nvSpPr>
        <p:spPr>
          <a:xfrm>
            <a:off x="3124080" y="23623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专门调节心跳、呼吸、血压等人体基本生命活动的部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108"/>
          <p:cNvSpPr/>
          <p:nvPr/>
        </p:nvSpPr>
        <p:spPr>
          <a:xfrm>
            <a:off x="3352680" y="502920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传导神经冲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109"/>
          <p:cNvSpPr/>
          <p:nvPr/>
        </p:nvSpPr>
        <p:spPr>
          <a:xfrm>
            <a:off x="3643920" y="5867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传导神经冲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8"/>
          <p:cNvSpPr/>
          <p:nvPr/>
        </p:nvSpPr>
        <p:spPr>
          <a:xfrm>
            <a:off x="2955960" y="327672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能对外界或体内的刺激产生有规律的反应，还能将对这些刺激的反应传导到大脑，是脑与躯干、内脏之间的联系通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139" descr="http://gxschool.beelink.com.cn/mid_edu/midschool/biology3/images/back1.gif"/>
          <p:cNvPicPr/>
          <p:nvPr/>
        </p:nvPicPr>
        <p:blipFill>
          <a:blip r:embed="rId2"/>
          <a:stretch/>
        </p:blipFill>
        <p:spPr>
          <a:xfrm>
            <a:off x="7010280" y="5715000"/>
            <a:ext cx="2133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4"/>
          <p:cNvSpPr/>
          <p:nvPr/>
        </p:nvSpPr>
        <p:spPr>
          <a:xfrm>
            <a:off x="1342080" y="3525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腔上皮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68" name="Picture 3" descr="http://www.wx.net.cn/qyxz/no31/21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240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6" descr="http://www.northeast.com.cn/kjnews/80200309050378_22508.jpg"/>
            <p:cNvPicPr/>
            <p:nvPr/>
          </p:nvPicPr>
          <p:blipFill>
            <a:blip r:embed="rId2"/>
            <a:stretch/>
          </p:blipFill>
          <p:spPr>
            <a:xfrm>
              <a:off x="3124080" y="0"/>
              <a:ext cx="3429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Picture 8" descr="将心脏内部图像放大，即可看到表面覆盖的扁平的内皮细胞，内皮细胞表面除圆盘状的红细胞外，还可看到球形的、有小小突起的白细胞"/>
            <p:cNvPicPr/>
            <p:nvPr/>
          </p:nvPicPr>
          <p:blipFill>
            <a:blip r:embed="rId3"/>
            <a:stretch/>
          </p:blipFill>
          <p:spPr>
            <a:xfrm>
              <a:off x="6553080" y="0"/>
              <a:ext cx="259092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" descr="http://www.pep.com.cn/images/20021201/import82031_1.jpg"/>
            <p:cNvPicPr/>
            <p:nvPr/>
          </p:nvPicPr>
          <p:blipFill>
            <a:blip r:embed="rId4"/>
            <a:stretch/>
          </p:blipFill>
          <p:spPr>
            <a:xfrm>
              <a:off x="0" y="3429000"/>
              <a:ext cx="396252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10" descr="http://www.bhimage.com/images/size4.jpg"/>
            <p:cNvPicPr/>
            <p:nvPr/>
          </p:nvPicPr>
          <p:blipFill>
            <a:blip r:embed="rId5"/>
            <a:stretch/>
          </p:blipFill>
          <p:spPr>
            <a:xfrm>
              <a:off x="3962520" y="3429000"/>
              <a:ext cx="518148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Text Box 14"/>
          <p:cNvSpPr/>
          <p:nvPr/>
        </p:nvSpPr>
        <p:spPr>
          <a:xfrm>
            <a:off x="1067760" y="2840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皮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5"/>
          <p:cNvSpPr/>
          <p:nvPr/>
        </p:nvSpPr>
        <p:spPr>
          <a:xfrm>
            <a:off x="4528080" y="2819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红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6"/>
          <p:cNvSpPr/>
          <p:nvPr/>
        </p:nvSpPr>
        <p:spPr>
          <a:xfrm>
            <a:off x="723888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7"/>
          <p:cNvSpPr/>
          <p:nvPr/>
        </p:nvSpPr>
        <p:spPr>
          <a:xfrm>
            <a:off x="7483680" y="2840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白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8"/>
          <p:cNvSpPr/>
          <p:nvPr/>
        </p:nvSpPr>
        <p:spPr>
          <a:xfrm>
            <a:off x="1372680" y="6116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肌肉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9"/>
          <p:cNvSpPr/>
          <p:nvPr/>
        </p:nvSpPr>
        <p:spPr>
          <a:xfrm>
            <a:off x="5182560" y="6269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神经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2"/>
          <p:cNvSpPr/>
          <p:nvPr/>
        </p:nvSpPr>
        <p:spPr>
          <a:xfrm>
            <a:off x="0" y="16635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7" descr="http://202.38.91.222/physiology/xyq/f3001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399960" y="4008600"/>
            <a:ext cx="834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399960" y="2590920"/>
            <a:ext cx="8344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136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838080" y="2389320"/>
            <a:ext cx="834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Object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8" descr="http://202.38.91.222/physiology/xyq/shjy2.jpg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9"/>
          <p:cNvSpPr/>
          <p:nvPr/>
        </p:nvSpPr>
        <p:spPr>
          <a:xfrm>
            <a:off x="7848720" y="190512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神经元的电镜照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6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2"/>
          <p:cNvSpPr/>
          <p:nvPr/>
        </p:nvSpPr>
        <p:spPr>
          <a:xfrm>
            <a:off x="0" y="1971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Picture 4" descr="http://gxschool.beelink.com.cn/mid_edu/midschool/biology3/d9z/78_2.gif"/>
          <p:cNvPicPr/>
          <p:nvPr/>
        </p:nvPicPr>
        <p:blipFill>
          <a:blip r:embed="rId2"/>
          <a:stretch/>
        </p:blipFill>
        <p:spPr>
          <a:xfrm>
            <a:off x="380880" y="0"/>
            <a:ext cx="838224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Text Box 5"/>
          <p:cNvSpPr/>
          <p:nvPr/>
        </p:nvSpPr>
        <p:spPr>
          <a:xfrm>
            <a:off x="4783320" y="54864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神经元模式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3" descr="http://www.pep.com.cn/images/200306/pic_32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" descr="http://gxschool.beelink.com.cn/mid_edu/midschool/biology3/images/back1.gif"/>
          <p:cNvPicPr/>
          <p:nvPr/>
        </p:nvPicPr>
        <p:blipFill>
          <a:blip r:embed="rId2"/>
          <a:stretch/>
        </p:blipFill>
        <p:spPr>
          <a:xfrm>
            <a:off x="5257800" y="5715000"/>
            <a:ext cx="2133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10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2"/>
          <p:cNvSpPr/>
          <p:nvPr/>
        </p:nvSpPr>
        <p:spPr>
          <a:xfrm>
            <a:off x="399960" y="2452680"/>
            <a:ext cx="834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7" descr="http://gxschool.beelink.com.cn/mid_edu/midschool/biology3/images/xyx3.gif"/>
          <p:cNvPicPr/>
          <p:nvPr/>
        </p:nvPicPr>
        <p:blipFill>
          <a:blip r:embed="rId2"/>
          <a:stretch/>
        </p:blipFill>
        <p:spPr>
          <a:xfrm>
            <a:off x="0" y="0"/>
            <a:ext cx="2819520" cy="2057400"/>
          </a:xfrm>
          <a:prstGeom prst="rect">
            <a:avLst/>
          </a:prstGeom>
          <a:ln w="0">
            <a:noFill/>
          </a:ln>
        </p:spPr>
      </p:pic>
      <p:sp>
        <p:nvSpPr>
          <p:cNvPr id="696" name="Rectangle 8"/>
          <p:cNvSpPr/>
          <p:nvPr/>
        </p:nvSpPr>
        <p:spPr>
          <a:xfrm>
            <a:off x="0" y="373392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900000"/>
                </a:solidFill>
                <a:latin typeface="Times New Roman"/>
                <a:ea typeface="宋体"/>
              </a:rPr>
              <a:t>．胸段脊髓完全横断的病人，为什么会出现大小便失禁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9"/>
          <p:cNvSpPr/>
          <p:nvPr/>
        </p:nvSpPr>
        <p:spPr>
          <a:xfrm>
            <a:off x="457200" y="13716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9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900000"/>
                </a:solidFill>
                <a:latin typeface="Times New Roman"/>
                <a:ea typeface="宋体"/>
              </a:rPr>
              <a:t>．某人右侧躯体半身不遂，这是由于此人大脑的什么中枢受到损伤而引起的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900000"/>
                </a:solidFill>
                <a:latin typeface="Times New Roman"/>
                <a:ea typeface="宋体"/>
              </a:rPr>
              <a:t>．人喝酒喝醉了，走路摇晃，站立不稳，这是由于脑的哪一部分被酒精麻痹而引起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4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2"/>
          <p:cNvSpPr/>
          <p:nvPr/>
        </p:nvSpPr>
        <p:spPr>
          <a:xfrm>
            <a:off x="838080" y="198108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如果你是一名神经科医生，对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人们在日常生活中应该如何保护神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系统，你有什么建议？如果保护不当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会引起哪些神经系统疾病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3" descr="http://gxschool.beelink.com.cn/mid_edu/midschool/biology3/images/xyx3.gif"/>
          <p:cNvPicPr/>
          <p:nvPr/>
        </p:nvPicPr>
        <p:blipFill>
          <a:blip r:embed="rId2"/>
          <a:stretch/>
        </p:blipFill>
        <p:spPr>
          <a:xfrm>
            <a:off x="609480" y="0"/>
            <a:ext cx="2819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3"/>
          <p:cNvSpPr/>
          <p:nvPr/>
        </p:nvSpPr>
        <p:spPr>
          <a:xfrm>
            <a:off x="4625280" y="114444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在训练时，应做好充分的准备活动后再进行锻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3884040" y="17524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与同学玩闹时，不要拍打头部和脖子部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5"/>
          <p:cNvSpPr/>
          <p:nvPr/>
        </p:nvSpPr>
        <p:spPr>
          <a:xfrm>
            <a:off x="3580200" y="251604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多吃一些有益于神经系统健康的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6"/>
          <p:cNvSpPr/>
          <p:nvPr/>
        </p:nvSpPr>
        <p:spPr>
          <a:xfrm>
            <a:off x="3926880" y="320184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按时睡觉，让神经系统得到充分的休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7"/>
          <p:cNvSpPr/>
          <p:nvPr/>
        </p:nvSpPr>
        <p:spPr>
          <a:xfrm>
            <a:off x="838080" y="3886200"/>
            <a:ext cx="73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经常运动可使神经细胞的反应灵活，提高大脑皮层的兴奋性，保持神经系统的健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8"/>
          <p:cNvSpPr/>
          <p:nvPr/>
        </p:nvSpPr>
        <p:spPr>
          <a:xfrm>
            <a:off x="838080" y="5029200"/>
            <a:ext cx="74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与神经系统有关的疾病有神经衰弱、脑血栓、癫痫、神经性皮炎、脑瘫、神经性耳聋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2" descr="\\2\课件制作素材\图片\蝴蝶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3"/>
          <p:cNvSpPr/>
          <p:nvPr/>
        </p:nvSpPr>
        <p:spPr>
          <a:xfrm>
            <a:off x="1647720" y="23652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再见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3" descr="http://www.zaobao.com/games/olympics/sydney2000/images/soccer3009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1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3" descr="http://manutd.nease.net/20032004/ecl/2003-10-01_stuttgart/sturuu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3" descr="http://redsky.vip.sina.com/20012002/naruuda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7035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3" descr="http://www.zaobao.com/zaobao/games/foreign_match/images/david030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1027" descr="http://photo.yztoday.com/2004-01/16_04_6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3" descr="http://redsky.vip.sina.com/20012002/clsh_ruud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12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6"/>
          <p:cNvGrpSpPr/>
          <p:nvPr/>
        </p:nvGrpSpPr>
        <p:grpSpPr>
          <a:xfrm>
            <a:off x="3457440" y="-5989680"/>
            <a:ext cx="7497720" cy="360"/>
            <a:chOff x="3457440" y="-5989680"/>
            <a:chExt cx="7497720" cy="360"/>
          </a:xfrm>
        </p:grpSpPr>
        <p:sp>
          <p:nvSpPr>
            <p:cNvPr id="589" name="Rectangle 2"/>
            <p:cNvSpPr/>
            <p:nvPr/>
          </p:nvSpPr>
          <p:spPr>
            <a:xfrm>
              <a:off x="3457440" y="-5989680"/>
              <a:ext cx="7497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5"/>
            <p:cNvSpPr/>
            <p:nvPr/>
          </p:nvSpPr>
          <p:spPr>
            <a:xfrm>
              <a:off x="3457440" y="-5989680"/>
              <a:ext cx="7497720" cy="3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92" name="Object 7" descr=""/>
            <p:cNvPicPr/>
            <p:nvPr/>
          </p:nvPicPr>
          <p:blipFill>
            <a:blip r:embed="rId2"/>
            <a:stretch/>
          </p:blipFill>
          <p:spPr>
            <a:xfrm>
              <a:off x="3657600" y="76320"/>
              <a:ext cx="5486400" cy="678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4" descr="http://www.pep.com.cn/images/200306/pic_32036.jp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73392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07:41:58Z</dcterms:created>
  <dc:creator>uuu</dc:creator>
  <dc:description/>
  <dc:language>en-US</dc:language>
  <cp:lastModifiedBy>a</cp:lastModifiedBy>
  <dcterms:modified xsi:type="dcterms:W3CDTF">2015-03-17T05:46:38Z</dcterms:modified>
  <cp:revision>125</cp:revision>
  <dc:subject/>
  <dc:title>PowerPoint 演示文稿</dc:title>
</cp:coreProperties>
</file>