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600-C1D0-421A-A605-C9DFE952A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0E62-D2CC-42B9-BE16-1CDE7866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E2028-F197-4DA1-8878-2E4449FE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F9E6E-508F-49D2-8DDE-AAF20E82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AF6CE-9F14-47F8-B7CE-FBA2C1F97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91907-5A3C-42C0-9EA7-D8538E8A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51E30-888B-4F56-A94B-55DB68F8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892A92-0914-4E13-A813-789A33B0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2040D8-C514-4A51-B8D9-9C426A16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F64A5-AC26-4D44-BE18-01ACD301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8EDF5-D2DB-4C22-A726-E7EA6127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43C19-7093-4084-8766-A96C17A4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AA4-F992-42B0-AB86-09740AAA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FBFCA-EBA7-439F-8F26-FB13B90D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A9D98-B587-4FDB-BF6D-921DC3A0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711AD-BAC5-46B6-AD27-483D8021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2C599-E406-4F8E-92F4-93FCB300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D2D80-F76F-46F7-B6B5-40FBD56B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2074E-4A9A-42DC-8BDE-992800CC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44EE0-C1CA-48C3-98F1-9098909E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EF40E-FCEF-47E8-B90E-DF251EAF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18890-A40B-4402-8348-D7D6BD0E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0940E-C972-4C3B-AD67-2D4C5F2D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C8BB-EC40-4A8C-8C35-5EBE5730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1972C-555E-4C5F-9D1B-E4CB7B91A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3820CF-1771-4AE4-BA38-03612D41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FD43F-BD37-4A6F-BC97-98500577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AC93F6-A095-4795-A11A-25C655CE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558B8-61DE-43E1-8072-9360573F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2DEA0-62FE-465F-8543-62C32B06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4D908-5F13-4CDF-AC61-A51960E4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23DA7-79C5-4812-A9FF-B5B215EB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0DF01E-1809-4C42-A7BD-02639B81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59B80-6CC3-4BF8-9868-7750DC45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26B2-6C8F-440E-AD1A-2E498EDC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0ADD0-F4E6-4C5D-B5FB-2CE3654C7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CBFFF-7C5D-4B1D-9860-C30EA6D49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22E7F5-37FF-4073-BC16-84F8B227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84EB9-5A3E-41FD-BA21-EAF25201A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D4661-9DD5-4620-AA34-F4A0ACB5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543EC-9BC1-445B-9E96-CF4F4B99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CD6CD-4C1B-4EB0-BE31-5CE9D307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B3C3B3-DF35-4F27-A249-2539EBDE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91C67D-BAD3-467C-83EF-0AE8046F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085667-8B85-40C5-B603-5B3A8356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67DB-216A-42BE-8AFE-08F0875B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0D347-DB7B-4184-BBD7-C8479474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3C643E-8824-451E-9916-37F6EDFE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87F8C-537F-42E9-BDBC-CB192A31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EDBC2-C25D-479A-8701-7AA2DC58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1012B-2F4E-4D03-8D6A-EF5A31E2F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D95B9-B6A8-49F8-A745-84B14F2E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EB443-2C3A-488B-A08D-C1EB5DDF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29D74-170E-48BF-8751-946360A6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D8464-D604-45C6-850C-EC607AAC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AC096-53B4-4199-9341-CC956672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972C1-9CF6-4985-A2A8-3D0072AD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1952F-10D1-458D-AB84-0F45A1AF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50EE4-F417-4767-A9F4-F5FCC858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4FC866-B0D3-4278-AF59-A8BF5763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12CF5-7FA5-4C34-831A-DAEDA66C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311370-9F95-4C84-9260-0D20269A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D1B7B6-7FEE-42E6-8261-EF3A7B17B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9DED70-DF6B-4F9D-99CB-ECCC1A7F0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DC05-ED37-4000-89FA-03D54A26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BC2E9-4648-4F5B-B3E0-593E52F0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4C51-E165-4EBD-A716-A43D916D4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E129-36B0-45F0-A382-E2172FB4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7953-37EF-474C-98C9-5F402BC5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59BF-2C82-4E72-8E05-CC2C820E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2363-B273-40D9-B3CB-048D442E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F208-9EA8-49EB-989F-ECB18D29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7F84-87FE-47C2-9EDD-82829B2A6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D0EE-AFC9-4758-8478-FAD15BFC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016DC-3B73-4DB0-9352-1FAAC27F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A174A-7AF3-40FD-A7CB-0117F69B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90E90-BA63-4320-88F0-1E7BE297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0EC51-D709-4C70-A2E9-71E96634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C65ED-DC66-48B6-B9DA-87B1FD39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71E-A9E7-40C5-9D49-5D237B08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41FD5-B19A-4A9D-BD28-39FB9207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A5DB4-97BE-44EB-97B4-6093099E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505E3-82C7-4530-86FD-5D3B3B60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E0B1D-1DE7-4E39-BC9E-E8218C3D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768C-4057-425E-9AB4-C49345CC5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95343-9908-4ABB-A3C4-9C72CD3E5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B9E89-75FE-49FC-A91B-5A17C95D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DC000-7F93-4489-8617-0D6EB0AD6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73C03-EC37-4385-B668-3CD796A7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3B044-00C9-450D-870A-D6DFB8DA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AC9-C3D6-4B3D-8354-ED7610C5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D4DF6-A010-40BF-955C-4E6ACE8F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B5A20-0A04-4F0F-A720-4208887E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36E2D-830C-47BA-AE4F-1A0FD925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FA30E-4CD4-457F-9152-057420B2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23A1F-3AFF-4DA7-A04E-418E3097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7442B-00E0-4A49-B275-4498BFCAC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B4633-697B-42B7-8A2C-70B1876B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63648-3523-48BB-B984-CA6165EA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FD763-06F7-4392-8639-ACC07FF3C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0D82A-2E81-4EF1-9C19-A73EB5637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3E22-3E27-4C72-98AB-3004D50F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FB1EB-B801-4957-BC08-27FF08CD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51138-7C43-4701-9814-E361A684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0AFE5-97D7-445C-AB5E-2C9FEB5A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5EA7B-9417-4B44-8366-7D4111FC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83696-C8F5-40F6-93A0-363DC15B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B3172-1FF2-4C7C-93BA-2CECE143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B6683-D150-4705-A217-C1DB110C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12C1D-38CD-4D1C-950A-5B1FE7D5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754BB-7F5B-45BE-8E39-EC29D1DF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ADCCD-7B65-406E-AE92-D337A93C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762-61D1-4C3C-9804-36A32E19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22F3D-6659-4686-8BD1-A404B10AE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99ACB-D8BA-4BA1-AA67-D0D8434B4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9051A2-B669-4FA3-8FE3-F4A1145C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5E062-7D36-4788-A4FC-651759D55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D6CD7-08F7-4851-A355-FB8DA4FE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DC25A-3E60-4F52-B513-4856B892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039FB-565D-4F2C-8B5A-D9FBE283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6C295-7F77-460F-A535-E4760E848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1B277-9215-4A6E-8AA2-22F23ACD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05C6CF-A480-42F0-8B8B-F23FFA59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E7C8-4559-4687-BE1E-044E1F4D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0E6F4-D41D-4D9F-B655-5EC4CE6C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ADC49-9ACB-47AE-AD20-D0041FB33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72099-078D-42F5-B488-4822CD2DC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43262-406E-4019-909D-72263EFB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17FB0-02E6-4D91-B001-5F4FBDF8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4195C-0DCF-4642-981B-38519E92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244BB-56D2-4CAB-AFD7-54CE5AA5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D98EB-6C29-4417-9990-9A619AA0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F5413-CEDA-45C3-91FB-53DE6F3A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72E1F-89AC-4296-8FB9-CC013A4F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286-378C-4C80-B529-BA45F07F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E7704-C824-4023-A65F-FFD4239F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CBB66-3003-4B82-BC42-8F7B2E01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A2962-CF66-4C64-AB08-591AE118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BB2F9-4D5E-4F8B-A5C6-0655C6402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3BC65-BC2C-44D4-97E5-75508EE6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B93D8-ED89-478A-ABD5-09E1E116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FA8B6-E2E9-435E-AF01-713D69546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5AD1B-1CA1-41C8-B740-C4CCD93D9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E0845-72FF-4E0F-9E3E-CC296099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259761-FB58-4697-96E8-EC1B0BF7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2D2-61DD-4F84-9BDE-A3AAE450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ABC18-170F-42FC-8285-5605275E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AF90B-B7A9-489F-842E-527EF9EF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F6B4D-D5DE-4276-9D90-5630FDAC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5DFFE-5775-49E6-ABCB-A4A78F3B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DC17C-1410-4226-B71A-4DE6FC65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64DEDF-9911-448A-8834-FAF63906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A5DD2-BAE5-4DDF-AF0C-646CF6FD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C0C80-E1EC-4ECF-8436-795F83A6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139D73-1B61-4A5C-9BEA-8F9BCE24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F3006-AACF-4BCA-BA1B-BAD444EB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613A-5801-4935-A081-AF57213BA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F6D9-F4B7-4849-A838-C7F3385E403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6C6E-5E4A-41F4-A4DF-5CBDF1CA9D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6C28-0C47-44A3-A174-5BC6AE303EB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A57C-F327-4758-A4C4-78D3E2759B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F88D-B4B8-41B7-AF86-A3DBDAACA86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6CF2-9769-4B94-9B13-E304C42311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013D-64D3-4460-89C4-69780947DD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2F32-3144-4578-98CF-7FD3A028D2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26B87-D9B2-41A6-921F-074B11DC02F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7385-9168-451D-B68F-40F2A95AB5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E638-AE5B-466F-AE46-B68B8FEFF42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045D-5598-4BE2-9021-557A76A972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51D1-6CA5-410D-8F97-6F9F884024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5B26-A3AD-4C07-BB5C-55A3A6AD21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F315-ACDC-4ED5-BE8C-C263C4F79A2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2C306-0D37-403A-93BE-1FA7D9CFC2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33033-115E-4E9B-AB93-A4DE63EBF07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FDA0-7CAD-4F32-BA06-2D450EF924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4517-133C-46F8-BE0A-2FF22625A39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8BE2-CEF9-42A0-8A82-B837BF3528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AC9F-CB6D-466C-9E94-E8D1D3D6483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CE13-A624-41CD-A8BF-45156C04BC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7423-E56D-4BA8-AFE2-CF3E331B034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D56D-AD2B-4F47-B377-280B2F0E66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8" descr="225334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WordArt 6"/>
          <p:cNvSpPr txBox="1"/>
          <p:nvPr/>
        </p:nvSpPr>
        <p:spPr>
          <a:xfrm>
            <a:off x="3708360" y="1076400"/>
            <a:ext cx="4572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少年闰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8" descr="p-karar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3" name="WordArt 5" descr=""/>
          <p:cNvPicPr/>
          <p:nvPr/>
        </p:nvPicPr>
        <p:blipFill>
          <a:blip r:embed="rId2"/>
          <a:stretch/>
        </p:blipFill>
        <p:spPr>
          <a:xfrm>
            <a:off x="523800" y="523800"/>
            <a:ext cx="2755800" cy="73188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6"/>
          <p:cNvSpPr/>
          <p:nvPr/>
        </p:nvSpPr>
        <p:spPr>
          <a:xfrm>
            <a:off x="755640" y="177336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我与闰土见面后却发现：我们之间已经隔了一层厚厚的、可悲的、无法逾越的屏障，让我对故乡，对故乡的一切不再感到留恋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我只觉得我四面有着看不见的高墙，将我隔成孤身，使我非常气闷；而那西瓜地上带银项圈的少年，却在我心中忽地变得模糊起来，使我感到了一种来自于内心深处的悲凉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方正姚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shenmihuayuan纸船和风筝.mp3" descr=""/>
          <p:cNvPicPr/>
          <p:nvPr/>
        </p:nvPicPr>
        <p:blipFill>
          <a:blip r:embed="rId3"/>
          <a:stretch/>
        </p:blipFill>
        <p:spPr>
          <a:xfrm>
            <a:off x="759636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97005" fill="hold"/>
                                        <p:tgtEl>
                                          <p:spTgt spid="5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Picture 3" descr="20060625095249809_S"/>
          <p:cNvPicPr/>
          <p:nvPr/>
        </p:nvPicPr>
        <p:blipFill>
          <a:blip r:embed="rId1"/>
          <a:stretch/>
        </p:blipFill>
        <p:spPr>
          <a:xfrm>
            <a:off x="250920" y="3860640"/>
            <a:ext cx="3200400" cy="2667240"/>
          </a:xfrm>
          <a:prstGeom prst="rect">
            <a:avLst/>
          </a:prstGeom>
          <a:ln w="0">
            <a:noFill/>
          </a:ln>
        </p:spPr>
      </p:pic>
      <p:sp>
        <p:nvSpPr>
          <p:cNvPr id="567" name="WordArt 4"/>
          <p:cNvSpPr txBox="1"/>
          <p:nvPr/>
        </p:nvSpPr>
        <p:spPr>
          <a:xfrm>
            <a:off x="609480" y="762120"/>
            <a:ext cx="3962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阅读推荐：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      </a:t>
            </a:r>
            <a:endParaRPr b="0" lang="en-US" sz="3200" spc="1" strike="noStrike">
              <a:ln w="1908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68" name="WordArt 6" descr=""/>
          <p:cNvPicPr/>
          <p:nvPr/>
        </p:nvPicPr>
        <p:blipFill>
          <a:blip r:embed="rId2"/>
          <a:stretch/>
        </p:blipFill>
        <p:spPr>
          <a:xfrm>
            <a:off x="4413240" y="2766960"/>
            <a:ext cx="3724200" cy="1354320"/>
          </a:xfrm>
          <a:prstGeom prst="rect">
            <a:avLst/>
          </a:prstGeom>
          <a:ln w="0">
            <a:noFill/>
          </a:ln>
        </p:spPr>
      </p:pic>
      <p:sp>
        <p:nvSpPr>
          <p:cNvPr id="569" name="Line 8"/>
          <p:cNvSpPr/>
          <p:nvPr/>
        </p:nvSpPr>
        <p:spPr>
          <a:xfrm>
            <a:off x="3581280" y="5229360"/>
            <a:ext cx="5562720" cy="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7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2" descr="未命名"/>
          <p:cNvPicPr/>
          <p:nvPr/>
        </p:nvPicPr>
        <p:blipFill>
          <a:blip r:embed="rId14"/>
          <a:stretch/>
        </p:blipFill>
        <p:spPr>
          <a:xfrm>
            <a:off x="395280" y="692280"/>
            <a:ext cx="5689440" cy="5638680"/>
          </a:xfrm>
          <a:prstGeom prst="rect">
            <a:avLst/>
          </a:prstGeom>
          <a:ln w="0">
            <a:noFill/>
          </a:ln>
        </p:spPr>
      </p:pic>
      <p:sp>
        <p:nvSpPr>
          <p:cNvPr id="537" name="Rectangle 6"/>
          <p:cNvSpPr/>
          <p:nvPr/>
        </p:nvSpPr>
        <p:spPr>
          <a:xfrm>
            <a:off x="4067280" y="765000"/>
            <a:ext cx="4643280" cy="2043720"/>
          </a:xfrm>
          <a:prstGeom prst="rect">
            <a:avLst/>
          </a:pr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阅读提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快速默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课文，做到入眼看得快，入脑想得快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边读边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闰土给我讲了哪些事？把自己印象最深、最感兴趣的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画一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品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物的语言、动作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体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人物的性格特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7956720" y="623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月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685800" y="1600200"/>
            <a:ext cx="7848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沙地上，下了雪，我扫出一块空地来，用短棒支起一个大竹匾，撒下秕谷，看鸟雀来吃时，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远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地将缚在棒上的绳子一拉，那鸟雀就罩在竹匾下面了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什么都有：稻鸡，角鸡，鹁鸪，蓝背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6300720" y="162864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3924360" y="2133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6"/>
          <p:cNvSpPr/>
          <p:nvPr/>
        </p:nvSpPr>
        <p:spPr>
          <a:xfrm>
            <a:off x="7596360" y="2133720"/>
            <a:ext cx="5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7"/>
          <p:cNvSpPr/>
          <p:nvPr/>
        </p:nvSpPr>
        <p:spPr>
          <a:xfrm>
            <a:off x="4356000" y="3284640"/>
            <a:ext cx="5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3"/>
          <p:cNvSpPr/>
          <p:nvPr/>
        </p:nvSpPr>
        <p:spPr>
          <a:xfrm>
            <a:off x="838080" y="3124080"/>
            <a:ext cx="754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深蓝的天空中挂着一轮金黄的圆月，下面是海边的沙地，都种着一望无际的碧绿的西瓜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其间有一个十一二岁的少年，项带银圈，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一柄钢叉，向一匹猹尽力地刺去。那猹却将身一扭，反从他的胯下逃走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5" descr="少年闰土0001"/>
          <p:cNvPicPr/>
          <p:nvPr/>
        </p:nvPicPr>
        <p:blipFill>
          <a:blip r:embed="rId1"/>
          <a:stretch/>
        </p:blipFill>
        <p:spPr>
          <a:xfrm>
            <a:off x="2771640" y="189000"/>
            <a:ext cx="36007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4" descr="200662916315485498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2"/>
          <p:cNvSpPr/>
          <p:nvPr/>
        </p:nvSpPr>
        <p:spPr>
          <a:xfrm>
            <a:off x="1187280" y="1125360"/>
            <a:ext cx="33134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深蓝的天空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挂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一轮金黄的圆月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下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是海边的沙地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都种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一望无际的碧绿的西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4788000" y="189000"/>
            <a:ext cx="350496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其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有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十一二岁的少年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项带银圈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手捏一柄钢叉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向一匹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尽力地刺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那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却将身一扭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反从他的胯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方正姚体"/>
              </a:rPr>
              <a:t>逃走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3" descr="pic_270744b"/>
          <p:cNvPicPr/>
          <p:nvPr/>
        </p:nvPicPr>
        <p:blipFill>
          <a:blip r:embed="rId1"/>
          <a:stretch/>
        </p:blipFill>
        <p:spPr>
          <a:xfrm>
            <a:off x="468360" y="1143000"/>
            <a:ext cx="3657600" cy="571500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4"/>
          <p:cNvSpPr/>
          <p:nvPr/>
        </p:nvSpPr>
        <p:spPr>
          <a:xfrm>
            <a:off x="5219640" y="1125360"/>
            <a:ext cx="3505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深蓝的天空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挂着一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面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都种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间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带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手捏一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向一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猹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3" descr="p-kara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2" name="Text Box 4"/>
          <p:cNvSpPr/>
          <p:nvPr/>
        </p:nvSpPr>
        <p:spPr>
          <a:xfrm>
            <a:off x="971640" y="2349360"/>
            <a:ext cx="756108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方正姚体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啊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闰土的心里有无穷无尽的希奇的事，都是我往常的朋友所不知道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>
            <a:off x="990720" y="34290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4"/>
          <p:cNvSpPr/>
          <p:nvPr/>
        </p:nvSpPr>
        <p:spPr>
          <a:xfrm>
            <a:off x="1403280" y="3573360"/>
            <a:ext cx="53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5"/>
          <p:cNvSpPr/>
          <p:nvPr/>
        </p:nvSpPr>
        <p:spPr>
          <a:xfrm>
            <a:off x="971640" y="3573360"/>
            <a:ext cx="734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们不知道一些事，闰土在海边时，他们都和我一样只看见院子里高墙上的四角的天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shenmihuayuan纸船和风筝.mp3" descr=""/>
          <p:cNvPicPr/>
          <p:nvPr/>
        </p:nvPicPr>
        <p:blipFill>
          <a:blip r:embed="rId1"/>
          <a:stretch/>
        </p:blipFill>
        <p:spPr>
          <a:xfrm>
            <a:off x="845820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7" name="Rectangle 10"/>
          <p:cNvSpPr/>
          <p:nvPr/>
        </p:nvSpPr>
        <p:spPr>
          <a:xfrm>
            <a:off x="971640" y="249228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急得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大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他也躲到厨房里，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哭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肯出门，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终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被他父亲带走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2"/>
          <p:cNvSpPr/>
          <p:nvPr/>
        </p:nvSpPr>
        <p:spPr>
          <a:xfrm>
            <a:off x="4643280" y="306864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终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5" descr="0Vol_060_CL087以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23493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4"/>
          <p:cNvSpPr/>
          <p:nvPr/>
        </p:nvSpPr>
        <p:spPr>
          <a:xfrm>
            <a:off x="971640" y="0"/>
            <a:ext cx="7777080" cy="39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我离开故乡的这么多年，只要一想到闰土，我的脑海中就会忽地闪出一幅神异的画面来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 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深蓝的天空中挂着一轮金黄的圆月，下面是海边的沙地，都种着一望无际的碧绿的西瓜。其间有一个十一二岁的少年，项带银圈，手捏一柄钢叉，向一匹猹尽力地刺去。那猹却将身一扭，反从他的胯下逃走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当我回到故乡的那一刹那，母亲对我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：“闰土他每次到我们家来的时候，总是问起你，说很想见你一面。”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好听的歌曲给一种想象的天空.wma" descr=""/>
          <p:cNvPicPr/>
          <p:nvPr/>
        </p:nvPicPr>
        <p:blipFill>
          <a:blip r:embed="rId2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0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" dur="322597" fill="hold"/>
                                        <p:tgtEl>
                                          <p:spTgt spid="5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07:07:00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2-10T03:05:45Z</dcterms:modified>
  <cp:revision>154</cp:revision>
  <dc:subject>第一PPT模板网-WWW.1PPT.COM</dc:subject>
  <dc:title>第一PPT模板网-WWW.1PPT.COM</dc:title>
</cp:coreProperties>
</file>