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chimes.wav" ContentType="audio/x-wav"/>
  <Override PartName="/ppt/media/laser.wav" ContentType="audio/x-wav"/>
  <Override PartName="/ppt/media/image4.jpeg" ContentType="image/jpeg"/>
  <Override PartName="/ppt/media/image2.jpeg" ContentType="image/jpeg"/>
  <Override PartName="/ppt/media/applause.wav" ContentType="audio/x-wav"/>
  <Override PartName="/ppt/media/image3.jpeg" ContentType="image/jpeg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36F-B101-4FC0-A1EA-FBB31370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549-3265-4B38-ADD5-55583F33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C12AA-975C-44B0-832D-53777C6C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D7833-649B-4B64-AE9B-0FE6E3B0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F57E5-8C58-4812-8ACB-F98A86D3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7C743-7801-41FA-9ED8-97AC4C9B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BAE28-4AFA-4597-A1DD-EC4DDCAE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AE0EA-DC26-49C7-A151-3F55FA90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57107-3838-4835-88CB-4FEF6EFF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5A622-A1DE-46C5-BD81-14A2F8AF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255D1-22DC-4909-84F7-FC31557B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77D7B-85F2-4407-BB7D-F9145E17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FDB-E77E-4E43-9701-98FD97A7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D4002-5338-4EFB-ABA8-F96AEE00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08957-91EF-4FDD-AAAB-D12A2F54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7DD95-9D42-4D9B-A320-F4BF67AB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6B404-4613-4F6C-9414-7786A5EF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6743C-0AB6-42A6-AA24-B3DE9379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54CBE-EB89-4D3D-9881-F23FB1C7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443EE-C088-4981-B677-439DBFD5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FA36B-BAD9-4AB6-A4F9-E0291AB1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95188-C9A2-4D7A-A230-40D6AAF7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ABD7B-F0E2-4094-A35F-0DB42515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2CDF-A375-4781-9026-6496108A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0C19F-E2D9-422D-8511-05782BBF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149D7-8BE2-437F-8E25-D8050F35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64C52-D1B5-4C58-9445-0AE0A1D6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A37C8-CBF5-400E-864F-73DDD6B9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77349-19F2-41C9-8FB9-E9CE88A5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001F2-7D55-428D-B3D4-E375791B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709E7-3E5F-4E6F-8AE9-22E2B380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352E3-9949-49AF-B65C-C3D69ADE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43C58-DB98-4B13-93A1-EB7197D1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8E1CD-CF7D-41B3-BAA0-36CC5FE6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8943-70D8-4E5C-8B45-3E00EF0F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CBB53-7D07-43AA-AF94-36DB61CA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E392B-4383-4138-847D-AC691B82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D588E-C34C-47B3-94C9-8F0576E2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EA254-19DF-43C4-8D6D-B29253E0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4E77E-1BB7-4D6C-9E69-44D28B4C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4FA87-B129-409A-B0EA-7CF96EF0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AD12E-F78F-4DA3-A941-DBD8CA90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77B74-42F2-4B09-9076-C2973C4A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0C70A-46F0-406F-B958-6DDC9DF2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6FB37-953B-4F5A-9F9E-74F0319F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45F2-063F-4657-93B2-6BD6309F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74C16-9FD3-4FED-9939-D0D0D6C1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25AAE-C9E6-4371-A29E-594FEF7B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3F25B-A40A-4599-85CB-A23AA0D1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07ADF-0936-41B5-BEB5-6EDD6888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20C82-C481-4EF4-A778-4B494F79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8842C-7816-4469-99F9-9C4EFA19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AD326-2F0F-4285-9672-A5726782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74FC4-FEC6-4CED-BDA8-D73267A1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538C2-6FB1-4FB2-B438-C42CF2EC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D21D8-412C-4DF1-B656-50F51C2E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2322-FAE1-475B-AA66-911CCF08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B4FDC-FA84-4C6E-A3B1-8FF517CB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7DF35-9A3C-47F3-8488-6A71571D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98CA6-67DE-49B3-A533-E560C45C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513F1-AA03-4635-9C07-FFC6A8F9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846B7-C1C6-46E3-A95E-E52051FD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0143A-8CF7-45A9-A2B5-1F497B14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845D7-B980-4C17-9FF8-3DB56875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B5727-EF85-4093-B73D-CDC770DE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0775C-CACA-48B9-8F7C-CCC754C7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F525CE-7FEE-46DE-B1DE-339B754A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E1BB-AE67-4676-A7E3-9D48D154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876C9-02B9-4606-ADE7-F869C718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0E025-796D-4F44-9C81-CDB2AAB8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09FA9-1DE3-48A9-BEC2-AA30CA02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4B405B-5739-44E4-BDBF-97DE1B6C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61B37-A317-4D5B-A7DC-0B7E8E6B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94D106-E41F-4876-9B88-D5EBAF20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7CEE2-7A77-490C-9F1B-4B619411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3B80C1-E777-4160-A136-6994D012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2F85F-799A-4597-AF13-7BE59A93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1DBA-AFA9-4D6F-BB3F-FB30F6FE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1820-69FB-4EBB-B9E0-43CAE8D5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6086-F1A6-4A84-B1BC-422872D3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CBE-0D9C-4405-8ACA-F239BBF3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211C-E051-452F-ABA8-0F127C1B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CA67-B9ED-496E-A0F5-3AA108FA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414E-3C1D-464B-AE06-7CAFFD6C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9DCD-B122-4890-8448-047F1D99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556C-1D8F-4DD2-8962-01C84792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05C75-E48E-4BBA-AEF1-F90A1FDA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16E3A-CF43-4C90-8BE1-C61006CA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C3605-0972-4013-8861-A3C406E6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6EAF8-3B29-410D-B44E-1D62B473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0BA4E-A74D-4CDD-BD90-018DD203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96F-4E04-4FD5-9F23-392A3DC8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E056C-C4FC-4418-8A1E-0BEDB396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968FE-B9C7-400A-B632-C759ECC5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FA562-0AB8-4E33-A6F2-82DC3A3D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01738-8D7B-4CB4-98C7-B2F292AD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ABD5B-082C-4ED3-B393-DBC4A10F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80518-8FA1-434D-926D-A23E2284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6F9E2-F2F7-423A-A515-D8B1E5A2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673AE-750F-478E-9110-53BE59F3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F0B82-32C9-40A6-8DD8-70334246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5AB22-A1E1-460C-9C18-CE7D6455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921-3C48-435F-8DEA-E2DA4A4A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A53CC-CF5E-459B-9C6B-B9D3FD3A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E81ED-4940-4618-A815-3805F6A3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0514F-8D6E-4241-9843-2B5A18CD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02C74-D92A-464F-A17B-8D38CBA3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91E9B-4E10-432F-AEEF-AEC8B3F6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87A03-4478-4D76-99AE-02F9F5C7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53EF6-E0BF-45EF-A3EC-3EA9F6BD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62F8D-0C72-496B-8CD2-F3BA398D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3C2AC-F13B-47CE-8451-842FC0F0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53193-0FB0-437A-8185-19ACD8D4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545-14EA-4469-B498-6D4FD32F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DA8CD-F18D-473D-BB02-4EFF8566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EED37-4A53-4451-ADD0-0BF4E892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27EBC-64B6-45A0-83AE-E49F2790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DB058-2B48-4736-9BF2-ED047F7A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55F70-7A82-41C2-BCEB-E9F1DFF6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6466C-A9E7-45A5-85B4-1505B061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8FDCB-48F2-4548-825C-8CC8981B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4B4D1-D87C-401A-9FE8-2EAC74A3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F848A-9886-46AD-A33B-920A2D6A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DDEC0-3EE4-47D0-830F-1F1228D6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78E-7A84-4EF7-ACD7-F48E31EB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E3060-C69D-415E-B720-7B1C7B54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0EAFF-0AE6-4AEF-9786-F7D21487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D04A2-C0A1-4ADF-94B8-CE003DCC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50C63-53CC-4EDF-80C4-A84B2D84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6A3D0-1A42-43C6-B1C0-389FBE21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05B19-451F-482B-B240-9E23E419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7180F-D0EA-4C16-8D36-C9EDC588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9195C-2BA2-4346-BCC9-D830FCDD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12B9E-3ADA-4206-B128-BF8C7F6C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F4406-4C0A-45DF-A844-7C56C557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02F-A243-4284-BBB5-3B8B1EC3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512B4-7053-4B34-8753-28E19864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DDF0D-AB95-4AE7-AC8D-88E84EAC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4CC37-77B0-4B02-A5A3-CBEA3A68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A6A3E-7598-46F1-B9A9-2AB425A5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9E77C-B550-457D-9F27-7EFCD28B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8950C-79DD-429D-BCBB-9E61BE55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49E0E-D630-4873-92B5-1BB79B0A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7CAEA-73B3-4C1D-A870-53C90CF8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62686-66FD-4EF1-B44C-3962EC46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13196-AA80-429A-9FE9-42D63D56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DD5-FA5D-4B9D-900A-2161219F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F293B-540B-45ED-8E8A-64CA0CF2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4C82D-92D8-44FB-8F67-D7567F05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BB1F8-57E8-46B0-9AC3-A748E421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7596E-379E-4C0F-A2F5-E6AFE1E0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E6B3D-06CD-47C8-A281-91691068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A4A7B-DF01-4151-A1BC-BE248AED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B8047-C63F-4702-998F-F66556C6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B08F4-D23A-483F-9F37-3415F850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933A6-2265-4DE1-BE46-60AC92A4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C313D-C9DC-4858-A813-E736A713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C9D-518F-41BA-994D-482775DA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3F444-E2D8-432A-B44B-A9384442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08571-C27E-4112-9DD5-8A9CF829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C2D82-92DC-454D-AED2-A237A3A3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733BB-EDA3-4DCC-8DBD-5646F7DF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C7D09-5A4B-4B36-A909-B9DE3DB3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022C3-F3F4-41BD-9E53-698F45B9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9C675-10F6-43FD-BF19-37426DA9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B8DB7-8F24-403A-8997-9534E164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726B0-20F4-47AB-9B4D-34A95EFB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08B9F-4E94-4872-A839-FEF262B1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4274-06AF-4228-80D2-470314CEA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3FDA-A44C-4A24-BE00-764B1784CD7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AC60-0388-43A4-953F-D34D9E49B5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F93C-1092-4BF3-8BD4-55ABDE3695C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4892-CDBE-4545-B362-1E69AE7055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675B-98E7-4CD6-B8F1-940EBCBF3DA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7C1A-0989-48AF-8412-F22B138B3A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C6F2-866A-4E69-9A25-0CEF90996CF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CED4-F060-41DA-AE93-538E8DF3F6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541A-5174-46EB-AD4A-0D676D1CF7A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20A1-891F-4290-8F74-2A85C3E25B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1BD7-A4F9-4756-BB03-AC4BA8CF13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1AEE-9BBD-40DE-AE36-82BAC2FD61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111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6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117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E248-37CB-41C8-9959-7310D9D3D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1B3A-84A8-4AA0-B4ED-DDA216D4BE9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7447-50BA-47F6-86FE-EDD806D52C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7E86-2415-4AA9-99F5-BE76EAE9C88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1213-A47E-46A6-8B61-F7D7C92961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2BE9-738B-4435-BA18-FA13545D595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9A4B-7701-4BE1-B375-F0C1F08A39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9EB6-2B68-405A-88E4-6FC5D739266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8683-D214-47BE-9A3B-E03FAF065D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4F06-7BBC-400C-A9B2-C9DD2E039BE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4127-28A5-47A6-BC89-AA47E11974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3073-139A-43E7-8EEE-0A6D813A339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B4A5-45A0-49CC-8159-FC33C4E4C5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WordArt 4"/>
          <p:cNvSpPr txBox="1"/>
          <p:nvPr/>
        </p:nvSpPr>
        <p:spPr>
          <a:xfrm>
            <a:off x="457200" y="1752480"/>
            <a:ext cx="822960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5044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57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手捧空花盆的孩子</a:t>
            </a:r>
            <a:endParaRPr b="1" lang="en-US" sz="8000" spc="1" strike="noStrike">
              <a:ln w="5724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4952880" y="50292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3657600" y="4191120"/>
            <a:ext cx="518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执教人：  叶   静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学   校： 龙湖 二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WordArt 2"/>
          <p:cNvSpPr txBox="1"/>
          <p:nvPr/>
        </p:nvSpPr>
        <p:spPr>
          <a:xfrm>
            <a:off x="228600" y="533520"/>
            <a:ext cx="480060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2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华文新魏"/>
              </a:rPr>
              <a:t>生字词大闯关！</a:t>
            </a:r>
            <a:endParaRPr b="1" lang="en-US" sz="72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华文新魏"/>
              <a:ea typeface="华文新魏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762120" y="2743200"/>
            <a:ext cx="754380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 baseline="11000">
                <a:solidFill>
                  <a:srgbClr val="ffff00"/>
                </a:solidFill>
                <a:latin typeface="Times New Roman"/>
              </a:rPr>
              <a:t>第一关：小小发现家。</a:t>
            </a: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籽     据    诚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533520" y="1219320"/>
            <a:ext cx="8610480" cy="51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第二关：读词小能手。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</a:t>
            </a:r>
            <a:r>
              <a:rPr b="1" lang="zh-CN" sz="8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将军、成绩、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</a:t>
            </a:r>
            <a:r>
              <a:rPr b="1" lang="zh-CN" sz="8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煮饭、诚实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himes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457200" y="1066680"/>
            <a:ext cx="784872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 baseline="11000">
                <a:solidFill>
                  <a:srgbClr val="ffff00"/>
                </a:solidFill>
                <a:latin typeface="Times New Roman"/>
                <a:ea typeface="楷体_GB2312"/>
              </a:rPr>
              <a:t>第三关：小小表演家。</a:t>
            </a:r>
            <a:r>
              <a:rPr b="1" i="1" lang="zh-CN" sz="6600" spc="-1" strike="noStrike" baseline="11000">
                <a:solidFill>
                  <a:srgbClr val="ffffcc"/>
                </a:solidFill>
                <a:latin typeface="Times New Roman"/>
                <a:ea typeface="楷体_GB2312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</a:t>
            </a:r>
            <a:r>
              <a:rPr b="1" lang="zh-CN" sz="8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皱眉、浇水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</a:t>
            </a:r>
            <a:r>
              <a:rPr b="1" lang="zh-CN" sz="8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显得伤心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" y="2209680"/>
            <a:ext cx="9344160" cy="83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009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cap="sq" w="4752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恭喜你们闯关成功！</a:t>
            </a:r>
            <a:endParaRPr b="1" lang="en-US" sz="8000" spc="1" strike="noStrike">
              <a:ln cap="sq" w="4752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1676520" y="1828800"/>
            <a:ext cx="6705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踢球时，我打碎了邻居家的玻璃，没人看到，我（            ）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道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难题我不会做，小刚让我抄他的，我（                    ）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字词听写我得了“优”，自己发现里面有错字，我（            ）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WordArt 3"/>
          <p:cNvSpPr txBox="1"/>
          <p:nvPr/>
        </p:nvSpPr>
        <p:spPr>
          <a:xfrm>
            <a:off x="1523880" y="533520"/>
            <a:ext cx="73915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当你遇到这样的情景你会怎么做呢？</a:t>
            </a:r>
            <a:endParaRPr b="1" lang="en-US" sz="2400" spc="1" strike="noStrike">
              <a:ln w="1908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checker dir="vert"/>
    <p:sndAc>
      <p:stSnd>
        <p:snd r:embed="rId2" name="chimes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2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2:34:58Z</dcterms:created>
  <dc:creator>史努比</dc:creator>
  <dc:description/>
  <dc:language>en-US</dc:language>
  <cp:lastModifiedBy>a</cp:lastModifiedBy>
  <dcterms:modified xsi:type="dcterms:W3CDTF">2015-03-18T05:44:11Z</dcterms:modified>
  <cp:revision>11</cp:revision>
  <dc:subject/>
  <dc:title>PowerPoint 演示文稿</dc:title>
</cp:coreProperties>
</file>