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0EE-42CB-4BB8-A947-948FF3F2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90F-FD99-4DA1-A3D7-17529D20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FD13D-6554-4F48-8C17-677D0057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6C55C-8D46-4C99-B08D-3D8F55A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58511-2795-430E-979D-7DA311F0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EC634-EF4B-44E1-8C32-00A88D5A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F56F4-A710-4C05-BF54-6D7CE549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5E19D-1693-4CDE-A67D-08029FD3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DF71B-02E8-4981-8E33-8833CB65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9BDA1-4E9F-4183-BE1E-A03F91E4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37FD9-43BC-4C92-8FF9-272E0C35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D9E15-FD4B-46FA-823E-1185D91B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5E8-1DB5-4069-8E97-9D4CE687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BD1A8-9A8B-4F20-B1FD-B669A19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01006-3D38-4D13-B06C-01DFB47E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C193C-D3F6-41B4-B381-C138E979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6640F-3525-44B0-9D60-89D4802C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024EF-F996-4760-B268-10D28923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65A0B-C262-4BF1-94D0-9FCD59E6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C8A47-9548-493A-B67E-8ADB9DD8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1D37A-770F-463E-9D19-4D900CAF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19C82-0C97-464B-B417-FE7FC542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BD67A-49D6-4D46-B416-FB7D4487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DD6-DB1A-420A-9EFC-370DF1FB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CAAE4-8535-4973-9D70-09150BFE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B99EC-F94C-4BD4-B801-A92F306F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4247B-31FA-4D2E-800E-B36BFA92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E5628-F4B6-4377-B025-69E515A4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D81BD-6992-4B7C-B658-955974E1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69916-6BCE-4EB4-9504-2D6BC569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BFE92-7324-4027-86F9-DCCDAB5A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F8FB4-A682-4EFE-B35D-E47A438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49F5B-1181-41DF-94B2-C4B20C4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498FE-21A6-4D63-B453-21C7317C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F174-6366-4227-83E1-96FEF46D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2587E-4475-4039-ADDE-527030B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888D1-1754-47FB-B615-3EE2E881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18B8D-BD09-438F-83E8-E919ECDDE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2A3FA-4F22-4497-BA5E-596B73BC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3D5FFF-56EE-4FF0-8603-C460EEF2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4CCC0-35A3-462A-B483-36023541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D235A-B09E-4C58-9C1D-67550BA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E5741-F004-4DE5-80A6-4523724F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DBDA1D-0A3D-43D7-984D-41BD3C88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09BE1-8CA3-4060-B230-0DA7502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86CA-2950-4F58-BC1A-38595E31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C386C-2634-41E1-98DD-5341555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8DB08-C1E6-4EFD-8018-06470148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94FEA-EE1A-4D6B-AD7B-5769F917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CB53E-318C-4021-BD50-691365AB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3B8B1D-5E2C-49D8-9F68-8C54FC1B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CFE7E-DEB2-44C9-80C5-EAA3F3A5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2C95F-DF20-4B2B-8FCC-584D8401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8DF99-E8D2-4CE6-B155-428E3B17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E0223-33A1-4F33-AF5A-E2CB0AB8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36833-4064-408B-95EA-7C7C385B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43E5-623A-4176-ABEE-107CF99F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62465-1226-47C6-AA37-0134FBF8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62A01-523C-4D07-B6B1-8128EF29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EC3189-C98A-42CC-A77D-37105B2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1A0A04-4CC6-46C7-8F15-2D49F44B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858CA5-6AC9-428C-9101-60FA1D2C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E3DA6-DDED-4896-A193-D8F7AFDA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89C74-AB2A-4D1E-807A-ECF8DA56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0080-C539-45A1-A0CE-7396E9A6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20BF-D55A-438D-89BE-A48E4FB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D370-08F8-49DC-9D75-8A404D2D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B078-407C-4AF7-8BC7-C1C325EE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3B7-407C-498E-82A3-E4C503CF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108B-0ABA-4AA9-9676-4FD9B836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E258-FFDE-4AAD-817A-5B6BB62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69B-C6A1-49C3-840B-F751F4DF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84C4-AAA9-470C-B08D-247AC956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85BE-FD2C-4854-B6E5-0273F7A2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51EA-713A-4410-9F87-07E0C398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5FBA-3EFE-4A58-8F47-5FE5AC18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91220-C13D-4FC8-9906-89760F32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BEFB1-5B31-4A6D-A55C-AF1ED852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B5B15-6147-4A2D-8C29-33AAAD38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B62-BF4B-4A3A-BA48-C5B090DC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13BD9-9048-4FE2-A7AD-49BFBD6E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65AD7-1274-4E54-9FFA-65BFB06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37884-BD76-4817-9215-C3E4C616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FA99-52EF-4A61-9255-B180D83C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4B7B2-5ED5-4519-AD2B-E28C0380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F06ED-C4FE-4219-90E1-4365B099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09BA-92AF-4B11-9461-A3F86E70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51B82-75D2-40E1-B76F-9F837047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9005-3D8A-4340-818B-C28BC307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9C6AA-90D5-4481-B530-55C6F4B5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4004-A4F5-470C-870F-6D399C13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04BC-BD6A-44FA-AE07-A119BF1E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E648-9750-410B-893D-5E9B0FFD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172A-BD9A-4308-AA21-985E2D22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AAC9-8E64-4C61-84C0-C779D91D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734B-5729-4410-B718-5EBA4187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490B2-F62D-4E44-BA9D-7162C77B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F738-4115-48CC-BB8D-8266509E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072F3-8489-4783-BF63-B8500461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5F378-DE6A-4D90-B7DD-0F1E2CA7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4316-EA58-429D-A025-B8080C08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4E1-7412-4580-8102-128AC4A6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09762-C9AF-4F8F-84E7-9AB0BF35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D36E6-CD62-4ECF-BAF9-CCA08A41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306E-A725-46BA-8F39-5A6ADC95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91A9A-985D-4FB3-93A0-E2B48FF4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D3BE8-CF20-4226-B360-FA102CC3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AA6C-27A8-4B33-9F94-9632F50E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3181-F482-4199-9D2C-2E94FA10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339C5-DD02-4668-8597-6E43F430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30D2-A6AF-455B-99AF-0B0D21D7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37422-C11C-4C3B-9CFD-F6B7A30C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6A5-8BC8-4423-8CC7-C6DBB353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8EB3C-E3F3-42AB-AC8D-33EF53CA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2853A-7B41-4C53-98F9-33FB1688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13D25-8528-46A3-B6EE-542C86D6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C459D-2BDF-483B-9A48-F4B556C7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5F117-8A0D-4C17-83DF-0BCE0FF5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A560-8F64-455E-98D3-45A94826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712B9-CBC2-42C1-838A-6C154810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E3AA7-15A8-4432-9621-FF40CA9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A9797-0C50-41A9-AC0E-283B6350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6874B-F31E-45F4-9E53-F31BD2C9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96B-181E-4734-A7A9-2848B26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EC6F6-C449-4EF3-BACD-F1A52B4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B04BB-4A04-42EA-8AB5-649BE4E2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85FA-4B1E-4D55-9903-E7EC93FB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183F6-8535-4FBF-9F5F-F10C38D6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9C7C3-E923-496A-99F1-9088AB5B3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17A98-B6B6-475D-A73B-76B58C32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3000C-C584-42D2-83FC-754DF676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28E2-6D14-492E-875A-2EC6A18D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7102E-0F31-4C48-B83B-B8387F6A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71ABE-3A91-48C7-9554-CB89BF7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223-DE9B-4771-866F-A80FCBE8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6D5A4-3677-4502-B4A6-B0ACE3A1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DB9C0-2528-4AA9-9601-FD728E6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6BD29-595E-4013-B3D7-0E063C32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02CE4-B781-4665-90D9-6B78F581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99B9-38E2-420C-BC4A-7E6FFA3E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57737-21F1-4AA1-B26E-3F0FD52B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07764-8D0F-4568-9AC8-30C59BD3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FA004-4017-4298-87F4-63B6F046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94465-66FB-411F-BC5A-0C645EB8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CB1B2-4628-4020-A37E-B1886787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8F97-2AC9-4B45-95E4-6E7ECD2D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1AB58-622D-48EC-977D-6368AAE7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E3FE2-25CE-481E-BBA8-EA85C724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81D33-3CFF-4FF9-A727-C517D8D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4390B-3253-42FF-A0DE-9844557E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E78F9-8165-4505-8293-ED2E4D84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2FBA1-5EDA-4B6B-9CAE-05C016605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9E556-99C0-46C2-9322-1C4C0E07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B42D4-B744-492F-BE1C-AFE691D9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834C0-3C77-4C7F-8191-69A87EBB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B18D7-5DA0-4ABE-B4DE-93053AD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B2AF-C451-468A-9FEA-7B4B72BED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BF54-3A0A-409F-9997-A999D97B8E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06D0-4FE5-404D-A347-D1E181528F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880-6E84-4C17-B6F7-880BBD427E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0FA2-5AAE-46BD-8B44-5D817E8438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B497-0F53-4660-86F2-251A57E01F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FB85-BF94-48DF-80B3-8245D21B62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D982-0A63-4CDB-AF54-67362A3D77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D55E-327F-4246-AC29-F7C49C02E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61F2-24C7-4CB3-8F69-B70C122301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24E3-D550-4374-96BF-D092393D09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81C5-1931-4E2B-882B-2AFFAB27EEA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5E05-B7C5-4F1A-9FE0-12AD2D0850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A675-1DD6-4CB7-861A-7F704FD79F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E318-FDAA-40FC-B982-AD050195AE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EC95-8185-4561-BB37-1DBE40235D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7F84-81B1-4AF2-B643-0908B97E15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EEBC-807D-4F19-86E7-EBC17920D9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C4B1-BF77-4E63-9B64-7F492F8163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AF96-931B-41FE-B0F8-CD06CAE8DF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7615-3265-43EE-A4B2-3D49105EF2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A1A3-7C3E-4BB9-B941-097CACB1F7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1703-EDB9-4471-A602-2664CEB87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0653-6210-48DB-81BD-850AD8ECC82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13EA-6886-4EFE-9FC2-F8B6CEE2C9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200581814024574"/>
          <p:cNvPicPr/>
          <p:nvPr/>
        </p:nvPicPr>
        <p:blipFill>
          <a:blip r:embed="rId1"/>
          <a:stretch/>
        </p:blipFill>
        <p:spPr>
          <a:xfrm>
            <a:off x="900000" y="1128600"/>
            <a:ext cx="7218360" cy="4687920"/>
          </a:xfrm>
          <a:prstGeom prst="rect">
            <a:avLst/>
          </a:prstGeom>
          <a:ln w="0">
            <a:noFill/>
          </a:ln>
        </p:spPr>
      </p:pic>
      <p:sp>
        <p:nvSpPr>
          <p:cNvPr id="535" name="WordArt 5"/>
          <p:cNvSpPr txBox="1"/>
          <p:nvPr/>
        </p:nvSpPr>
        <p:spPr>
          <a:xfrm>
            <a:off x="1547640" y="692280"/>
            <a:ext cx="5904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宋庆龄故居的樟树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如果说充满生命力是它外在美，那么樟树的内在美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而樟树本身却有一种香气，而且这种香气能永久保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　　　石榴树　　　　　　　　樟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　　　　　　　　　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　　　　　　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樟树的可贵之处就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这里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j0398685_70464s"/>
          <p:cNvPicPr/>
          <p:nvPr/>
        </p:nvPicPr>
        <p:blipFill>
          <a:blip r:embed="rId1"/>
          <a:stretch/>
        </p:blipFill>
        <p:spPr>
          <a:xfrm>
            <a:off x="395280" y="5105520"/>
            <a:ext cx="1873080" cy="1363680"/>
          </a:xfrm>
          <a:prstGeom prst="rect">
            <a:avLst/>
          </a:prstGeom>
          <a:ln w="0">
            <a:noFill/>
          </a:ln>
        </p:spPr>
      </p:pic>
      <p:sp>
        <p:nvSpPr>
          <p:cNvPr id="559" name="Line 5"/>
          <p:cNvSpPr/>
          <p:nvPr/>
        </p:nvSpPr>
        <p:spPr>
          <a:xfrm>
            <a:off x="3203640" y="357336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801"/>
          <p:cNvPicPr/>
          <p:nvPr/>
        </p:nvPicPr>
        <p:blipFill>
          <a:blip r:embed="rId1"/>
          <a:srcRect l="0" t="0" r="0" b="9063"/>
          <a:stretch/>
        </p:blipFill>
        <p:spPr>
          <a:xfrm>
            <a:off x="1476360" y="260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"/>
          <p:cNvSpPr/>
          <p:nvPr/>
        </p:nvSpPr>
        <p:spPr>
          <a:xfrm>
            <a:off x="2142360" y="51246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这种兼具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外在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内在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樟树，让你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到了什么样的高贵品质吗？请结合它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人谈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其实，樟树即是它们的主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宋庆龄的化身。她永葆革命青春和旺盛的革命斗志，把毕生的精力献给世界和平和人类进步事业。在任何情况下都保持着坚定的政治原则，威武不屈，富贵不淫，贫贱不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j0398685_70464s"/>
          <p:cNvPicPr/>
          <p:nvPr/>
        </p:nvPicPr>
        <p:blipFill>
          <a:blip r:embed="rId1"/>
          <a:stretch/>
        </p:blipFill>
        <p:spPr>
          <a:xfrm>
            <a:off x="468360" y="4941720"/>
            <a:ext cx="22320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200781822912963"/>
          <p:cNvPicPr/>
          <p:nvPr/>
        </p:nvPicPr>
        <p:blipFill>
          <a:blip r:embed="rId1"/>
          <a:stretch/>
        </p:blipFill>
        <p:spPr>
          <a:xfrm>
            <a:off x="611280" y="2133720"/>
            <a:ext cx="3630600" cy="270036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3"/>
          <p:cNvSpPr/>
          <p:nvPr/>
        </p:nvSpPr>
        <p:spPr>
          <a:xfrm>
            <a:off x="4624560" y="1413000"/>
            <a:ext cx="412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什么“人们怀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崇敬的心情前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瞻仰宋庆龄的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居，也总爱在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两棵樟树前留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影，作为永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纪念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人们爱在樟树前留影，是因为樟树所表现出的特点与宋庆龄的伟大人格有相似之处，体现了宋庆龄崇高的人格风范和高贵品质，人们在樟树前留影纪念，表达了人们对故居主人宋庆龄同志的衷心爱戴和怀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j0398685_70464s"/>
          <p:cNvPicPr/>
          <p:nvPr/>
        </p:nvPicPr>
        <p:blipFill>
          <a:blip r:embed="rId1"/>
          <a:stretch/>
        </p:blipFill>
        <p:spPr>
          <a:xfrm>
            <a:off x="468360" y="4941720"/>
            <a:ext cx="223200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200621321242894"/>
          <p:cNvPicPr/>
          <p:nvPr/>
        </p:nvPicPr>
        <p:blipFill>
          <a:blip r:embed="rId1"/>
          <a:stretch/>
        </p:blipFill>
        <p:spPr>
          <a:xfrm>
            <a:off x="539640" y="836640"/>
            <a:ext cx="3440160" cy="468000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3"/>
          <p:cNvSpPr/>
          <p:nvPr/>
        </p:nvSpPr>
        <p:spPr>
          <a:xfrm>
            <a:off x="4211640" y="69228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宋庆龄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）政治家，社会活动家，广东文昌（今属海南）人。宋庆龄，是举世闻名的爱国主义、民主主义、共产主义和国际主义的伟大战士，是杰出的国际政治活动家、中华人民共和国卓越的领导人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7"/>
          <p:cNvSpPr/>
          <p:nvPr/>
        </p:nvSpPr>
        <p:spPr>
          <a:xfrm>
            <a:off x="900000" y="18954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200581814024574"/>
          <p:cNvPicPr/>
          <p:nvPr/>
        </p:nvPicPr>
        <p:blipFill>
          <a:blip r:embed="rId1"/>
          <a:stretch/>
        </p:blipFill>
        <p:spPr>
          <a:xfrm>
            <a:off x="250920" y="549360"/>
            <a:ext cx="8640720" cy="5611680"/>
          </a:xfrm>
          <a:prstGeom prst="rect">
            <a:avLst/>
          </a:prstGeom>
          <a:ln w="0">
            <a:noFill/>
          </a:ln>
        </p:spPr>
      </p:pic>
      <p:pic>
        <p:nvPicPr>
          <p:cNvPr id="541" name="1.wma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29772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" descr="0170050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1547640" y="105264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庆龄为什么不愿意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离那栋房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上海宋庆龄故居的庭院里有两棵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有一次，周恩来同志觉得那房子小了一点，就劝宋庆龄同志搬个家。她不肯，说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我舍不得这两棵树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0170050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1547640" y="1052640"/>
            <a:ext cx="59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宋庆龄为什么不愿意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离那栋房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上海宋庆龄故居的庭院里有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两棵树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　　有一次，周恩来同志觉得那房子小了一点，就劝宋庆龄同志搬个家。她不肯，说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我舍不得这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两棵树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801"/>
          <p:cNvPicPr/>
          <p:nvPr/>
        </p:nvPicPr>
        <p:blipFill>
          <a:blip r:embed="rId1"/>
          <a:srcRect l="0" t="0" r="0" b="9063"/>
          <a:stretch/>
        </p:blipFill>
        <p:spPr>
          <a:xfrm>
            <a:off x="1187280" y="333360"/>
            <a:ext cx="6985080" cy="476424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1042920" y="5300640"/>
            <a:ext cx="60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　　　</a:t>
            </a: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彩云"/>
              </a:rPr>
              <a:t>这是两棵樟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090405070417"/>
          <p:cNvPicPr/>
          <p:nvPr/>
        </p:nvPicPr>
        <p:blipFill>
          <a:blip r:embed="rId1"/>
          <a:stretch/>
        </p:blipFill>
        <p:spPr>
          <a:xfrm>
            <a:off x="1258920" y="333360"/>
            <a:ext cx="6576840" cy="48974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3"/>
          <p:cNvSpPr/>
          <p:nvPr/>
        </p:nvSpPr>
        <p:spPr>
          <a:xfrm>
            <a:off x="2727720" y="5359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两棵樟树又是怎么样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090405070417"/>
          <p:cNvPicPr/>
          <p:nvPr/>
        </p:nvPicPr>
        <p:blipFill>
          <a:blip r:embed="rId1"/>
          <a:stretch/>
        </p:blipFill>
        <p:spPr>
          <a:xfrm>
            <a:off x="2050920" y="33336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3"/>
          <p:cNvSpPr/>
          <p:nvPr/>
        </p:nvSpPr>
        <p:spPr>
          <a:xfrm>
            <a:off x="539640" y="4116240"/>
            <a:ext cx="856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樟树不高，但它的枝干粗壮，而且伸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面八方，伸得远远的。稠密的树叶绿得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亮。樟树四季常青，无论是夏天还是冬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们总是那么蓬蓬勃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090405070417"/>
          <p:cNvPicPr/>
          <p:nvPr/>
        </p:nvPicPr>
        <p:blipFill>
          <a:blip r:embed="rId1"/>
          <a:stretch/>
        </p:blipFill>
        <p:spPr>
          <a:xfrm>
            <a:off x="2050920" y="333360"/>
            <a:ext cx="4746600" cy="356076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3"/>
          <p:cNvSpPr/>
          <p:nvPr/>
        </p:nvSpPr>
        <p:spPr>
          <a:xfrm>
            <a:off x="539640" y="4116240"/>
            <a:ext cx="856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樟树不高，但它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枝干粗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而且伸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四面八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伸得远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。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稠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树叶绿得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亮。樟树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四季常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无论是夏天还是冬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们总是那么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蓬蓬勃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2:47:4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02:54Z</dcterms:modified>
  <cp:revision>16</cp:revision>
  <dc:subject>第一PPT模板网-WWW.1PPT.COM</dc:subject>
  <dc:title>第一PPT模板网-WWW.1PPT.COM</dc:title>
</cp:coreProperties>
</file>