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56B-1A4C-4B4E-B895-A1A18EBF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0EB-E197-40B4-A058-3E64889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49DFC-60E5-440B-83B0-B87E815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24982-13B8-4A17-9474-5DB80A9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9F9EB-6332-4E54-8F2B-D215BCF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00727-A3C9-44EC-B303-53776CB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34699-CAC3-49AE-B36C-913C639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65DD2-79F8-431F-81E3-CF02F20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4F8CC-0487-424B-BD21-89900E5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7F325-1C1C-4F31-A6D5-43857209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C621C-B433-400F-829E-2D79C44F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B431A-9BF1-4F84-98B7-4B3C4B88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8B8-01F9-4629-9CE2-BD5A1B17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EFB0D-61BC-4727-B2E0-4C6C7FB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E2BC7-E948-49AA-A6D0-2081737D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16DA8-BB88-41A3-BD11-9C655EDE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6D620-1FF2-4097-B082-1113D1D5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F15F-E079-4BCF-AF83-EE43EAB1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21D11-9CC4-4D8A-91BA-F202C2C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811D9-0EE1-41F5-BD54-E407372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6B4CE-664F-49EA-980F-36E4198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13070-8D15-4126-A524-E71ADCDC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21E87-D4DC-4D24-A8F5-49C75598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8AA-3E21-4C38-B583-E7AFEA7B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4C7DD-DBC6-466A-9E41-0F9E5CFA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8379D-43CB-4D64-8204-CEFD4FE8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C5F1-4644-4E60-B7C1-C9E8E5B1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6579-435E-40DD-BEB0-450E4470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2D1E-B2C3-46BC-ADD9-25CD55E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2F53D-8A4B-4891-94F9-49F1767F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48AF-37F1-4307-8F46-EF9BE731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83FA-65A0-41D9-9F3A-3397F618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10AE1-16B9-42A1-AFF6-EC021D0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4DEBB-567D-490B-B051-1381ED2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A96-65A6-4FE2-9306-A57130E3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8BFD4-84FC-4C5C-8BE6-3993F813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18A0-291D-4A7D-847E-1B5E00BB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44E9-4CF3-4560-B674-1D67F906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A2774-2C1E-4043-95A8-31CB5056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10F34-B62F-4524-80FC-3157E78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F03E2-0A13-4FBB-B299-687E8DF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FDFCA-025C-44AF-9A04-7E2CF4E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01645-DE8F-46DA-95B1-701D1195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630AF-0193-49BC-B307-DDB7D1C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A133D-795D-4254-A0F3-830E23BC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7EC-5AA3-4E5A-A06A-8261D66A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37261-09F9-4FB5-B94F-4D7F94DC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02FB7-4166-407D-9A82-850BD5D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A742E-C278-4648-9034-E5216955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54DA9-0745-4F83-9836-67A98052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874B2-F84D-4DBA-A31B-FE9FB725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2F166-75CE-482E-A840-5C932E0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E9BD8-6071-454B-9490-3446B26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6311E-1E97-40AE-B75A-0BB64C5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B69DE-0CFC-41AD-9FC1-F35DE97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6FBE8-DA47-43BC-916C-7866506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84A-0F95-45F2-AE1F-4F4260BA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C11CA-AF23-49A2-8587-49276EF6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75FC3-6EB2-4ABC-919F-36FDC641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FB346-D12E-489C-9A87-B55B41C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7A5D9-6AED-4151-AA7D-501FB5B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170A4-BF4D-4DD9-8326-5565274D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0ACF7-E3C6-4DD3-B509-9B98E96A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A0A68-7EBA-4911-B66B-5CE57BE8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AF6-D200-4344-A069-85CE2C42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40A1-4217-45C6-B2C0-84015671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2B5-0E08-4C89-9C4E-A9385C5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D92A-979C-4835-8B50-6818178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D6A-DB53-4D20-8958-BA736EB9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9C4-03B3-49D7-8B55-511B015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F84A-FD16-4C98-B0A2-DCF85E8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5904-6504-450F-A656-429E6311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0BF-0E41-4EF1-BE09-E7D45F7F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B00-5651-4046-9435-532FFE52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7FCA-D74C-4F0B-930C-17B3AB5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E924-41B2-4942-9C72-9BEBE2E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A23B-A9A6-497B-BA5B-5BCB9579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2372-6330-4D0E-8BF4-970C9580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7E20-D78D-4128-B3C1-A64F50D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020-6E08-4ED2-851C-38D2C83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1918-370B-429C-B889-A3F48937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2C68-C579-4721-9271-E225521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254E-6D13-49DC-AB79-3C9BDED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CAF5-2937-4AB5-92C5-02A210F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209E-E90A-4B2C-B8CA-3157E7C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B299-D661-4ED3-9D50-FE6D6C25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A410-1E5F-4F35-81A7-4DC72ED1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B72C-2531-4D45-ABC7-33E3844E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29B5-D314-47B4-8486-CE93652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ACFF-F059-4529-A224-E96D32F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973-49A4-423F-BEA1-E936156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B6E7-48BE-49B1-B125-0A1118D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CF9C-9489-455E-9AEC-9B7F7BB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20AB-F375-403A-9B7F-716E68BD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572B-49AE-4CEB-A5BB-4069688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7CF5-7BDD-4C53-B225-6DE426A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B715-92C9-477C-AC3A-49BA579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100E-E525-4305-AEE2-0926C8C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011E-7ADA-4CDE-B01C-58EAA3E8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4ACD7-0C9A-4278-AD05-9E0188AC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4FFB-B080-42DD-AFDF-DF9ED6D5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5CE-1203-4346-AE98-A44D085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75EC0-3609-4A1E-9273-27261C2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ECD8-3119-4482-A2FD-5000BC81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A4B4-49DF-4460-8CAF-C7F94CF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94FF-24D7-41FE-ADC0-B5CE04EA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294A-508A-4047-968B-B86A5789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4B52-C874-4693-901A-1CB22EA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A31F-CDA7-4E5B-B0FC-353742E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B325-1157-4222-9A64-57C2FB8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9457-A0F8-4731-9051-9B43570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87D2-93F4-4C63-877C-DCAF03F1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834-663F-4663-B472-DA998D1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A60B-5CF7-4A88-9ECC-E3F6EC57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C7BD-7AF7-4187-AFD3-BF0A3392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2095-0B2D-4DBC-A29E-9164298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0CA1-006B-478F-A8CC-0571C8E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4826-92A1-4C63-840C-6B068749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3A42-3C53-4B40-B938-AF3C1C1E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EB630-FC86-4884-BD07-AFAD0A12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64B9-1D9B-4238-B0D8-A0726079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B9EE-7520-4282-96B7-F8DF1F35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D277-5D3D-4594-BBF7-52F2323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1F6-F433-4C2D-9D5E-AC253B7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F1CB-73DC-48E1-A53C-6D99F974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BBEB-03AB-4B24-86C6-88F5D2F6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65D7-54F3-4770-B5F3-610700A8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BE6A6-8FB6-46A5-B653-213FDCA9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FD4E-86C5-49CD-A7B0-B0522D5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0B1F4-3978-46AB-B5E2-BA670F6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5E9AF-732E-4AD6-A6BF-B9B9FCA9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2E295-43CF-479A-A70B-2D85EB0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8BC3-5366-455A-B29E-65D4820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7CBD-B3B7-4269-8B09-8A53508A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016-6609-4A84-A5E3-855A083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0A21E-3679-46D0-8B67-16B6FF9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A128F-B4A0-477B-947F-20B598C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A547-38AB-4DC4-A8CC-0FA5DE1D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102A-A256-447E-984C-98A19055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6114-AD33-4C03-A2D2-0EAF7EC1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35C92-70F1-44A8-BF2B-F9A463C6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16D1-AF72-4CF2-8E92-435C37CF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A5D1D-B72E-419F-97D9-2760B66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A357-B086-45CF-9072-B16E3CA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00DCF-5A8F-4E52-8544-D49A43F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2F2-268B-4635-ABEE-2164C3D7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E7E4-FC49-4CD6-96CF-2A280F2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DA5CC-AB5C-478E-A25D-CD9D099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062F4-F421-4435-A998-0B7700E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4EE2-1779-4B10-960F-4FF90CE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2433D-8847-4FC6-9283-AF66F10F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2E31-267D-45C8-A8CC-C48F3C15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843B-DADD-4895-ACD3-487650D3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C9EE7-612F-4900-8BF2-199F43B7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F669-16D2-4ABC-8E00-9D10CF7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A821-03C6-4FEB-9E5B-F4556149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48C-6E7E-47F3-B15E-E76049035C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257-61FE-40B6-B002-BDD835B11EAD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492-442C-4A88-A543-3501CCD3E917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ED28-BAC4-4E00-A251-F0F0B10103D1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D40-4DC8-4A3F-9B83-206CDB6AAA8E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5E15-7ECA-4531-BD80-7E7D49E2634A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01E-9A94-48ED-9E8E-AEF408664AB6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610-E7E8-4CA4-BA6E-84E3CBDD34E4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5ED-87DF-445E-BCDE-EC360D4D0728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795F-33A7-47CB-97F6-D204321F20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3B49-5F39-4D62-AC00-A61E2982D8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BB10-7C57-435D-8B91-B380E0138B81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1FC0-2F91-4246-8A00-276DDADD1475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2FA-7D38-41BB-A8AC-E7D0F4F15B5D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20D-E28D-4349-B001-B4AA91958683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A063-D8A2-4835-9388-DBB5C7D078DC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B9F-99D3-4478-8C53-AA2AF75536DE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EBFF-C49A-4983-8CE3-B6EE36606C09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2620-E4F5-415C-BD44-F62B5F58235C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A401-2195-4716-8135-502562B53E9D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5563-243E-4304-95E6-A7358BA57735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D00-C804-424A-98CA-C340A7CCFF84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E927-6C67-428F-A5D9-8605067B2CD7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CB0-41FF-49A1-AC81-87D1E25064B5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823-2757-4C64-A6AC-C8E204F1AD8E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619280" y="155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楷体_GB2312"/>
              </a:rPr>
              <a:t>松鼠和松果</a:t>
            </a:r>
            <a:endParaRPr b="0" lang="en-US" sz="7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067280" y="4005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新桥二小    林和洁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pic_6599"/>
          <p:cNvPicPr/>
          <p:nvPr/>
        </p:nvPicPr>
        <p:blipFill>
          <a:blip r:embed="rId1"/>
          <a:srcRect l="0" t="0" r="-100" b="12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46720" y="5084640"/>
            <a:ext cx="5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每个松果都那么香，那么可口。</a:t>
            </a:r>
            <a:endParaRPr b="0" lang="en-US" sz="4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pic_6599"/>
          <p:cNvPicPr/>
          <p:nvPr/>
        </p:nvPicPr>
        <p:blipFill>
          <a:blip r:embed="rId1"/>
          <a:srcRect l="0" t="0" r="-100" b="121"/>
          <a:stretch/>
        </p:blipFill>
        <p:spPr>
          <a:xfrm>
            <a:off x="0" y="-458640"/>
            <a:ext cx="9144000" cy="3743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01480" y="328464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光摘松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不栽松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总有一天，一棵松树也没有了！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851200" y="5157720"/>
            <a:ext cx="37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次摘松果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，就在土里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一个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531000" y="4410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好主意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971640" y="314172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茂密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258920" y="33336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0328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971640" y="3141720"/>
            <a:ext cx="75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____________________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1258920" y="33336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0328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ff00"/>
                </a:solidFill>
                <a:latin typeface="楷体_GB2312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ff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3"/>
          <p:cNvSpPr/>
          <p:nvPr/>
        </p:nvSpPr>
        <p:spPr>
          <a:xfrm>
            <a:off x="1498680" y="149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猜一猜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484360" y="1700280"/>
            <a:ext cx="568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形状像耗子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活像猴子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爬在树枝上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忙着摘果子。 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Object 2" descr=""/>
          <p:cNvPicPr/>
          <p:nvPr/>
        </p:nvPicPr>
        <p:blipFill>
          <a:blip r:embed="rId1"/>
          <a:stretch/>
        </p:blipFill>
        <p:spPr>
          <a:xfrm>
            <a:off x="611280" y="190440"/>
            <a:ext cx="5057640" cy="66675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5565960" y="1125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松鼠</a:t>
            </a:r>
            <a:endParaRPr b="0" lang="en-US" sz="96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5708880" y="364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松果</a:t>
            </a:r>
            <a:endParaRPr b="0" lang="en-US" sz="9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0" y="836640"/>
            <a:ext cx="91440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松鼠（           ），学会了摘（      ）。但是，他想：如果光摘（      ），不栽（      ），那么，就没有了（        ），也没有了（      ）。于是，他想了一个（      ），每次吃一个，就（    ）一个。春天到了，长出了一棵棵（                      ）。</a:t>
            </a:r>
            <a:endParaRPr b="0" lang="en-US" sz="36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751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124000" y="765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聪明活泼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3635280" y="3429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埋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877080" y="2781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好主意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332000" y="2852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森林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867280" y="2133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68360" y="2133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4572000" y="1484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果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6804000" y="765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果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700360" y="4149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挺拔的小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468360" y="0"/>
            <a:ext cx="2808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聪明活泼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79280" y="1125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聪明活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学会了摘松果吃。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高高兴兴地走进大森林，摘了一个又一个。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松果都那么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可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395280" y="371628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如果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24000" y="213372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忽然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684360" y="386064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3068640"/>
            <a:ext cx="946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忽然，松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眨眨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眼睛，想起了一个问题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179280" y="472428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如果光摘松果，不栽松树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有一天，一棵松树也没有了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276720" y="5445000"/>
            <a:ext cx="2665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924720" y="537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250920" y="0"/>
            <a:ext cx="88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忽然，松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眨眨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眼睛，想起来了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如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光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摘松果，不栽松树，总有一天，一棵松树也没有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24000" y="3573360"/>
            <a:ext cx="88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24000" y="270828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没有了松树，没有了森林，以后到处光秃秃的，小松鼠、小小松鼠、小小小松鼠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他们吃什么呢？到哪儿去住呢？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1116000" y="393372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茂密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258920" y="333360"/>
            <a:ext cx="66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对，松鼠有了好主意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</a:rPr>
              <a:t>: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每次摘松果，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吃一个，就在土里埋下一个。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1258920" y="1700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00000" y="1268280"/>
            <a:ext cx="794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聪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明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活泼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忽然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果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总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有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后 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主意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眼睛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00000" y="1268280"/>
            <a:ext cx="79408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忽然   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以   总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主意   聪    眨  活泼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4:37:58Z</dcterms:created>
  <dc:creator>kjg</dc:creator>
  <dc:description/>
  <dc:language>en-US</dc:language>
  <cp:lastModifiedBy>a</cp:lastModifiedBy>
  <dcterms:modified xsi:type="dcterms:W3CDTF">2015-03-17T06:02:07Z</dcterms:modified>
  <cp:revision>17</cp:revision>
  <dc:subject/>
  <dc:title>幻灯片 1</dc:title>
</cp:coreProperties>
</file>