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19.jpeg" ContentType="image/jpeg"/>
  <Override PartName="/ppt/media/image18.jpeg" ContentType="image/jpeg"/>
  <Override PartName="/ppt/media/image25.jpeg" ContentType="image/jpeg"/>
  <Override PartName="/ppt/media/image4.jpeg" ContentType="image/jpeg"/>
  <Override PartName="/ppt/media/image7.jpeg" ContentType="image/jpeg"/>
  <Override PartName="/ppt/media/image6.jpeg" ContentType="image/jpeg"/>
  <Override PartName="/ppt/media/type.wav" ContentType="audio/x-wav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8.jpeg" ContentType="image/jpeg"/>
  <Override PartName="/ppt/media/whoosh.wav" ContentType="audio/x-wav"/>
  <Override PartName="/ppt/media/image27.gif" ContentType="image/gif"/>
  <Override PartName="/ppt/media/image1.jpeg" ContentType="image/jpeg"/>
  <Override PartName="/ppt/media/image22.jpeg" ContentType="image/jpeg"/>
  <Override PartName="/ppt/media/image5.wmf" ContentType="image/x-wmf"/>
  <Override PartName="/ppt/media/laser.wav" ContentType="audio/x-wav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7.jpeg" ContentType="image/jpeg"/>
  <Override PartName="/ppt/media/camera.wav" ContentType="audio/x-wav"/>
  <Override PartName="/ppt/media/image21.jpeg" ContentType="image/jpeg"/>
  <Override PartName="/ppt/media/chimes.wav" ContentType="audio/x-wav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2231-7EF2-494C-A8C2-E3CE74BF29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7A65-106F-4444-B43C-126FC22A7322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5D1-7219-4F43-B81D-CEBEC5E1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D3D-09D0-414A-A8B3-13CBB401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18688-ED4F-477D-B4D8-08F0A1C4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9468E-4743-4673-8655-3834A9CE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07C47-8D25-458F-9720-EA387816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45E5D-E2A9-4C5F-A6CF-CD2993EE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1FE1E-54BB-4B9D-934C-1DEA4B4F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F21E8-EA72-47C4-89E0-61550194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6B142-6990-4D53-870E-0A45DBA2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68632-CC91-483A-A796-2C82EB6D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33DA5-E26D-4159-B83D-31979D9F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027B4-B5D9-45C8-AE0D-0140229E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347-F7CD-4188-A993-D994D470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A4006-BA30-40B2-AE97-882246E5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C927D-379C-4A33-87E1-B0E915F8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71CA4-763B-4A9F-8B01-727A879C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5C5DB-A00B-4841-8C7F-00936AE8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4F5A7-C7B5-43BB-A4EB-27E9C861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774BF-C7A4-4091-B87A-A556AD8C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CF8F1-7471-4932-BF40-C34AA719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86F90-76FC-4F71-AA8A-895EA032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7B46D-D3E1-4468-9A28-CE5C4474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D410B-A150-4604-99CE-323A3EB6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09C3-C3D3-4048-ACD2-ABE350B8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8E36F-E466-4B99-A512-02B94CCB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05678-1180-457D-AA93-641C8847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22C0E-1CFF-4D75-B6EC-737F23DF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0B156-E82D-4915-9262-E1C8CF9C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A01DD-2D07-4810-9E6B-BB581E74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20847-874B-4CD2-B6A0-771130BA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552F9-2011-498A-800C-51D76D15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257BD-EA2A-4F91-A9B4-9677F969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CFF7C-E711-48B4-9891-D81BBEA7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CE33E-DE60-495D-8895-DCC0C8A9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0C04-57F6-47A7-81F8-D9962EE2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F6B27-CCAC-4095-8DE3-A5C8C110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DF5D5-7DF5-4602-A054-FE6C6DA9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94AE9-4668-4AF3-AA7C-8581A9FE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7406C-3778-4BAF-B45C-24F83F0A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EA911-9580-43DC-B78C-7D87684A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0C0AA-5176-4CC1-8625-717DED74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C7133-4349-4DC3-AB8C-D0247EC7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71D4F-D1B1-4555-938F-7099763F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E67B0-DA97-4BFD-8A69-FF351129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C44DB-73FD-4374-A665-ED9C0582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1C82-F615-4899-96F0-BDE6669F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ACEE0-D3DC-4D1A-981D-1ADDABA5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6E054-6655-4CAA-BA8A-E82282BA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56148-9B9D-48EF-AA64-B29DFD5D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9A548-53B8-4090-98A3-CE6CB179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A58F6-1CDD-4FCA-A67D-711984A7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074EC-4A83-411F-B948-0B56BA32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D016E-F07D-4B32-8CAF-5BFE5BF3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801E6-4D8C-457F-BAE6-64F6CEA4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B0942-AE79-44F9-AEC9-FFE4B0A1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D7578-2213-42DA-9084-BABB941A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5F65-77C3-43E6-AB84-E26555CC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AB660-EAC1-41E5-819D-76167519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1CB842-5467-4A89-B9FF-27A6C9D4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1E8D6-B9B0-4B60-AC13-B786904E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7E685-17EB-4872-A5CD-787CF2CD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EEB4E-47F8-4231-B854-8EFA1631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06E22-314C-4E10-9521-154A0D96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35331-1D73-4DD4-967E-A75207A1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7EF5B-B095-4975-B2C4-54D2F249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E5736-FBFE-4590-B657-3F9EC66B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8EF285-AA27-4131-910F-060A6048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69B9-E304-453F-902B-DE94EDDD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953EA-048F-43FB-86BC-65D5E780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FC7E3-87B9-4F57-A9A3-EAB5443B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5619C-3896-4F6F-AD24-60690B18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FC693D-8B84-44D3-AAE5-A7E8F3BF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74873-8D05-4622-86C6-C28CF05E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8F246-53ED-456B-9AC1-1FD5C515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3543D4-8DD0-4B97-80F1-B612E374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60443-02F0-4550-9D78-00BCD3F5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C20F4-EB23-4368-B9EC-7817B281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B49D-2E39-4CE4-A2D4-82340E46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022F-8B95-41D5-8A2E-D238C37A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20BB-1566-4A8A-A3D3-1B534304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776-B910-48D2-A115-E4787AB4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2FE8-5607-47D5-AE79-348C2922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F31F-C327-44F5-991B-1ECB5F8B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503B-6632-4583-B8EC-4598B330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04E7-A982-4187-A4EE-6B6E0BFC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4376-704A-4B8E-9C1B-5C7CD736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62FE7-EE2A-4287-B120-5FCFE837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365A6-B803-456C-9713-D6D14994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E1A3-CF00-41DC-A251-08F01553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40665-9A31-4B08-B7C0-1509FC8E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5E9E5-AC69-401C-9BB2-2B4434FC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D90-9169-4723-9C9A-06CDEF96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13561-033C-48CF-BF64-0D43C49B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CC26A-14F8-4F53-A0C1-9E3F1337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F6E06-A75C-4320-8D2C-6674BC74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64A00-D900-4C9C-A461-C5CB4344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03E3-233D-43F3-8C03-A9677230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ADF4-6D3F-4250-B60A-FD05DFCB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2954F-7366-4988-8C60-9B6AC49B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23092-7F3B-4E53-8013-14493D50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6DF8F-1DB6-45B3-AFF8-42706571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4E7D0-95A5-4A91-8490-E8ECE0FE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6FD-61E2-4A38-AB55-7282AC01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DD609-9C64-4D3B-B4F4-BF3684D3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20170-BE81-456F-987E-58FB0D07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282AF-5352-4B73-8AB3-E980F60E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175CB-ED80-4B21-91B9-F83D5CAB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56BAC-A94D-4EB9-8834-EA788162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85695-14D0-45DE-8730-851906CC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4507F-70BA-472C-B81D-F5960B85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26DC5-8051-4FF1-86A6-916BFC9F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662A1-6621-470A-BF71-8C42A53D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48649-5E10-4864-9EC3-B68BE924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41A-81BD-4156-8816-2D1C772E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0BA9F-9036-4195-8061-D7766345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9C6E5-E2EE-4A16-8E72-FA27D0ED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C1EB6-A3CA-4AED-865A-E0CD6B2C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72A5D-FBC5-4414-8AB1-4BE403F9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0AAB3-9D0C-417F-B79C-7214F98F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A5F2C-7A25-46CE-ACF5-2A5D3BDC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D3DF9-A690-40C8-9E27-72E23B3A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6CCCF-B741-4006-82C0-A1ED7BF2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79AAB-2FE1-42A2-9D9E-1CE457F4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DF5B4-484E-488D-9CF0-1617B5F7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19D-7A9E-4E18-A5B5-C9F8FA4E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20BA9-CFB4-4704-A8A2-C317C78B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27F40-F74C-4CE6-81CF-C25C1616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76FC5-CC42-4E5F-82AC-724572BB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AC1B6-629F-4079-B1A3-A54024DA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53B88-3D06-4396-AF82-211B185D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61349-FEDA-44DE-8366-3A6006DB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DFB89-43B4-4E11-B116-41F0C649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8C486-9ACB-4052-83C6-C5AD8563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EDCD8-68FA-44C4-91F0-FBB0D5B5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A9DEC-B697-415E-9B4D-CEC3052C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74F-0940-41F2-8622-ED2232FF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F2EA0-1C30-4404-BD68-5664531E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7DCCA-DF80-444F-ABBE-2781A6BA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9AB9E-79CA-486B-A4F2-962EECF3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F5E96-2243-472A-8A80-24F3CA07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6CC35-9386-4E77-AEFE-C871D8CD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4CB02-B8BD-48BC-8D10-870D7FB1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57055-834E-4C76-A6B9-A3AA1AE5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154A4-2442-4A83-B8B1-958BF1FB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35025-9C3A-4037-8388-3684C2C7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D9887-992E-4D6F-9851-96D70FB0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261-C90C-4A05-99C5-FB3C23DD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A2B3A-665C-41B5-86FD-394E04A0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68BB6-71F2-41A1-8305-2A25F662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13992-3980-4159-8B41-98349662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39092-811C-4C41-A8FF-7126D609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4DBE2-B3C8-4729-A15B-959DEF61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82845-1676-4D6F-AE5F-9B45CBE0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A96CD-85AB-43AE-8CDB-A957F4C5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5C6B8-C549-4092-8E9A-5546EA96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EE3EF-8C48-4C68-A2B5-62C3CA20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2C724-CC7A-467F-B443-93761BCE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6DD-0919-47D9-9DCD-21BFF0C5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B9CD4-3920-4571-80C0-8157F108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BE7A1-5F0B-46F3-A17F-3C5EF4F2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75066-D56E-43BA-AE66-A72E085D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7FC55-DF08-4A59-81B2-B80381AF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18237-ED83-4C31-8661-005F4731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9E3D3-695F-42E5-9859-3F323F01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90F00-3F93-4644-BC99-DA48D019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A7DB1-B061-4162-A18D-234A8F13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70938-429D-4A94-8A4C-5A7A024E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49E40-D613-4B04-8B3C-A4E7E1DE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CA02-A2E4-4CDB-8C6F-42D2760DF5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2A24-D595-4A68-9139-FCFD73DBBA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3098-8393-4588-9864-E93EB8F0C4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AA47-D679-4B3C-9279-560A2F1567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4EE4-BF2C-49EB-9C46-23A64667C5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3E4A-AFCB-4CD9-9136-2621528D02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B1E1-D8DC-43AA-BCB9-EACD2CCF5D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4226-7BAB-4D17-B12C-AAE56E4624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1C4D-B2F5-4839-94FC-A39F8EEDDF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DF66-4840-4AED-AC8A-6D735BCF09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1AA2-36BD-4ABE-8CE8-08FB075780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78BA-7E8E-4ED2-8904-11CAB51A01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E234-8F12-464F-9EB6-42910411FB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43DC-2CF0-4163-A887-F5AB7878AD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3D41-B640-419F-ACB6-BE2E2FE9A5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A7C0-8441-4239-A8F2-B228C2AF8B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F2FD-3E19-4A40-91C3-C7EDD6E53F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2126-A092-44FD-96B9-EBD750FE91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8DF7-E700-4596-9BE1-2F6D298984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99FF-7DEC-4309-86C1-8A91CE22AF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5DC9-042E-466D-BA05-E586C775FCC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C033-4522-467E-853D-D68B64EA36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7E8C-1E6A-47E9-99C6-4A59A7C094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78EA-002F-480D-A4C1-077DCCEF42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4F94-B9EA-4C45-BBD9-233C17C645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9F2D-5C7F-4F1A-B0BA-8348F9B55B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3.jpeg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3"/>
          <p:cNvSpPr/>
          <p:nvPr/>
        </p:nvSpPr>
        <p:spPr>
          <a:xfrm>
            <a:off x="684360" y="189000"/>
            <a:ext cx="75596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ff0000"/>
                </a:solidFill>
                <a:latin typeface="隶书"/>
                <a:ea typeface="隶书"/>
              </a:rPr>
              <a:t>山市</a:t>
            </a:r>
            <a:r>
              <a:rPr b="1" lang="zh-CN" sz="28700" spc="-1" strike="noStrike">
                <a:solidFill>
                  <a:srgbClr val="ff66cc"/>
                </a:solidFill>
                <a:latin typeface="隶书"/>
                <a:ea typeface="隶书"/>
              </a:rPr>
              <a:t> </a:t>
            </a:r>
            <a:endParaRPr b="0" lang="en-US" sz="287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1" name="Picture 3" descr="00012187"/>
          <p:cNvPicPr/>
          <p:nvPr/>
        </p:nvPicPr>
        <p:blipFill>
          <a:blip r:embed="rId1"/>
          <a:stretch/>
        </p:blipFill>
        <p:spPr>
          <a:xfrm>
            <a:off x="-541440" y="333360"/>
            <a:ext cx="10441080" cy="694368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4"/>
          <p:cNvSpPr/>
          <p:nvPr/>
        </p:nvSpPr>
        <p:spPr>
          <a:xfrm>
            <a:off x="1738800" y="250920"/>
            <a:ext cx="618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大连港北部海面又见“海市蜃楼”（图）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4" name="Picture 3" descr="9"/>
          <p:cNvPicPr/>
          <p:nvPr/>
        </p:nvPicPr>
        <p:blipFill>
          <a:blip r:embed="rId1"/>
          <a:stretch/>
        </p:blipFill>
        <p:spPr>
          <a:xfrm>
            <a:off x="324000" y="260280"/>
            <a:ext cx="8316720" cy="62578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-92160" y="-3808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0" y="-38736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376200" y="144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2286000" y="2881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9" name="Picture 3" descr="hssl-1"/>
          <p:cNvPicPr/>
          <p:nvPr/>
        </p:nvPicPr>
        <p:blipFill>
          <a:blip r:embed="rId1"/>
          <a:stretch/>
        </p:blipFill>
        <p:spPr>
          <a:xfrm>
            <a:off x="914400" y="152280"/>
            <a:ext cx="7238880" cy="259092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4"/>
          <p:cNvSpPr/>
          <p:nvPr/>
        </p:nvSpPr>
        <p:spPr>
          <a:xfrm>
            <a:off x="368604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1" name="Picture 5" descr="hssl-7"/>
          <p:cNvPicPr/>
          <p:nvPr/>
        </p:nvPicPr>
        <p:blipFill>
          <a:blip r:embed="rId2"/>
          <a:stretch/>
        </p:blipFill>
        <p:spPr>
          <a:xfrm>
            <a:off x="304920" y="3048120"/>
            <a:ext cx="4209840" cy="2987640"/>
          </a:xfrm>
          <a:prstGeom prst="rect">
            <a:avLst/>
          </a:prstGeom>
          <a:ln w="0">
            <a:noFill/>
          </a:ln>
        </p:spPr>
      </p:pic>
      <p:grpSp>
        <p:nvGrpSpPr>
          <p:cNvPr id="612" name="Group 6"/>
          <p:cNvGrpSpPr/>
          <p:nvPr/>
        </p:nvGrpSpPr>
        <p:grpSpPr>
          <a:xfrm>
            <a:off x="4724280" y="3733920"/>
            <a:ext cx="3961800" cy="1922400"/>
            <a:chOff x="4724280" y="3733920"/>
            <a:chExt cx="3961800" cy="1922400"/>
          </a:xfrm>
        </p:grpSpPr>
        <p:sp>
          <p:nvSpPr>
            <p:cNvPr id="613" name="Rectangle 7"/>
            <p:cNvSpPr/>
            <p:nvPr/>
          </p:nvSpPr>
          <p:spPr>
            <a:xfrm>
              <a:off x="4724280" y="3743280"/>
              <a:ext cx="3961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4" name="Rectangle 8"/>
            <p:cNvSpPr/>
            <p:nvPr/>
          </p:nvSpPr>
          <p:spPr>
            <a:xfrm>
              <a:off x="4724280" y="3733920"/>
              <a:ext cx="39618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1988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年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月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16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日凌晨，登州海面一次奇特的日出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15" name="Group 9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16" name="Rectangle 10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7" name="Rectangle 11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18" name="Group 12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19" name="Rectangle 13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0" name="Rectangle 14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35892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22" name="Picture 3" descr="hssl-3"/>
          <p:cNvPicPr/>
          <p:nvPr/>
        </p:nvPicPr>
        <p:blipFill>
          <a:blip r:embed="rId1"/>
          <a:stretch/>
        </p:blipFill>
        <p:spPr>
          <a:xfrm>
            <a:off x="228600" y="152280"/>
            <a:ext cx="4572000" cy="292572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4"/>
          <p:cNvSpPr/>
          <p:nvPr/>
        </p:nvSpPr>
        <p:spPr>
          <a:xfrm>
            <a:off x="35892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24" name="Picture 5" descr="hssl-4"/>
          <p:cNvPicPr/>
          <p:nvPr/>
        </p:nvPicPr>
        <p:blipFill>
          <a:blip r:embed="rId2"/>
          <a:stretch/>
        </p:blipFill>
        <p:spPr>
          <a:xfrm>
            <a:off x="4495680" y="3200400"/>
            <a:ext cx="4419720" cy="2827440"/>
          </a:xfrm>
          <a:prstGeom prst="rect">
            <a:avLst/>
          </a:prstGeom>
          <a:ln w="0">
            <a:noFill/>
          </a:ln>
        </p:spPr>
      </p:pic>
      <p:grpSp>
        <p:nvGrpSpPr>
          <p:cNvPr id="625" name="Group 6"/>
          <p:cNvGrpSpPr/>
          <p:nvPr/>
        </p:nvGrpSpPr>
        <p:grpSpPr>
          <a:xfrm>
            <a:off x="4952880" y="762120"/>
            <a:ext cx="3809520" cy="642600"/>
            <a:chOff x="4952880" y="762120"/>
            <a:chExt cx="3809520" cy="642600"/>
          </a:xfrm>
        </p:grpSpPr>
        <p:sp>
          <p:nvSpPr>
            <p:cNvPr id="626" name="Rectangle 7"/>
            <p:cNvSpPr/>
            <p:nvPr/>
          </p:nvSpPr>
          <p:spPr>
            <a:xfrm>
              <a:off x="4952880" y="762120"/>
              <a:ext cx="3809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7" name="Rectangle 8"/>
            <p:cNvSpPr/>
            <p:nvPr/>
          </p:nvSpPr>
          <p:spPr>
            <a:xfrm>
              <a:off x="4952880" y="762120"/>
              <a:ext cx="380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   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南长山岛以西海面出现一片蒙胧的工厂区幻影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28" name="Group 9"/>
          <p:cNvGrpSpPr/>
          <p:nvPr/>
        </p:nvGrpSpPr>
        <p:grpSpPr>
          <a:xfrm>
            <a:off x="1440" y="3657600"/>
            <a:ext cx="4583880" cy="703440"/>
            <a:chOff x="1440" y="3657600"/>
            <a:chExt cx="4583880" cy="703440"/>
          </a:xfrm>
        </p:grpSpPr>
        <p:sp>
          <p:nvSpPr>
            <p:cNvPr id="629" name="Rectangle 10"/>
            <p:cNvSpPr/>
            <p:nvPr/>
          </p:nvSpPr>
          <p:spPr>
            <a:xfrm>
              <a:off x="1440" y="3657600"/>
              <a:ext cx="4571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0" name="Rectangle 11"/>
            <p:cNvSpPr/>
            <p:nvPr/>
          </p:nvSpPr>
          <p:spPr>
            <a:xfrm>
              <a:off x="14040" y="3657600"/>
              <a:ext cx="457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       </a:t>
              </a: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莱阁东部海面蓬出现似古堡、舰船景物，闪闪发光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32" name="Rectangle 13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3" name="Rectangle 14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34" name="Group 15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35" name="Rectangle 16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6" name="Rectangle 17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36180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8" name="Picture 3" descr="hssl-5"/>
          <p:cNvPicPr/>
          <p:nvPr/>
        </p:nvPicPr>
        <p:blipFill>
          <a:blip r:embed="rId1"/>
          <a:stretch/>
        </p:blipFill>
        <p:spPr>
          <a:xfrm>
            <a:off x="0" y="0"/>
            <a:ext cx="4419720" cy="3216240"/>
          </a:xfrm>
          <a:prstGeom prst="rect">
            <a:avLst/>
          </a:prstGeom>
          <a:ln w="0">
            <a:noFill/>
          </a:ln>
        </p:spPr>
      </p:pic>
      <p:grpSp>
        <p:nvGrpSpPr>
          <p:cNvPr id="639" name="Group 4"/>
          <p:cNvGrpSpPr/>
          <p:nvPr/>
        </p:nvGrpSpPr>
        <p:grpSpPr>
          <a:xfrm>
            <a:off x="4648320" y="762120"/>
            <a:ext cx="8380440" cy="703440"/>
            <a:chOff x="4648320" y="762120"/>
            <a:chExt cx="8380440" cy="703440"/>
          </a:xfrm>
        </p:grpSpPr>
        <p:grpSp>
          <p:nvGrpSpPr>
            <p:cNvPr id="640" name="Group 5"/>
            <p:cNvGrpSpPr/>
            <p:nvPr/>
          </p:nvGrpSpPr>
          <p:grpSpPr>
            <a:xfrm>
              <a:off x="4648320" y="762120"/>
              <a:ext cx="4128480" cy="703440"/>
              <a:chOff x="4648320" y="762120"/>
              <a:chExt cx="4128480" cy="703440"/>
            </a:xfrm>
          </p:grpSpPr>
          <p:sp>
            <p:nvSpPr>
              <p:cNvPr id="641" name="Rectangle 6"/>
              <p:cNvSpPr/>
              <p:nvPr/>
            </p:nvSpPr>
            <p:spPr>
              <a:xfrm>
                <a:off x="4648320" y="762120"/>
                <a:ext cx="41284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2" name="Rectangle 7"/>
              <p:cNvSpPr/>
              <p:nvPr/>
            </p:nvSpPr>
            <p:spPr>
              <a:xfrm>
                <a:off x="4648320" y="762120"/>
                <a:ext cx="4128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ff"/>
                    </a:solidFill>
                    <a:latin typeface="Times New Roman"/>
                  </a:rPr>
                  <a:t>        </a:t>
                </a:r>
                <a:endParaRPr b="0" lang="en-US" sz="4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8"/>
            <p:cNvGrpSpPr/>
            <p:nvPr/>
          </p:nvGrpSpPr>
          <p:grpSpPr>
            <a:xfrm>
              <a:off x="8777520" y="762120"/>
              <a:ext cx="4251240" cy="457560"/>
              <a:chOff x="8777520" y="762120"/>
              <a:chExt cx="4251240" cy="457560"/>
            </a:xfrm>
          </p:grpSpPr>
          <p:sp>
            <p:nvSpPr>
              <p:cNvPr id="644" name="Rectangle 9"/>
              <p:cNvSpPr/>
              <p:nvPr/>
            </p:nvSpPr>
            <p:spPr>
              <a:xfrm>
                <a:off x="8777520" y="762120"/>
                <a:ext cx="4251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5" name="Rectangle 10"/>
              <p:cNvSpPr/>
              <p:nvPr/>
            </p:nvSpPr>
            <p:spPr>
              <a:xfrm>
                <a:off x="8777520" y="762120"/>
                <a:ext cx="42512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646" name="Rectangle 11"/>
          <p:cNvSpPr/>
          <p:nvPr/>
        </p:nvSpPr>
        <p:spPr>
          <a:xfrm>
            <a:off x="3618000" y="2800440"/>
            <a:ext cx="53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47" name="Picture 12" descr="hssl-6"/>
          <p:cNvPicPr/>
          <p:nvPr/>
        </p:nvPicPr>
        <p:blipFill>
          <a:blip r:embed="rId2"/>
          <a:stretch/>
        </p:blipFill>
        <p:spPr>
          <a:xfrm>
            <a:off x="0" y="3276720"/>
            <a:ext cx="5334120" cy="3222360"/>
          </a:xfrm>
          <a:prstGeom prst="rect">
            <a:avLst/>
          </a:prstGeom>
          <a:ln w="0">
            <a:noFill/>
          </a:ln>
        </p:spPr>
      </p:pic>
      <p:grpSp>
        <p:nvGrpSpPr>
          <p:cNvPr id="648" name="Group 13"/>
          <p:cNvGrpSpPr/>
          <p:nvPr/>
        </p:nvGrpSpPr>
        <p:grpSpPr>
          <a:xfrm>
            <a:off x="5410080" y="3657600"/>
            <a:ext cx="3124080" cy="1739880"/>
            <a:chOff x="5410080" y="3657600"/>
            <a:chExt cx="3124080" cy="1739880"/>
          </a:xfrm>
        </p:grpSpPr>
        <p:sp>
          <p:nvSpPr>
            <p:cNvPr id="649" name="Rectangle 14"/>
            <p:cNvSpPr/>
            <p:nvPr/>
          </p:nvSpPr>
          <p:spPr>
            <a:xfrm>
              <a:off x="5410080" y="365760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0" name="Rectangle 15"/>
            <p:cNvSpPr/>
            <p:nvPr/>
          </p:nvSpPr>
          <p:spPr>
            <a:xfrm>
              <a:off x="5410080" y="3657600"/>
              <a:ext cx="3124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海岛上突然出现了两棵</a:t>
              </a:r>
              <a:br>
                <a:rPr sz="3600"/>
              </a:b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形似迎客松的景象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51" name="Rectangle 16"/>
          <p:cNvSpPr/>
          <p:nvPr/>
        </p:nvSpPr>
        <p:spPr>
          <a:xfrm>
            <a:off x="4800600" y="6858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诸多小岛顶部延伸架起了一座“多孔长桥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52" name="Group 17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53" name="Rectangle 18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4" name="Rectangle 19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56" name="Rectangle 21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7" name="Rectangle 22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658" name="Picture 23" descr="agf059"/>
          <p:cNvPicPr/>
          <p:nvPr/>
        </p:nvPicPr>
        <p:blipFill>
          <a:blip r:embed="rId3"/>
          <a:stretch/>
        </p:blipFill>
        <p:spPr>
          <a:xfrm>
            <a:off x="7772400" y="6248520"/>
            <a:ext cx="9144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60" name="Picture 3" descr="海市蜃楼08"/>
          <p:cNvPicPr/>
          <p:nvPr/>
        </p:nvPicPr>
        <p:blipFill>
          <a:blip r:embed="rId1"/>
          <a:stretch/>
        </p:blipFill>
        <p:spPr>
          <a:xfrm>
            <a:off x="-228600" y="-685800"/>
            <a:ext cx="9372600" cy="75438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90676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00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日正午时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分左右，一驾驶员  驱车刚进入重庆，猛抬头发现重庆变了样。熟悉的城市怎么一下多出那么多空中楼阁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海市蜃楼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002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日下午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时左右 。青岛海面上出现了一座现  代化海港，吊杆林立，灯火闪耀，亦幻亦真让人真假难辨。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65" name="Picture 3" descr="海市蜃楼02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楷体_GB2312"/>
              </a:rPr>
              <a:t>青岛市民一睹蜃景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685800" y="6858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68" name="Picture 3" descr="海市蜃楼"/>
          <p:cNvPicPr/>
          <p:nvPr/>
        </p:nvPicPr>
        <p:blipFill>
          <a:blip r:embed="rId1"/>
          <a:stretch/>
        </p:blipFill>
        <p:spPr>
          <a:xfrm>
            <a:off x="-468360" y="0"/>
            <a:ext cx="9612360" cy="658800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4"/>
          <p:cNvSpPr/>
          <p:nvPr/>
        </p:nvSpPr>
        <p:spPr>
          <a:xfrm>
            <a:off x="548640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海市蜃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71" name="Picture 3" descr="海市蜃楼03"/>
          <p:cNvPicPr/>
          <p:nvPr/>
        </p:nvPicPr>
        <p:blipFill>
          <a:blip r:embed="rId1"/>
          <a:stretch/>
        </p:blipFill>
        <p:spPr>
          <a:xfrm>
            <a:off x="684360" y="417600"/>
            <a:ext cx="8208720" cy="615636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002</a:t>
            </a:r>
            <a:r>
              <a:rPr b="0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年</a:t>
            </a:r>
            <a:r>
              <a:rPr b="0" lang="en-US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7</a:t>
            </a:r>
            <a:r>
              <a:rPr b="0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月</a:t>
            </a:r>
            <a:r>
              <a:rPr b="0" lang="en-US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9</a:t>
            </a:r>
            <a:r>
              <a:rPr b="0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日，在我国甘肃的沙漠中，出现海市蜃楼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6"/>
          <p:cNvSpPr/>
          <p:nvPr/>
        </p:nvSpPr>
        <p:spPr>
          <a:xfrm>
            <a:off x="942840" y="725400"/>
            <a:ext cx="648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3" name="Picture 2" descr="力量"/>
          <p:cNvPicPr/>
          <p:nvPr/>
        </p:nvPicPr>
        <p:blipFill>
          <a:blip r:embed="rId8"/>
          <a:stretch/>
        </p:blipFill>
        <p:spPr>
          <a:xfrm>
            <a:off x="762120" y="457200"/>
            <a:ext cx="3886200" cy="57150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419360" y="304920"/>
            <a:ext cx="4724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蒲松龄（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1630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或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1640--1715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年） 清朝文学家。字留仙，一字剑臣，号柳泉居士，世称聊斋先生，山东淄川（今山东淄博市南）人。他屡试不第，至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71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岁方为贡生。长期穷愁潦倒，以教书为业。一生著作很多，诗、文、词、赋、戏曲、俚曲等均有佳作，短篇小说集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《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聊斋志异</a:t>
            </a:r>
            <a:r>
              <a:rPr b="0" lang="en-US" sz="3200" spc="-1" strike="noStrike">
                <a:solidFill>
                  <a:srgbClr val="003399"/>
                </a:solidFill>
                <a:latin typeface="隶书"/>
                <a:ea typeface="隶书"/>
              </a:rPr>
              <a:t>》</a:t>
            </a:r>
            <a:r>
              <a:rPr b="0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为其代表作。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1a"/>
          <p:cNvPicPr/>
          <p:nvPr/>
        </p:nvPicPr>
        <p:blipFill>
          <a:blip r:embed="rId1"/>
          <a:stretch/>
        </p:blipFill>
        <p:spPr>
          <a:xfrm>
            <a:off x="250920" y="404640"/>
            <a:ext cx="8610480" cy="619308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3"/>
          <p:cNvSpPr/>
          <p:nvPr/>
        </p:nvSpPr>
        <p:spPr>
          <a:xfrm>
            <a:off x="6324480" y="4876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海市蜃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76" name="Picture 3" descr="h2"/>
          <p:cNvPicPr/>
          <p:nvPr/>
        </p:nvPicPr>
        <p:blipFill>
          <a:blip r:embed="rId1"/>
          <a:stretch/>
        </p:blipFill>
        <p:spPr>
          <a:xfrm>
            <a:off x="0" y="177840"/>
            <a:ext cx="874872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1_2-1-9-21_200207061253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1_2-1-13-21_200207061253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9" name="Oval 3"/>
          <p:cNvSpPr/>
          <p:nvPr/>
        </p:nvSpPr>
        <p:spPr>
          <a:xfrm>
            <a:off x="4038480" y="3962520"/>
            <a:ext cx="2971800" cy="609480"/>
          </a:xfrm>
          <a:prstGeom prst="ellipse">
            <a:avLst/>
          </a:prstGeom>
          <a:noFill/>
          <a:ln w="381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2" descr="fr"/>
          <p:cNvPicPr/>
          <p:nvPr/>
        </p:nvPicPr>
        <p:blipFill>
          <a:blip r:embed="rId1"/>
          <a:stretch/>
        </p:blipFill>
        <p:spPr>
          <a:xfrm>
            <a:off x="457200" y="380880"/>
            <a:ext cx="2133720" cy="131760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3"/>
          <p:cNvSpPr/>
          <p:nvPr/>
        </p:nvSpPr>
        <p:spPr>
          <a:xfrm>
            <a:off x="3429000" y="12952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宋体"/>
              </a:rPr>
              <a:t>奂山  邑  禹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0" y="256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3399"/>
                </a:solidFill>
                <a:latin typeface="宋体"/>
              </a:rPr>
              <a:t>青冥   飞甍   高垣睥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3" name="Rectangle 5"/>
          <p:cNvSpPr/>
          <p:nvPr/>
        </p:nvSpPr>
        <p:spPr>
          <a:xfrm>
            <a:off x="1371600" y="3809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宋体"/>
              </a:rPr>
              <a:t>连亘  莽莽  窗扉   黯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371600" y="51055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Times New Roman"/>
              </a:rPr>
              <a:t>屑屑     逾时      倏忽      肆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3200400" y="76212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hu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àn       yì      y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ǔ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179280" y="1989000"/>
            <a:ext cx="805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　　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íng      méng       yuán pì nì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1295280" y="33526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   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gèn    mǎng        fēi       àn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1371600" y="45720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xiè          yú          shū           sì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89" name="Group 11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90" name="Rectangle 12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1" name="Rectangle 13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92" name="Group 14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93" name="Rectangle 15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4" name="Rectangle 16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95" name="Group 17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696" name="Rectangle 18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7" name="Rectangle 19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2"/>
          <p:cNvSpPr/>
          <p:nvPr/>
        </p:nvSpPr>
        <p:spPr>
          <a:xfrm>
            <a:off x="380880" y="6094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通假字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0" y="129528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一切</a:t>
            </a:r>
            <a:r>
              <a:rPr b="1" lang="zh-CN" sz="4000" spc="-1" strike="noStrike" u="sng">
                <a:solidFill>
                  <a:srgbClr val="3366ff"/>
                </a:solidFill>
                <a:uFillTx/>
                <a:latin typeface="宋体"/>
              </a:rPr>
              <a:t>乌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(“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乌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”通“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无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没有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0" name="Text Box 4"/>
          <p:cNvSpPr/>
          <p:nvPr/>
        </p:nvSpPr>
        <p:spPr>
          <a:xfrm>
            <a:off x="0" y="2057400"/>
            <a:ext cx="99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数至八层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000" spc="-1" strike="noStrike" u="sng">
                <a:solidFill>
                  <a:srgbClr val="3366ff"/>
                </a:solidFill>
                <a:uFillTx/>
                <a:latin typeface="Times New Roman"/>
              </a:rPr>
              <a:t>裁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如星点。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(“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裁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”通“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才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”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304920" y="281952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古今词义不同</a:t>
            </a:r>
            <a:r>
              <a:rPr b="1" lang="en-US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457200" y="3657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直接霄汉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3896640" y="4419720"/>
            <a:ext cx="21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古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66ff"/>
                </a:solidFill>
                <a:latin typeface="华文新魏"/>
                <a:ea typeface="华文新魏"/>
              </a:rPr>
              <a:t>一直连接到</a:t>
            </a:r>
            <a:r>
              <a:rPr b="1" lang="en-US" sz="4400" spc="-1" strike="noStrike">
                <a:solidFill>
                  <a:srgbClr val="3366ff"/>
                </a:solidFill>
                <a:latin typeface="华文新魏"/>
                <a:ea typeface="华文新魏"/>
              </a:rPr>
              <a:t>;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8"/>
          <p:cNvSpPr/>
          <p:nvPr/>
        </p:nvSpPr>
        <p:spPr>
          <a:xfrm>
            <a:off x="3736440" y="5105520"/>
            <a:ext cx="398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今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不经过中间的事物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05" name="Group 9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706" name="Rectangle 10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7" name="Rectangle 11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08" name="Group 12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709" name="Rectangle 13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0" name="Rectangle 14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2"/>
          <p:cNvSpPr/>
          <p:nvPr/>
        </p:nvSpPr>
        <p:spPr>
          <a:xfrm>
            <a:off x="228600" y="3049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词类活用</a:t>
            </a:r>
            <a:r>
              <a:rPr b="1" lang="en-US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228600" y="10666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窗扉皆洞开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2057400" y="10666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洞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3200400" y="1143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(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像洞一样</a:t>
            </a:r>
            <a:r>
              <a:rPr b="1" lang="en-US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名词做状语</a:t>
            </a:r>
            <a:r>
              <a:rPr b="1" lang="en-US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304920" y="182880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一词多义</a:t>
            </a:r>
            <a:r>
              <a:rPr b="1" lang="en-US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380880" y="29718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数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AutoShape 8"/>
          <p:cNvSpPr/>
          <p:nvPr/>
        </p:nvSpPr>
        <p:spPr>
          <a:xfrm>
            <a:off x="1143000" y="26668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1143000" y="26668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见宫殿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十所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0"/>
          <p:cNvSpPr/>
          <p:nvPr/>
        </p:nvSpPr>
        <p:spPr>
          <a:xfrm>
            <a:off x="4419720" y="2666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几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几个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表示不确定的数目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Text Box 11"/>
          <p:cNvSpPr/>
          <p:nvPr/>
        </p:nvSpPr>
        <p:spPr>
          <a:xfrm>
            <a:off x="1219320" y="36576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至八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2"/>
          <p:cNvSpPr/>
          <p:nvPr/>
        </p:nvSpPr>
        <p:spPr>
          <a:xfrm>
            <a:off x="3429000" y="3733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计数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3"/>
          <p:cNvSpPr/>
          <p:nvPr/>
        </p:nvSpPr>
        <p:spPr>
          <a:xfrm>
            <a:off x="380880" y="48006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然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1143000" y="457200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4" name="Text Box 15"/>
          <p:cNvSpPr/>
          <p:nvPr/>
        </p:nvSpPr>
        <p:spPr>
          <a:xfrm>
            <a:off x="1143000" y="457200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数年恒不一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5" name="Text Box 16"/>
          <p:cNvSpPr/>
          <p:nvPr/>
        </p:nvSpPr>
        <p:spPr>
          <a:xfrm>
            <a:off x="5105520" y="46483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但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表转折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Text Box 17"/>
          <p:cNvSpPr/>
          <p:nvPr/>
        </p:nvSpPr>
        <p:spPr>
          <a:xfrm>
            <a:off x="1143000" y="53341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居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</a:t>
            </a:r>
            <a:r>
              <a:rPr b="1" lang="zh-CN" sz="4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城郭矣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Text Box 18"/>
          <p:cNvSpPr/>
          <p:nvPr/>
        </p:nvSpPr>
        <p:spPr>
          <a:xfrm>
            <a:off x="388620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竟然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词尾</a:t>
            </a:r>
            <a:r>
              <a:rPr b="1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28" name="Group 19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729" name="Rectangle 20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0" name="Rectangle 21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31" name="Group 22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732" name="Rectangle 23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3" name="Rectangle 24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734" name="Picture 25" descr="agf059"/>
          <p:cNvPicPr/>
          <p:nvPr/>
        </p:nvPicPr>
        <p:blipFill>
          <a:blip r:embed="rId1"/>
          <a:stretch/>
        </p:blipFill>
        <p:spPr>
          <a:xfrm>
            <a:off x="7848720" y="6172200"/>
            <a:ext cx="838080" cy="395280"/>
          </a:xfrm>
          <a:prstGeom prst="rect">
            <a:avLst/>
          </a:prstGeom>
          <a:ln w="0">
            <a:noFill/>
          </a:ln>
        </p:spPr>
      </p:pic>
      <p:grpSp>
        <p:nvGrpSpPr>
          <p:cNvPr id="735" name="Group 26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736" name="Rectangle 27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7" name="Rectangle 28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2022840" y="561960"/>
            <a:ext cx="54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奂山山市，邑八景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一也，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然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数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年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恒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不一见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3657600" y="9907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的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5018400" y="10666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但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6400800" y="12952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100560" y="10666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7014240" y="1143000"/>
            <a:ext cx="789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常常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1956240" y="2214720"/>
            <a:ext cx="51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孙公子禹年与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同人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饮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楼上，忽见山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33520" y="38862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有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孤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塔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耸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起</a:t>
            </a: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1924200" y="2743200"/>
            <a:ext cx="2739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朋友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同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4453560" y="2743200"/>
            <a:ext cx="789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喝酒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990720" y="434340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孤零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9" name="Text Box 13"/>
          <p:cNvSpPr/>
          <p:nvPr/>
        </p:nvSpPr>
        <p:spPr>
          <a:xfrm>
            <a:off x="1391400" y="45720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耸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3708360" y="4005360"/>
            <a:ext cx="607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高插青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冥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相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顾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  惊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疑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1" name="Text Box 15"/>
          <p:cNvSpPr/>
          <p:nvPr/>
        </p:nvSpPr>
        <p:spPr>
          <a:xfrm>
            <a:off x="4286160" y="4495680"/>
            <a:ext cx="152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深远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2" name="Text Box 16"/>
          <p:cNvSpPr/>
          <p:nvPr/>
        </p:nvSpPr>
        <p:spPr>
          <a:xfrm>
            <a:off x="5791320" y="4952880"/>
            <a:ext cx="2209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你看看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我看看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3" name="Text Box 17"/>
          <p:cNvSpPr/>
          <p:nvPr/>
        </p:nvSpPr>
        <p:spPr>
          <a:xfrm>
            <a:off x="7624440" y="4572000"/>
            <a:ext cx="729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惊奇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4" name="Text Box 18"/>
          <p:cNvSpPr/>
          <p:nvPr/>
        </p:nvSpPr>
        <p:spPr>
          <a:xfrm>
            <a:off x="8157960" y="4572000"/>
            <a:ext cx="7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疑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6553080" y="4495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56" name="Group 20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757" name="Rectangle 21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8" name="Rectangle 22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59" name="Group 23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760" name="Rectangle 24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1" name="Rectangle 25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762" name="Picture 26" descr="agf059"/>
          <p:cNvPicPr/>
          <p:nvPr/>
        </p:nvPicPr>
        <p:blipFill>
          <a:blip r:embed="rId1"/>
          <a:stretch/>
        </p:blipFill>
        <p:spPr>
          <a:xfrm>
            <a:off x="1447920" y="6172200"/>
            <a:ext cx="838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2"/>
          <p:cNvSpPr/>
          <p:nvPr/>
        </p:nvSpPr>
        <p:spPr>
          <a:xfrm>
            <a:off x="2385720" y="68580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念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近中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无此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禅院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。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无何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见宫殿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4" name="Text Box 3"/>
          <p:cNvSpPr/>
          <p:nvPr/>
        </p:nvSpPr>
        <p:spPr>
          <a:xfrm>
            <a:off x="766080" y="1219320"/>
            <a:ext cx="789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心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1055880" y="12952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近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6" name="Text Box 5"/>
          <p:cNvSpPr/>
          <p:nvPr/>
        </p:nvSpPr>
        <p:spPr>
          <a:xfrm>
            <a:off x="3661560" y="1219320"/>
            <a:ext cx="789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佛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7" name="Text Box 6"/>
          <p:cNvSpPr/>
          <p:nvPr/>
        </p:nvSpPr>
        <p:spPr>
          <a:xfrm>
            <a:off x="5262120" y="1295280"/>
            <a:ext cx="729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不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8" name="Text Box 7"/>
          <p:cNvSpPr/>
          <p:nvPr/>
        </p:nvSpPr>
        <p:spPr>
          <a:xfrm>
            <a:off x="8081640" y="1295280"/>
            <a:ext cx="729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Text Box 8"/>
          <p:cNvSpPr/>
          <p:nvPr/>
        </p:nvSpPr>
        <p:spPr>
          <a:xfrm>
            <a:off x="7772400" y="1522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h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0" name="Rectangle 9"/>
          <p:cNvSpPr/>
          <p:nvPr/>
        </p:nvSpPr>
        <p:spPr>
          <a:xfrm>
            <a:off x="304920" y="23623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十所，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碧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瓦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飞甍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始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悟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为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山市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1" name="Text Box 10"/>
          <p:cNvSpPr/>
          <p:nvPr/>
        </p:nvSpPr>
        <p:spPr>
          <a:xfrm>
            <a:off x="2278800" y="3048120"/>
            <a:ext cx="1685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碧绿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2" name="Text Box 11"/>
          <p:cNvSpPr/>
          <p:nvPr/>
        </p:nvSpPr>
        <p:spPr>
          <a:xfrm>
            <a:off x="3657600" y="2895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飞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3" name="Text Box 12"/>
          <p:cNvSpPr/>
          <p:nvPr/>
        </p:nvSpPr>
        <p:spPr>
          <a:xfrm>
            <a:off x="4876920" y="29718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才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4" name="Text Box 13"/>
          <p:cNvSpPr/>
          <p:nvPr/>
        </p:nvSpPr>
        <p:spPr>
          <a:xfrm>
            <a:off x="5867280" y="29718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是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Text Box 14"/>
          <p:cNvSpPr/>
          <p:nvPr/>
        </p:nvSpPr>
        <p:spPr>
          <a:xfrm>
            <a:off x="723888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未几</a:t>
            </a:r>
            <a:r>
              <a:rPr b="1" lang="en-US" sz="3600" spc="-1" strike="noStrike" u="sng">
                <a:solidFill>
                  <a:srgbClr val="007a77"/>
                </a:solidFill>
                <a:uFillTx/>
                <a:latin typeface="Times New Roman"/>
              </a:rPr>
              <a:t>,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Text Box 15"/>
          <p:cNvSpPr/>
          <p:nvPr/>
        </p:nvSpPr>
        <p:spPr>
          <a:xfrm>
            <a:off x="71629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没多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Text Box 16"/>
          <p:cNvSpPr/>
          <p:nvPr/>
        </p:nvSpPr>
        <p:spPr>
          <a:xfrm>
            <a:off x="304920" y="39625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高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垣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睥睨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Text Box 17"/>
          <p:cNvSpPr/>
          <p:nvPr/>
        </p:nvSpPr>
        <p:spPr>
          <a:xfrm>
            <a:off x="914400" y="4572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墙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Text Box 18"/>
          <p:cNvSpPr/>
          <p:nvPr/>
        </p:nvSpPr>
        <p:spPr>
          <a:xfrm>
            <a:off x="2209680" y="563868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Text Box 19"/>
          <p:cNvSpPr/>
          <p:nvPr/>
        </p:nvSpPr>
        <p:spPr>
          <a:xfrm>
            <a:off x="228600" y="5105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高高低低的城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Rectangle 20"/>
          <p:cNvSpPr/>
          <p:nvPr/>
        </p:nvSpPr>
        <p:spPr>
          <a:xfrm>
            <a:off x="3048120" y="4038480"/>
            <a:ext cx="64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连亘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六七里，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居然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城郭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矣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Text Box 21"/>
          <p:cNvSpPr/>
          <p:nvPr/>
        </p:nvSpPr>
        <p:spPr>
          <a:xfrm>
            <a:off x="2945160" y="4648320"/>
            <a:ext cx="1155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连绵不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Text Box 22"/>
          <p:cNvSpPr/>
          <p:nvPr/>
        </p:nvSpPr>
        <p:spPr>
          <a:xfrm>
            <a:off x="5718960" y="4648320"/>
            <a:ext cx="1399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竟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Text Box 23"/>
          <p:cNvSpPr/>
          <p:nvPr/>
        </p:nvSpPr>
        <p:spPr>
          <a:xfrm>
            <a:off x="7467480" y="46483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85" name="Group 24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786" name="Rectangle 25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7" name="Rectangle 26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88" name="Group 27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789" name="Rectangle 28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0" name="Rectangle 29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791" name="Picture 30" descr="agf059"/>
          <p:cNvPicPr/>
          <p:nvPr/>
        </p:nvPicPr>
        <p:blipFill>
          <a:blip r:embed="rId1"/>
          <a:stretch/>
        </p:blipFill>
        <p:spPr>
          <a:xfrm>
            <a:off x="1447920" y="6172200"/>
            <a:ext cx="838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1783440" y="568440"/>
            <a:ext cx="51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中有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楼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若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者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若者，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坊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若者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0" y="1066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城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4" name="Text Box 4"/>
          <p:cNvSpPr/>
          <p:nvPr/>
        </p:nvSpPr>
        <p:spPr>
          <a:xfrm>
            <a:off x="2133720" y="1295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象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5" name="Text Box 5"/>
          <p:cNvSpPr/>
          <p:nvPr/>
        </p:nvSpPr>
        <p:spPr>
          <a:xfrm>
            <a:off x="1603800" y="1371600"/>
            <a:ext cx="667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楼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6" name="Text Box 6"/>
          <p:cNvSpPr/>
          <p:nvPr/>
        </p:nvSpPr>
        <p:spPr>
          <a:xfrm>
            <a:off x="4042440" y="1219320"/>
            <a:ext cx="789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厅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6328440" y="1219320"/>
            <a:ext cx="789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街巷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8" name="Text Box 8"/>
          <p:cNvSpPr/>
          <p:nvPr/>
        </p:nvSpPr>
        <p:spPr>
          <a:xfrm>
            <a:off x="2971800" y="12952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9" name="Text Box 9"/>
          <p:cNvSpPr/>
          <p:nvPr/>
        </p:nvSpPr>
        <p:spPr>
          <a:xfrm>
            <a:off x="228600" y="23623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历历在目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以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亿万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计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。忽大风起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尘气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0" name="Text Box 10"/>
          <p:cNvSpPr/>
          <p:nvPr/>
        </p:nvSpPr>
        <p:spPr>
          <a:xfrm>
            <a:off x="380880" y="41911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莽莽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然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城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依稀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而已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既而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风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1" name="Text Box 11"/>
          <p:cNvSpPr/>
          <p:nvPr/>
        </p:nvSpPr>
        <p:spPr>
          <a:xfrm>
            <a:off x="380880" y="48769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广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2" name="Text Box 12"/>
          <p:cNvSpPr/>
          <p:nvPr/>
        </p:nvSpPr>
        <p:spPr>
          <a:xfrm>
            <a:off x="2260440" y="4876920"/>
            <a:ext cx="2374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约约隐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3" name="Text Box 13"/>
          <p:cNvSpPr/>
          <p:nvPr/>
        </p:nvSpPr>
        <p:spPr>
          <a:xfrm>
            <a:off x="304920" y="2971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清晰的出现在眼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4" name="Text Box 14"/>
          <p:cNvSpPr/>
          <p:nvPr/>
        </p:nvSpPr>
        <p:spPr>
          <a:xfrm>
            <a:off x="2670840" y="3124080"/>
            <a:ext cx="789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5" name="Text Box 15"/>
          <p:cNvSpPr/>
          <p:nvPr/>
        </p:nvSpPr>
        <p:spPr>
          <a:xfrm>
            <a:off x="4271040" y="3124080"/>
            <a:ext cx="789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计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6" name="Text Box 16"/>
          <p:cNvSpPr/>
          <p:nvPr/>
        </p:nvSpPr>
        <p:spPr>
          <a:xfrm>
            <a:off x="5795280" y="4800600"/>
            <a:ext cx="1399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不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07" name="Group 17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808" name="Rectangle 18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9" name="Rectangle 19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810" name="Group 20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811" name="Rectangle 21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12" name="Rectangle 22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813" name="Picture 23" descr="agf059"/>
          <p:cNvPicPr/>
          <p:nvPr/>
        </p:nvPicPr>
        <p:blipFill>
          <a:blip r:embed="rId1"/>
          <a:stretch/>
        </p:blipFill>
        <p:spPr>
          <a:xfrm>
            <a:off x="1447920" y="6172200"/>
            <a:ext cx="838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523880" y="1295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1523880" y="228600"/>
            <a:ext cx="464832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Times New Roman"/>
              </a:rPr>
              <a:t>白居易在香山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Times New Roman"/>
              </a:rPr>
              <a:t>欧阳修六一欢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Times New Roman"/>
              </a:rPr>
              <a:t>李清照号易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Times New Roman"/>
              </a:rPr>
              <a:t>王安石住半山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Times New Roman"/>
              </a:rPr>
              <a:t>苏轼爬东坡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Times New Roman"/>
              </a:rPr>
              <a:t>李白采青莲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2"/>
          <p:cNvSpPr/>
          <p:nvPr/>
        </p:nvSpPr>
        <p:spPr>
          <a:xfrm>
            <a:off x="533520" y="4572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一切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乌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惟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危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楼一座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直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接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霄汉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5" name="Text Box 3"/>
          <p:cNvSpPr/>
          <p:nvPr/>
        </p:nvSpPr>
        <p:spPr>
          <a:xfrm>
            <a:off x="1680840" y="1219320"/>
            <a:ext cx="729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6" name="Text Box 4"/>
          <p:cNvSpPr/>
          <p:nvPr/>
        </p:nvSpPr>
        <p:spPr>
          <a:xfrm>
            <a:off x="15238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无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2899440" y="1219320"/>
            <a:ext cx="7898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只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3661560" y="1219320"/>
            <a:ext cx="789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9" name="Text Box 7"/>
          <p:cNvSpPr/>
          <p:nvPr/>
        </p:nvSpPr>
        <p:spPr>
          <a:xfrm>
            <a:off x="7620120" y="1066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云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0" name="Text Box 8"/>
          <p:cNvSpPr/>
          <p:nvPr/>
        </p:nvSpPr>
        <p:spPr>
          <a:xfrm>
            <a:off x="6633720" y="1143000"/>
            <a:ext cx="7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连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138240" y="2362320"/>
            <a:ext cx="900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楼五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架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窗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扉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皆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洞开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；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Times New Roman"/>
              </a:rPr>
              <a:t>一行有五点明处</a:t>
            </a:r>
            <a:r>
              <a:rPr b="1" lang="en-US" sz="4000" spc="-1" strike="noStrike" u="sng">
                <a:solidFill>
                  <a:srgbClr val="007a77"/>
                </a:solidFill>
                <a:uFillTx/>
                <a:latin typeface="Times New Roman"/>
              </a:rPr>
              <a:t>,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2" name="Text Box 10"/>
          <p:cNvSpPr/>
          <p:nvPr/>
        </p:nvSpPr>
        <p:spPr>
          <a:xfrm>
            <a:off x="-483840" y="2895480"/>
            <a:ext cx="1155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每层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3" name="Text Box 11"/>
          <p:cNvSpPr/>
          <p:nvPr/>
        </p:nvSpPr>
        <p:spPr>
          <a:xfrm>
            <a:off x="1143000" y="30481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4" name="Text Box 12"/>
          <p:cNvSpPr/>
          <p:nvPr/>
        </p:nvSpPr>
        <p:spPr>
          <a:xfrm>
            <a:off x="2061360" y="2971800"/>
            <a:ext cx="1399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窗户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5" name="Text Box 13"/>
          <p:cNvSpPr/>
          <p:nvPr/>
        </p:nvSpPr>
        <p:spPr>
          <a:xfrm>
            <a:off x="3432960" y="297180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大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6" name="Text Box 14"/>
          <p:cNvSpPr/>
          <p:nvPr/>
        </p:nvSpPr>
        <p:spPr>
          <a:xfrm>
            <a:off x="5486400" y="29718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都有五处明亮的地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304920" y="4419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楼外天也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。层层指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数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楼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愈高，则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明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渐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8" name="Text Box 16"/>
          <p:cNvSpPr/>
          <p:nvPr/>
        </p:nvSpPr>
        <p:spPr>
          <a:xfrm>
            <a:off x="228600" y="5029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那是楼外的天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9" name="Text Box 17"/>
          <p:cNvSpPr/>
          <p:nvPr/>
        </p:nvSpPr>
        <p:spPr>
          <a:xfrm>
            <a:off x="3886200" y="3962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h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0" name="Text Box 18"/>
          <p:cNvSpPr/>
          <p:nvPr/>
        </p:nvSpPr>
        <p:spPr>
          <a:xfrm>
            <a:off x="7162920" y="5029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亮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31" name="Group 19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832" name="Rectangle 20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3" name="Rectangle 21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834" name="Group 22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835" name="Rectangle 23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6" name="Rectangle 24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837" name="Picture 25" descr="agf059"/>
          <p:cNvPicPr/>
          <p:nvPr/>
        </p:nvPicPr>
        <p:blipFill>
          <a:blip r:embed="rId1"/>
          <a:stretch/>
        </p:blipFill>
        <p:spPr>
          <a:xfrm>
            <a:off x="1447920" y="6172200"/>
            <a:ext cx="838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2"/>
          <p:cNvSpPr/>
          <p:nvPr/>
        </p:nvSpPr>
        <p:spPr>
          <a:xfrm>
            <a:off x="2435760" y="457200"/>
            <a:ext cx="413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数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至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八层，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裁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如星点。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又其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上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198108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则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黯然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缥缈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，不可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计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其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层次矣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而楼上人往来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屑屑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或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凭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或立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一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状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3127680" y="495288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逾时，楼渐低，可见</a:t>
            </a:r>
            <a:r>
              <a:rPr b="1" lang="zh-CN" sz="4800" spc="-1" strike="noStrike" u="sng">
                <a:solidFill>
                  <a:srgbClr val="007a77"/>
                </a:solidFill>
                <a:uFillTx/>
                <a:latin typeface="Times New Roman"/>
              </a:rPr>
              <a:t>其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顶；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8305920" y="34290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不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2" name="Text Box 6"/>
          <p:cNvSpPr/>
          <p:nvPr/>
        </p:nvSpPr>
        <p:spPr>
          <a:xfrm>
            <a:off x="152280" y="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hǔ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3" name="Text Box 7"/>
          <p:cNvSpPr/>
          <p:nvPr/>
        </p:nvSpPr>
        <p:spPr>
          <a:xfrm>
            <a:off x="762120" y="1066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到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2895480" y="12193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同“才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5" name="Text Box 9"/>
          <p:cNvSpPr/>
          <p:nvPr/>
        </p:nvSpPr>
        <p:spPr>
          <a:xfrm>
            <a:off x="2362320" y="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亮点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6" name="Line 10"/>
          <p:cNvSpPr/>
          <p:nvPr/>
        </p:nvSpPr>
        <p:spPr>
          <a:xfrm flipH="1" flipV="1">
            <a:off x="3123720" y="609120"/>
            <a:ext cx="228600" cy="3812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7" name="Text Box 11"/>
          <p:cNvSpPr/>
          <p:nvPr/>
        </p:nvSpPr>
        <p:spPr>
          <a:xfrm>
            <a:off x="6324480" y="114300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再往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8" name="Text Box 12"/>
          <p:cNvSpPr/>
          <p:nvPr/>
        </p:nvSpPr>
        <p:spPr>
          <a:xfrm>
            <a:off x="609480" y="26668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黯淡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9" name="Text Box 13"/>
          <p:cNvSpPr/>
          <p:nvPr/>
        </p:nvSpPr>
        <p:spPr>
          <a:xfrm>
            <a:off x="1981080" y="26668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若有若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0" name="Text Box 14"/>
          <p:cNvSpPr/>
          <p:nvPr/>
        </p:nvSpPr>
        <p:spPr>
          <a:xfrm>
            <a:off x="5029200" y="2590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计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1" name="Text Box 15"/>
          <p:cNvSpPr/>
          <p:nvPr/>
        </p:nvSpPr>
        <p:spPr>
          <a:xfrm>
            <a:off x="5867280" y="26668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2" name="Text Box 16"/>
          <p:cNvSpPr/>
          <p:nvPr/>
        </p:nvSpPr>
        <p:spPr>
          <a:xfrm>
            <a:off x="2971800" y="41148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忙碌的样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3" name="Text Box 17"/>
          <p:cNvSpPr/>
          <p:nvPr/>
        </p:nvSpPr>
        <p:spPr>
          <a:xfrm>
            <a:off x="5562720" y="40384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有的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6248520" y="4038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靠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5" name="Text Box 19"/>
          <p:cNvSpPr/>
          <p:nvPr/>
        </p:nvSpPr>
        <p:spPr>
          <a:xfrm>
            <a:off x="7086600" y="40384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栏杆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6" name="Text Box 20"/>
          <p:cNvSpPr/>
          <p:nvPr/>
        </p:nvSpPr>
        <p:spPr>
          <a:xfrm>
            <a:off x="380880" y="55627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形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7" name="Text Box 21"/>
          <p:cNvSpPr/>
          <p:nvPr/>
        </p:nvSpPr>
        <p:spPr>
          <a:xfrm>
            <a:off x="7086600" y="56386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8" name="Text Box 22"/>
          <p:cNvSpPr/>
          <p:nvPr/>
        </p:nvSpPr>
        <p:spPr>
          <a:xfrm>
            <a:off x="7315200" y="56386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（楼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59" name="Group 23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860" name="Rectangle 24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61" name="Rectangle 25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862" name="Group 26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863" name="Rectangle 27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64" name="Rectangle 28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865" name="Picture 29" descr="agf059"/>
          <p:cNvPicPr/>
          <p:nvPr/>
        </p:nvPicPr>
        <p:blipFill>
          <a:blip r:embed="rId1"/>
          <a:stretch/>
        </p:blipFill>
        <p:spPr>
          <a:xfrm>
            <a:off x="1447920" y="6172200"/>
            <a:ext cx="8380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2"/>
          <p:cNvSpPr/>
          <p:nvPr/>
        </p:nvSpPr>
        <p:spPr>
          <a:xfrm>
            <a:off x="304920" y="6858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304920" y="457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又渐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常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楼；又渐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高舍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；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倏忽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8" name="Rectangle 4"/>
          <p:cNvSpPr/>
          <p:nvPr/>
        </p:nvSpPr>
        <p:spPr>
          <a:xfrm>
            <a:off x="2652120" y="1676520"/>
            <a:ext cx="42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拳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如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豆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不可见。又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闻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有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早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行者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9" name="Rectangle 5"/>
          <p:cNvSpPr/>
          <p:nvPr/>
        </p:nvSpPr>
        <p:spPr>
          <a:xfrm>
            <a:off x="1882800" y="3505320"/>
            <a:ext cx="516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见山上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人烟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肆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，与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世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无别，故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0" name="Rectangle 6"/>
          <p:cNvSpPr/>
          <p:nvPr/>
        </p:nvSpPr>
        <p:spPr>
          <a:xfrm>
            <a:off x="905400" y="5105520"/>
            <a:ext cx="229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又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Times New Roman"/>
              </a:rPr>
              <a:t>名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“鬼市”云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1" name="Text Box 7"/>
          <p:cNvSpPr/>
          <p:nvPr/>
        </p:nvSpPr>
        <p:spPr>
          <a:xfrm>
            <a:off x="1676520" y="1143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平常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2" name="Text Box 8"/>
          <p:cNvSpPr/>
          <p:nvPr/>
        </p:nvSpPr>
        <p:spPr>
          <a:xfrm>
            <a:off x="4038480" y="10666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高高的平房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3" name="Text Box 9"/>
          <p:cNvSpPr/>
          <p:nvPr/>
        </p:nvSpPr>
        <p:spPr>
          <a:xfrm>
            <a:off x="7010280" y="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hū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4" name="Text Box 10"/>
          <p:cNvSpPr/>
          <p:nvPr/>
        </p:nvSpPr>
        <p:spPr>
          <a:xfrm>
            <a:off x="7086600" y="10666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突然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5" name="Text Box 11"/>
          <p:cNvSpPr/>
          <p:nvPr/>
        </p:nvSpPr>
        <p:spPr>
          <a:xfrm>
            <a:off x="152280" y="22096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拳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6" name="Text Box 12"/>
          <p:cNvSpPr/>
          <p:nvPr/>
        </p:nvSpPr>
        <p:spPr>
          <a:xfrm>
            <a:off x="1219320" y="22096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豆粒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7" name="Text Box 13"/>
          <p:cNvSpPr/>
          <p:nvPr/>
        </p:nvSpPr>
        <p:spPr>
          <a:xfrm>
            <a:off x="2362320" y="22096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终于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8" name="Text Box 14"/>
          <p:cNvSpPr/>
          <p:nvPr/>
        </p:nvSpPr>
        <p:spPr>
          <a:xfrm>
            <a:off x="5715000" y="2286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听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9" name="Text Box 15"/>
          <p:cNvSpPr/>
          <p:nvPr/>
        </p:nvSpPr>
        <p:spPr>
          <a:xfrm>
            <a:off x="6858000" y="2286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早起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0" name="Text Box 16"/>
          <p:cNvSpPr/>
          <p:nvPr/>
        </p:nvSpPr>
        <p:spPr>
          <a:xfrm>
            <a:off x="7696080" y="23623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新魏"/>
              </a:rPr>
              <a:t>赶路的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1" name="Text Box 17"/>
          <p:cNvSpPr/>
          <p:nvPr/>
        </p:nvSpPr>
        <p:spPr>
          <a:xfrm>
            <a:off x="1905120" y="41148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人家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2" name="Text Box 18"/>
          <p:cNvSpPr/>
          <p:nvPr/>
        </p:nvSpPr>
        <p:spPr>
          <a:xfrm>
            <a:off x="3276720" y="41148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集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3" name="Text Box 19"/>
          <p:cNvSpPr/>
          <p:nvPr/>
        </p:nvSpPr>
        <p:spPr>
          <a:xfrm>
            <a:off x="4038480" y="41148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店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4" name="Text Box 20"/>
          <p:cNvSpPr/>
          <p:nvPr/>
        </p:nvSpPr>
        <p:spPr>
          <a:xfrm>
            <a:off x="5638680" y="41148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尘世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5" name="Text Box 21"/>
          <p:cNvSpPr/>
          <p:nvPr/>
        </p:nvSpPr>
        <p:spPr>
          <a:xfrm>
            <a:off x="7696080" y="41911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所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6" name="Text Box 22"/>
          <p:cNvSpPr/>
          <p:nvPr/>
        </p:nvSpPr>
        <p:spPr>
          <a:xfrm>
            <a:off x="533520" y="57150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称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87" name="Group 23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888" name="Rectangle 24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89" name="Rectangle 25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890" name="Group 26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891" name="Rectangle 27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2" name="Rectangle 28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893" name="Picture 29" descr="agf059"/>
          <p:cNvPicPr/>
          <p:nvPr/>
        </p:nvPicPr>
        <p:blipFill>
          <a:blip r:embed="rId1"/>
          <a:stretch/>
        </p:blipFill>
        <p:spPr>
          <a:xfrm>
            <a:off x="7924680" y="6172200"/>
            <a:ext cx="838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-396720" y="188640"/>
            <a:ext cx="9540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思 考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作者描绘山市时，是以什么为序的</a:t>
            </a:r>
            <a:r>
              <a:rPr b="1" lang="zh-CN" sz="4000" spc="-1" strike="noStrike">
                <a:solidFill>
                  <a:srgbClr val="050246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5" name="Text Box 4"/>
          <p:cNvSpPr/>
          <p:nvPr/>
        </p:nvSpPr>
        <p:spPr>
          <a:xfrm>
            <a:off x="684360" y="23493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是以时间为序的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6" name="Text Box 5"/>
          <p:cNvSpPr/>
          <p:nvPr/>
        </p:nvSpPr>
        <p:spPr>
          <a:xfrm>
            <a:off x="611280" y="3213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表示时间的词语有哪些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7" name="Text Box 6"/>
          <p:cNvSpPr/>
          <p:nvPr/>
        </p:nvSpPr>
        <p:spPr>
          <a:xfrm>
            <a:off x="3394440" y="3938760"/>
            <a:ext cx="134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忽、无何、未几、忽、既儿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逾时、倏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8" name="Text Box 7"/>
          <p:cNvSpPr/>
          <p:nvPr/>
        </p:nvSpPr>
        <p:spPr>
          <a:xfrm>
            <a:off x="627120" y="58672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9" name="Text Box 8"/>
          <p:cNvSpPr/>
          <p:nvPr/>
        </p:nvSpPr>
        <p:spPr>
          <a:xfrm>
            <a:off x="482760" y="60102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53452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思考</a:t>
            </a:r>
            <a:br>
              <a:rPr sz="1600"/>
            </a:br>
            <a:br>
              <a:rPr sz="1600"/>
            </a:b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作者是怎样描绘山市的变化的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82000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明确：作者是以目击者的口气来描写山市的变化的，这样可以增强文章的真实性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具体变化如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2" name="Line 4"/>
          <p:cNvSpPr/>
          <p:nvPr/>
        </p:nvSpPr>
        <p:spPr>
          <a:xfrm>
            <a:off x="3851280" y="4508640"/>
            <a:ext cx="53352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3" name="Line 5"/>
          <p:cNvSpPr/>
          <p:nvPr/>
        </p:nvSpPr>
        <p:spPr>
          <a:xfrm>
            <a:off x="5508720" y="4508640"/>
            <a:ext cx="5331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4" name="Line 6"/>
          <p:cNvSpPr/>
          <p:nvPr/>
        </p:nvSpPr>
        <p:spPr>
          <a:xfrm>
            <a:off x="1979640" y="5157720"/>
            <a:ext cx="53352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5" name="Line 7"/>
          <p:cNvSpPr/>
          <p:nvPr/>
        </p:nvSpPr>
        <p:spPr>
          <a:xfrm>
            <a:off x="3492360" y="515772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6" name="Line 8"/>
          <p:cNvSpPr/>
          <p:nvPr/>
        </p:nvSpPr>
        <p:spPr>
          <a:xfrm>
            <a:off x="5724360" y="5084640"/>
            <a:ext cx="53352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7" name="Text Box 9"/>
          <p:cNvSpPr/>
          <p:nvPr/>
        </p:nvSpPr>
        <p:spPr>
          <a:xfrm>
            <a:off x="2700360" y="4221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宫殿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8" name="Text Box 10"/>
          <p:cNvSpPr/>
          <p:nvPr/>
        </p:nvSpPr>
        <p:spPr>
          <a:xfrm>
            <a:off x="4427640" y="414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城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9" name="Text Box 11"/>
          <p:cNvSpPr/>
          <p:nvPr/>
        </p:nvSpPr>
        <p:spPr>
          <a:xfrm>
            <a:off x="971640" y="4797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危楼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0" name="Text Box 12"/>
          <p:cNvSpPr/>
          <p:nvPr/>
        </p:nvSpPr>
        <p:spPr>
          <a:xfrm>
            <a:off x="2556000" y="4869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高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1" name="Text Box 13"/>
          <p:cNvSpPr/>
          <p:nvPr/>
        </p:nvSpPr>
        <p:spPr>
          <a:xfrm>
            <a:off x="3995640" y="4869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如拳如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2" name="Text Box 14"/>
          <p:cNvSpPr/>
          <p:nvPr/>
        </p:nvSpPr>
        <p:spPr>
          <a:xfrm>
            <a:off x="6156360" y="479736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不可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3" name="Text Box 15"/>
          <p:cNvSpPr/>
          <p:nvPr/>
        </p:nvSpPr>
        <p:spPr>
          <a:xfrm>
            <a:off x="971640" y="4221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孤塔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4" name="Line 16"/>
          <p:cNvSpPr/>
          <p:nvPr/>
        </p:nvSpPr>
        <p:spPr>
          <a:xfrm>
            <a:off x="1979640" y="4581360"/>
            <a:ext cx="64764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75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75"/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Picture 2" descr="0(3)"/>
          <p:cNvPicPr/>
          <p:nvPr/>
        </p:nvPicPr>
        <p:blipFill>
          <a:blip r:embed="rId1"/>
          <a:stretch/>
        </p:blipFill>
        <p:spPr>
          <a:xfrm>
            <a:off x="7524720" y="-316080"/>
            <a:ext cx="1979640" cy="1366920"/>
          </a:xfrm>
          <a:prstGeom prst="rect">
            <a:avLst/>
          </a:prstGeom>
          <a:ln w="0">
            <a:noFill/>
          </a:ln>
        </p:spPr>
      </p:pic>
      <p:sp>
        <p:nvSpPr>
          <p:cNvPr id="916" name="Text Box 3"/>
          <p:cNvSpPr/>
          <p:nvPr/>
        </p:nvSpPr>
        <p:spPr>
          <a:xfrm>
            <a:off x="0" y="69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3399"/>
                </a:solidFill>
                <a:latin typeface="宋体"/>
              </a:rPr>
              <a:t>、山市出现的全过程分为几个阶段</a:t>
            </a:r>
            <a:r>
              <a:rPr b="1" lang="en-US" sz="4000" spc="-1" strike="noStrike">
                <a:solidFill>
                  <a:srgbClr val="ff3399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179280" y="13413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初生阶段</a:t>
            </a: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从孤塔高耸到宫殿出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179280" y="2276640"/>
            <a:ext cx="74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发展阶段</a:t>
            </a: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城郭的出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9" name="Text Box 6"/>
          <p:cNvSpPr/>
          <p:nvPr/>
        </p:nvSpPr>
        <p:spPr>
          <a:xfrm>
            <a:off x="179280" y="3141720"/>
            <a:ext cx="66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(3)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高潮阶段</a:t>
            </a:r>
            <a:r>
              <a:rPr b="1" lang="en-US" sz="4000" spc="-1" strike="noStrike">
                <a:solidFill>
                  <a:srgbClr val="3366ff"/>
                </a:solidFill>
                <a:latin typeface="宋体"/>
              </a:rPr>
              <a:t>:</a:t>
            </a:r>
            <a:r>
              <a:rPr b="1" lang="zh-CN" sz="4000" spc="-1" strike="noStrike">
                <a:solidFill>
                  <a:srgbClr val="3366ff"/>
                </a:solidFill>
                <a:latin typeface="宋体"/>
              </a:rPr>
              <a:t>危楼的出现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20" name="Group 7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921" name="Rectangle 8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22" name="Rectangle 9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23" name="Group 10"/>
          <p:cNvGrpSpPr/>
          <p:nvPr/>
        </p:nvGrpSpPr>
        <p:grpSpPr>
          <a:xfrm>
            <a:off x="1862280" y="3251160"/>
            <a:ext cx="5429160" cy="360"/>
            <a:chOff x="1862280" y="3251160"/>
            <a:chExt cx="5429160" cy="360"/>
          </a:xfrm>
        </p:grpSpPr>
        <p:sp>
          <p:nvSpPr>
            <p:cNvPr id="924" name="Rectangle 11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25" name="Rectangle 12"/>
            <p:cNvSpPr/>
            <p:nvPr/>
          </p:nvSpPr>
          <p:spPr>
            <a:xfrm>
              <a:off x="1862280" y="3251160"/>
              <a:ext cx="5429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926" name="Text Box 13"/>
          <p:cNvSpPr/>
          <p:nvPr/>
        </p:nvSpPr>
        <p:spPr>
          <a:xfrm>
            <a:off x="519120" y="3600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0" y="4941720"/>
            <a:ext cx="907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结尾一段写山上的“鬼市”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这是补笔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有照应开头的作用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8" name="Text Box 15"/>
          <p:cNvSpPr/>
          <p:nvPr/>
        </p:nvSpPr>
        <p:spPr>
          <a:xfrm>
            <a:off x="411120" y="47862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9" name="Text Box 16"/>
          <p:cNvSpPr/>
          <p:nvPr/>
        </p:nvSpPr>
        <p:spPr>
          <a:xfrm>
            <a:off x="179280" y="41497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0" name="Text Box 17"/>
          <p:cNvSpPr/>
          <p:nvPr/>
        </p:nvSpPr>
        <p:spPr>
          <a:xfrm>
            <a:off x="0" y="3981600"/>
            <a:ext cx="58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、结尾有什么作用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6472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 考</a:t>
            </a:r>
            <a:br>
              <a:rPr sz="4800"/>
            </a:b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文章对山市景象的描写生动形象，作者运用了哪些修辞方法以达到这种效果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3" name="Text Box 4"/>
          <p:cNvSpPr/>
          <p:nvPr/>
        </p:nvSpPr>
        <p:spPr>
          <a:xfrm>
            <a:off x="1676520" y="2565360"/>
            <a:ext cx="47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惟危楼一座，直接霄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685800" y="2590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夸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5" name="Text Box 6"/>
          <p:cNvSpPr/>
          <p:nvPr/>
        </p:nvSpPr>
        <p:spPr>
          <a:xfrm>
            <a:off x="685800" y="34290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比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6" name="Text Box 7"/>
          <p:cNvSpPr/>
          <p:nvPr/>
        </p:nvSpPr>
        <p:spPr>
          <a:xfrm>
            <a:off x="1619280" y="3500280"/>
            <a:ext cx="46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数至八层，裁如星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7" name="Text Box 8"/>
          <p:cNvSpPr/>
          <p:nvPr/>
        </p:nvSpPr>
        <p:spPr>
          <a:xfrm>
            <a:off x="684360" y="436572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排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8" name="Text Box 9"/>
          <p:cNvSpPr/>
          <p:nvPr/>
        </p:nvSpPr>
        <p:spPr>
          <a:xfrm>
            <a:off x="1403280" y="4365720"/>
            <a:ext cx="4724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中有楼若者，堂若者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坊若者。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9" name="Text Box 10"/>
          <p:cNvSpPr/>
          <p:nvPr/>
        </p:nvSpPr>
        <p:spPr>
          <a:xfrm>
            <a:off x="6372360" y="292428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使文章语文简洁而富有表现力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0" name="AutoShape 11"/>
          <p:cNvSpPr/>
          <p:nvPr/>
        </p:nvSpPr>
        <p:spPr>
          <a:xfrm>
            <a:off x="5940360" y="278136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75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75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75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75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75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75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75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 考</a:t>
            </a:r>
            <a:br>
              <a:rPr sz="7200"/>
            </a:br>
            <a:br>
              <a:rPr sz="7200"/>
            </a:b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华文行楷"/>
              </a:rPr>
              <a:t>6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行楷"/>
              </a:rPr>
              <a:t>、本文在写法上有什么特点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行楷"/>
              </a:rPr>
              <a:t>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55640" y="328428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描绘的是动景，抓住山市景象变幻莫测的特点来写，因而是 按照时间顺序来描绘景象的变化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海市蜃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新宋体"/>
              </a:rPr>
              <a:t>——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新宋体"/>
              </a:rPr>
              <a:t>小知识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250920" y="1628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新宋体"/>
                <a:ea typeface="新宋体"/>
              </a:rPr>
              <a:t>    </a:t>
            </a:r>
            <a:r>
              <a:rPr b="1" lang="zh-CN" sz="3600" spc="-1" strike="noStrike">
                <a:solidFill>
                  <a:srgbClr val="3366ff"/>
                </a:solidFill>
                <a:latin typeface="新宋体"/>
                <a:ea typeface="新宋体"/>
              </a:rPr>
              <a:t>假设有个绿洲，它在 </a:t>
            </a:r>
            <a:r>
              <a:rPr b="1" lang="en-US" sz="3600" spc="-1" strike="noStrike">
                <a:solidFill>
                  <a:srgbClr val="3366ff"/>
                </a:solidFill>
                <a:latin typeface="新宋体"/>
                <a:ea typeface="新宋体"/>
              </a:rPr>
              <a:t>A </a:t>
            </a:r>
            <a:r>
              <a:rPr b="1" lang="zh-CN" sz="3600" spc="-1" strike="noStrike">
                <a:solidFill>
                  <a:srgbClr val="3366ff"/>
                </a:solidFill>
                <a:latin typeface="新宋体"/>
                <a:ea typeface="新宋体"/>
              </a:rPr>
              <a:t>点发出的光线被空气折射，走一条弯弯的路径。在 </a:t>
            </a:r>
            <a:r>
              <a:rPr b="1" lang="en-US" sz="3600" spc="-1" strike="noStrike">
                <a:solidFill>
                  <a:srgbClr val="3366ff"/>
                </a:solidFill>
                <a:latin typeface="新宋体"/>
                <a:ea typeface="新宋体"/>
              </a:rPr>
              <a:t>B </a:t>
            </a:r>
            <a:r>
              <a:rPr b="1" lang="zh-CN" sz="3600" spc="-1" strike="noStrike">
                <a:solidFill>
                  <a:srgbClr val="3366ff"/>
                </a:solidFill>
                <a:latin typeface="新宋体"/>
                <a:ea typeface="新宋体"/>
              </a:rPr>
              <a:t>点，光线发生全内发射，使光线往上走。之后，光线再次被空气折射，最后光线会进入站在 </a:t>
            </a:r>
            <a:r>
              <a:rPr b="1" lang="en-US" sz="3600" spc="-1" strike="noStrike">
                <a:solidFill>
                  <a:srgbClr val="3366ff"/>
                </a:solidFill>
                <a:latin typeface="新宋体"/>
                <a:ea typeface="新宋体"/>
              </a:rPr>
              <a:t>C </a:t>
            </a:r>
            <a:r>
              <a:rPr b="1" lang="zh-CN" sz="3600" spc="-1" strike="noStrike">
                <a:solidFill>
                  <a:srgbClr val="3366ff"/>
                </a:solidFill>
                <a:latin typeface="新宋体"/>
                <a:ea typeface="新宋体"/>
              </a:rPr>
              <a:t>点那观测者的眼睛，使他形成错觉，误以为绿洲很接近他呢！很久以前，人类便发现了全内反射，更把这个现象加以应用，例如光纤、单镜反光照相机和双筒望远镜都应用了全内反射的原理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5" name="AutoShape 4"/>
          <p:cNvSpPr/>
          <p:nvPr/>
        </p:nvSpPr>
        <p:spPr>
          <a:xfrm>
            <a:off x="6934320" y="6324480"/>
            <a:ext cx="304560" cy="228600"/>
          </a:xfrm>
          <a:prstGeom prst="leftArrow">
            <a:avLst>
              <a:gd name="adj1" fmla="val 50000"/>
              <a:gd name="adj2" fmla="val 3330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思维拓展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  <a:ea typeface="华文行楷"/>
              </a:rPr>
              <a:t>假如此刻你正在沙漠中艰难地跋涉，突然看到远处有一处奇景，你会看到什么？你会怎样去做？请展开大胆的想象，描绘出你“看到的”海市蜃楼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8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0"/>
            <a:ext cx="4114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聊斋志异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文言短篇小说集，共收录作品近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500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篇，以短篇小说为主，此外还有散记特写、随笔寓言等，主要写鬼狐精怪的故事，也收录一些奇特的事。构思奇妙，语言生动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psl0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95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1788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年，拿破仑率军进攻埃及。在一天，法军在行进途中，突然看见前面有一片模糊的湖光山景。景物倒悬在空中，不一会儿，湖泊又消失得无影无踪。随后，他们又看到草叶变成了棕榈树丛。这种变幻莫测的影像使法军十分惊慌、不知所措。士兵们个个被吓得跪 在地上祷告，企求上帝保佑。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4" descr="BD00028_"/>
          <p:cNvPicPr/>
          <p:nvPr/>
        </p:nvPicPr>
        <p:blipFill>
          <a:blip r:embed="rId1"/>
          <a:stretch/>
        </p:blipFill>
        <p:spPr>
          <a:xfrm>
            <a:off x="0" y="333360"/>
            <a:ext cx="14032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它是怎样形成的？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海市蜃楼现象形成的主要原因是：地面强烈增热或强烈辐射冷却，使得近地空气层的密度，上下差异很大，当地面景物的光像在这种疏密不同的空气中传播时，由于光线的反射率、折射率的强烈变化而曲线投影到很远的地方成像。不少的沙漠旅行者或海洋航行者都受到过这种幻影的迷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5075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在沙漠里，在海湾上，或是在广阔的陆地和 水域上空，有时在远处涌现树木房屋、街道行人、车马船舶等景象，好像一个热闹的集市，很快又自行消失。古代人们不了解它的成因，以为是神仙住所、蛟龙吐气，故而名为海市蜃楼，亦称蓬莱仙境。气象学上称为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蜃景</a:t>
            </a: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5" name="Picture 3" descr="03090907301_1-1-21-659_20030908121053"/>
          <p:cNvPicPr/>
          <p:nvPr/>
        </p:nvPicPr>
        <p:blipFill>
          <a:blip r:embed="rId1"/>
          <a:stretch/>
        </p:blipFill>
        <p:spPr>
          <a:xfrm>
            <a:off x="-3349800" y="0"/>
            <a:ext cx="12276360" cy="69692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4"/>
          <p:cNvSpPr/>
          <p:nvPr/>
        </p:nvSpPr>
        <p:spPr>
          <a:xfrm>
            <a:off x="-90000" y="685332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900000" y="476280"/>
            <a:ext cx="1843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郑州出现奇特大气现象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99" name="Picture 3" descr="n200378135546"/>
          <p:cNvPicPr/>
          <p:nvPr/>
        </p:nvPicPr>
        <p:blipFill>
          <a:blip r:embed="rId1"/>
          <a:stretch/>
        </p:blipFill>
        <p:spPr>
          <a:xfrm>
            <a:off x="-468360" y="0"/>
            <a:ext cx="1000908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0T14:50:39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14:57:58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