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E664-CE6F-4516-ACBC-2227818C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CFB-E6F7-43E8-9EC9-1A642A59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E9AE3-54DA-43A7-83F2-D5CDD731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A9823-49D7-4108-A16F-D7AFBFA4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EF274-5855-42EB-951A-AA1B5F5F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704B8-6533-4858-A535-C74775CD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9FFE6-231A-428C-973A-81277AE3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B069E-31B1-4A6D-911C-6BC57667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4ECBF-D073-4FF1-AB66-D10DF2B5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F66DB-DDC1-463C-82F0-7C68D30F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9CF8C-4D42-4560-A3E4-1F0B0896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75184-653B-4780-9CCC-13BEFFE3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317-D4AC-40E6-8A00-835523C1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3BA9C-AEFA-48BB-90E2-1DC9BE86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14216-8D25-45BD-8514-9FDAF519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F4309-9F79-4623-B81D-E7404CE2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8A5DF-031F-48F8-95C9-C0DED2BB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B18E3-8E8F-4EC3-8B27-AE1CD8C8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23099-9345-4566-A57E-A6A0FF99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3CD7A-48B7-434C-96B8-BA848E4D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81A75-78A2-474A-9204-03E8EA91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09FBC-2810-47F3-A523-6FAE3084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9C9A9-AC11-4836-BD1D-0F219883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4E5-F5B1-4B1F-BCA1-8782F12F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11568-D8AA-4ABB-8F4D-0D0EFD92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6CD9E-420B-4E40-A94F-1FE49156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1B953-F459-4C6B-8823-B937C002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4454C-6C9F-4231-B481-67C2648E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C50A5-C02B-4725-BD25-EDCFC26A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A0A38-9BB0-4B30-9C2E-95C5059E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08F91-80C3-402A-9281-DBB2D9FB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357DD-042A-4A55-B041-3358C725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3C229-1BFC-4C20-966F-33844694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1D83F-B081-4245-B3F4-AA62626B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8FF2-C985-4E38-94D5-D73D235F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5C9F2-D492-4B41-BEB1-5A64DC0F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721C7-1F03-4CEC-ADC4-8BEDEE16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E9DCE-108C-4275-AD29-78138B74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62CA6-B91C-43F0-A700-1C705525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60F81-7417-464A-A7F0-9C640FC3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1DE2A-6486-42A4-A676-F1CDB2CB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A323E-A3B3-4F70-93F4-2F265079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300D4-DDD8-4AB3-9820-58C6B1D0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9FD9E-D0A4-4309-96BD-FA276A95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D99A4-D201-4DA6-B2DB-336D877B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DF67-53C1-4EE6-B671-10716A9A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32BAF-D9C1-4BED-93BB-45B1ED7A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06940-B75C-4381-9632-F9E9E0BD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31114-B871-48FD-AE4F-D3C4588B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61B9B-20D1-45BA-BE2E-2F2DF557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DBAC2-76B0-4E71-8421-D3305802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02FEE-8046-4CD1-84F8-5E90C4CD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76A5BD-AF3B-4EE8-B371-09B6692C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B2FFA-AF17-4D6A-B8EA-642E0EF4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2CFCD-1EB1-49FF-9AF8-3DA901F5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7D306-3D74-4E04-8966-2C13D1A8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D8F9-A6C9-4D92-9987-FC43B7AA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D6E1B-ACD0-45C7-B22D-19E04E41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42C4B-62C3-4883-9F1C-C036E18C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9F84D-FA21-4F32-8DE9-3B5F94A8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F7030-A655-4C83-B4A2-D52C2F95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76BB1-E9F2-490D-9961-570C8060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B30D3-F489-4686-AA0F-997243AD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481EC-713B-4BDA-B481-C2FF2C96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A2C3A-76D5-4FFC-9C5D-AA0ACDCE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BBE72-068B-4E30-B3E9-1B7CEE69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67647D-0EA0-4C05-82C2-E6588E5B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40A5-D5F1-4CD7-A20A-787D9539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DB5C15-B040-4AE6-BB95-6D7412EA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B72B27-1C43-4EF3-820A-FEAE1957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D4E83-F75F-4AD7-898B-62D85A6C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0C98BA-3F6E-47CC-9167-467C3B61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0861AB-DD55-49B9-A852-7F4085CB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02B6C-E9EE-480A-BEC3-3C5B0D6E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38600-DEC0-4F89-A8AE-CAE47AB1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0846A-A602-4481-B684-10267480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83E4F6-7CEA-44F9-9C7B-14E02EA2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B530-0C37-48CC-8E34-9AC7F6DF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2D0D-C370-47A2-BF38-6F5E25FC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6E96-FC36-4E65-8D71-2D6CD79A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A39-0BF4-47F2-B0FD-36203E29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2A23-D788-491E-91CD-E15F35EE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4271-2A8B-4394-A9D5-92C861E0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AE1B-A8B0-493E-AC97-4C530AA3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D51C-39F8-42B2-AAC1-3FBF6A6B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3275-EE96-431E-B7F1-3FF697A9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E5CF8-1731-4056-BE56-2568EBA3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21824-BE1F-4CC7-B851-32959A9F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383FF-D4AE-4B66-A13C-F904E262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97948-50A1-4145-9559-09049F1C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480E3-207D-46AF-8246-9C0D7835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167-1947-4EE5-846A-AD06200D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A6811-4A28-4FB2-AE54-BAA2C146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5686C-C678-486F-86F5-817AB221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507C3-74AE-46B0-B004-81EC0F59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67E3B-0856-42C0-B00C-E5A095E9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580AC-3BE8-4261-B40C-83AF3054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8A29B-2B60-4880-B453-38A048F6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01F0B-7D5C-4BC3-9AB7-8D459B0D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AEA10-17E0-45E5-95E2-DC91B305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2BBB9-DD84-4112-84B2-373E17B8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A220A-F0F7-4C01-B2FF-9720E963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3EB-2FB9-491E-ABBF-27E74655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B111C-FD96-40A3-A302-C68DA8F7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33913-2553-4515-A61B-711B7768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F5A99-5F7E-4F90-8D9B-BAD6D2FC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01CE1-7E51-4038-9A40-7F0C2588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BA1EA-BEE7-4B87-90E5-29933211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1C627-BA46-4F9A-B0C8-820FDB40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E4955-3F35-4362-A626-0F07EB0F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CB5C4-EC71-4738-895A-699B6592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A09BF-CEE9-4B75-98EC-A5367EC9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36CC0-5427-44F7-AE58-A914A5CA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31C-5215-4E4F-A67E-0DC1E29F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2D088-EE86-45DE-8832-8EC8E38F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809AF-7137-4802-AF1C-DF0DDA70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371A0-5BB6-4D48-8332-235C904D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B7D4A-BD43-48AD-9ADD-9E666E2A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ACD94-56B7-4259-8CBD-152E8F67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20416-F452-407F-B55F-7D83A5EA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89586-969B-41C5-B6F8-F8FC4CEB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CE7C1-638A-416A-956D-E9E1E9B4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4F7B7-A2A0-451C-A296-776F8635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6CDDC-13BA-44B7-8825-C5282133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6FF-9CC0-4B06-88C7-368ACC6D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2E66A-1900-49C0-99DA-3C23269B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5D35B-A7A2-42F1-A1D4-2BAF0778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84A86-5782-40F3-B335-D0CCD1F3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FF006-3A7C-4593-8ED6-16C4C3D8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9F41D-CDA6-4C6A-BCD2-212AC32A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8C126-84C0-4773-A50B-9408B5F1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23747-0B63-47B5-A8E8-D82DDD01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CF01C-5AC5-4769-87DB-5AB21252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EF31B-5210-44D0-B6B4-6DD171C9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D05E7-12C3-45FA-B878-E5276CAD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2F1-77E0-4884-AC7A-9E975C16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79357-EDB3-472E-9FFA-D9C5B007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AA1DD-1FE3-4322-A2B6-9968C958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E73C7-C038-473D-BFE2-3D873A5F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DC0CF-4CC0-4C64-9D40-80C5D4F9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0EF50-861F-46C7-82F2-B3422A7C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A0031-CB64-4C57-8AD6-9A1593D5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43FDA-81B0-4830-A667-6D7D68AE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2B8A8-20EA-43C6-B578-B826625A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38A7C-4ADF-42E1-82F3-1D045076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6B89D-B62E-4AD2-A6D0-44F71EE8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379-25D7-48B3-9AFE-27574A7F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EA9D7-4F53-4213-8778-DDF360D0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83A91-7E5C-4D98-9A3D-7B888837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40A27-98A9-4409-8132-14F93117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9EDDF-1860-48A5-B032-12015A12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53429-564D-44B5-A0D7-A5A57846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E952A-C42D-42FE-9B56-16810552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1E51C-B384-4200-9C68-CEC46EC5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AD7D0-D28E-4B58-AF7C-A979FC63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ECE43-32D2-476B-8B30-F6C3E03F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833C4-00B8-4919-93F1-65ADC7C8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3C8C-7A53-4F73-953C-71500E19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11A50-0FBD-40B6-A4CB-82A97C44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FAB87-51FD-4103-9085-D495CD88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2084B-1D3B-43B6-9092-B363C4F0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13EB6-4670-4463-8643-C8BFCCF7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3B216-314B-4607-9717-A9D0BCD1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AF1AB-A7F6-4BC0-9AE7-C61DF98D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C2CFD-7F80-41F0-A610-EFEAF134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1B0A7-5E1F-473D-8D7A-118A155C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3D98B-F233-4CFE-ABA5-DACB5FCE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0B877-A420-41D6-B81E-91A75436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F5E9-76F5-4813-A372-36886B725CE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7E10-70C7-4F87-89BB-E7D6360BFAE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25C8-9170-4FB3-A55A-5EAD794E5E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A8A1-DF40-4C9F-9056-F70D3DCE74A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6857-F5DD-4D91-95EC-D46AA17F76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67EA-4195-4E6E-862C-45EA7BA32AF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4FFE-14E1-4121-BF12-58CDFCB46F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AE23-2663-4F07-9157-A85D8E3B75D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9C4F-3CFD-4FFE-B14D-1696429B6A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2D57-0DC6-4784-96D6-E19FE5A25FE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9197-8E2B-4126-9E20-29AADCAFA7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0A01-FA8E-43E8-B41A-324163EB191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CD84-5117-4D73-9535-BC4B667EB7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AA9A-6EA9-4553-8BA0-81500AB537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1F6D-F6C4-412A-8302-6FB1E089CC2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FA1B-C94A-4FC1-A065-C83C030E71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8CB7-95CC-4E06-B34F-5C88B7203D3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9858-B9E9-4CA2-8CB9-217339FAB5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2D64-C294-4C9F-85DA-E5653BF0406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1860-A81D-41E8-BD4D-1F177C03F3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23B3-169B-4F50-8FF0-564A73A3F35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64D3-F254-4AE9-9A4D-45E4DD2BA8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80B3-B1EE-4108-B659-7B911700533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5ADB-5C9E-485D-9C55-0AB17A0317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F112-7DEC-4FD3-9AD8-F7571BC8638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2CD3-594A-4949-8779-5AE4317EB7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2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2"/>
          <p:cNvSpPr/>
          <p:nvPr/>
        </p:nvSpPr>
        <p:spPr>
          <a:xfrm>
            <a:off x="15840" y="-19080"/>
            <a:ext cx="9128160" cy="68785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5641560" y="5079960"/>
            <a:ext cx="337716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《礼记》 云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“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礼者所以定亲疏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决嫌疑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别同异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明是非也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又云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“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亲亲之杀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尊贤之等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礼所生也。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20520" y="-19080"/>
            <a:ext cx="9128160" cy="488952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5"/>
          <p:cNvSpPr/>
          <p:nvPr/>
        </p:nvSpPr>
        <p:spPr>
          <a:xfrm>
            <a:off x="20520" y="-19080"/>
            <a:ext cx="9128160" cy="4734000"/>
          </a:xfrm>
          <a:prstGeom prst="flowChartProcess">
            <a:avLst/>
          </a:prstGeom>
          <a:solidFill>
            <a:srgbClr val="ff9b0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1160640" y="2363760"/>
            <a:ext cx="684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礼仪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是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道德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的规范，完备了礼仪，就纯粹了道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2817720" y="1541520"/>
            <a:ext cx="3527640" cy="82512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企业文化礼仪培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AutoShape 2"/>
          <p:cNvSpPr/>
          <p:nvPr/>
        </p:nvSpPr>
        <p:spPr>
          <a:xfrm>
            <a:off x="15840" y="-19080"/>
            <a:ext cx="9128160" cy="6878520"/>
          </a:xfrm>
          <a:prstGeom prst="flowChartProcess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4140360" y="83664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目    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"/>
          <p:cNvSpPr/>
          <p:nvPr/>
        </p:nvSpPr>
        <p:spPr>
          <a:xfrm>
            <a:off x="3924360" y="2055960"/>
            <a:ext cx="4898880" cy="32688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5"/>
          <p:cNvSpPr/>
          <p:nvPr/>
        </p:nvSpPr>
        <p:spPr>
          <a:xfrm>
            <a:off x="3924360" y="2490840"/>
            <a:ext cx="4898880" cy="3254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6"/>
          <p:cNvSpPr/>
          <p:nvPr/>
        </p:nvSpPr>
        <p:spPr>
          <a:xfrm>
            <a:off x="3924360" y="3605040"/>
            <a:ext cx="4898880" cy="3272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7"/>
          <p:cNvSpPr/>
          <p:nvPr/>
        </p:nvSpPr>
        <p:spPr>
          <a:xfrm>
            <a:off x="3922560" y="4032360"/>
            <a:ext cx="4899240" cy="3254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8"/>
          <p:cNvSpPr/>
          <p:nvPr/>
        </p:nvSpPr>
        <p:spPr>
          <a:xfrm>
            <a:off x="3924360" y="4460760"/>
            <a:ext cx="4898880" cy="3272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4140360" y="198900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意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4140360" y="351648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功用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4140360" y="240048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类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4140360" y="439092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工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4140360" y="392760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养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4140360" y="2844720"/>
            <a:ext cx="280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交际礼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礼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活礼仪    节庆礼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3638520" y="1773360"/>
            <a:ext cx="55231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16"/>
          <p:cNvSpPr/>
          <p:nvPr/>
        </p:nvSpPr>
        <p:spPr>
          <a:xfrm>
            <a:off x="15840" y="-19080"/>
            <a:ext cx="3622680" cy="6878520"/>
          </a:xfrm>
          <a:prstGeom prst="flowChartProcess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324000" y="1989000"/>
            <a:ext cx="2808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企业礼仪是指企业员工关于企业礼仪的观念及其行为方式的总和，也是日常例行事物的一种固定模式，如处理公共关系的方式、信息沟通关系、仪式和典礼等就是企业礼仪的具体表现。它表征着企业的价值观和道德要求，塑造着企业形象，使员工在礼仪文化的氛围中受到熏陶，自觉的调整个人行为，增强为企业目标献身的群体意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18" descr="63fa6322_16c0_4026_b6a1_06cd7c323ddd"/>
          <p:cNvPicPr/>
          <p:nvPr/>
        </p:nvPicPr>
        <p:blipFill>
          <a:blip r:embed="rId1"/>
          <a:stretch/>
        </p:blipFill>
        <p:spPr>
          <a:xfrm>
            <a:off x="411120" y="206064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1111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3"/>
          <p:cNvSpPr/>
          <p:nvPr/>
        </p:nvSpPr>
        <p:spPr>
          <a:xfrm>
            <a:off x="3186000" y="2276640"/>
            <a:ext cx="3095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企业礼仪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222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3"/>
          <p:cNvSpPr/>
          <p:nvPr/>
        </p:nvSpPr>
        <p:spPr>
          <a:xfrm>
            <a:off x="739800" y="577800"/>
            <a:ext cx="31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礼仪的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469800" y="1557360"/>
            <a:ext cx="8064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企业礼仪是企业的精神风貌。它包括企业的待客礼仪、经营作风、员工风度、环境布置风格以及内部的信息沟通方式等内容。企业礼仪往往形成传统与习俗，体现企业的经营理念。它赋予企业浓厚的人情味，对培育企业精神和塑造企业形象起着潜移默化的作用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　　当通过养成而成为一种约定俗成时，企业礼仪就成为了企业习俗。企业习俗是指企业员工在长期的共同劳动中形成的习惯做法。这种做法沿袭日久，是全体员工默认的、心里的、自觉遵守的规范，而不是强迫的、书面制度式的规定；是一种“软约束”。摩托罗拉公司有着非常好的员工交流沟通习俗，如总经理座谈会、恳谈会、对话会和业绩报告会，员工可以和公司决策层、经理层等进行直接沟通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5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1111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3"/>
          <p:cNvSpPr/>
          <p:nvPr/>
        </p:nvSpPr>
        <p:spPr>
          <a:xfrm>
            <a:off x="3203640" y="2492280"/>
            <a:ext cx="309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企业礼仪的类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222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3"/>
          <p:cNvSpPr/>
          <p:nvPr/>
        </p:nvSpPr>
        <p:spPr>
          <a:xfrm>
            <a:off x="741240" y="692280"/>
            <a:ext cx="7793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交际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　　企业是一个从事经济活动的主体，作为社会组织，其内部人员之间和与外部群体或个体之间都有着大量的人际交往。因此，交际礼仪就成为传播企业文化、体现企业素质的重要形式。人际交往的礼仪很多，也很繁琐，主要包括介绍和被介绍，称呼与被称呼、交谈用语、座位安排、说话时的姿态、肢体语言、禁忌用语、服饰、互换名片、站姿坐姿、握手与挥手、节日问候等等。就会面来说，就有微笑礼、握手礼、拱手礼、鞠躬礼、颌首礼、招手礼、合掌礼、拥抱礼、注目礼等等的分别。大凡优异的企业在这些基本交际礼仪上都表现得非常出色，体现了公司的文明程度和文化素养，也体现了企业文化的基本型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4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5"/>
          <p:cNvSpPr/>
          <p:nvPr/>
        </p:nvSpPr>
        <p:spPr>
          <a:xfrm>
            <a:off x="741240" y="2852640"/>
            <a:ext cx="779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工作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发生在企业日常经营管理活动，以及商务活动中的常规性的仪式是工作礼仪，如展会、岗前小会、店会、表彰会、职代会、培训会、新闻发布会以及技术、生产、销售合作签约仪式，合资项目签字仪式等。松下幸之助就在日本松下电器株式会社，建立了一种朝会和夕会的企业仪式，即利用每天上下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分钟的时间，各部门、各单位的员工聚在一起进行宣誓、总结。朝会时，要唱社歌：“为建设新日本同心协力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不断地努力生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我们为世人提供的商品，犹如涌泉一般。振兴产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振兴产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!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还要全体朗诵公司精神：“产业报国、光明正大、亲爱精诚、奋斗向上、遵守礼节、顺应同化、感恩图报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6" descr="63fa6322_16c0_4026_b6a1_06cd7c323ddd"/>
          <p:cNvPicPr/>
          <p:nvPr/>
        </p:nvPicPr>
        <p:blipFill>
          <a:blip r:embed="rId3"/>
          <a:stretch/>
        </p:blipFill>
        <p:spPr>
          <a:xfrm>
            <a:off x="485640" y="292428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222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3"/>
          <p:cNvSpPr/>
          <p:nvPr/>
        </p:nvSpPr>
        <p:spPr>
          <a:xfrm>
            <a:off x="757080" y="692280"/>
            <a:ext cx="8062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生活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　　在工作之余，企业开展的与员工生活直接相关的各种活动就是生活礼仪。包括企业的文体活动、联欢会、讲演会、茶话会等，通过这些活动可以密切员工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可的关系，有利于共同价值观的形成和传播。如在美国玛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凯化妆品公司，每逢圣诞节、公司纪念日，总经理都给全体员工寄发贺卡；员工过生日时，总经理寄去贺信，并亲笔写下贺词，然后郑重签名。员工进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周年时，总经理奉送比较贵重的首饰，当员工工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周年时，将得到一件镶有钻石的昂贵首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4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5"/>
          <p:cNvSpPr/>
          <p:nvPr/>
        </p:nvSpPr>
        <p:spPr>
          <a:xfrm>
            <a:off x="757080" y="2852640"/>
            <a:ext cx="8062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节庆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　　节庆礼仪指那些对企业具有重要意义的纪念活动仪式，主要包括公司的节日庆典和公共节日庆典。比如：公司成立的周年庆典，公司成功开发出重要技术或产品的庆典，公司分公司或子公司成立的庆典，公司重要活动目标达成庆典，新车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司、新生产线投产成功庆典，等等就属于前者。后者主要包括三八妇女节、五一劳动节，国庆节庆典，行业性的节日庆典等等。这些庆典活动，是连接企业与员工，集团与分属企业，企业与社会的重要纽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6" descr="63fa6322_16c0_4026_b6a1_06cd7c323ddd"/>
          <p:cNvPicPr/>
          <p:nvPr/>
        </p:nvPicPr>
        <p:blipFill>
          <a:blip r:embed="rId3"/>
          <a:stretch/>
        </p:blipFill>
        <p:spPr>
          <a:xfrm>
            <a:off x="485640" y="292428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AutoShape 2"/>
          <p:cNvSpPr/>
          <p:nvPr/>
        </p:nvSpPr>
        <p:spPr>
          <a:xfrm>
            <a:off x="15840" y="-19080"/>
            <a:ext cx="9128160" cy="68785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"/>
          <p:cNvSpPr/>
          <p:nvPr/>
        </p:nvSpPr>
        <p:spPr>
          <a:xfrm>
            <a:off x="20520" y="-19080"/>
            <a:ext cx="9128160" cy="488952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20520" y="-19080"/>
            <a:ext cx="9128160" cy="4734000"/>
          </a:xfrm>
          <a:prstGeom prst="flowChartProcess">
            <a:avLst/>
          </a:prstGeom>
          <a:solidFill>
            <a:srgbClr val="ff9b0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2917800" y="1758960"/>
            <a:ext cx="3525840" cy="82512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7746120" y="5014800"/>
            <a:ext cx="1001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  <a:ea typeface="宋体"/>
              </a:rPr>
              <a:t>子曰：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  <a:ea typeface="宋体"/>
              </a:rPr>
              <a:t>"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  <a:ea typeface="宋体"/>
              </a:rPr>
              <a:t>不知命，无以为君子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  <a:ea typeface="宋体"/>
              </a:rPr>
              <a:t>不知礼，无以立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  <a:ea typeface="宋体"/>
              </a:rPr>
              <a:t>不知言，无以知人也。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  <a:ea typeface="宋体"/>
              </a:rPr>
              <a:t>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</cp:lastModifiedBy>
  <dcterms:modified xsi:type="dcterms:W3CDTF">2015-02-10T02:27:43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