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BEAB-DBC0-40D7-AED2-4DEEFFC0D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8685-180F-4BEA-BA59-B94BF29E4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59EE-1947-4CC9-BEDF-986BF2016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02AA-65C4-46BC-8B3C-40340F140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D0C54-3029-40B2-BF41-5D878D202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387B7-FE83-499C-B958-EEB1EFAF7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A346E-F41B-48EB-A283-5239A61BE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591B1-F7D7-43E4-9515-61DC1395A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35295-FFAD-45DC-9F20-032D50FA6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2AFD2-A18D-4840-9C7A-9B4845085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0D1E2-4264-4312-9551-6F74E45D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9443-047D-4D64-A076-3F09FAC98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0CC63-1D19-4DA1-9003-B17C2EA7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FA53D-FFAA-45A5-A5A0-3CA917D5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BC51A-780F-4528-B0B7-6A1914966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6D01A-83D3-4CE7-968D-7672D1811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AADCC-B40C-46CC-83E6-A4C1F4822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4642-F418-4019-873D-CDFC58146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C36C-415E-4B07-A7C9-2AC2A6056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51FF-17C4-4E6C-9E97-73E5076F3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26CA-DBA7-4A20-ADD6-4F50DB1D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6FDF-0AEC-420E-8A3B-6A6CB081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70EB-CC36-4278-882D-B44EED40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309D-B95C-4D30-AE3B-1A539749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95C5B-2BC0-43FC-A1AF-5630A29E19D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FB67B-799A-4AF6-8A44-3D6251FC80B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9B457-33B5-4F19-AC17-60972A44A21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28405-51DC-486A-A349-7553704349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Box 4"/>
          <p:cNvSpPr/>
          <p:nvPr/>
        </p:nvSpPr>
        <p:spPr>
          <a:xfrm>
            <a:off x="3225960" y="1359000"/>
            <a:ext cx="46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细黑"/>
                <a:ea typeface="华文细黑"/>
              </a:rPr>
              <a:t>城市地球背景的商务</a:t>
            </a:r>
            <a:r>
              <a:rPr b="0" lang="en-US" sz="4000" spc="-1" strike="noStrike">
                <a:solidFill>
                  <a:srgbClr val="ffffff"/>
                </a:solidFill>
                <a:latin typeface="华文细黑"/>
                <a:ea typeface="华文细黑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华文细黑"/>
                <a:ea typeface="华文细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701640" y="500364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1b59"/>
                </a:solidFill>
                <a:latin typeface="Broadway"/>
                <a:ea typeface="楷体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矩形 7"/>
          <p:cNvSpPr/>
          <p:nvPr/>
        </p:nvSpPr>
        <p:spPr>
          <a:xfrm>
            <a:off x="4430880" y="6568920"/>
            <a:ext cx="282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c000"/>
                </a:solidFill>
                <a:latin typeface="微软雅黑"/>
                <a:ea typeface="微软雅黑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7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图片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Box 5"/>
          <p:cNvSpPr/>
          <p:nvPr/>
        </p:nvSpPr>
        <p:spPr>
          <a:xfrm>
            <a:off x="3024360" y="1339920"/>
            <a:ext cx="536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经典繁仿黑"/>
                <a:ea typeface="经典繁仿黑"/>
              </a:rPr>
              <a:t>感谢你的聆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6"/>
          <p:cNvSpPr/>
          <p:nvPr/>
        </p:nvSpPr>
        <p:spPr>
          <a:xfrm>
            <a:off x="2735280" y="2276640"/>
            <a:ext cx="5580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7"/>
          <p:cNvSpPr/>
          <p:nvPr/>
        </p:nvSpPr>
        <p:spPr>
          <a:xfrm>
            <a:off x="6524640" y="5589720"/>
            <a:ext cx="18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  <a:ea typeface="楷体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1T23:11:00Z</dcterms:created>
  <dc:creator>zhangying</dc:creator>
  <dc:description/>
  <cp:keywords/>
  <dc:language>en-US</dc:language>
  <cp:lastModifiedBy>a</cp:lastModifiedBy>
  <dcterms:modified xsi:type="dcterms:W3CDTF">2015-01-23T03:00:44Z</dcterms:modified>
  <cp:revision>2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67</vt:lpwstr>
  </property>
</Properties>
</file>