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059-EB12-4FF8-885F-50EEB5FB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466-4CAA-4402-B2F8-501749FE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874-2A21-47FF-AF82-13538B9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C6-65E8-44D4-999C-C807F47D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920C-429F-4B94-B818-FF992C95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C497-1162-459E-8476-F226713A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4A71-0F3A-4414-B72E-CF94657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623B-B327-4DE7-B74F-F0382F0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890C-2E24-4A96-8F45-77EB2D34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C7A2-7B4F-44FC-BBBE-A7BD89F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A4F8-3A1D-4F37-8D2B-963558A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637-E2FF-42A3-90A5-6D2AD24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BB44-3829-4863-9C20-4490E16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7C6-6A97-4954-AE13-2BA7527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B4F-C4CE-4734-800C-5476507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1E7-1599-484B-AA50-F83E59D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00D-D2A4-4797-B9BB-D1BB904E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7E3-C085-49B7-AB72-BC147E6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63F-FF49-4DCD-9A5D-0BC9CE7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986-AD6D-42A8-AD0A-60CBB7E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279-C64C-4164-9E83-23F0DA2B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BF8-1A9B-4976-8E3F-4904C8E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686-7EE7-43F0-A812-4B4E8932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571-0211-4140-9D69-F68BC5E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5185-1794-403B-AC45-5516ED0B12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DF7-5EA8-4D5E-9E53-53BA630507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0F4-C161-4369-A046-1EF82620C74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CA1-B5B9-424D-A001-03E6813C8EAC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83" name="标题 1"/>
          <p:cNvSpPr/>
          <p:nvPr/>
        </p:nvSpPr>
        <p:spPr>
          <a:xfrm>
            <a:off x="1547640" y="1728720"/>
            <a:ext cx="504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 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2262240" y="223200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87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90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93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101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Microsoft</dc:creator>
  <dc:description/>
  <cp:keywords/>
  <dc:language>en-US</dc:language>
  <cp:lastModifiedBy>a</cp:lastModifiedBy>
  <dcterms:modified xsi:type="dcterms:W3CDTF">2015-01-23T03:01:15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