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B142-FC99-4BB9-AA78-61A64ACD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A628-858D-4233-A436-161D1920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084DE9-21F0-4867-B2E8-B9582B66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7D8FD-391B-4AE7-AF3E-F349CC5D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9FEB2-FECF-4016-8B05-DD6D6DFE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2F95C-C7B7-4C8F-A385-9FE0DA03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7F249-5D34-4245-A4FC-E554D007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1E762-CBED-473B-862C-B2171436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60E1A-EF40-44BD-9064-F6A7A07E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7F05B-EC20-4740-BCDD-04E969D77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9A174-3AF7-44E9-8C0B-F77F2EF0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8ECB8-78B0-4020-B83B-ABEAB463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322-17D5-4699-910B-F9D726891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EBAE9-F8AD-4479-A66E-C35AE7BC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18B72-D55B-41DB-9AEE-E05FD6B9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3C661-2E17-4BEA-AEC9-98C850A5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EE169-91BB-45D3-B455-E7D52A7F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7095C-13C5-4FA5-A9DC-4A01F72B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2A194-60E5-4F8B-A76B-A245354F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05CEF-161F-4F8B-A65A-D14406F2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2CA77-1220-4AB9-8A97-196FBA00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65389-98D6-479B-824B-5A2AE2D6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52401-4822-4103-9D82-A884879F1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6CC-0324-4D13-A75D-D088CED6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F92F9-FB52-49BA-A8D8-6CAA3897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43B88-F868-46D8-9DF1-7F2DF99A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F9928-AD57-47B6-8DB7-7D9D6CD6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08B91-FCDB-4E5A-AF07-05E8E78E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ECD22B-A204-4936-939D-6463B15E1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44A6D-9E4C-414C-B25A-C7BB5C4D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11A113-59AE-48F3-8580-5FD5AE73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3DE15-8E29-4966-97F8-EE730EDF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9DA10-10D5-40B2-B0E6-0C11352A4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DD2AD-C851-4FEF-8D83-0C529A93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B9DC2-2473-4CF8-92C5-D6EFF9AE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DD827-53E2-4154-B113-2FBBE017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86637-A9A6-4AC7-B7E9-D8090B6F4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FA30F-288D-494F-9B9F-C4072CBB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2F739-82AF-4CF8-B24E-CD082AC2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65EB1-1ADC-4EC3-ABE8-2442EC56B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19590-BCEB-423B-91D7-CBAA1B0F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C55BB-593B-4503-B7E1-A30070BD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F917A-6A09-4043-94A1-4516DB98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FD098-CC5A-4F87-9D78-909D858B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A4536-3736-4C08-BBBB-FA5629E7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7ABF-F8E0-40CF-8AC8-2559ECDB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F7C2D-6FAE-4D54-8FDF-E12DDF3D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39C3C-93C2-4D33-8637-2A6DA6D3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8A1531-9F75-4E20-A492-B27B3C58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F219E-5710-4167-BFFC-1D3DBACB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36053-7157-416A-8FA8-BEF1C110B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8F3A35-2AA7-4BB9-BE43-160D7AA9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D2D83C-B29F-4C53-85D6-36528985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A703A-7C17-4A09-A3F6-367A54A1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92AB48-2593-4CE0-99F1-5B47BD1D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167F4-28D9-40BC-AB52-50F34E08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F6AF-0F6C-431B-A9C8-593DD143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E80C7B-CBB2-48FF-A454-403FCB220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D2714-3D44-4E54-B267-138AF779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96088E-0D1B-4A48-AE56-9B4E4DE1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8E8EBA-F811-43BD-AF43-23040624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C25E2-EEA3-4CE1-93CD-E9379ED7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229503-3BA8-4B83-A0C8-1F6B8AEB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60DE5-1E2F-4B37-B199-0561F7B17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8A89-92C1-401C-8C22-B852A5E2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792D-9205-4853-A831-F77C64DD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6986-C38C-4EF9-A45B-4A6E966A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8FE5-8277-4357-8B00-741D5A8A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B75A-735A-413D-B41A-93A3413C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7454C-1B54-46BD-B550-C2B44BB1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E356-E02C-43A7-8F6F-44CBBA34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ECE8-542A-44CF-92DB-8CEF1F0E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BEC0-ACFF-44CD-9970-C7771ECFE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48DB6-7180-4E61-8866-4F73C0F1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0EB37-2BA3-476F-AC51-25E3D5FB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7C456-8D1E-490F-85C2-FF0BD3AD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C521-4C98-47A8-8D31-A670B635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42A44-9B3B-42E3-84DA-096697601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84B9E-8F1A-4924-B82E-1EE0F81A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44ED-0D2A-478D-94D9-B2D66191D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8113E-141F-4FF6-8E97-70EFBFF4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64FB9-3F3B-4829-92F0-F27260B7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16417-56EA-4FD8-8CB5-88172ABC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2F519-6951-4691-BE17-CD54114E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86314-4D46-4EAC-B4C8-3013BB33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B8BAC-3208-49A8-9108-D5EA6893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81028-7340-4F64-92E7-4C129261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9BDCC-E1B3-4D18-BE9F-DD00DE40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1141E-5A8F-4432-B744-E6A66D98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EE9D3-1EBB-4100-9918-5DCF146F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FB41-13FD-48DF-85B3-91E303CA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C57B3-A18E-40AA-BBA2-23B007F9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C3756-42BA-453E-9915-631DD5CD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ECA29-4538-49EE-9FDB-5773FA05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27230-802B-4FE6-911F-1DA04DB9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87AA0-EC54-4C63-807E-3461D9F3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5BE33-2ADB-48BE-B27D-40864356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CD5BF-0C3F-4DA6-86A2-86101191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208F9-C389-4DB0-833E-54081AF5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7999A-90D8-46E0-A7F5-66ECAA8F8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C54A5-ED39-4E2D-895E-B25F397D3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0AD-9321-45AE-B1CD-13CB217C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66B61-CABA-4E90-B3EA-449372E2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ADEF0-0DFD-427A-B543-E63E3169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A7037-2F7C-40C5-AA38-741FD3E5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14472-632F-4F02-A6F7-C7110041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70A06-A0D5-4EE9-92EC-B142E1BEC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4AD6E-E346-4EAC-B2AA-4830FB48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45C8D-A613-4E0C-B80D-CFDF12ED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30207-EF9E-4511-BA66-C975D5BEB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08328-D2A2-40D7-BD64-6B707CD19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5CFD4-17A1-46E9-B8C2-44E74BA3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31A-8E62-41B8-8B30-628AD6D5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018EE-D721-4AF4-94C7-46BDC7148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579C2-DC16-4E59-967D-B8E2E9F7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9EA81-8136-47E7-8D8A-3B346883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E2544-D9EE-49BF-B685-6141BF23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40EC8-C72A-4F4D-A9E3-F5429C5D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31659-22BE-4770-A685-452D4EAF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E9995-AED9-434A-ADE9-7E0993D0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67530-943A-4739-A6CF-3209B6A8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43EDC-00C0-40BE-AA47-F75B9BD8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58295-FC39-498D-9021-FBAA059B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BF1-82F1-403E-8930-577C23C0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EE974-4BBF-409E-9DE8-2CD62A6A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B4423-36F9-4624-A9DE-6CC07B92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2CA62F-1180-46CA-AFFF-1FE4D178A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B07C9-D156-4BB5-9858-C56255C0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DCEE5-A221-432C-8A10-7046A97D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59D3A-0382-47DD-827C-AA1E5D4F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6AB28-E35E-4A3A-A374-A23FEAF3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661D1-19CD-4BD7-96AE-C24C39BE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6E129-6033-4D5D-93E8-F40E298E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7F379-F7DC-4687-B739-D9C433B6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60A0-0CFF-48BF-AA49-6C05E612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731C8-6C63-416B-87DA-774B5D36C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7435C-9C0A-47DC-8639-5D8A0AFD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2C9D3-792A-41F9-B37B-9C57272E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A2FBE-8D3E-48D8-8959-97A67F5A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CB844-DD8E-40C1-88AB-1B3155D9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BEDFA-59E1-452E-A184-FFFF8421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E0E37-22D0-47D3-901B-0E7B2137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634C0-3F56-47C2-A6BB-A19823C5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CB944-D2AB-4039-862D-C0DB21B93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9ABE6-6C2C-4117-9CE7-3500C0E5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FC34-5657-4266-A8F4-9465373A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26C95-8EDF-4081-A7C5-66FF3FB75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DD216-AF60-4F8A-AC24-30EB3C63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C3393-1A2D-48C5-8B1C-A3CAC2A8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EFCA7-8046-4566-8635-7AF44271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0BC95-34C0-47B4-A280-C285FE6F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647B0-668E-4ED3-8CBD-3F03DF12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395A7-A79D-41E1-80D7-F17D7F06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2157C-6D7D-4317-9DF3-79A7613C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FE72A3-E7B2-4528-BF4E-C7772CDD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78CFD-3629-4796-8F5A-46A7E6B38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1A83-8C31-4FA7-BBAA-ABF59E675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FCAB-C2A8-4242-9CBE-7A7D8374206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E50F-A93A-48FC-B3D9-73D45109641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3450-D636-4DCC-AC1F-D409AFFAF21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F143-7BFA-41DD-8D88-CEA441C7D520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7DCB-248F-458D-A208-51FEED6B837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36C3-3441-404E-92B6-0AAA79D5D61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285B-8F05-4C9B-A2A6-25716B16DED7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65DB-1B40-47A3-A3D7-60B75956E17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0A53-B845-4242-9610-A3F7A9D12AF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40CF-80D4-4A6F-A98A-C808AE68D7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4584-F4BC-440A-9C24-3FC5C275343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3EBBE-38DA-44A7-9F5B-5EAA2BC0FCC0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C0BC-B966-4E08-A542-23B2D439CB7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5FF8-0918-4ED3-BC5C-B60969B7DC4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18E9-97D5-4B85-B092-2B4630A43561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4FFFC-6F2F-490F-844E-8FB62E42278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9A29-BACF-4045-87A2-EE62C363B80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EB77-A824-4BEA-9155-F3A5C2C27A9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BB3B-360D-4DF3-B554-FA9C082BA196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C6F0-1C9A-4641-A12F-101DE0EB9AEE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4DD20-9021-476B-8BC9-A22E5AD9689D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B9A9-E3E5-4E34-8BC7-DD4B31772E36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C11B-16F7-40A9-B09C-09723EF73E0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6269B-8336-43E7-AD0E-29573214F6D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3"/>
          <p:cNvSpPr/>
          <p:nvPr/>
        </p:nvSpPr>
        <p:spPr>
          <a:xfrm>
            <a:off x="762120" y="1143000"/>
            <a:ext cx="739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57200" y="6019920"/>
            <a:ext cx="2209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7" name="Text Box 11"/>
          <p:cNvSpPr/>
          <p:nvPr/>
        </p:nvSpPr>
        <p:spPr>
          <a:xfrm>
            <a:off x="0" y="228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九年义务教育六年制教科书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8" name="Text Box 12"/>
          <p:cNvSpPr/>
          <p:nvPr/>
        </p:nvSpPr>
        <p:spPr>
          <a:xfrm>
            <a:off x="2057400" y="2286000"/>
            <a:ext cx="4419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39" name="PubPieSlice"/>
          <p:cNvSpPr/>
          <p:nvPr/>
        </p:nvSpPr>
        <p:spPr>
          <a:xfrm>
            <a:off x="1905120" y="1828800"/>
            <a:ext cx="4343400" cy="4191120"/>
          </a:xfrm>
          <a:custGeom>
            <a:avLst/>
            <a:gdLst>
              <a:gd name="textAreaLeft" fmla="*/ 635760 w 4343400"/>
              <a:gd name="textAreaRight" fmla="*/ 3707640 w 4343400"/>
              <a:gd name="textAreaTop" fmla="*/ 613440 h 4191120"/>
              <a:gd name="textAreaBottom" fmla="*/ 3577680 h 4191120"/>
            </a:gdLst>
            <a:ahLst/>
            <a:rect l="textAreaLeft" t="textAreaTop" r="textAreaRight" b="textAreaBottom"/>
            <a:pathLst>
              <a:path w="21600" h="21600">
                <a:moveTo>
                  <a:pt x="10799" y="0"/>
                </a:moveTo>
                <a:cubicBezTo>
                  <a:pt x="4834" y="0"/>
                  <a:pt x="0" y="4835"/>
                  <a:pt x="0" y="10799"/>
                </a:cubicBezTo>
                <a:cubicBezTo>
                  <a:pt x="0" y="16764"/>
                  <a:pt x="4835" y="21600"/>
                  <a:pt x="10800" y="21600"/>
                </a:cubicBezTo>
                <a:cubicBezTo>
                  <a:pt x="16703" y="21600"/>
                  <a:pt x="21513" y="16859"/>
                  <a:pt x="21598" y="10957"/>
                </a:cubicBezTo>
                <a:lnTo>
                  <a:pt x="10800" y="10800"/>
                </a:lnTo>
                <a:lnTo>
                  <a:pt x="10799" y="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cccc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0" name="Text Box 14"/>
          <p:cNvSpPr/>
          <p:nvPr/>
        </p:nvSpPr>
        <p:spPr>
          <a:xfrm>
            <a:off x="685800" y="106668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数学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（第十二册）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1295280" y="2666880"/>
            <a:ext cx="6400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扇 形 统 计 图</a:t>
            </a:r>
            <a:endParaRPr b="1" lang="en-US" sz="80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20"/>
          <p:cNvSpPr/>
          <p:nvPr/>
        </p:nvSpPr>
        <p:spPr>
          <a:xfrm>
            <a:off x="842040" y="-921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黑体"/>
              </a:rPr>
              <a:t>填空：</a:t>
            </a: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3" name="Rectangle 37"/>
          <p:cNvSpPr/>
          <p:nvPr/>
        </p:nvSpPr>
        <p:spPr>
          <a:xfrm>
            <a:off x="663840" y="1219320"/>
            <a:ext cx="8089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和桥村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997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年种粮食作物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公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顷，棉花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公顷，油料作物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2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公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顷，总种植面积是（       ）公顷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其 中 粮食作物占总种植面积 的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（       ）％，棉花占（       ）％，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油料作物占（       ）％。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4" name="Rectangle 38"/>
          <p:cNvSpPr/>
          <p:nvPr/>
        </p:nvSpPr>
        <p:spPr>
          <a:xfrm>
            <a:off x="5716800" y="2666880"/>
            <a:ext cx="109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20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5" name="Rectangle 39"/>
          <p:cNvSpPr/>
          <p:nvPr/>
        </p:nvSpPr>
        <p:spPr>
          <a:xfrm>
            <a:off x="992520" y="41148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70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6" name="Rectangle 40"/>
          <p:cNvSpPr/>
          <p:nvPr/>
        </p:nvSpPr>
        <p:spPr>
          <a:xfrm>
            <a:off x="6370920" y="41292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47" name="Rectangle 41"/>
          <p:cNvSpPr/>
          <p:nvPr/>
        </p:nvSpPr>
        <p:spPr>
          <a:xfrm>
            <a:off x="4116600" y="48769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1" lang="en-US" sz="48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Object 2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4416480" cy="4252680"/>
          </a:xfrm>
          <a:prstGeom prst="rect">
            <a:avLst/>
          </a:prstGeom>
          <a:ln w="0">
            <a:noFill/>
          </a:ln>
        </p:spPr>
      </p:pic>
      <p:grpSp>
        <p:nvGrpSpPr>
          <p:cNvPr id="549" name="Group 12"/>
          <p:cNvGrpSpPr/>
          <p:nvPr/>
        </p:nvGrpSpPr>
        <p:grpSpPr>
          <a:xfrm>
            <a:off x="3925800" y="2981160"/>
            <a:ext cx="3735720" cy="1668960"/>
            <a:chOff x="3925800" y="2981160"/>
            <a:chExt cx="3735720" cy="1668960"/>
          </a:xfrm>
        </p:grpSpPr>
        <p:pic>
          <p:nvPicPr>
            <p:cNvPr id="550" name="Object 3" descr=""/>
            <p:cNvPicPr/>
            <p:nvPr/>
          </p:nvPicPr>
          <p:blipFill>
            <a:blip r:embed="rId2"/>
            <a:stretch/>
          </p:blipFill>
          <p:spPr>
            <a:xfrm>
              <a:off x="4016520" y="2981160"/>
              <a:ext cx="29052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Line 5"/>
            <p:cNvSpPr/>
            <p:nvPr/>
          </p:nvSpPr>
          <p:spPr>
            <a:xfrm flipH="1" flipV="1">
              <a:off x="3925800" y="3276000"/>
              <a:ext cx="2438640" cy="68580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52" name="Text Box 6"/>
            <p:cNvSpPr/>
            <p:nvPr/>
          </p:nvSpPr>
          <p:spPr>
            <a:xfrm>
              <a:off x="6474960" y="3885840"/>
              <a:ext cx="1186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cc99"/>
                  </a:solidFill>
                  <a:latin typeface="Times New Roman"/>
                </a:rPr>
                <a:t>圆心角</a:t>
              </a: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553" name="Group 14"/>
          <p:cNvGrpSpPr/>
          <p:nvPr/>
        </p:nvGrpSpPr>
        <p:grpSpPr>
          <a:xfrm>
            <a:off x="2895480" y="2882880"/>
            <a:ext cx="1270080" cy="1691280"/>
            <a:chOff x="2895480" y="2882880"/>
            <a:chExt cx="1270080" cy="1691280"/>
          </a:xfrm>
        </p:grpSpPr>
        <p:pic>
          <p:nvPicPr>
            <p:cNvPr id="554" name="Object 8" descr=""/>
            <p:cNvPicPr/>
            <p:nvPr/>
          </p:nvPicPr>
          <p:blipFill>
            <a:blip r:embed="rId3"/>
            <a:stretch/>
          </p:blipFill>
          <p:spPr>
            <a:xfrm>
              <a:off x="3124080" y="2882880"/>
              <a:ext cx="1041480" cy="10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9"/>
            <p:cNvSpPr/>
            <p:nvPr/>
          </p:nvSpPr>
          <p:spPr>
            <a:xfrm>
              <a:off x="2895480" y="3809880"/>
              <a:ext cx="1219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360</a:t>
              </a:r>
              <a:endParaRPr b="1" lang="en-US" sz="44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56" name="Oval 10"/>
            <p:cNvSpPr/>
            <p:nvPr/>
          </p:nvSpPr>
          <p:spPr>
            <a:xfrm>
              <a:off x="3962520" y="3962520"/>
              <a:ext cx="15228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12"/>
          <p:cNvGrpSpPr/>
          <p:nvPr/>
        </p:nvGrpSpPr>
        <p:grpSpPr>
          <a:xfrm>
            <a:off x="1071000" y="1828800"/>
            <a:ext cx="7694280" cy="2837160"/>
            <a:chOff x="1071000" y="1828800"/>
            <a:chExt cx="7694280" cy="2837160"/>
          </a:xfrm>
        </p:grpSpPr>
        <p:sp>
          <p:nvSpPr>
            <p:cNvPr id="558" name="Rectangle 2"/>
            <p:cNvSpPr/>
            <p:nvPr/>
          </p:nvSpPr>
          <p:spPr>
            <a:xfrm>
              <a:off x="1071000" y="1828800"/>
              <a:ext cx="769428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0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的</a:t>
              </a: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0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％是（        ）</a:t>
              </a: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0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的</a:t>
              </a: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0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％是（        ）</a:t>
              </a: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60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的</a:t>
              </a:r>
              <a:r>
                <a:rPr b="1" lang="en-US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60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％是（        ）</a:t>
              </a: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59" name="Oval 3"/>
            <p:cNvSpPr/>
            <p:nvPr/>
          </p:nvSpPr>
          <p:spPr>
            <a:xfrm>
              <a:off x="2286000" y="3048120"/>
              <a:ext cx="15264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60" name="Oval 4"/>
            <p:cNvSpPr/>
            <p:nvPr/>
          </p:nvSpPr>
          <p:spPr>
            <a:xfrm>
              <a:off x="2286000" y="2133720"/>
              <a:ext cx="15264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61" name="Oval 5"/>
            <p:cNvSpPr/>
            <p:nvPr/>
          </p:nvSpPr>
          <p:spPr>
            <a:xfrm>
              <a:off x="2286000" y="3886200"/>
              <a:ext cx="152640" cy="152280"/>
            </a:xfrm>
            <a:prstGeom prst="ellipse">
              <a:avLst/>
            </a:prstGeom>
            <a:noFill/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562" name="Rectangle 7"/>
          <p:cNvSpPr/>
          <p:nvPr/>
        </p:nvSpPr>
        <p:spPr>
          <a:xfrm>
            <a:off x="1355760" y="5335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黑体"/>
              </a:rPr>
              <a:t>口答：</a:t>
            </a: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563" name="Group 17"/>
          <p:cNvGrpSpPr/>
          <p:nvPr/>
        </p:nvGrpSpPr>
        <p:grpSpPr>
          <a:xfrm>
            <a:off x="6521400" y="3641760"/>
            <a:ext cx="1555920" cy="1008360"/>
            <a:chOff x="6521400" y="3641760"/>
            <a:chExt cx="1555920" cy="1008360"/>
          </a:xfrm>
        </p:grpSpPr>
        <p:sp>
          <p:nvSpPr>
            <p:cNvPr id="564" name="Rectangle 10"/>
            <p:cNvSpPr/>
            <p:nvPr/>
          </p:nvSpPr>
          <p:spPr>
            <a:xfrm>
              <a:off x="6521400" y="3641760"/>
              <a:ext cx="1327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Times New Roman"/>
                </a:rPr>
                <a:t>216</a:t>
              </a: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65" name="Oval 11"/>
            <p:cNvSpPr/>
            <p:nvPr/>
          </p:nvSpPr>
          <p:spPr>
            <a:xfrm>
              <a:off x="7925040" y="3870360"/>
              <a:ext cx="152280" cy="152640"/>
            </a:xfrm>
            <a:prstGeom prst="ellipse">
              <a:avLst/>
            </a:prstGeom>
            <a:noFill/>
            <a:ln w="60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566" name="Group 16"/>
          <p:cNvGrpSpPr/>
          <p:nvPr/>
        </p:nvGrpSpPr>
        <p:grpSpPr>
          <a:xfrm>
            <a:off x="6783120" y="2666880"/>
            <a:ext cx="1141560" cy="1008360"/>
            <a:chOff x="6783120" y="2666880"/>
            <a:chExt cx="1141560" cy="1008360"/>
          </a:xfrm>
        </p:grpSpPr>
        <p:sp>
          <p:nvSpPr>
            <p:cNvPr id="567" name="Rectangle 9"/>
            <p:cNvSpPr/>
            <p:nvPr/>
          </p:nvSpPr>
          <p:spPr>
            <a:xfrm>
              <a:off x="6783120" y="26668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Times New Roman"/>
                </a:rPr>
                <a:t>36</a:t>
              </a: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68" name="Oval 13"/>
            <p:cNvSpPr/>
            <p:nvPr/>
          </p:nvSpPr>
          <p:spPr>
            <a:xfrm>
              <a:off x="7772400" y="2895480"/>
              <a:ext cx="152280" cy="152280"/>
            </a:xfrm>
            <a:prstGeom prst="ellipse">
              <a:avLst/>
            </a:prstGeom>
            <a:noFill/>
            <a:ln w="60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569" name="Group 15"/>
          <p:cNvGrpSpPr/>
          <p:nvPr/>
        </p:nvGrpSpPr>
        <p:grpSpPr>
          <a:xfrm>
            <a:off x="6554880" y="1752480"/>
            <a:ext cx="1522080" cy="1008360"/>
            <a:chOff x="6554880" y="1752480"/>
            <a:chExt cx="1522080" cy="1008360"/>
          </a:xfrm>
        </p:grpSpPr>
        <p:sp>
          <p:nvSpPr>
            <p:cNvPr id="570" name="Rectangle 8"/>
            <p:cNvSpPr/>
            <p:nvPr/>
          </p:nvSpPr>
          <p:spPr>
            <a:xfrm>
              <a:off x="6554880" y="1752480"/>
              <a:ext cx="1323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3300"/>
                  </a:solidFill>
                  <a:latin typeface="Times New Roman"/>
                </a:rPr>
                <a:t>108</a:t>
              </a: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71" name="Oval 14"/>
            <p:cNvSpPr/>
            <p:nvPr/>
          </p:nvSpPr>
          <p:spPr>
            <a:xfrm>
              <a:off x="7924680" y="1974600"/>
              <a:ext cx="152280" cy="152280"/>
            </a:xfrm>
            <a:prstGeom prst="ellipse">
              <a:avLst/>
            </a:prstGeom>
            <a:noFill/>
            <a:ln w="604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Object 2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572000" cy="4495680"/>
          </a:xfrm>
          <a:prstGeom prst="rect">
            <a:avLst/>
          </a:prstGeom>
          <a:ln w="0">
            <a:noFill/>
          </a:ln>
        </p:spPr>
      </p:pic>
      <p:grpSp>
        <p:nvGrpSpPr>
          <p:cNvPr id="573" name="Group 3"/>
          <p:cNvGrpSpPr/>
          <p:nvPr/>
        </p:nvGrpSpPr>
        <p:grpSpPr>
          <a:xfrm>
            <a:off x="1859760" y="304920"/>
            <a:ext cx="6931440" cy="1431360"/>
            <a:chOff x="1859760" y="304920"/>
            <a:chExt cx="6931440" cy="1431360"/>
          </a:xfrm>
        </p:grpSpPr>
        <p:sp>
          <p:nvSpPr>
            <p:cNvPr id="574" name="Rectangle 4"/>
            <p:cNvSpPr/>
            <p:nvPr/>
          </p:nvSpPr>
          <p:spPr>
            <a:xfrm>
              <a:off x="1859760" y="304920"/>
              <a:ext cx="536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某班学生参加课外活动小组情况统计图</a:t>
              </a:r>
              <a:endParaRPr b="1" lang="en-US" sz="4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75" name="Text Box 5"/>
            <p:cNvSpPr/>
            <p:nvPr/>
          </p:nvSpPr>
          <p:spPr>
            <a:xfrm>
              <a:off x="5045760" y="1093680"/>
              <a:ext cx="37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001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月</a:t>
              </a: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日制</a:t>
              </a:r>
              <a:endParaRPr b="1" lang="en-US" sz="36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576" name="Group 6"/>
          <p:cNvGrpSpPr/>
          <p:nvPr/>
        </p:nvGrpSpPr>
        <p:grpSpPr>
          <a:xfrm>
            <a:off x="3808440" y="2639880"/>
            <a:ext cx="2975040" cy="3077280"/>
            <a:chOff x="3808440" y="2639880"/>
            <a:chExt cx="2975040" cy="3077280"/>
          </a:xfrm>
        </p:grpSpPr>
        <p:sp>
          <p:nvSpPr>
            <p:cNvPr id="577" name="Rectangle 7"/>
            <p:cNvSpPr/>
            <p:nvPr/>
          </p:nvSpPr>
          <p:spPr>
            <a:xfrm>
              <a:off x="4189680" y="263988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文娱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％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78" name="Rectangle 8"/>
            <p:cNvSpPr/>
            <p:nvPr/>
          </p:nvSpPr>
          <p:spPr>
            <a:xfrm>
              <a:off x="5774040" y="342900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美术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％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79" name="Rectangle 9"/>
            <p:cNvSpPr/>
            <p:nvPr/>
          </p:nvSpPr>
          <p:spPr>
            <a:xfrm>
              <a:off x="3808440" y="464832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体育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0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％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580" name="Oval 10"/>
          <p:cNvSpPr/>
          <p:nvPr/>
        </p:nvSpPr>
        <p:spPr>
          <a:xfrm>
            <a:off x="2438280" y="1905120"/>
            <a:ext cx="4496040" cy="4419360"/>
          </a:xfrm>
          <a:prstGeom prst="ellipse">
            <a:avLst/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grpSp>
        <p:nvGrpSpPr>
          <p:cNvPr id="581" name="Group 11"/>
          <p:cNvGrpSpPr/>
          <p:nvPr/>
        </p:nvGrpSpPr>
        <p:grpSpPr>
          <a:xfrm>
            <a:off x="3810960" y="2639880"/>
            <a:ext cx="2974680" cy="3077280"/>
            <a:chOff x="3810960" y="2639880"/>
            <a:chExt cx="2974680" cy="3077280"/>
          </a:xfrm>
        </p:grpSpPr>
        <p:sp>
          <p:nvSpPr>
            <p:cNvPr id="582" name="Rectangle 12"/>
            <p:cNvSpPr/>
            <p:nvPr/>
          </p:nvSpPr>
          <p:spPr>
            <a:xfrm>
              <a:off x="4191840" y="263988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文娱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30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％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83" name="Rectangle 13"/>
            <p:cNvSpPr/>
            <p:nvPr/>
          </p:nvSpPr>
          <p:spPr>
            <a:xfrm>
              <a:off x="5776200" y="342900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美术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0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％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84" name="Rectangle 14"/>
            <p:cNvSpPr/>
            <p:nvPr/>
          </p:nvSpPr>
          <p:spPr>
            <a:xfrm>
              <a:off x="3810960" y="4648320"/>
              <a:ext cx="1009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体育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60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％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585" name="Group 23"/>
          <p:cNvGrpSpPr/>
          <p:nvPr/>
        </p:nvGrpSpPr>
        <p:grpSpPr>
          <a:xfrm>
            <a:off x="5716440" y="3581280"/>
            <a:ext cx="942840" cy="825120"/>
            <a:chOff x="5716440" y="3581280"/>
            <a:chExt cx="942840" cy="825120"/>
          </a:xfrm>
        </p:grpSpPr>
        <p:sp>
          <p:nvSpPr>
            <p:cNvPr id="586" name="Rectangle 16"/>
            <p:cNvSpPr/>
            <p:nvPr/>
          </p:nvSpPr>
          <p:spPr>
            <a:xfrm>
              <a:off x="5716440" y="3581280"/>
              <a:ext cx="942840" cy="8251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36 </a:t>
              </a:r>
              <a:endParaRPr b="1" lang="en-US" sz="48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87" name="Oval 17"/>
            <p:cNvSpPr/>
            <p:nvPr/>
          </p:nvSpPr>
          <p:spPr>
            <a:xfrm>
              <a:off x="6477120" y="3821760"/>
              <a:ext cx="142920" cy="175320"/>
            </a:xfrm>
            <a:prstGeom prst="ellipse">
              <a:avLst/>
            </a:prstGeom>
            <a:solidFill>
              <a:srgbClr val="ffff66"/>
            </a:solidFill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588" name="Group 21"/>
          <p:cNvGrpSpPr/>
          <p:nvPr/>
        </p:nvGrpSpPr>
        <p:grpSpPr>
          <a:xfrm>
            <a:off x="4192560" y="2666880"/>
            <a:ext cx="1522440" cy="1008360"/>
            <a:chOff x="4192560" y="2666880"/>
            <a:chExt cx="1522440" cy="1008360"/>
          </a:xfrm>
        </p:grpSpPr>
        <p:sp>
          <p:nvSpPr>
            <p:cNvPr id="589" name="Rectangle 19"/>
            <p:cNvSpPr/>
            <p:nvPr/>
          </p:nvSpPr>
          <p:spPr>
            <a:xfrm>
              <a:off x="4192560" y="2666880"/>
              <a:ext cx="1323720" cy="100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108</a:t>
              </a: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90" name="Oval 20"/>
            <p:cNvSpPr/>
            <p:nvPr/>
          </p:nvSpPr>
          <p:spPr>
            <a:xfrm>
              <a:off x="5562720" y="2889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grpSp>
        <p:nvGrpSpPr>
          <p:cNvPr id="591" name="Group 27"/>
          <p:cNvGrpSpPr/>
          <p:nvPr/>
        </p:nvGrpSpPr>
        <p:grpSpPr>
          <a:xfrm>
            <a:off x="3809880" y="4632480"/>
            <a:ext cx="1555920" cy="1008360"/>
            <a:chOff x="3809880" y="4632480"/>
            <a:chExt cx="1555920" cy="1008360"/>
          </a:xfrm>
        </p:grpSpPr>
        <p:sp>
          <p:nvSpPr>
            <p:cNvPr id="592" name="Rectangle 25"/>
            <p:cNvSpPr/>
            <p:nvPr/>
          </p:nvSpPr>
          <p:spPr>
            <a:xfrm>
              <a:off x="3809880" y="4632480"/>
              <a:ext cx="1327320" cy="100836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216</a:t>
              </a: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593" name="Oval 26"/>
            <p:cNvSpPr/>
            <p:nvPr/>
          </p:nvSpPr>
          <p:spPr>
            <a:xfrm>
              <a:off x="5213160" y="4860720"/>
              <a:ext cx="152640" cy="151920"/>
            </a:xfrm>
            <a:prstGeom prst="ellipse">
              <a:avLst/>
            </a:prstGeom>
            <a:solidFill>
              <a:srgbClr val="00ff00"/>
            </a:solidFill>
            <a:ln w="60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sp>
        <p:nvSpPr>
          <p:cNvPr id="594" name="Text Box 28"/>
          <p:cNvSpPr/>
          <p:nvPr/>
        </p:nvSpPr>
        <p:spPr>
          <a:xfrm>
            <a:off x="228600" y="137160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11"/>
          <p:cNvSpPr/>
          <p:nvPr/>
        </p:nvSpPr>
        <p:spPr>
          <a:xfrm>
            <a:off x="380880" y="0"/>
            <a:ext cx="80773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绘制扇形统计图的步骤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6" name="Text Box 12"/>
          <p:cNvSpPr/>
          <p:nvPr/>
        </p:nvSpPr>
        <p:spPr>
          <a:xfrm>
            <a:off x="609480" y="1143000"/>
            <a:ext cx="75438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计算各部分数量占总数量的百分之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7" name="Text Box 13"/>
          <p:cNvSpPr/>
          <p:nvPr/>
        </p:nvSpPr>
        <p:spPr>
          <a:xfrm>
            <a:off x="685800" y="23623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计算各部分数量的扇形圆心角的度数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8" name="Text Box 14"/>
          <p:cNvSpPr/>
          <p:nvPr/>
        </p:nvSpPr>
        <p:spPr>
          <a:xfrm>
            <a:off x="685800" y="3962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按照算出的圆心角的度数，在圆里画出各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个扇形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99" name="Text Box 15"/>
          <p:cNvSpPr/>
          <p:nvPr/>
        </p:nvSpPr>
        <p:spPr>
          <a:xfrm>
            <a:off x="762120" y="4952880"/>
            <a:ext cx="8001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在各个扇形内写上名称和百分数，并用不同颜色或条纹区别开。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3"/>
          <p:cNvGrpSpPr/>
          <p:nvPr/>
        </p:nvGrpSpPr>
        <p:grpSpPr>
          <a:xfrm>
            <a:off x="1866240" y="304920"/>
            <a:ext cx="6924960" cy="1431360"/>
            <a:chOff x="1866240" y="304920"/>
            <a:chExt cx="6924960" cy="1431360"/>
          </a:xfrm>
        </p:grpSpPr>
        <p:sp>
          <p:nvSpPr>
            <p:cNvPr id="601" name="Rectangle 4"/>
            <p:cNvSpPr/>
            <p:nvPr/>
          </p:nvSpPr>
          <p:spPr>
            <a:xfrm>
              <a:off x="1866240" y="304920"/>
              <a:ext cx="536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李明班上同学参加球类活动情况统计图</a:t>
              </a:r>
              <a:endParaRPr b="1" lang="en-US" sz="4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sp>
          <p:nvSpPr>
            <p:cNvPr id="602" name="Text Box 5"/>
            <p:cNvSpPr/>
            <p:nvPr/>
          </p:nvSpPr>
          <p:spPr>
            <a:xfrm>
              <a:off x="5045760" y="1093680"/>
              <a:ext cx="3745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001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月</a:t>
              </a: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5</a:t>
              </a:r>
              <a:r>
                <a:rPr b="1" lang="zh-CN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日制</a:t>
              </a:r>
              <a:endParaRPr b="1" lang="en-US" sz="36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  <p:pic>
        <p:nvPicPr>
          <p:cNvPr id="603" name="Object 6" descr=""/>
          <p:cNvPicPr/>
          <p:nvPr/>
        </p:nvPicPr>
        <p:blipFill>
          <a:blip r:embed="rId1"/>
          <a:stretch/>
        </p:blipFill>
        <p:spPr>
          <a:xfrm>
            <a:off x="2209680" y="1712880"/>
            <a:ext cx="4800600" cy="4764240"/>
          </a:xfrm>
          <a:prstGeom prst="rect">
            <a:avLst/>
          </a:prstGeom>
          <a:ln w="0">
            <a:noFill/>
          </a:ln>
        </p:spPr>
      </p:pic>
      <p:sp>
        <p:nvSpPr>
          <p:cNvPr id="604" name="Rectangle 7"/>
          <p:cNvSpPr/>
          <p:nvPr/>
        </p:nvSpPr>
        <p:spPr>
          <a:xfrm>
            <a:off x="3352680" y="236232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篮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5" name="Rectangle 8"/>
          <p:cNvSpPr/>
          <p:nvPr/>
        </p:nvSpPr>
        <p:spPr>
          <a:xfrm>
            <a:off x="4952880" y="2514600"/>
            <a:ext cx="1600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羽毛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6" name="Rectangle 9"/>
          <p:cNvSpPr/>
          <p:nvPr/>
        </p:nvSpPr>
        <p:spPr>
          <a:xfrm>
            <a:off x="4724280" y="4556160"/>
            <a:ext cx="1524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乒乓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7" name="Rectangle 10"/>
          <p:cNvSpPr/>
          <p:nvPr/>
        </p:nvSpPr>
        <p:spPr>
          <a:xfrm>
            <a:off x="2971800" y="4267080"/>
            <a:ext cx="1371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足球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08" name="Rectangle 11"/>
          <p:cNvSpPr/>
          <p:nvPr/>
        </p:nvSpPr>
        <p:spPr>
          <a:xfrm>
            <a:off x="2286000" y="358128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其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％</a:t>
            </a:r>
            <a:endParaRPr b="1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pic>
        <p:nvPicPr>
          <p:cNvPr id="609" name="Object 12" descr=""/>
          <p:cNvPicPr/>
          <p:nvPr/>
        </p:nvPicPr>
        <p:blipFill>
          <a:blip r:embed="rId2"/>
          <a:stretch/>
        </p:blipFill>
        <p:spPr>
          <a:xfrm>
            <a:off x="3581280" y="4083120"/>
            <a:ext cx="3429000" cy="2448000"/>
          </a:xfrm>
          <a:prstGeom prst="rect">
            <a:avLst/>
          </a:prstGeom>
          <a:ln w="0">
            <a:noFill/>
          </a:ln>
        </p:spPr>
      </p:pic>
      <p:pic>
        <p:nvPicPr>
          <p:cNvPr id="610" name="Object 13" descr=""/>
          <p:cNvPicPr/>
          <p:nvPr/>
        </p:nvPicPr>
        <p:blipFill>
          <a:blip r:embed="rId3"/>
          <a:stretch/>
        </p:blipFill>
        <p:spPr>
          <a:xfrm>
            <a:off x="2182680" y="1676520"/>
            <a:ext cx="2541600" cy="4647960"/>
          </a:xfrm>
          <a:prstGeom prst="rect">
            <a:avLst/>
          </a:prstGeom>
          <a:ln w="0">
            <a:noFill/>
          </a:ln>
        </p:spPr>
      </p:pic>
      <p:pic>
        <p:nvPicPr>
          <p:cNvPr id="611" name="Object 14" descr=""/>
          <p:cNvPicPr/>
          <p:nvPr/>
        </p:nvPicPr>
        <p:blipFill>
          <a:blip r:embed="rId4"/>
          <a:stretch/>
        </p:blipFill>
        <p:spPr>
          <a:xfrm>
            <a:off x="4419720" y="1676520"/>
            <a:ext cx="2590560" cy="2523960"/>
          </a:xfrm>
          <a:prstGeom prst="rect">
            <a:avLst/>
          </a:prstGeom>
          <a:ln w="0">
            <a:noFill/>
          </a:ln>
        </p:spPr>
      </p:pic>
      <p:pic>
        <p:nvPicPr>
          <p:cNvPr id="612" name="Object 15" descr=""/>
          <p:cNvPicPr/>
          <p:nvPr/>
        </p:nvPicPr>
        <p:blipFill>
          <a:blip r:embed="rId5"/>
          <a:stretch/>
        </p:blipFill>
        <p:spPr>
          <a:xfrm>
            <a:off x="2209680" y="3276720"/>
            <a:ext cx="259092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9" dur="1" fill="hold"/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33"/>
          <p:cNvSpPr/>
          <p:nvPr/>
        </p:nvSpPr>
        <p:spPr>
          <a:xfrm>
            <a:off x="0" y="0"/>
            <a:ext cx="9144000" cy="6387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据下边统计图把下列各题补充完整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算出四类学校的扇形圆心角度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幼儿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×15%=54°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  学：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   学：                                       大  学：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从图可以看出表示（          ）的学生扇形面积最大，说明       （                                ）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如果各类学校的学生总人数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5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，则幼儿园为（         ）人，小学人数为（            ）人，中学人数为（                ）人，大学人数为（                ）人。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4" name="Text Box 34"/>
          <p:cNvSpPr/>
          <p:nvPr/>
        </p:nvSpPr>
        <p:spPr>
          <a:xfrm>
            <a:off x="3733920" y="1219320"/>
            <a:ext cx="1768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5" name="Oval 35"/>
          <p:cNvSpPr/>
          <p:nvPr/>
        </p:nvSpPr>
        <p:spPr>
          <a:xfrm>
            <a:off x="2895480" y="762120"/>
            <a:ext cx="2133720" cy="2057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6" name="Line 38"/>
          <p:cNvSpPr/>
          <p:nvPr/>
        </p:nvSpPr>
        <p:spPr>
          <a:xfrm>
            <a:off x="3962520" y="1828800"/>
            <a:ext cx="106668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7" name="Line 40"/>
          <p:cNvSpPr/>
          <p:nvPr/>
        </p:nvSpPr>
        <p:spPr>
          <a:xfrm flipH="1" flipV="1">
            <a:off x="3505320" y="914400"/>
            <a:ext cx="45720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8" name="Line 41"/>
          <p:cNvSpPr/>
          <p:nvPr/>
        </p:nvSpPr>
        <p:spPr>
          <a:xfrm flipH="1" flipV="1">
            <a:off x="2971800" y="1447920"/>
            <a:ext cx="990720" cy="380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19" name="Line 42"/>
          <p:cNvSpPr/>
          <p:nvPr/>
        </p:nvSpPr>
        <p:spPr>
          <a:xfrm flipH="1">
            <a:off x="3580920" y="1828800"/>
            <a:ext cx="381240" cy="914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6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0" name="Text Box 44"/>
          <p:cNvSpPr/>
          <p:nvPr/>
        </p:nvSpPr>
        <p:spPr>
          <a:xfrm>
            <a:off x="3809880" y="990720"/>
            <a:ext cx="854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中学生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5%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1" name="Text Box 49"/>
          <p:cNvSpPr/>
          <p:nvPr/>
        </p:nvSpPr>
        <p:spPr>
          <a:xfrm>
            <a:off x="3962520" y="1981080"/>
            <a:ext cx="140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小学生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0%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2" name="Text Box 53"/>
          <p:cNvSpPr/>
          <p:nvPr/>
        </p:nvSpPr>
        <p:spPr>
          <a:xfrm>
            <a:off x="2895480" y="167652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幼儿园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5%</a:t>
            </a:r>
            <a:endParaRPr b="1" lang="en-US" sz="1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3" name="Text Box 57"/>
          <p:cNvSpPr/>
          <p:nvPr/>
        </p:nvSpPr>
        <p:spPr>
          <a:xfrm>
            <a:off x="3134880" y="1143000"/>
            <a:ext cx="53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大学生</a:t>
            </a:r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1" lang="en-US" sz="1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4" name="Text Box 60"/>
          <p:cNvSpPr/>
          <p:nvPr/>
        </p:nvSpPr>
        <p:spPr>
          <a:xfrm>
            <a:off x="5257800" y="3886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×40%=144°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5" name="Text Box 68"/>
          <p:cNvSpPr/>
          <p:nvPr/>
        </p:nvSpPr>
        <p:spPr>
          <a:xfrm>
            <a:off x="1295280" y="428796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×35%=126°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6" name="Text Box 70"/>
          <p:cNvSpPr/>
          <p:nvPr/>
        </p:nvSpPr>
        <p:spPr>
          <a:xfrm>
            <a:off x="5241960" y="436392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×10%=36°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7" name="Text Box 71"/>
          <p:cNvSpPr/>
          <p:nvPr/>
        </p:nvSpPr>
        <p:spPr>
          <a:xfrm>
            <a:off x="3352680" y="48769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学生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8" name="Text Box 78"/>
          <p:cNvSpPr/>
          <p:nvPr/>
        </p:nvSpPr>
        <p:spPr>
          <a:xfrm>
            <a:off x="950760" y="52578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学生人数最多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29" name="Text Box 82"/>
          <p:cNvSpPr/>
          <p:nvPr/>
        </p:nvSpPr>
        <p:spPr>
          <a:xfrm>
            <a:off x="7832880" y="5867280"/>
            <a:ext cx="13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75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0" name="Text Box 86"/>
          <p:cNvSpPr/>
          <p:nvPr/>
        </p:nvSpPr>
        <p:spPr>
          <a:xfrm>
            <a:off x="2438280" y="617220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200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1" name="Text Box 90"/>
          <p:cNvSpPr/>
          <p:nvPr/>
        </p:nvSpPr>
        <p:spPr>
          <a:xfrm>
            <a:off x="6248520" y="617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75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2" name="Text Box 92"/>
          <p:cNvSpPr/>
          <p:nvPr/>
        </p:nvSpPr>
        <p:spPr>
          <a:xfrm>
            <a:off x="1371600" y="6629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50</a:t>
            </a:r>
            <a:endParaRPr b="1" lang="en-US" sz="24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3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  <p:pic>
          <p:nvPicPr>
            <p:cNvPr id="63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33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03:34:42Z</dcterms:created>
  <dc:creator>zzh</dc:creator>
  <dc:description>六年级二册 扇形统计图</dc:description>
  <dc:language>en-US</dc:language>
  <cp:lastModifiedBy>a</cp:lastModifiedBy>
  <dcterms:modified xsi:type="dcterms:W3CDTF">2015-02-10T02:03:48Z</dcterms:modified>
  <cp:revision>71</cp:revision>
  <dc:subject/>
  <dc:title>PowerPoint 演示文稿</dc:title>
</cp:coreProperties>
</file>