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021-9F94-424F-A144-DD1F7F88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726-38A0-4EF3-823B-E3504952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40228-09DB-47DA-8AC2-4F91DD5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6051-3D0D-47E8-8206-FD6FFC8D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E2DD2-7D21-495E-B14C-D6A0FFB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554ED-72D8-43C2-81E5-4C2F03A2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5496-68D9-4B14-ACDB-4B7F5F6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F96D0-29FB-4F0C-8422-33FE9A5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770BF-5EE0-4CF0-AE93-CEFC3F2C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4E54C-3475-48F6-BB70-392563A0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F42C2-CB44-4387-A1C7-8FEFDDF8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82891-FD41-4EFA-BEB9-51BD887F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058-0C2D-4EF3-A91F-C6C02CC3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2AE80-B1D7-4499-9FB9-0C15C6F7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E7FF7-D6AD-4FBF-A57B-E3D1C5F8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07608-152F-4687-A69C-8BF9FEB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8CE24-6EEA-48F0-9178-92FC78E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C2F2D-3E2F-4DDC-8804-8994E385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DA05-BC89-4535-BFEA-09B5CC8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BE932-D0F2-4870-A6F4-FACD88F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FEE57-AAEC-4EA7-9F40-C500CDC4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D6266-C28D-4EDA-B4DA-D059BD0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5168-04A2-413B-A977-044DC0A4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74B-4333-423C-8137-FF65902D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3D17A-779B-43F0-B002-381CA48B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2AE65-468E-4E74-BC4D-73B3D8D1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61C83-F1E4-453A-B318-C0F397D3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F1305-FBB5-41C2-9BAD-4C8B50E5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0841-5003-4DA5-8AFD-4FC111A0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90FA1-92B3-49DB-B72C-641BA94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6BEEC-272D-41FF-8FC1-30ED57E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44A9-9914-4AEE-99F6-D530CAD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FC267-D60E-4E09-813C-B347262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C059-9153-4170-B5BC-147C688E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4344-CF74-4041-9386-69596CAD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89D8-DB2F-4823-A170-2D44C4C7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91B5C-10AF-4DF5-BA66-3D7C671F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50E15-0C0F-41E0-BC5A-1E7D8CA6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BA94B-DA5C-452E-85DC-750FC9FC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9165-9539-45BA-9FFB-884B1667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BBB0B-1D7F-4DA8-864C-1B99C06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1757-B935-4F95-975E-E12EEEB2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F8920-D0EC-4571-B11A-5DA0714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1AA6D-EC44-477D-9E6A-5E544E8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BEE22-10C2-4171-BA88-2D5D56D5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A55-4D9C-4FCE-B33C-F2BC556F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AE9A2-4D1C-4C7C-90D2-97AFCB41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40B1-6A7D-4D95-A55A-0D82470A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3EE2D-104B-481D-B1AD-B0BC1C76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823F8-2242-408B-8298-A7D545C0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8B501-F40C-4E5B-8902-04983BE7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EAEAD-82A5-41B5-AD20-5E78EA1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2A866-6F17-49D7-ADDF-152205B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D703D-7B82-457C-B5AE-198CB1F1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23B0D-4967-4974-9D4A-AB754290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BAB9A-E215-4F35-876E-1F890E7B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0A78-8F4C-42E8-A9DE-2829F2C6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70E18-0312-4E36-B3F2-3FD5DF71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5F822-0979-48CA-954C-423AE59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52158-5AF3-45AE-A8B9-896CEBF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FA79D-FF39-4CE1-9361-8BC820E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F6398-8EFA-42AA-A9D4-43690032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45875-3902-4204-8EA4-D978A8A2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EED06-4820-4AED-AFBE-C179C692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C2E-20AF-46AE-B244-FD8EF6E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2DEA-80B8-4616-A22C-8635763A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70C-1EAD-40F6-841C-1C33C60B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F04-7C9D-402B-A445-BBA49C7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89B-5F2C-4223-BC89-56DFBFEC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2545-B31C-459D-808A-712F3CD9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A0F-971D-4C6E-91A2-B8918C6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BAE0-F919-4168-86F2-0532138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EEA3-8850-4AD7-AD20-36EFA0E3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FDC2-7BF6-4692-A149-F30829AD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C425-8460-47F4-8DCC-A4A727F5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3DC4-CBEE-4645-B476-C5FFF766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1BCD-2360-4D88-AB44-E906FEB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A66B-4E1F-4CEF-AB45-D89A5FEE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7A4A-8548-445A-A0BF-BD05A518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539-FDE0-452B-B64E-CC1A0538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3C95-B724-4B50-A9CB-F40CEC23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EC82-2233-4053-AF6D-D091192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ABF7A-D7ED-4C52-A4BA-A5B2511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6257-4075-4A0F-8C11-90C545F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DBCDF-4777-4F62-9C81-027EB56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103A-7286-4D32-A791-30696ABB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FA37-489B-4A2C-B316-8B116BAC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CCC1-D35C-4D88-BEF2-A6939D68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4A24-27CD-4E25-9303-F0E1EB10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72BB-7692-4C88-8ED8-8EA7DD8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586-C5D7-4074-8571-0B469AF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E69F-AFC7-4C76-880B-9607903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BB0B-7C22-4962-A42C-9E02D77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745F-0A11-49C3-ADED-36C7031A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F4E8-CCF7-4B3B-8E0E-CDFF564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22F5-9AED-43B2-86F5-18AB167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DDA9-7A13-48DD-B679-5CC4E12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C215-E3BE-4E69-86F0-9DE8EE3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A80DF-AF21-412E-8D1B-7AF95357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9E12-FC94-4895-9C0E-AA014E77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4267-30FB-41C6-BF3D-36EC966A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DF0-0575-44CE-A9F3-297A3FF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AC52-0BE3-4512-9CAC-D6B20378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E85E5-982F-4220-9D96-09CEB52C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B512F-1322-4BB5-8731-111D582E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30AF-4FC9-4526-8175-D082745D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8416-F0FB-45C5-985E-396B128F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14C3F-EDB3-4699-9160-C4068BD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7061D-7DB3-4A5C-9E43-CB8F443F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CF93-DAF9-46A3-AE9F-6FF1514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75DBB-34F5-4781-9F18-12C2BDB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6351-B71F-4526-A594-93311B26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186-4A47-43B4-81CC-F8AC9694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85EC-9454-4C29-9BF8-8579A960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07D1-0072-47E9-A2AF-60E82809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9304E-129D-4BB4-A50E-5243FDA7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CD8DF-ECB4-4B1F-90AB-7161CA0F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40621-FE48-4DF7-BCD5-F4EB61A2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53C4F-2329-441B-8FC6-6F68FDAE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513DB-BFDF-4C37-B722-F5BC418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3CA7D-0E87-4E6B-AAE4-10F392A5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0737-A080-4601-8E02-41379ECE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901D3-D456-41F1-B1F9-22ADE1F0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66D-DF94-419D-AAA2-E627180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1851-B198-4E16-99F6-6BF2F3BE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86D1-27D1-4A6F-B556-763D3A15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4D05-86F3-4FE7-809E-B7540E33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40AAC-0821-491B-93CA-0B1DD630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07D61-A474-4113-A8F2-40FECD77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566DB-4E78-495F-B2A7-C370255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787C3-B787-41E4-819B-158E05B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FF8BB-41D2-4A7B-B0B5-BBD74596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F905-E4BD-4E07-8BF0-766B322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6482-8E6C-4668-94EE-3A8ECC8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CF5-B676-46B8-A2B8-D0024EF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38488-C8F3-4497-B5A2-382C67A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2926F-1774-4A81-99B9-34E4AF9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33BC1-C713-4723-8C11-0B5E218B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B953D-BBEB-4894-82CC-F2EBCE64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11234-DE87-4C71-9F11-166503A3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D1B1-75B3-40C6-90AF-952E43B2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ECC6F-9B7A-4BB8-88B0-D820F9A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D93F-7AC8-43FB-9C80-157F94C3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2EB93-33F1-4023-8191-229762A8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0DF04-78DC-4F56-B3A0-3C854FE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AB2-E8CD-46F2-8B61-109B833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05A91-DDFC-4324-9F31-55EF256D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0BD19-A00C-4BFC-A257-7184B797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26AA-3DD4-43A9-94B7-C8026F7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356DF-642C-44EE-8AA4-1D28C51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1076-8027-4D1B-95D8-239AF5DB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6B219-5348-4AAE-83CD-82C807B9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DA7E-1CB2-4825-ACE6-8BF27185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C9148-3B71-4067-9D94-18F34E61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31B0-3982-44A6-A526-2BDE6CF2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16824-495C-4D17-8600-41B929D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0022-5D27-489E-B74F-74BE6788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59A-6465-430F-A40B-0F568177C0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E88-595E-422B-8328-E8CAB0775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D02-FF4C-41B1-8C3D-5C059B8055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A93-1A87-46F0-A59C-97D2CE18FC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3CE-7CB9-457D-B931-E15124029F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0A0-A8D0-4BCB-8129-87384496BA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CEB1-ABB3-40BF-861C-CF9333F363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A8B-8749-4C55-B28C-95DC8B664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50E-4E50-4A9B-ADB3-B8B479CCA6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64F7-7567-4CDF-8C8A-05E4C9F4D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2B3-23BD-45C2-96EE-3E9A34BC13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F08-D012-4724-A52C-25D5201D4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E14-002D-48BB-80B3-3B259E11DD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D763-F255-4EC0-8281-C75ADD7A7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0C4-06C1-44DB-9779-878D675353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618-A4E6-4645-BD5E-1C1E274085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744-DA14-4756-9E69-3799383650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9A8-EED0-4271-A162-1D094E6D45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0F2-C697-4D8E-A037-2348391A28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DB2C-1CA7-4276-86D8-B5C707B93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9F0-F250-45CD-BF06-00E115B474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E3C4-D8AB-4609-890E-893B5D7A1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9BE0-7FE9-4EBF-B0C5-BBA9775B71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5EF-5270-4D64-AE1A-0A848B2D8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索溪峪的</a:t>
            </a:r>
            <a:r>
              <a:rPr b="0" lang="zh-CN" sz="13800" spc="-1" strike="noStrike">
                <a:solidFill>
                  <a:srgbClr val="ff0000"/>
                </a:solidFill>
                <a:latin typeface="方正剪纸简体"/>
                <a:ea typeface="方正剪纸简体"/>
              </a:rPr>
              <a:t>野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5"/>
          <p:cNvSpPr/>
          <p:nvPr/>
        </p:nvSpPr>
        <p:spPr>
          <a:xfrm>
            <a:off x="3124080" y="6389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认真地阅读课文，想一想课文为了描写索溪峪的野，运用了怎样的文章结构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920" y="24764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总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2920" y="2325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山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游人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3708360" y="3860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20040614123449-0"/>
          <p:cNvPicPr/>
          <p:nvPr/>
        </p:nvPicPr>
        <p:blipFill>
          <a:blip r:embed="rId1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20040614123305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20040614123503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在自己的“好词好句”本中摘抄课文中的好词好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09:21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15:04:58Z</dcterms:modified>
  <cp:revision>8</cp:revision>
  <dc:subject>第一PPT模板网-WWW.1PPT.COM</dc:subject>
  <dc:title>第一PPT模板网-WWW.1PPT.COM</dc:title>
</cp:coreProperties>
</file>