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8C39-E9CB-4333-BE3D-B69E0CBB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AAD-E3C6-4B9C-8697-DD94A4A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DD329-58AD-49C1-A6E0-56F5BAF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6A981-C1AB-4FDB-8BD5-3FDA8F54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1987A-5DA9-4AC2-85D5-B76DEA0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D21B-D612-4DB3-B1B0-4FE60062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F0E8A-0A0C-4C2D-9FB2-41BD54F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44F92-867F-473C-86B3-58B1F4D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EE87-894F-4AE0-9EFA-88D0CE8C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1DE5C-4EF7-452D-9325-31734F1E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C86F-F917-4F66-9FAE-3FA62FF3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F5005-CD62-4216-8BC8-CE808D9C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CAD-6756-434F-9E99-0887BCAE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51234-FA5B-417F-ACE8-11FAEF7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2E41-A115-432E-884B-E93F663E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2167C-7D19-4493-B2BD-8816C401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C6D15-26E1-416D-9398-3376DB6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50109-F1D5-4DC9-B34B-E35EADA3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86E06-501B-4D9A-8A53-C92597F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D1EB1-8967-4DB4-BDF8-02E5303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38F3-6602-4386-ABAB-926528A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19376-8812-4A1D-A52E-A56D52F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D008C-96E7-483F-A449-EC23922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C46-90E5-4BCC-80B4-55A5332F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A98F7-F340-4D5E-AE5D-A624C142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904E-0DD1-4915-B657-2E04A90D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004F8-11BA-4DBB-9028-19501B0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34E1-EB0A-4CBE-846B-F34F80B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C2A85-2D42-4B1F-B51E-51DADCB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E8D6-D9CA-4AA1-9478-931B65D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D4E5-F4A3-4729-A66C-2F13EA83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74A2D-9CE2-45DF-9BCB-B2DAC47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0FA3-E934-4954-9686-4CFBB36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CF7CE-396D-4042-8784-591E488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3E1E-723B-4C39-B6F8-B1A02182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86792-5ECD-49CE-ACB3-36C338D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30348-CDF8-44FA-B41F-AE899F02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7586B-70A3-4302-BC6B-0BF2180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C16F9-8D71-4008-81C4-F1D02740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DE7C0-3956-4E87-9D9E-D869A9F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014C7-5560-43B0-B154-7605A9AF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221EA-3B17-4F7D-8658-0D48E374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2353F-ACC5-4A8E-9880-B29B372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0CB01-6578-481D-9184-7E833BC6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BB4B4-5520-4B77-BB54-1440898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E6B-03F6-4110-BFF3-3C2CCDC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C9E63-A579-4F45-BE65-DD18EDF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21BD9-3B6B-47D2-8C31-FB2C7DB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1EC7E-75FB-4AF8-B11B-04F3D10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1E141-51E4-4798-B83E-74338348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9193F-AC78-43CC-9D42-C8837808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7169E-E6B6-40F7-9B9B-1AFC8CAA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9EA8-A530-444D-9708-27689061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7EED7-9AC9-4BE8-80FA-C26ED6E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B2CF1-4185-4CB7-8665-A681989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D9A29-0B73-40CE-A7A0-95D7F1B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A8A7-53C6-4F94-973B-AC061866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2B300-C534-4940-97A6-E31A5681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756EE-516E-4D3F-A141-CA02A65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C6D57-AC5C-4B78-91A5-545144C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48449-E952-4A11-997F-5014210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20012-2B40-49A9-9DBC-A05F12F8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8EB85-30C7-4C38-B9A2-3C00737B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603B0-C1C0-407A-83BA-2B853368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E53-F4B2-4EC4-A116-7276228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CF5D-5290-4964-9E03-B5C6EBF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C0BC-FC1C-4702-8DE6-07BA365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9BE8-9A65-491A-A175-56C3C896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D9F-9DA7-4915-884D-B76EA093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DD5-DA87-44A0-8713-82DAAAD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E08-1C38-47B6-A02E-3D5B019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E384-8B94-4902-8F44-A55CB9E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BA69-70A4-4510-AB16-E2614814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AD6-8710-4E5D-A353-BE1BF3F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E48E-6C6C-4499-A2F1-1253C9D5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49FD-46FF-4729-AD95-EFB831F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914B-CC48-457A-8B32-3B58596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162B-0150-49DF-A363-567B699A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8355-BBB6-4052-93C3-67A561A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635-1FC1-428A-95E5-F673B7AC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BABA-322B-4AEA-A38B-88D65BFE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220E-3CD6-420F-9A8C-6A4B286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1434-CFCE-4F71-AEE5-B8C6144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26AA-11E4-4CC7-A858-B4BC588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1F83-D9BB-46F4-A147-60ED9042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973F-730A-4F5A-9DCE-7B5E2259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91AA-CA20-46E1-AD94-F07B08DE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E823-5436-42C0-9315-C0F2759F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0FC5-6567-4776-99BA-C86D91C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683E-4DD1-4065-9202-2A37A601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7B-07FE-4561-87AF-6B89044A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7939-B85C-48CF-B217-85D3C83C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B4FE-12C4-474A-AE0C-9E625298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5915-B338-478D-854A-FCB8A7A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CD74-2665-481E-8AB9-3B3C986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478C-2041-448B-B638-370F8DD7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91B8-32BC-4C8A-929A-FB29D909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6FD8-8788-4C69-A885-CEBC267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2BAB-30EC-4F86-87FC-FFE60F3E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1844-BD06-4D0C-A4F4-A9D446E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809C1-F457-4CD8-A0E6-08335480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A70-DCCC-4367-B9F2-3E6ABCC0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58D7-3A9C-4661-A97A-2431F23E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BB77-ACEB-4CA8-B296-EFFAD180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4581-369E-43EF-A3B0-44FED2C4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EDCA-A2C7-4AC7-A341-92128D9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E808-1172-4E16-AB93-D435CFA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0EDC-798F-4603-846A-EA07C98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26134-F6CD-4614-B907-D54BD573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0EC8-03FF-4A0F-B990-0ACA73E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7C3F-1C9A-4843-B4EB-C10F105A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906F-869E-4487-8647-07E8C4AB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260-F966-4DAA-BB1B-6D48EB6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2BD0-F059-4263-BD07-B04474B0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3A57C-20EC-41E6-BCA3-CB2ECDD6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ABD92-35F5-46FC-88C8-DCE49ED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98A9-1135-42E1-A63C-E39F640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6B30-48B3-47D8-B8BA-BBE2E01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27DD-D25D-4C82-A4C6-4406D5CD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B08D-9F8E-43DC-9BC6-D1D743A7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7091-92FA-4666-8418-B2B33AB0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35ED-0431-4627-8372-EA888BD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A6D2C-3DD9-4610-819C-E2E45DE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A16-291F-4B38-8B5A-DAF52A5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54045-AD67-41A8-B25F-B713ABAB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BF72-894F-4C6C-99FA-1CEB4059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16AA2-C90B-49EA-872F-965A62AA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5024-ADE0-432C-AF37-3A6A2831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4C6CA-E59A-456B-A02C-24F7CF98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910B-6FC0-424F-AAB1-3F968018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3D978-9124-40A7-8F0D-9AA0F56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BDB9A-6D7B-4B66-84A5-B6B7C566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B1A4-9242-47C9-AC1D-65E32A4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C4CF0-3ED5-42A5-A495-45C4FB6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5B7-5D7C-40B4-A035-8279EE2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EF3E-4EB6-48F6-AA33-867E71C9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652F-4B34-428F-BA36-94A51E7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9960-A5E8-462D-9217-0EC21AF5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59C6-C5B6-4CD0-A868-5762538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86B55-20D2-47F7-83A1-E7C583D4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9DD5-94D6-4016-9636-24BFF05C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1171-37F4-4384-900F-E2CA3A99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16E46-2A3F-483E-A747-9720820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449E-25E7-4E72-87FD-211C8610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71B3-6300-4AC5-89B4-EE96A14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EEA-EA14-4869-BAD1-D7ADC5A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A89D3-2F0F-42B7-827F-06268FF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DB3A3-DA0B-4398-8987-C44F512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38439-8B9A-4F44-8D9F-5E40469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B00C-F980-4AFB-AB08-12E0AFD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4810B-E86D-4696-BE9C-F04FFF0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3669-8FE3-44A7-8343-9CFAF3AB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BAE0C-CCF4-41A0-BBAA-2BBC259B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AA2CF-D4A2-45FE-9332-ED931867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7941-E892-4070-9F69-C1EC1270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C60C2-B2DE-4A91-9C1E-34DDAA88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D6FD-4134-454E-B8D6-368752349F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83C2-94A4-479B-9293-9C06156388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C82-DF6E-4A79-A1D1-1265A5F815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89A-527A-48F4-A2A3-7E38BC7D31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24F2-0621-4907-B371-31294E4D57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C7CC-3172-4A93-A070-0959B34BC1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6E8D-5024-46C3-8068-D13978A33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E52A-5F77-4D2F-803D-129FD26839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20F0-8A49-40A4-848B-57416D2598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B0C-9BB4-4C83-AF98-C7C964E6F2A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5825-32BC-4A79-991A-FC4193E1F0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0AB9-366A-48FA-B4A9-8246B72C80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614-4A6C-47F2-BB9E-6B32D917F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875-BBBF-4F4A-8A7C-DC539619D7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C328-87CE-4843-AA33-7CD69D4CB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609-4460-45D6-A145-152759C9A8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D00A-9B36-4247-8F9D-DA254B0B2E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257-4373-46BB-B892-F0A5666696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C3C-7862-4225-B8B1-DC723CB2D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0ED-BA8A-4B3D-ACFC-51C6C734AC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0A0F-A2C6-41E4-95F0-3152EC6BB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FB5-198F-45FE-94F3-46C4BE7C0D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8654-B21F-4EC1-9604-A1D5BFD5A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5F6-E17B-495A-9344-4567C34BE4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2B2-D518-4F2E-877E-9909FF748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pic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3"/>
          <p:cNvSpPr txBox="1"/>
          <p:nvPr/>
        </p:nvSpPr>
        <p:spPr>
          <a:xfrm>
            <a:off x="3419640" y="1628640"/>
            <a:ext cx="424800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笋芽儿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20074141120176486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111809-00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10103359_9859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250920" y="692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744640" y="0"/>
            <a:ext cx="459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826920" y="34178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0" y="685800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0" y="-333360"/>
            <a:ext cx="91440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ff3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4444444444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324000" y="292428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324000" y="1557360"/>
            <a:ext cx="158540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笋芽儿扭动着身子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一个劲儿地向上钻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竹笋出土全过程（COCA制作）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93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56666666666666666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4"/>
          <p:cNvSpPr/>
          <p:nvPr/>
        </p:nvSpPr>
        <p:spPr>
          <a:xfrm>
            <a:off x="2247840" y="2282760"/>
            <a:ext cx="41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755640" y="981000"/>
            <a:ext cx="73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春雨姑娘爱抚着她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,      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滋润着她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太阳公公照射着她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温暖着她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88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318456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2484360" y="1052640"/>
            <a:ext cx="64803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风哥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笋芽妈妈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儿歌小竹笋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8200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5:56:2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11:21:19Z</dcterms:modified>
  <cp:revision>9</cp:revision>
  <dc:subject>第一PPT模板网-WWW.1PPT.COM</dc:subject>
  <dc:title>第一PPT模板网-WWW.1PPT.COM</dc:title>
</cp:coreProperties>
</file>