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62B-808E-4670-A73C-0020A431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DA8-6C36-4D9E-B557-16B40EC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24985-A16C-4AD3-BDDA-821B92F0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82A18-C6EF-4110-9975-BA58D817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59B20-FFD2-4436-B3EA-FFF3697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4DDC8-BC7D-4539-BAF4-FDEE19A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B4390-B3C8-4558-9730-F3E64C74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3B0A7-A333-46CE-A4BD-8AA1A463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71845-95FD-4BF5-8308-068EFCF0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DB5E8-4313-459D-AA60-8713FE0E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79A55-8353-431A-94DA-3E0FAE2E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2D555-5915-4CFD-9E50-331E30F9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260-B5C0-45B5-AC6C-A16D4E0A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21BE3-3559-4E26-ABC5-85CDC69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9CC61-1579-463A-96D1-E45977C9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3AC1A-6F8E-405F-8AF9-820A8F50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8705B-E200-4E23-A5BF-B79641BE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396FC-FCEA-4462-8169-205928E1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D7B2F-F46D-4A64-BB9E-E8895D3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2A8A-B8C4-442F-9321-A1A444A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5982A-E102-4C78-B8A4-3FB3B61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A8356-DFEC-49B9-AF32-E0070DF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92864-98DD-4562-A193-CC0A9A95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806-26F6-4609-A23D-791C5EBF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B49A2-C003-402B-84F9-DDFAC823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0F66B-820C-4CE0-B99C-0D488690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F8B07-6190-43F6-9CB4-BAA98BE5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74E0B-6515-47F1-AA23-1FBBF4A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F1373-6CBF-4BE9-ABDA-5D85E9B4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51FB-9383-4DBE-A518-A133C525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AAB8-4E19-4233-ADE2-700E9D12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E5F7-4540-4E09-947C-75316E56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91AC-9DF7-4092-BB3B-BD495E14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57DAE-3AF8-499D-95CF-F7A4CBEA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820-6078-45A2-9ED9-A57FA0D8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EFEE-2446-44D8-A90B-5F15184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3829C-C614-4D36-89BF-D2542B48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13325-628A-4795-8493-6433ACEF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03F9C-87FA-4EA7-9E47-68A40B5C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CDFB1-B8C9-433E-A57E-BB3B4D6F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D5F2-7C07-4691-9E66-E787F9D3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6E399-490B-42B0-AFA1-B7C35A1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3A54B-698A-4CD7-B94D-1A91740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966C8-292D-4D67-9871-CD2C49C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1461E-85CB-48B5-9765-4A92FD1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CE2-BBAC-4A20-B590-051B2809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E21BF-2D76-4CE9-90F1-2B5175F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0886-4F1F-4718-A1EB-7E8470A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DCEF3-F54D-4309-9167-486A44EE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3FC42-9A17-44A5-937D-7B831E8A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161F-18C3-403D-89CC-44B11705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EBA9B-CD0F-4BD4-B22E-DC77B5D2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EEFFE-2DB5-48D1-8BD2-713A028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87E67-9EFF-4214-888A-C11C9891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CEE17-F6D2-4F04-9BA5-326369A4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27657-A673-49AA-811E-F46B3928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C5AF-5159-4660-AE06-9D0E4879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14198-0E56-40A0-B062-EDCAE65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CA125-D887-4345-83AB-DF8DE48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1E324-2B24-4536-B475-0E46F54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DCFF9-FF29-40E1-A6E6-3EF0E3FD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3A6D5-08B9-4AB3-8620-2A9EFFF2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F86BF-9A51-407B-937E-700BED57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3E6AE-B642-4A84-8F73-1A6E5636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28CB5-6E96-4557-B3FA-F8EC003E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08FD6-EBBC-4E2C-8030-66A85567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876D7-7EE7-4465-9423-CBE0F63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409-8B35-4460-88C7-CAD382B9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F15A1-EE3B-4736-9261-36ABF406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8DA72-FB3F-4AC2-A34E-170944C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BD280-61B9-43C6-BBAD-3DCB6378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33630-E4E8-46FA-B885-E20E674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B3CEB-6F5E-4078-A288-ACA4160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6524C-BE91-4B63-A577-446F0EA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8059B-923E-476A-9BE1-5EAA1CA4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4B82B-F988-4849-AF4C-FB6C2E7E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41CA5-FE6A-4D80-933F-AD9C68A8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59315-FAA4-4042-A6C4-0DB12407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D20E-5717-4DB7-B383-63EACD46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BF0F8-42FB-4EB7-AE34-3E16E19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DE166-EB00-4417-AD85-39851DB4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86654-473B-45AF-B647-CEF5A0F5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68CC5-1264-4E7A-AD58-901A86C5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9C576-691B-4272-8F8B-91BFD0C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7AD48-CAE1-4AD7-99CD-62DAB40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80403-1667-42CF-8550-D1DD53F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B5FA8-50DD-4084-B0F8-130C128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14F04-D84F-4749-9E5F-4F132CE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CEC5C-D19B-45AC-92E9-24C1D1BE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5F9-1D8C-4FC5-8670-27CCF549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5F573-BB54-4E70-ADC3-DB1030BD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540E-C9CB-4F4E-984E-1911C15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B69-581A-40BD-9497-EFE7F5DF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3F39-EAC3-49D6-8D05-75B98AE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2E01-210B-481B-833F-4C10DAF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EA3-6E01-4CA7-A697-10942F8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5E4C-A331-43E8-AB3D-6863F0A6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5C3-DC90-4DC2-97AA-C1A84058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51FB-C144-4AED-9629-BA1EE2BF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ADF0-D741-44E3-920A-D20EF7B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0D3A-DA51-4C2D-AB41-9872424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5F26-A287-42BF-839A-8C2511DC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F3C2-9CA4-460F-A502-3C43EC91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830-2DAD-4603-9E08-C8B1B64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FEB5-3BC8-4FB0-BE4F-299A84B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FC16-AE59-4614-9D3A-E0BAB92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5292-9FCA-44A7-9F5D-ACAFDD79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C5AD-7DA2-45A5-AD68-6848796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6394-350A-4D66-AE6D-07D6A1B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CF0A-17B8-47C2-8653-B8F0A5FD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663B-45A8-4F71-BC8E-BFEFA33D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8183-717B-47BB-8F61-522D263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EB120-A7A5-47D4-B4DC-CAD4C855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4185-7B45-403D-9E10-F307D62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CC4-9538-49C7-8F73-51E4D43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8B23-59D1-4B64-B588-2B4B4BB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94BB-CA8E-4721-96A5-DDF70CCC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911A-8DEE-47D2-9ADD-10F3002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6056-A628-499D-8469-58356AD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0187-0397-47DD-81B9-B92C505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CFB3-F383-46DE-9B17-5A07A6D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D5242-CAFC-406E-A936-63E86A50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0E19-D914-481F-8609-676264E6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DE91-9F14-438A-B80A-0D2EFED1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FB55-1A99-4AB8-9AF6-F4568A22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48F-AA3B-44BF-887A-02530EE8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5BD0-CF58-4472-9253-303B2062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7A7F-BD4F-4325-AEFF-CCCD4F07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E85F-DC1A-4700-8CBD-5A7357E3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94E9-4A80-4452-A823-71A584C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5280-2680-4D20-B7E7-A9EBCAAB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03BF-9AE2-47A3-A4B0-D4688952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CDAB-836E-4EC8-B490-150333FE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F350-FCCF-4413-8298-6D0977A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A13D-0DFF-4EB0-852C-DA25AE97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CF9D1-A104-4369-8EB2-0B7E28EA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758-8E9B-4FBA-A86E-2220FCCC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874C2-C55F-4877-BB86-B0C6BA04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BFA22-AB80-4FF7-A9F6-4261A56E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B231A-CDE5-4F58-90EA-C46B244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3D819-BE3F-4EC0-A50E-41CF4984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2ADF-FEB3-4774-AAB2-002A5F23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554E-029D-4714-BA79-BABBE598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AB97-D669-4200-BA56-E314FE67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A711-F938-4365-ACC1-888B4E0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9907-75A4-44A7-A3EB-9F5998A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DA15F-50A8-442B-B732-6B4DF2DA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FD0-65C4-463B-876F-485B37E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6F0A8-C37A-41E0-9F56-517DEB75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6CBE-FFAE-4FFB-81B0-6EB058D1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2CE9A-6AE5-4109-846D-B4CE4353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8BD0-C893-4203-A1F4-9FC30AB6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34C9-D178-4A2E-98FB-A1C70AA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7127-E67F-4B9F-8D65-8958C2F3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4029-A4FA-49EC-A875-D6E86295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8B4A-2366-4BEC-906A-D3EA9D3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8B84-AF5F-4DA2-AEFF-3858A21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589DD-31C2-4FDF-AA33-20EFD52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ED6-D64F-474E-92EE-D475A83B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D0136-9A22-4782-8E46-9E6801A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1BC8-12A2-4A0D-873D-E260E71F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D7493-6F37-4855-804A-AA5C7B27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4B4F-ECC4-4FE7-BD8C-E32958D3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F101-D56C-45F4-B196-CB9649DD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E2BB-E3E6-4F55-AD27-CEFD9ACD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7EFB-EBFA-4B16-A66A-6376FD1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7E62-DDE4-4BD3-8A36-5266BD1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0386-E921-4A88-8534-3B44EB20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BB763-445A-4A4C-9C7A-09A38A8C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AC0-5084-468F-9C40-7BC93057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C8CDD-ACB6-4D32-AD37-325337A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33C24-8981-4EA0-9755-91818A0F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46D82-CCD5-4F21-81A6-65A6BFC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A5A8-5257-4AE8-B027-6459B9B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FB240-2530-478A-B9CB-79088C48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8D82E-8CCF-4581-AB72-8102798F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C5D93-E794-48E9-A9C4-E0799C49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65C19-3574-4AA3-89C2-682B22D1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43533-FEE0-47F1-8580-F19D775A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DD38B-A1D9-4DEF-ABF0-2D39623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9952-5773-4939-9621-7A13B77420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01C8-D14D-4906-B870-5F387313DB7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8F52-9578-4042-A45E-A60CF11E0D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F2B-2580-47EE-BFC1-A2D7BF6BCD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B316-EA87-4145-B371-674DD10606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63EE-ED46-470F-AA54-BDDB99348BE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782F-BD63-4D1B-9A1E-9070D0BFFF0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497-D87D-4E39-B3C3-A82825AE7E7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118-264F-42BB-9C55-7FC7E05FD1C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AA84-F6FC-4B12-97A7-EC9D4467AD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822-6342-4226-A738-DE925F31CBF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5B6-1394-421A-9670-5EDA9CB4DAD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7523-FF9B-4EA7-92E6-DF36CE46A49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CFCD-571E-4D38-89E0-02895C20E7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6E63-D8FD-4306-9265-C6BA1381BE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8A2-F9E0-4AB4-9B4B-84B70BE3E6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CA88-D39E-4013-B091-F39C94968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184D-81E3-42CE-8787-C74F4B66E4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45F0-6271-4877-A266-C2974CFD2DC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6D8B-5FE0-4213-8188-1A05836565C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382D-3E50-4766-9D56-BCA7F15AA02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C0D5-02A7-4175-A2FF-3AADA95ABEB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B3D3-A613-4207-9F3A-EC3BCE00C9B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826F-39C2-4A10-B922-82537401C08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C88-7221-418E-83D3-C6D37E54A40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3369-7773-405A-AB69-1E8A414B32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CC08-435F-450E-A9FB-2AC6586C30B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工作规划</a:t>
            </a: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Sky123.Org</dc:creator>
  <dc:description/>
  <dc:language>en-US</dc:language>
  <cp:lastModifiedBy>a</cp:lastModifiedBy>
  <dcterms:modified xsi:type="dcterms:W3CDTF">2015-01-22T02:37:4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6000000000001024100</vt:lpwstr>
  </property>
</Properties>
</file>