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11.png" ContentType="image/png"/>
  <Override PartName="/ppt/media/image1.png" ContentType="image/png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B63-2030-49DE-94EF-ED1AC927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D93-7415-4A81-B58E-ECAFD924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08186-AACF-4F90-8339-5F237543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DE57A-77BF-45C3-837B-04554699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1DE8A-0F73-43BE-8C06-54784B3E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8FDB4-3A2D-4949-B96A-43615A73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41AB4-FB8B-4578-9349-4AAFF56E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D1DF7-8CE0-4A4C-9092-C1D2DB7F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47437-D0D5-4618-81EF-C0C11DBE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7FF92-C3F3-4C41-9FDC-7E9B89DF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179DD-F137-4EED-8F51-F1A3534F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4E6BA-B2B8-41D8-97FD-24397F2D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4ED-380B-4DDE-A2F9-EA13D783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2BFBA-883D-4FE4-BBDE-6EADCA34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BA501-C4A1-4A55-9C3F-F0A59A6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0B81D-C765-4603-96BB-00EBCCE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D81D9-9406-4E10-A831-B16B9C0F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6236E-633B-4CF4-B56E-49E84C13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D18F5-72E6-4DE1-8F1D-AC7B129B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044A4-83EB-47D0-92F2-FA38253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62E72-50C1-4E3C-A351-05383C57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43D55-7284-476F-BE52-619C1EF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FD394-A869-4A7A-8A02-12BF4F76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0F9-5998-41B5-BF3D-D87A0853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A8A9E-3F23-4F04-8159-AA3D0883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9922B-9D22-476B-93CA-52286989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90ACA-7516-48EB-80D9-64BBA3F7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9DB19-AA42-49E4-95B4-2E4CAAC2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4D0BE-FCE2-4766-A6B3-14FC530F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67CCC-0289-4E9C-BAC9-A7847E54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8A6E9-C690-407A-9FC3-4F7E210D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A28D7-9612-4117-BCEB-BFBC52DA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90A96-0730-48D6-867A-0C47B81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A919B-5209-432C-8855-3D30123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F320-C38B-42C3-9AED-4067A2E1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BD88A-CDE7-4F99-8B93-CC8AF328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4407E-D2E9-4908-99B8-CB453619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7878-2AD6-47E1-B353-9CC0C7F5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28468-33B5-4B81-A8A1-42E602FF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238D7-5E18-4B8A-90BC-DA5C3EE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3548F-91DF-4A95-911F-05A33B23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15672-7310-47FE-B565-00F6D21E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D0F29-7605-4106-A0BF-7307DFD8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EDCDA-5B3B-4C9A-A2F4-4EE1C922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D6625-B12F-47EA-B02D-DC4C1BF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A69A-771E-405D-BE25-DAFB4C01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62D9D-6B0F-4168-B598-8FF7101C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49767-3248-4044-97F7-AFD3BC7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9ADF6-FFFC-490F-84F5-95CD8AEE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489D4-9057-4288-9269-002A7729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E20D9-2D84-44BD-B129-6CB3CA46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338B7-7814-48E1-91FC-6FE6E7A2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22400-44CC-4C54-BC44-3167B09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7730D-691B-4F1E-8CD6-573AD910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9ED83-965B-49D1-B6E5-96D97E9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E28EE-3328-46F0-A231-855868BD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8F64-1BB2-4351-9ABE-E0B8AB48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63E2C-89A5-4914-974F-192EB147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18E52-9F6D-4361-AE86-9F1A0A06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589E2-D0A5-4B89-92CA-A1922DB5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2A118-7BBD-4EDF-A667-2BBED59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73812-3EF2-4A2A-B422-203ACE48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516F4-78CC-4FBB-8A58-8D652736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AD04E-6F4B-4047-9CFC-250B5EED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5DEA-AA69-4E92-A930-107FA173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5F0E-E675-4AED-A47E-2385D1F4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E9B3-9868-4A28-8CDC-6FABAE58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61AA-638C-452E-9CA8-E74DC26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9AA-E500-48D6-B7ED-5DDA1A2E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3F90-61B9-4B55-B5AE-6E8F5AEE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7D17-EB12-4B94-8CED-EC92F4A2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1B08-FBAF-4C7F-B5DF-2B0F2414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6997-B260-47E4-A6D1-3CDD0466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E1BF-5CCC-4EBA-8B14-A9D8D5B9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FDC4A-69E3-4969-8F4E-8AB4853F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023E-0E16-4B89-97E2-491418E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36D6-BF7D-45A1-867E-99A2AD1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1551-82D0-4662-9A11-C9381521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A0A7-9DCF-4BAC-8B59-EB8CED0D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140-84A0-498B-8A05-4B7BB2CC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8591-BB01-48D5-AC38-D9225974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3515-6F4A-4623-B64E-9CA93C46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F547-A020-4899-A8D1-A3E817D1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4BDE-D731-4E61-B5FA-2873F28C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5177-BA09-4245-80E2-F824EEC9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C824-4624-420B-B0F3-5396E94B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9AAF2-87CA-4A8C-BC3E-18535709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7E85E-8A56-4E8D-A327-605252FA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92C9A-D8A6-46AD-9A6B-80673B6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0D6E-10D9-433B-A201-F42D671A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7AD-9450-4AC9-AC1A-763CFDA0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42BE-8709-4606-96F3-9461D43F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BEF4-3CEA-44F4-B778-671CE6EB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E333-31C7-4060-A03B-4104D8F8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06407-8075-427C-9A1C-84B123E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20B5D-A01E-43D9-ABE7-7E840F75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5418-4CD7-428D-A8BD-B1291970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1DC7-8EC0-4BB4-ACB3-81B03BA2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2B71-69EF-4E2C-8D9B-2179EC19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5989-8597-4998-805B-11DFC28C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1978-DA35-4406-8D3A-E583D125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3B7-732C-4BA5-9D4C-1FB97658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77A0-FFA2-4D40-A021-41F13E75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BF291-22EA-40DB-B895-E9F2D65E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9EE2D-FD92-4A53-A06C-F750881F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9A854-CC78-4A81-897D-7EB5BB66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6AC8D-2433-4A0C-BBE3-26F175AA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7EA01-34FE-4FBA-8F8F-F6D6A983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6D04-30CE-4076-A285-D581FB59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75CD9-4F60-4BCF-BC3D-B4E16FC9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10BC-F18A-4A26-9E2B-58ADF7B9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E2A5-B4EF-411C-AB21-51D31170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DD2-86A3-4F40-AF71-B16ED6DC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1807-240D-42E8-9D0C-ABBBFBE2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BFEB-C3F2-4630-B8B6-FAC210D3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5232D-29E4-4563-BBAE-C159AF51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1F02E-41F0-4B61-8EA2-8860415F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960DB-A435-4E15-BFC5-2FF059DB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52D84-1CA1-4000-B99E-AE643AF6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C5DD6-522D-4AC0-8995-08F2F60C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CB99F-9642-41A2-8F6A-D0F2E6F7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5C8D9-552F-4187-9B50-3662F2DC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D12FB-BCC8-452A-B8CB-EB94BF77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924-68A8-4962-BB1C-6D4545DF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FE765-2672-4B35-8652-701F0B63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917B8-D7DB-4763-B3AA-87953435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35791-D479-4584-BE9A-6586C00D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A9F6E-828C-4304-80C9-72733CEE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BC72D-8DC0-4D31-AA2B-098FD75F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C3EDB-841F-4C67-B80D-64620AC5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FF5E1-4E4F-4332-81DF-45AA0A00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74133-8284-44D0-8FAB-C2250FB3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362FD-17F3-41DB-BC35-75F04F1D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DCB04-656F-4E4F-BBC0-A22D4E07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935-F872-4EBD-B9A5-C427D070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3C31D-799F-4843-8E40-BEA79704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8E18-A094-4427-B82E-60D1EF09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EC262-4BDB-48B9-8DCD-B2E8AD6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8161C-9D81-414B-9D14-1056E48B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CBDBC-47F7-4E2A-A38B-78670AD3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A5378-DDAD-4D3A-80FB-6C9FF7EC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5D14-3001-4C63-A24B-1BED74CA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CFF24-03D0-4D88-8E06-4B6089A2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F2445-B8C6-4F8D-951D-63A2971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6C0BD-A642-4FF4-960D-55B127F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C8C-CECB-4791-99EC-B20F22F6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F213C-17F2-4A52-8A30-248CF939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43BCB-98A4-4E9D-A766-70B78A47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C886-C774-4306-B515-93069A29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B5216-BA77-4045-9C8B-E3038A44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79C7B-FE10-4EE4-89A5-DA2B7ED0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7C546-EC81-487B-A56A-8674E315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399C5-CA43-4140-934F-ED3D288F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58543-F4EE-437E-8EC5-910CA926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CFB55-E51F-420D-8FF1-56151C37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B25BC-5568-460B-A8FC-55D22914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D020-183A-4DAB-BA1E-3055895608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9ECF-7E93-4320-8B32-C65BCE49D4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1FC5-B001-49EB-AF36-E9B76AAEA9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004F-5CA5-4704-926A-14747DF2A02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32CC-D515-4101-8DDC-953C1FD339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201F-72EF-48C7-B963-BC5632A87D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8335-C350-4873-9635-34E2888854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8D44-589B-41C5-9282-7B077A4799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21CB-B4F4-47E4-AA92-AA0134950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5CDB-A09B-40D0-90CC-895FB88702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130B-12F0-4B12-A6B9-F2CC08FC1A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A721-E724-445A-8ACA-87EEF4C6AB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B6AB-92FA-479A-BA47-3E46E5538B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2525-BFAF-4DFD-A2CB-99173F5BC0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83F7-6581-40E7-B9F7-0C552D1B8C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1FAF-EB6B-47F5-A26A-6EAD5F39BC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10C6-122C-40D2-BD8F-8BDA0E8EDA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EED4-A633-43BA-AE8C-F5423454C5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9000-DFDE-458F-A6E4-F82BE8C0B5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9563-B7FE-43DF-985A-0382D8645F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497B-00E3-40D6-9C14-47F27AB49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F157-CC18-4A3D-B3E5-B337E21BA2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EE5C-AA7F-435B-A10F-908E8CA3B2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7E5C-429C-41A5-AA8B-FBB4AC254E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5678-C043-4AE8-A414-F17A271B30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RM_0457"/>
          <p:cNvPicPr/>
          <p:nvPr/>
        </p:nvPicPr>
        <p:blipFill>
          <a:blip r:embed="rId1"/>
          <a:stretch/>
        </p:blipFill>
        <p:spPr>
          <a:xfrm>
            <a:off x="1692360" y="1455840"/>
            <a:ext cx="5545080" cy="45054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2809440" y="3333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*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手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009880" y="2392200"/>
            <a:ext cx="5461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拇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3782880" y="181620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食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105520" y="1816200"/>
            <a:ext cx="546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5146200" y="296856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名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6087960" y="37609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68360" y="1341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他因为身体最长，取物时，往往最先碰到物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9640" y="33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？这两根手指正是这朵兰花中最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539640" y="33336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？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这两根手指正是这朵兰花中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最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46836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手指的全体，同人群体的全体一样，五根手指如果能团结一致，成为一个拳头，那就根根有用，根根有力量，不再有什么强弱、美丑之分了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mr734v23624l"/>
          <p:cNvPicPr/>
          <p:nvPr/>
        </p:nvPicPr>
        <p:blipFill>
          <a:blip r:embed="rId2"/>
          <a:stretch/>
        </p:blipFill>
        <p:spPr>
          <a:xfrm>
            <a:off x="5435640" y="4581360"/>
            <a:ext cx="27367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8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12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1692360" y="2637000"/>
            <a:ext cx="570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通过描写五根手指各自不同的特点，想告诉我们一个什么道理？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826920" y="1700280"/>
            <a:ext cx="71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团结就是力量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7" descr="20100515165601207"/>
          <p:cNvPicPr/>
          <p:nvPr/>
        </p:nvPicPr>
        <p:blipFill>
          <a:blip r:embed="rId2"/>
          <a:stretch/>
        </p:blipFill>
        <p:spPr>
          <a:xfrm>
            <a:off x="1042920" y="3141720"/>
            <a:ext cx="4392720" cy="3382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mr734v23624l"/>
          <p:cNvPicPr/>
          <p:nvPr/>
        </p:nvPicPr>
        <p:blipFill>
          <a:blip r:embed="rId3"/>
          <a:stretch/>
        </p:blipFill>
        <p:spPr>
          <a:xfrm>
            <a:off x="5508720" y="3716280"/>
            <a:ext cx="27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6" descr="mr734v23624l"/>
          <p:cNvPicPr/>
          <p:nvPr/>
        </p:nvPicPr>
        <p:blipFill>
          <a:blip r:embed="rId2"/>
          <a:stretch/>
        </p:blipFill>
        <p:spPr>
          <a:xfrm>
            <a:off x="468360" y="333360"/>
            <a:ext cx="2087640" cy="16556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7"/>
          <p:cNvSpPr/>
          <p:nvPr/>
        </p:nvSpPr>
        <p:spPr>
          <a:xfrm>
            <a:off x="2843280" y="692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说说有关团结的名言警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539640" y="2133720"/>
            <a:ext cx="820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人心齐，泰山移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中国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一支独秀不是春，百花齐放春满园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雷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天时不如地利，地利不如人和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先秦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团结就是力量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单丝不成线，独木不成林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俗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五人团结一只虎，十人团结一条龙，百人团结像泰山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邓中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RX_004"/>
          <p:cNvPicPr/>
          <p:nvPr/>
        </p:nvPicPr>
        <p:blipFill>
          <a:blip r:embed="rId1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20100701_087a8ed2a4cb4c2bd6gfGF8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3" name="众人划桨开大船.mp3" descr=""/>
          <p:cNvPicPr/>
          <p:nvPr/>
        </p:nvPicPr>
        <p:blipFill>
          <a:blip r:embed="rId3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324000" y="6922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99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众人划桨开大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1292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539640" y="333360"/>
            <a:ext cx="820908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张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朵鲜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人的一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定为美挥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合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枚果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含辛茹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收藏天地精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539640" y="33336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歌谣一：食指拇指碰碰，做个小鸡叫叫，叽，叽，叽！食指中指并拢，做把剪刀玩玩，嚓，嚓，嚓！五个手指捏捏，做个榔头敲敲，咚，咚，咚！伸出拇指翘翘，夸你戴上红花，好，好，好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6"/>
          <p:cNvSpPr/>
          <p:nvPr/>
        </p:nvSpPr>
        <p:spPr>
          <a:xfrm>
            <a:off x="1692360" y="409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2" descr="gifmb044"/>
          <p:cNvPicPr/>
          <p:nvPr/>
        </p:nvPicPr>
        <p:blipFill>
          <a:blip r:embed="rId1"/>
          <a:stretch/>
        </p:blipFill>
        <p:spPr>
          <a:xfrm>
            <a:off x="0" y="-24300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684360" y="47628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认真读读课文，读时要做到两点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画出生字词，联系上下文，借助工具书和生活积累理解词语，读通课文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想想课文主要讲的是什么，找出能够概括文章主要内容的句子读一读。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539640" y="333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大拇哥，二拇弟，中山羊，四小弟，小妞妞，来看戏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53964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歌谣二：一个手指显得太孤单，两个手指就能握笔杆，三个手指就能系纽扣，四个手指就能把碗端，五个手指如果都出来，团结的力量大无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RX_004"/>
          <p:cNvPicPr/>
          <p:nvPr/>
        </p:nvPicPr>
        <p:blipFill>
          <a:blip r:embed="rId2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8"/>
          <p:cNvSpPr/>
          <p:nvPr/>
        </p:nvSpPr>
        <p:spPr>
          <a:xfrm>
            <a:off x="539640" y="69228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想想说说身边有哪些事物让你有所感触，有所启发，学习本课的表达方法，把事物的特点和自己的感悟写下来，与同学交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53964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539640" y="40464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搔痒 堂皇   渺小附庸    养尊处优窈窕  秽物  纽扣鼻涕   爱憎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8"/>
          <p:cNvSpPr/>
          <p:nvPr/>
        </p:nvSpPr>
        <p:spPr>
          <a:xfrm>
            <a:off x="324000" y="206064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只手上的五根手指，各有不同的姿态，各具不同的性格，各有所长，各有所短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1403280" y="1052640"/>
          <a:ext cx="6553440" cy="3475080"/>
        </p:xfrm>
        <a:graphic>
          <a:graphicData uri="http://schemas.openxmlformats.org/drawingml/2006/table">
            <a:tbl>
              <a:tblPr/>
              <a:tblGrid>
                <a:gridCol w="1305000"/>
                <a:gridCol w="2687760"/>
                <a:gridCol w="256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手指名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缺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拇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食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名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468360" y="981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相帮扶助琴身；水要喷出来，叫他死力抵住；血要流出来，叫他拼命按住；重东西翻倒去，叫他用劲扳住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468360" y="981000"/>
            <a:ext cx="8353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相帮扶助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琴身；水要喷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死力抵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血要流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拼命按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重东西翻倒去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用劲扳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46836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拿笔的时候，全靠它推动笔杆；遇到危险的事，都要由他去试探或冒险；秽物、毒物、烈物，他接触得最多；刀伤、烫伤、轧伤、咬伤，他消受的机会最多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68360" y="981000"/>
            <a:ext cx="8353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他永远不受外物冲撞，所以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曲线优美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，处处显示着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养尊处优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02:04:06Z</dcterms:modified>
  <cp:revision>50</cp:revision>
  <dc:subject>第一PPT模板网-WWW.1PPT.COM</dc:subject>
  <dc:title>第一PPT模板网-WWW.1PPT.COM</dc:title>
</cp:coreProperties>
</file>