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7.jpeg" ContentType="image/jpeg"/>
  <Override PartName="/ppt/media/image9.gif" ContentType="image/gif"/>
  <Override PartName="/ppt/media/image11.jpeg" ContentType="image/jpeg"/>
  <Override PartName="/ppt/media/image12.gif" ContentType="image/gif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FA64-7191-46FA-8CEB-10C56D9A7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8641-D0A0-4E0D-A583-9BAC31451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5EA283-129D-487D-B71C-0B6F41DE1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0A828A-97CC-4FAD-81DA-81589221F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C742BD-8A2B-4806-AD63-4B5844691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C65994-59EE-4445-91E7-063BF40A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22EEC2-626C-41CB-BB49-1BF79607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73BEF7-CEF6-416D-B50F-FFB2F038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8FCBE6-10BB-4EAB-81B2-51E327E8F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B653E4-5A67-47E2-B8DE-22DC67983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580F70-6C0B-4346-BA0D-D927DB5B3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D738F7-7415-4DB7-8BB6-E0045DC07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4694-CD81-4123-BA76-24B896F17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CE1180-504B-4689-B91B-1BF2BD6CE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C3634D-7E34-4442-AEFA-950FF64B6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0152D2-59E1-4834-8FDD-D15C131A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8C8C64-6607-4478-AE24-CE0517729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06C344-6B2F-4529-868B-7C6C55503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4A188F-313E-46E3-A031-47C55B68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8B0096-61D5-4F01-8B7E-9DC8EC92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83F115-322A-4DF8-9DC2-B7740632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F48A15-D2DB-49F3-A3E7-AB96E0985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220262-ED74-44CD-B943-9832D9EBC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5E97-8ED9-42C4-BBF7-ADF6EE885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8BE2A0-CB94-4E18-BA2A-D7AC85BC4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57813A-1B7B-4E5B-8A00-15C6C048B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023060-9B40-43A8-A484-D0A851EC7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64E896-7D9F-4DAB-83C3-61560F62D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8E37F4-D588-4976-8A7A-D3DDDDEEC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76036A-9ACD-4E58-902E-F0DEDA83F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7A9861-3B48-4F5F-89EC-57AC8E5FF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DA663E-98F4-49AB-8FFE-962B185E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F3F517-72DB-4BBB-8BB0-B09E6249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A35B98-B3B2-4EB0-90E1-A314284E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16684-0FC5-41CA-8042-977011376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CA651F-7327-4090-AA01-09531D5A0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FE5658-54F0-41CC-B581-3581F4E73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FD9A94-5D05-43E2-AD56-7E4FD78A0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4F8FF5-5A69-408E-893B-767EDCE6A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22DEC9-FA9E-46DD-9C56-715F8B09C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6E977F-521C-4F3E-8B86-6F6C6FCEB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906104-A8F5-4A12-8A63-9FCDEC84A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1611B9-215D-4BF2-BD15-3C9B62F08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20A703-68BC-4DB5-95B9-B5090B1FC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3CE4B1-3675-4CFE-9443-A651C8E3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3DC3C-84A3-4A5D-A99A-050E4246D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2225E0-1B93-40F2-B076-217DB924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70D202-0158-4530-A2F2-F2305E17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54F14C-D7CB-488E-A535-AFFB31CD5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211244-3352-49F7-84AA-F1D8BF8CE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4B4C61-8948-4C57-B70C-B16E1BA2D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88BDD4-8A2C-418E-9E13-427FEAB4D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1F2CCB-35C0-4F65-ACCF-62889A30E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1C9B35-0572-45E3-BA3F-3AAD94638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34E9E7-BCED-4D22-A03E-FA619FF5E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859962-457B-42BE-9494-FBE08C16B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8E2D6-8AA4-4EFA-9E18-E405252A8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12C87F-9C07-4B33-909F-8FE292AFF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7FB327-3DE9-401D-B6D5-FD721DC2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480E4F-B59C-46C9-9778-652732BD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BC2E8E-F4BB-4337-BAF9-D1D4AF84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3C4BCD-63F0-4A28-BDB2-6B9092722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933D2B-D375-41D5-A79F-397B79C06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FA857B-C5F5-4879-9E2C-55C27C4E5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53295-C214-4F78-8765-0A7167E67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1168C-1A5F-4B8C-B82C-30007035C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B957D-C24C-46FB-90CB-9A0650FD7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BF3BF-31F8-4788-972A-11FCBE05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E1F6-60C3-47B5-96D5-7534F95F4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22AA5-DF90-4D05-BE40-47A59E1E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80911-7EEF-4D5B-96FD-48A8B900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39EB1-2F1E-40A8-8822-A5A45AA46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C7E83-7FA6-447F-A028-919FDB63B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60F82-F0F5-4DF0-B9C6-2E61180F9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83AB9-4556-42C5-B81F-F678E0F60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E9651-B7EB-4A4E-A470-546FA0F8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9887D-DD46-4CBE-B66C-9FE1F73E5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376B9-1148-4300-90BA-C021BED6E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F5E80-D13F-4482-A250-C803279D5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E27A-363F-4FA4-837C-A234059C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B8D6F-9913-4EDE-8332-929D3D8F3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F80BD-2558-420F-9FD2-198BD072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14385-E397-478C-AB33-815FCF84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30A08-A111-49C7-9A54-F203FF6E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C94E2-E77A-4E68-A131-A3F0C4912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A5A26-99EC-429F-B8C6-196BF100B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9A916-8B73-421D-BC3E-CA918F86F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20FBF-1C7F-4338-9A46-3DE457919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E1C91-EC69-48EE-AC8D-1E5F197D1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DF8AB-FD13-4EF8-BBB5-F8C89F7C7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0037-8514-408D-9BDD-150CDA628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BFAAA-D132-4454-976A-5D11F73E4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23B20-940D-4F41-AF45-70098DFCB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627A8-5D1A-4A74-BC6F-337227027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49955-491D-43E4-9412-51E89130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42087-4BFF-4A9D-B456-B6210768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96C33-A4E5-4848-B12A-7527ADCD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FBB65-C342-42E8-8500-B3BBD6CCD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D5216-B480-460E-91E2-2D571BD7B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F7574-7345-4979-997A-511793A3C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CE51F-419C-41FF-94EF-EEC350CA1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89E7-A04C-4360-80F5-2B19DB128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3ABB1-4C30-41A1-B10C-5040DB424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F4445-2A3F-452E-828A-26125E3D2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44F3D-AB2A-4893-BD77-835B745A5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B26A6-7A80-44E7-AC94-40AB8F806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E6E18-7F62-4402-87C9-0A3795376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05841-76FF-4F43-BD65-3421F6DC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95D16-ABE1-4432-9C5F-C72130D7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1DC54-5481-4B2B-ACBE-FC5D2F97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D4ACF-9C44-4D60-A65F-A16F70A96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02089-1342-47E5-83A7-3DE79B7B8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26B1-E2EC-4F73-BC91-C2D5FB199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E05DB-E449-4562-AAA9-062325586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90DB3B-8CFB-4C42-93D1-526CD33F9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C1F2E-A75B-4208-B7EB-09C2D8DF3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1958B-3601-4FE5-9964-943377989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1AB6F-491C-4942-BE6B-570EAB153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99DCD-2B34-4FA5-BB63-AB8B7B5A2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5D222E-6FE8-40D2-B1BE-CEC8D9FBD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6DF60-2FD0-4E5A-A271-CB10AE20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286C6F-FF32-4C8F-B844-921F1A6A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B9EA5-C4A8-466E-B212-16F46221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989F-6EE2-4AE0-9908-3DD0DA5E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1AC93-C8DD-4228-B02F-098B8CAC6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BD759F-7416-44E2-B1BE-7FEEBD2EE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49D5A-4DCA-4874-96A1-F2D17F401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D6578-DAFB-422B-8AF3-9534273A7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CC340B-7149-4C75-8C58-3B948E66C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99DD5-91B6-47D2-8682-772A7A63A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CB9B79-1146-426E-A63C-D997E8F0D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C1E5D2-6D95-431E-8414-7A6B99895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1CF795-E597-4321-96F9-38D06DB32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D21531-B60B-47E8-AC21-650DA9FE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3BDD-3691-40FD-814F-139148D1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40987F-76D9-4658-AE3F-6AD696F9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E7CF1-1D91-4881-A95E-A9C42184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58E072-4BCD-43F5-9760-7C4F84CD0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34555-2056-46AE-B14A-AC89D66C4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71104-1193-4AE1-BB1C-BB92C93AD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1A5733-8CE3-41DD-99ED-7ECE759FC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228BD4-2990-4960-9880-DEF51A680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258E61-A304-45C7-B963-369969F51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493616-66E1-4EE6-8647-62434DFE5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D654BB-12B2-45C0-BDD3-A658F6BE1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ECFB-9340-4C3A-B1B2-655DFD15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677B3C-DFA8-400E-84E7-C8B4E95ED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5BB777-3B16-43DA-9E84-C1B669D1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4CE39E-3DA2-4325-8DB0-B9DAD57F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174088-7AAD-463B-9703-576A5B07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817513-9732-4E3D-80E1-4D2D644DA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7E328A-697F-475A-B8DA-574BC218E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E99AA1-18A4-429C-96C5-3DB3CEC1A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2844A0-642C-4741-93AD-ADA8CED76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50ACBB-0295-4FD1-AC03-95CAABEDD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18D522-D067-4B92-B75B-9AF9AA056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35977-7504-48A9-BE9D-C007C670CF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CD726-E633-4FB9-B5E6-A764AA2044B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89E29-2691-48C6-A347-E5AB23367C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866A3-939E-48DC-9161-2317AD9AA40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5444-E65F-47B4-B7DD-6593775928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2C868-92A7-487C-B9A7-7A3702A96D3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F9638-4D66-49E6-977B-2A5B09914C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FB31B-426A-4029-9D25-2B092194CCF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DD562-2516-46FF-8CD1-9C30A09E1B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85C20-6819-443F-B838-5866D4A0129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62A77-72AF-4A06-BE21-2DCA18456CA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665C6-EC09-482B-936E-E4245828090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42485-8AC0-46F4-A044-6382903D63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6C09A-0AED-4DF5-A275-F0930ABDE82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919DB-E3EC-461D-BC3A-BF94C6D5BD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DCC38-131B-4EC9-BEB9-1FB2DE92F2A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E20A9-3E7D-4F7F-94FA-9E577880DD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17791-91D5-4952-A5FB-C235C052B7C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8F433-59C6-4A18-BB25-DC200BF097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614A6-4B7D-4087-A760-92CBE212F27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243F9-6EB8-4F13-B828-984C86F93F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8390F-BC12-45BB-A1A7-F7B1923F2CF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9FF83-6DA6-4AD4-A16F-0CADA40B43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EC618-75D2-43B9-B965-08049FD4951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BC5ED-F907-485E-B7B6-8B5A19F4AE5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6" descr="53"/>
          <p:cNvPicPr/>
          <p:nvPr/>
        </p:nvPicPr>
        <p:blipFill>
          <a:blip r:embed="rId1"/>
          <a:stretch/>
        </p:blipFill>
        <p:spPr>
          <a:xfrm>
            <a:off x="0" y="-168120"/>
            <a:ext cx="9144000" cy="719424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5"/>
          <p:cNvSpPr/>
          <p:nvPr/>
        </p:nvSpPr>
        <p:spPr>
          <a:xfrm>
            <a:off x="4356000" y="494172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根河二小  孙海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5"/>
          <p:cNvSpPr/>
          <p:nvPr/>
        </p:nvSpPr>
        <p:spPr>
          <a:xfrm>
            <a:off x="1455840" y="29988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6"/>
          <p:cNvSpPr/>
          <p:nvPr/>
        </p:nvSpPr>
        <p:spPr>
          <a:xfrm>
            <a:off x="4291560" y="33336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cc00"/>
                </a:solidFill>
                <a:latin typeface="Arial"/>
              </a:rPr>
              <a:t>我能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Picture 7" descr="2006326222333270"/>
          <p:cNvPicPr/>
          <p:nvPr/>
        </p:nvPicPr>
        <p:blipFill>
          <a:blip r:embed="rId1"/>
          <a:stretch/>
        </p:blipFill>
        <p:spPr>
          <a:xfrm>
            <a:off x="7236000" y="0"/>
            <a:ext cx="1647720" cy="1512720"/>
          </a:xfrm>
          <a:prstGeom prst="rect">
            <a:avLst/>
          </a:prstGeom>
          <a:ln w="0">
            <a:noFill/>
          </a:ln>
        </p:spPr>
      </p:pic>
      <p:sp>
        <p:nvSpPr>
          <p:cNvPr id="710" name="Text Box 14"/>
          <p:cNvSpPr/>
          <p:nvPr/>
        </p:nvSpPr>
        <p:spPr>
          <a:xfrm>
            <a:off x="611280" y="2924280"/>
            <a:ext cx="1839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22"/>
          <p:cNvSpPr/>
          <p:nvPr/>
        </p:nvSpPr>
        <p:spPr>
          <a:xfrm>
            <a:off x="671400" y="4762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选择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23"/>
          <p:cNvSpPr/>
          <p:nvPr/>
        </p:nvSpPr>
        <p:spPr>
          <a:xfrm>
            <a:off x="3688560" y="1197000"/>
            <a:ext cx="208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两个分数通分后新的分母是原来两个分母的乘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原来两个分母一定是（        ）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24"/>
          <p:cNvSpPr/>
          <p:nvPr/>
        </p:nvSpPr>
        <p:spPr>
          <a:xfrm>
            <a:off x="0" y="2205000"/>
            <a:ext cx="251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都是质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25"/>
          <p:cNvSpPr/>
          <p:nvPr/>
        </p:nvSpPr>
        <p:spPr>
          <a:xfrm>
            <a:off x="3256920" y="2205000"/>
            <a:ext cx="22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相邻的自然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26"/>
          <p:cNvSpPr/>
          <p:nvPr/>
        </p:nvSpPr>
        <p:spPr>
          <a:xfrm>
            <a:off x="6644160" y="2205000"/>
            <a:ext cx="182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是互质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27"/>
          <p:cNvSpPr/>
          <p:nvPr/>
        </p:nvSpPr>
        <p:spPr>
          <a:xfrm>
            <a:off x="4429080" y="1700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28"/>
          <p:cNvSpPr/>
          <p:nvPr/>
        </p:nvSpPr>
        <p:spPr>
          <a:xfrm>
            <a:off x="1672200" y="2781360"/>
            <a:ext cx="214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通分的作用在于（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29"/>
          <p:cNvSpPr/>
          <p:nvPr/>
        </p:nvSpPr>
        <p:spPr>
          <a:xfrm>
            <a:off x="3369960" y="3284640"/>
            <a:ext cx="146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分母统一，规格相同，不容易写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分母统一，分数单位相同，便于比较和计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30"/>
          <p:cNvSpPr/>
          <p:nvPr/>
        </p:nvSpPr>
        <p:spPr>
          <a:xfrm>
            <a:off x="3925800" y="2708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31"/>
          <p:cNvSpPr/>
          <p:nvPr/>
        </p:nvSpPr>
        <p:spPr>
          <a:xfrm>
            <a:off x="0" y="4292640"/>
            <a:ext cx="52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1" name="Object 32"/>
              <p:cNvSpPr txBox="1"/>
              <p:nvPr/>
            </p:nvSpPr>
            <p:spPr>
              <a:xfrm>
                <a:off x="611280" y="4149720"/>
                <a:ext cx="561636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把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和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通分后分母是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2" name="Text Box 33"/>
          <p:cNvSpPr/>
          <p:nvPr/>
        </p:nvSpPr>
        <p:spPr>
          <a:xfrm>
            <a:off x="5622480" y="4365720"/>
            <a:ext cx="129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34"/>
          <p:cNvSpPr/>
          <p:nvPr/>
        </p:nvSpPr>
        <p:spPr>
          <a:xfrm>
            <a:off x="272520" y="5013360"/>
            <a:ext cx="765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35"/>
          <p:cNvSpPr/>
          <p:nvPr/>
        </p:nvSpPr>
        <p:spPr>
          <a:xfrm>
            <a:off x="6086160" y="4365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36"/>
          <p:cNvSpPr/>
          <p:nvPr/>
        </p:nvSpPr>
        <p:spPr>
          <a:xfrm>
            <a:off x="1440" y="551664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6" name="Object 37"/>
              <p:cNvSpPr txBox="1"/>
              <p:nvPr/>
            </p:nvSpPr>
            <p:spPr>
              <a:xfrm>
                <a:off x="539640" y="5373720"/>
                <a:ext cx="46087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把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和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通分后的分母是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7" name="Text Box 38"/>
          <p:cNvSpPr/>
          <p:nvPr/>
        </p:nvSpPr>
        <p:spPr>
          <a:xfrm>
            <a:off x="5622480" y="5589720"/>
            <a:ext cx="129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39"/>
          <p:cNvSpPr/>
          <p:nvPr/>
        </p:nvSpPr>
        <p:spPr>
          <a:xfrm>
            <a:off x="489960" y="6338880"/>
            <a:ext cx="70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40"/>
          <p:cNvSpPr/>
          <p:nvPr/>
        </p:nvSpPr>
        <p:spPr>
          <a:xfrm>
            <a:off x="6086160" y="5589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2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5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8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1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1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4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4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7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0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3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3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6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9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2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7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0" name="Picture 7" descr="05FDB8D6DA7A9AD87D8FFA1D921643A3"/>
          <p:cNvPicPr/>
          <p:nvPr/>
        </p:nvPicPr>
        <p:blipFill>
          <a:blip r:embed="rId1"/>
          <a:stretch/>
        </p:blipFill>
        <p:spPr>
          <a:xfrm>
            <a:off x="0" y="0"/>
            <a:ext cx="1801800" cy="1671480"/>
          </a:xfrm>
          <a:prstGeom prst="rect">
            <a:avLst/>
          </a:prstGeom>
          <a:ln w="0">
            <a:noFill/>
          </a:ln>
        </p:spPr>
      </p:pic>
      <p:sp>
        <p:nvSpPr>
          <p:cNvPr id="731" name="Text Box 8"/>
          <p:cNvSpPr/>
          <p:nvPr/>
        </p:nvSpPr>
        <p:spPr>
          <a:xfrm>
            <a:off x="3759120" y="378000"/>
            <a:ext cx="1843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10"/>
          <p:cNvSpPr/>
          <p:nvPr/>
        </p:nvSpPr>
        <p:spPr>
          <a:xfrm>
            <a:off x="1331640" y="141300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判断是对还是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14"/>
          <p:cNvSpPr/>
          <p:nvPr/>
        </p:nvSpPr>
        <p:spPr>
          <a:xfrm>
            <a:off x="612720" y="2187720"/>
            <a:ext cx="109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31"/>
          <p:cNvSpPr/>
          <p:nvPr/>
        </p:nvSpPr>
        <p:spPr>
          <a:xfrm>
            <a:off x="3093120" y="333360"/>
            <a:ext cx="26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ffff"/>
                </a:solidFill>
                <a:latin typeface="Arial"/>
              </a:rPr>
              <a:t>我来当小裁判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Picture 32" descr="131e998417c8d48c04fe720e89ab745d"/>
          <p:cNvPicPr/>
          <p:nvPr/>
        </p:nvPicPr>
        <p:blipFill>
          <a:blip r:embed="rId2"/>
          <a:stretch/>
        </p:blipFill>
        <p:spPr>
          <a:xfrm>
            <a:off x="7524720" y="0"/>
            <a:ext cx="1619280" cy="1395360"/>
          </a:xfrm>
          <a:prstGeom prst="rect">
            <a:avLst/>
          </a:prstGeom>
          <a:ln w="0">
            <a:noFill/>
          </a:ln>
        </p:spPr>
      </p:pic>
      <p:sp>
        <p:nvSpPr>
          <p:cNvPr id="736" name="Text Box 33"/>
          <p:cNvSpPr/>
          <p:nvPr/>
        </p:nvSpPr>
        <p:spPr>
          <a:xfrm>
            <a:off x="1578600" y="2205000"/>
            <a:ext cx="549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把异分母分数分别化成同分母分数叫做通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34"/>
          <p:cNvSpPr/>
          <p:nvPr/>
        </p:nvSpPr>
        <p:spPr>
          <a:xfrm>
            <a:off x="8207280" y="2205000"/>
            <a:ext cx="108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35"/>
          <p:cNvSpPr/>
          <p:nvPr/>
        </p:nvSpPr>
        <p:spPr>
          <a:xfrm>
            <a:off x="1539000" y="2852640"/>
            <a:ext cx="640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约分和通分都是根据分数的基本性质。      （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36"/>
          <p:cNvSpPr/>
          <p:nvPr/>
        </p:nvSpPr>
        <p:spPr>
          <a:xfrm>
            <a:off x="3700440" y="3500280"/>
            <a:ext cx="20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异分母分数通分后，分数单位是相同的。   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37"/>
          <p:cNvSpPr/>
          <p:nvPr/>
        </p:nvSpPr>
        <p:spPr>
          <a:xfrm>
            <a:off x="716040" y="4149720"/>
            <a:ext cx="795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约分时，分数越约越小，通分时每个分数的值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来越大。                                                        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38"/>
          <p:cNvSpPr/>
          <p:nvPr/>
        </p:nvSpPr>
        <p:spPr>
          <a:xfrm>
            <a:off x="1292760" y="5229360"/>
            <a:ext cx="675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约分是每个分数单独进行的，通分是在几个分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中进行的。                                                   （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39"/>
          <p:cNvSpPr/>
          <p:nvPr/>
        </p:nvSpPr>
        <p:spPr>
          <a:xfrm>
            <a:off x="8461440" y="2205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40"/>
          <p:cNvSpPr/>
          <p:nvPr/>
        </p:nvSpPr>
        <p:spPr>
          <a:xfrm>
            <a:off x="8585280" y="28209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41"/>
          <p:cNvSpPr/>
          <p:nvPr/>
        </p:nvSpPr>
        <p:spPr>
          <a:xfrm>
            <a:off x="8461440" y="3500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42"/>
          <p:cNvSpPr/>
          <p:nvPr/>
        </p:nvSpPr>
        <p:spPr>
          <a:xfrm>
            <a:off x="8461440" y="4581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43"/>
          <p:cNvSpPr/>
          <p:nvPr/>
        </p:nvSpPr>
        <p:spPr>
          <a:xfrm>
            <a:off x="8442360" y="57006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4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7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2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7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7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2" dur="500"/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7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2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7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2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Text Box 7"/>
          <p:cNvSpPr/>
          <p:nvPr/>
        </p:nvSpPr>
        <p:spPr>
          <a:xfrm>
            <a:off x="599760" y="765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选择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15"/>
          <p:cNvSpPr/>
          <p:nvPr/>
        </p:nvSpPr>
        <p:spPr>
          <a:xfrm>
            <a:off x="1187280" y="35002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17"/>
          <p:cNvSpPr/>
          <p:nvPr/>
        </p:nvSpPr>
        <p:spPr>
          <a:xfrm>
            <a:off x="684360" y="3378240"/>
            <a:ext cx="122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20"/>
          <p:cNvSpPr/>
          <p:nvPr/>
        </p:nvSpPr>
        <p:spPr>
          <a:xfrm>
            <a:off x="6156360" y="3284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31"/>
          <p:cNvSpPr/>
          <p:nvPr/>
        </p:nvSpPr>
        <p:spPr>
          <a:xfrm>
            <a:off x="2700360" y="26028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32"/>
          <p:cNvSpPr/>
          <p:nvPr/>
        </p:nvSpPr>
        <p:spPr>
          <a:xfrm>
            <a:off x="5435640" y="620640"/>
            <a:ext cx="3068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自主探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3" name="Picture 35" descr="2005129100039"/>
          <p:cNvPicPr/>
          <p:nvPr/>
        </p:nvPicPr>
        <p:blipFill>
          <a:blip r:embed="rId1"/>
          <a:stretch/>
        </p:blipFill>
        <p:spPr>
          <a:xfrm>
            <a:off x="2771640" y="-243000"/>
            <a:ext cx="2592360" cy="2347920"/>
          </a:xfrm>
          <a:prstGeom prst="rect">
            <a:avLst/>
          </a:prstGeom>
          <a:ln w="0">
            <a:noFill/>
          </a:ln>
        </p:spPr>
      </p:pic>
      <p:sp>
        <p:nvSpPr>
          <p:cNvPr id="754" name="Text Box 42"/>
          <p:cNvSpPr/>
          <p:nvPr/>
        </p:nvSpPr>
        <p:spPr>
          <a:xfrm>
            <a:off x="1263240" y="2163600"/>
            <a:ext cx="6633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甲、乙两人做同样的零件，甲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完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个，乙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时完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个。谁快一些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5" name="Object 43"/>
              <p:cNvSpPr txBox="1"/>
              <p:nvPr/>
            </p:nvSpPr>
            <p:spPr>
              <a:xfrm>
                <a:off x="324000" y="3716280"/>
                <a:ext cx="345600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÷</m:t>
                    </m:r>
                    <m:r>
                      <m:t xml:space="preserve">3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6" name="Object 44"/>
              <p:cNvSpPr txBox="1"/>
              <p:nvPr/>
            </p:nvSpPr>
            <p:spPr>
              <a:xfrm>
                <a:off x="4788000" y="3789360"/>
                <a:ext cx="35290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÷</m:t>
                    </m:r>
                    <m:r>
                      <m:t xml:space="preserve">4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7" name="Text Box 45"/>
          <p:cNvSpPr/>
          <p:nvPr/>
        </p:nvSpPr>
        <p:spPr>
          <a:xfrm>
            <a:off x="66960" y="3429000"/>
            <a:ext cx="108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48"/>
          <p:cNvSpPr/>
          <p:nvPr/>
        </p:nvSpPr>
        <p:spPr>
          <a:xfrm>
            <a:off x="66960" y="4581360"/>
            <a:ext cx="108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9" name="Object 49"/>
              <p:cNvSpPr txBox="1"/>
              <p:nvPr/>
            </p:nvSpPr>
            <p:spPr>
              <a:xfrm>
                <a:off x="0" y="5084640"/>
                <a:ext cx="338472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÷</m:t>
                    </m:r>
                    <m:r>
                      <m:t xml:space="preserve">5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×</m:t>
                        </m:r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0" name="Object 50"/>
              <p:cNvSpPr txBox="1"/>
              <p:nvPr/>
            </p:nvSpPr>
            <p:spPr>
              <a:xfrm>
                <a:off x="4643280" y="5084640"/>
                <a:ext cx="3384720" cy="98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÷</m:t>
                    </m:r>
                    <m:r>
                      <m:t xml:space="preserve">7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×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  <m:r>
                          <m:t xml:space="preserve">×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1" name="Text Box 51"/>
          <p:cNvSpPr/>
          <p:nvPr/>
        </p:nvSpPr>
        <p:spPr>
          <a:xfrm>
            <a:off x="3737880" y="39337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个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52"/>
          <p:cNvSpPr/>
          <p:nvPr/>
        </p:nvSpPr>
        <p:spPr>
          <a:xfrm>
            <a:off x="8202240" y="40053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个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53"/>
          <p:cNvSpPr/>
          <p:nvPr/>
        </p:nvSpPr>
        <p:spPr>
          <a:xfrm>
            <a:off x="3458880" y="5300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小时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54"/>
          <p:cNvSpPr/>
          <p:nvPr/>
        </p:nvSpPr>
        <p:spPr>
          <a:xfrm>
            <a:off x="7923240" y="5300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小时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9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7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2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5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0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5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8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3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6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76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4" descr="u=828340698,3454978721&amp;gp=0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4" descr="u=828340698,3454978721&amp;gp=0"/>
          <p:cNvPicPr/>
          <p:nvPr/>
        </p:nvPicPr>
        <p:blipFill>
          <a:blip r:embed="rId1"/>
          <a:stretch/>
        </p:blipFill>
        <p:spPr>
          <a:xfrm>
            <a:off x="0" y="0"/>
            <a:ext cx="5724360" cy="685800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5" descr="u=827787602,3667177475&amp;gp=0"/>
          <p:cNvPicPr/>
          <p:nvPr/>
        </p:nvPicPr>
        <p:blipFill>
          <a:blip r:embed="rId2"/>
          <a:srcRect l="0" t="0" r="0" b="-137"/>
          <a:stretch/>
        </p:blipFill>
        <p:spPr>
          <a:xfrm>
            <a:off x="6300720" y="692280"/>
            <a:ext cx="2448000" cy="145404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6" descr="u=827787602,3667177475&amp;gp=0"/>
          <p:cNvPicPr/>
          <p:nvPr/>
        </p:nvPicPr>
        <p:blipFill>
          <a:blip r:embed="rId3"/>
          <a:srcRect l="0" t="0" r="0" b="-137"/>
          <a:stretch/>
        </p:blipFill>
        <p:spPr>
          <a:xfrm>
            <a:off x="6300720" y="2349360"/>
            <a:ext cx="2448000" cy="145440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7" descr="u=827787602,3667177475&amp;gp=0"/>
          <p:cNvPicPr/>
          <p:nvPr/>
        </p:nvPicPr>
        <p:blipFill>
          <a:blip r:embed="rId4"/>
          <a:srcRect l="0" t="0" r="0" b="-137"/>
          <a:stretch/>
        </p:blipFill>
        <p:spPr>
          <a:xfrm>
            <a:off x="6227640" y="4076640"/>
            <a:ext cx="2448000" cy="14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4" descr="u=828340698,3454978721&amp;gp=0"/>
          <p:cNvPicPr/>
          <p:nvPr/>
        </p:nvPicPr>
        <p:blipFill>
          <a:blip r:embed="rId1"/>
          <a:stretch/>
        </p:blipFill>
        <p:spPr>
          <a:xfrm>
            <a:off x="0" y="0"/>
            <a:ext cx="5040360" cy="4124160"/>
          </a:xfrm>
          <a:prstGeom prst="rect">
            <a:avLst/>
          </a:prstGeom>
          <a:ln w="0">
            <a:noFill/>
          </a:ln>
        </p:spPr>
      </p:pic>
      <p:sp>
        <p:nvSpPr>
          <p:cNvPr id="541" name="Rectangle 10"/>
          <p:cNvSpPr/>
          <p:nvPr/>
        </p:nvSpPr>
        <p:spPr>
          <a:xfrm>
            <a:off x="1979640" y="4724280"/>
            <a:ext cx="100800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Group 81"/>
          <p:cNvGrpSpPr/>
          <p:nvPr/>
        </p:nvGrpSpPr>
        <p:grpSpPr>
          <a:xfrm>
            <a:off x="395280" y="4797360"/>
            <a:ext cx="2485800" cy="1476360"/>
            <a:chOff x="395280" y="4797360"/>
            <a:chExt cx="2485800" cy="1476360"/>
          </a:xfrm>
        </p:grpSpPr>
        <p:pic>
          <p:nvPicPr>
            <p:cNvPr id="543" name="Picture 7" descr="u=827787602,3667177475&amp;gp=0"/>
            <p:cNvPicPr/>
            <p:nvPr/>
          </p:nvPicPr>
          <p:blipFill>
            <a:blip r:embed="rId2"/>
            <a:srcRect l="0" t="0" r="0" b="-137"/>
            <a:stretch/>
          </p:blipFill>
          <p:spPr>
            <a:xfrm>
              <a:off x="395280" y="4797360"/>
              <a:ext cx="248580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Line 16"/>
            <p:cNvSpPr/>
            <p:nvPr/>
          </p:nvSpPr>
          <p:spPr>
            <a:xfrm flipV="1">
              <a:off x="1763640" y="4941360"/>
              <a:ext cx="0" cy="1297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Line 17"/>
            <p:cNvSpPr/>
            <p:nvPr/>
          </p:nvSpPr>
          <p:spPr>
            <a:xfrm>
              <a:off x="900000" y="5589720"/>
              <a:ext cx="1727280" cy="71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Line 18"/>
            <p:cNvSpPr/>
            <p:nvPr/>
          </p:nvSpPr>
          <p:spPr>
            <a:xfrm flipV="1">
              <a:off x="1187280" y="5084280"/>
              <a:ext cx="1224000" cy="1008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19"/>
            <p:cNvSpPr/>
            <p:nvPr/>
          </p:nvSpPr>
          <p:spPr>
            <a:xfrm flipH="1" flipV="1">
              <a:off x="1186920" y="5084280"/>
              <a:ext cx="1152360" cy="1081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8" name="Rectangle 21"/>
          <p:cNvSpPr/>
          <p:nvPr/>
        </p:nvSpPr>
        <p:spPr>
          <a:xfrm rot="194400">
            <a:off x="5219280" y="4581360"/>
            <a:ext cx="98604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37"/>
          <p:cNvSpPr/>
          <p:nvPr/>
        </p:nvSpPr>
        <p:spPr>
          <a:xfrm>
            <a:off x="7667640" y="4508640"/>
            <a:ext cx="914400" cy="9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Group 99"/>
          <p:cNvGrpSpPr/>
          <p:nvPr/>
        </p:nvGrpSpPr>
        <p:grpSpPr>
          <a:xfrm>
            <a:off x="3348000" y="4797360"/>
            <a:ext cx="2485800" cy="1512360"/>
            <a:chOff x="3348000" y="4797360"/>
            <a:chExt cx="2485800" cy="1512360"/>
          </a:xfrm>
        </p:grpSpPr>
        <p:pic>
          <p:nvPicPr>
            <p:cNvPr id="551" name="Picture 82" descr="u=827787602,3667177475&amp;gp=0"/>
            <p:cNvPicPr/>
            <p:nvPr/>
          </p:nvPicPr>
          <p:blipFill>
            <a:blip r:embed="rId3"/>
            <a:srcRect l="0" t="0" r="0" b="-137"/>
            <a:stretch/>
          </p:blipFill>
          <p:spPr>
            <a:xfrm>
              <a:off x="3348000" y="4797360"/>
              <a:ext cx="2485800" cy="1476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52" name="Group 83"/>
            <p:cNvGrpSpPr/>
            <p:nvPr/>
          </p:nvGrpSpPr>
          <p:grpSpPr>
            <a:xfrm>
              <a:off x="3852720" y="4941360"/>
              <a:ext cx="1726920" cy="1368360"/>
              <a:chOff x="3852720" y="4941360"/>
              <a:chExt cx="1726920" cy="1368360"/>
            </a:xfrm>
          </p:grpSpPr>
          <p:sp>
            <p:nvSpPr>
              <p:cNvPr id="553" name="Line 84"/>
              <p:cNvSpPr/>
              <p:nvPr/>
            </p:nvSpPr>
            <p:spPr>
              <a:xfrm flipV="1">
                <a:off x="4644720" y="4941360"/>
                <a:ext cx="142920" cy="13683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Line 85"/>
              <p:cNvSpPr/>
              <p:nvPr/>
            </p:nvSpPr>
            <p:spPr>
              <a:xfrm>
                <a:off x="3852720" y="5589360"/>
                <a:ext cx="1726920" cy="716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Line 86"/>
              <p:cNvSpPr/>
              <p:nvPr/>
            </p:nvSpPr>
            <p:spPr>
              <a:xfrm flipV="1">
                <a:off x="3997080" y="5373720"/>
                <a:ext cx="1511280" cy="5047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Line 87"/>
              <p:cNvSpPr/>
              <p:nvPr/>
            </p:nvSpPr>
            <p:spPr>
              <a:xfrm flipH="1" flipV="1">
                <a:off x="3923640" y="5301720"/>
                <a:ext cx="1513080" cy="6476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Line 88"/>
              <p:cNvSpPr/>
              <p:nvPr/>
            </p:nvSpPr>
            <p:spPr>
              <a:xfrm>
                <a:off x="4284360" y="5013360"/>
                <a:ext cx="863640" cy="12240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Line 89"/>
              <p:cNvSpPr/>
              <p:nvPr/>
            </p:nvSpPr>
            <p:spPr>
              <a:xfrm flipV="1">
                <a:off x="4284360" y="5013000"/>
                <a:ext cx="936720" cy="11523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59" name="Picture 97" descr="u=827787602,3667177475&amp;gp=0"/>
          <p:cNvPicPr/>
          <p:nvPr/>
        </p:nvPicPr>
        <p:blipFill>
          <a:blip r:embed="rId4"/>
          <a:srcRect l="0" t="0" r="0" b="-137"/>
          <a:stretch/>
        </p:blipFill>
        <p:spPr>
          <a:xfrm>
            <a:off x="6084720" y="4724280"/>
            <a:ext cx="2557800" cy="1519200"/>
          </a:xfrm>
          <a:prstGeom prst="rect">
            <a:avLst/>
          </a:prstGeom>
          <a:ln w="0">
            <a:noFill/>
          </a:ln>
        </p:spPr>
      </p:pic>
      <p:sp>
        <p:nvSpPr>
          <p:cNvPr id="560" name="Rectangle 98"/>
          <p:cNvSpPr/>
          <p:nvPr/>
        </p:nvSpPr>
        <p:spPr>
          <a:xfrm>
            <a:off x="1835280" y="4653000"/>
            <a:ext cx="9856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Group 23"/>
          <p:cNvGrpSpPr/>
          <p:nvPr/>
        </p:nvGrpSpPr>
        <p:grpSpPr>
          <a:xfrm>
            <a:off x="1798200" y="4817160"/>
            <a:ext cx="1154880" cy="896040"/>
            <a:chOff x="1798200" y="4817160"/>
            <a:chExt cx="1154880" cy="896040"/>
          </a:xfrm>
        </p:grpSpPr>
        <p:pic>
          <p:nvPicPr>
            <p:cNvPr id="562" name="Picture 20" descr="u=827787602,3667177475&amp;gp=0"/>
            <p:cNvPicPr/>
            <p:nvPr/>
          </p:nvPicPr>
          <p:blipFill>
            <a:blip r:embed="rId5"/>
            <a:srcRect l="52133" t="0" r="0" b="46266"/>
            <a:stretch/>
          </p:blipFill>
          <p:spPr>
            <a:xfrm rot="343800">
              <a:off x="1834920" y="4869000"/>
              <a:ext cx="108108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Line 22"/>
            <p:cNvSpPr/>
            <p:nvPr/>
          </p:nvSpPr>
          <p:spPr>
            <a:xfrm flipV="1">
              <a:off x="1835280" y="5162040"/>
              <a:ext cx="576360" cy="431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4" name="Rectangle 101"/>
          <p:cNvSpPr/>
          <p:nvPr/>
        </p:nvSpPr>
        <p:spPr>
          <a:xfrm>
            <a:off x="3708360" y="566100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Group 42"/>
          <p:cNvGrpSpPr/>
          <p:nvPr/>
        </p:nvGrpSpPr>
        <p:grpSpPr>
          <a:xfrm>
            <a:off x="3556080" y="5650200"/>
            <a:ext cx="1100520" cy="884520"/>
            <a:chOff x="3556080" y="5650200"/>
            <a:chExt cx="1100520" cy="884520"/>
          </a:xfrm>
        </p:grpSpPr>
        <p:pic>
          <p:nvPicPr>
            <p:cNvPr id="566" name="Picture 43" descr="u=827787602,3667177475&amp;gp=0"/>
            <p:cNvPicPr/>
            <p:nvPr/>
          </p:nvPicPr>
          <p:blipFill>
            <a:blip r:embed="rId6"/>
            <a:srcRect l="52133" t="0" r="0" b="46266"/>
            <a:stretch/>
          </p:blipFill>
          <p:spPr>
            <a:xfrm rot="10866600">
              <a:off x="3564000" y="5660640"/>
              <a:ext cx="1084320" cy="8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Line 44"/>
            <p:cNvSpPr/>
            <p:nvPr/>
          </p:nvSpPr>
          <p:spPr>
            <a:xfrm flipH="1">
              <a:off x="4219920" y="5706000"/>
              <a:ext cx="410040" cy="593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Line 45"/>
            <p:cNvSpPr/>
            <p:nvPr/>
          </p:nvSpPr>
          <p:spPr>
            <a:xfrm flipH="1">
              <a:off x="3921480" y="5708880"/>
              <a:ext cx="635400" cy="313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Rectangle 102"/>
          <p:cNvSpPr/>
          <p:nvPr/>
        </p:nvSpPr>
        <p:spPr>
          <a:xfrm>
            <a:off x="3348000" y="4437000"/>
            <a:ext cx="3002040" cy="21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3.33333E-006 L 0.53351 -0.49352 E">
                                      <p:cBhvr>
                                        <p:cTn id="6" dur="2000" fill="hold"/>
                                        <p:tgtEl>
                                          <p:spTgt spid="5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44444E-006 L 0.28941 -0.39884 E">
                                      <p:cBhvr>
                                        <p:cTn id="15" dur="2000" fill="hold"/>
                                        <p:tgtEl>
                                          <p:spTgt spid="5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7" descr="0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1" name="Text Box 8"/>
          <p:cNvSpPr/>
          <p:nvPr/>
        </p:nvSpPr>
        <p:spPr>
          <a:xfrm>
            <a:off x="2340000" y="2708280"/>
            <a:ext cx="439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ffff"/>
                </a:solidFill>
                <a:latin typeface="Arial"/>
              </a:rPr>
              <a:t> 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9"/>
          <p:cNvSpPr/>
          <p:nvPr/>
        </p:nvSpPr>
        <p:spPr>
          <a:xfrm>
            <a:off x="2124000" y="2565360"/>
            <a:ext cx="518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ffff"/>
                </a:solidFill>
                <a:latin typeface="Arial"/>
              </a:rPr>
              <a:t>通     分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4" descr="10"/>
          <p:cNvPicPr/>
          <p:nvPr/>
        </p:nvPicPr>
        <p:blipFill>
          <a:blip r:embed="rId1"/>
          <a:stretch/>
        </p:blipFill>
        <p:spPr>
          <a:xfrm>
            <a:off x="2124000" y="0"/>
            <a:ext cx="5041800" cy="1989000"/>
          </a:xfrm>
          <a:prstGeom prst="rect">
            <a:avLst/>
          </a:prstGeom>
          <a:ln w="0">
            <a:noFill/>
          </a:ln>
        </p:spPr>
      </p:pic>
      <p:sp>
        <p:nvSpPr>
          <p:cNvPr id="574" name="Text Box 8"/>
          <p:cNvSpPr/>
          <p:nvPr/>
        </p:nvSpPr>
        <p:spPr>
          <a:xfrm>
            <a:off x="0" y="2276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六一儿童节到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幼儿园给每个小朋友发了一块同样大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9" descr="2006326223834433"/>
          <p:cNvPicPr/>
          <p:nvPr/>
        </p:nvPicPr>
        <p:blipFill>
          <a:blip r:embed="rId2"/>
          <a:stretch/>
        </p:blipFill>
        <p:spPr>
          <a:xfrm>
            <a:off x="2556000" y="2708280"/>
            <a:ext cx="936360" cy="936720"/>
          </a:xfrm>
          <a:prstGeom prst="rect">
            <a:avLst/>
          </a:prstGeom>
          <a:ln w="0">
            <a:noFill/>
          </a:ln>
        </p:spPr>
      </p:pic>
      <p:sp>
        <p:nvSpPr>
          <p:cNvPr id="576" name="Text Box 10"/>
          <p:cNvSpPr/>
          <p:nvPr/>
        </p:nvSpPr>
        <p:spPr>
          <a:xfrm>
            <a:off x="3348000" y="285264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红吃一块蛋糕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7" name="Object 13"/>
              <p:cNvSpPr txBox="1"/>
              <p:nvPr/>
            </p:nvSpPr>
            <p:spPr>
              <a:xfrm>
                <a:off x="6877080" y="2781360"/>
                <a:ext cx="36504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8" name="Text Box 14"/>
          <p:cNvSpPr/>
          <p:nvPr/>
        </p:nvSpPr>
        <p:spPr>
          <a:xfrm>
            <a:off x="7236000" y="2924280"/>
            <a:ext cx="297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明吃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15"/>
          <p:cNvSpPr/>
          <p:nvPr/>
        </p:nvSpPr>
        <p:spPr>
          <a:xfrm>
            <a:off x="0" y="3429000"/>
            <a:ext cx="53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块蛋糕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0" name="Object 16"/>
              <p:cNvSpPr txBox="1"/>
              <p:nvPr/>
            </p:nvSpPr>
            <p:spPr>
              <a:xfrm>
                <a:off x="2195640" y="3357720"/>
                <a:ext cx="55224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1" name="Text Box 17"/>
          <p:cNvSpPr/>
          <p:nvPr/>
        </p:nvSpPr>
        <p:spPr>
          <a:xfrm>
            <a:off x="2627280" y="3500280"/>
            <a:ext cx="65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知道哪个小朋友吃的蛋糕多些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9"/>
          <p:cNvSpPr/>
          <p:nvPr/>
        </p:nvSpPr>
        <p:spPr>
          <a:xfrm>
            <a:off x="0" y="765000"/>
            <a:ext cx="21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Arial"/>
              </a:rPr>
              <a:t>自主探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21"/>
          <p:cNvSpPr/>
          <p:nvPr/>
        </p:nvSpPr>
        <p:spPr>
          <a:xfrm>
            <a:off x="7236000" y="765000"/>
            <a:ext cx="19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Arial"/>
              </a:rPr>
              <a:t>合作交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Group 66"/>
          <p:cNvGrpSpPr/>
          <p:nvPr/>
        </p:nvGrpSpPr>
        <p:grpSpPr>
          <a:xfrm>
            <a:off x="610920" y="4724280"/>
            <a:ext cx="1513080" cy="1441440"/>
            <a:chOff x="610920" y="4724280"/>
            <a:chExt cx="1513080" cy="1441440"/>
          </a:xfrm>
        </p:grpSpPr>
        <p:sp>
          <p:nvSpPr>
            <p:cNvPr id="585" name="Oval 23"/>
            <p:cNvSpPr/>
            <p:nvPr/>
          </p:nvSpPr>
          <p:spPr>
            <a:xfrm>
              <a:off x="611280" y="4724280"/>
              <a:ext cx="1417680" cy="14194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PubPieSlice"/>
            <p:cNvSpPr/>
            <p:nvPr/>
          </p:nvSpPr>
          <p:spPr>
            <a:xfrm flipH="1">
              <a:off x="610560" y="4724280"/>
              <a:ext cx="1484280" cy="1441440"/>
            </a:xfrm>
            <a:custGeom>
              <a:avLst/>
              <a:gdLst>
                <a:gd name="textAreaLeft" fmla="*/ 217440 w 1484280"/>
                <a:gd name="textAreaRight" fmla="*/ 1266840 w 1484280"/>
                <a:gd name="textAreaTop" fmla="*/ 210960 h 1441440"/>
                <a:gd name="textAreaBottom" fmla="*/ 1230480 h 144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786" y="0"/>
                  </a:moveTo>
                  <a:cubicBezTo>
                    <a:pt x="4826" y="7"/>
                    <a:pt x="0" y="4840"/>
                    <a:pt x="0" y="10799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ubicBezTo>
                    <a:pt x="21600" y="10755"/>
                    <a:pt x="21599" y="10710"/>
                    <a:pt x="21599" y="10665"/>
                  </a:cubicBezTo>
                  <a:lnTo>
                    <a:pt x="10800" y="10800"/>
                  </a:lnTo>
                  <a:lnTo>
                    <a:pt x="10786" y="0"/>
                  </a:lnTo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Line 35"/>
            <p:cNvSpPr/>
            <p:nvPr/>
          </p:nvSpPr>
          <p:spPr>
            <a:xfrm>
              <a:off x="1332000" y="5445000"/>
              <a:ext cx="79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Line 36"/>
            <p:cNvSpPr/>
            <p:nvPr/>
          </p:nvSpPr>
          <p:spPr>
            <a:xfrm>
              <a:off x="1332000" y="544500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Group 70"/>
          <p:cNvGrpSpPr/>
          <p:nvPr/>
        </p:nvGrpSpPr>
        <p:grpSpPr>
          <a:xfrm>
            <a:off x="4787640" y="4653000"/>
            <a:ext cx="1513080" cy="1441440"/>
            <a:chOff x="4787640" y="4653000"/>
            <a:chExt cx="1513080" cy="1441440"/>
          </a:xfrm>
        </p:grpSpPr>
        <p:sp>
          <p:nvSpPr>
            <p:cNvPr id="590" name="Oval 30"/>
            <p:cNvSpPr/>
            <p:nvPr/>
          </p:nvSpPr>
          <p:spPr>
            <a:xfrm>
              <a:off x="4788000" y="4653000"/>
              <a:ext cx="1417680" cy="14191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PubPieSlice"/>
            <p:cNvSpPr/>
            <p:nvPr/>
          </p:nvSpPr>
          <p:spPr>
            <a:xfrm flipH="1">
              <a:off x="4787280" y="4653000"/>
              <a:ext cx="1484280" cy="1441440"/>
            </a:xfrm>
            <a:custGeom>
              <a:avLst/>
              <a:gdLst>
                <a:gd name="textAreaLeft" fmla="*/ 217440 w 1484280"/>
                <a:gd name="textAreaRight" fmla="*/ 1266840 w 1484280"/>
                <a:gd name="textAreaTop" fmla="*/ 210960 h 1441440"/>
                <a:gd name="textAreaBottom" fmla="*/ 1230480 h 144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424" y="1579"/>
                  </a:moveTo>
                  <a:cubicBezTo>
                    <a:pt x="14730" y="546"/>
                    <a:pt x="1278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ubicBezTo>
                    <a:pt x="21600" y="10755"/>
                    <a:pt x="21599" y="10710"/>
                    <a:pt x="21599" y="10665"/>
                  </a:cubicBezTo>
                  <a:lnTo>
                    <a:pt x="10800" y="10800"/>
                  </a:lnTo>
                  <a:lnTo>
                    <a:pt x="16424" y="1579"/>
                  </a:lnTo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67"/>
            <p:cNvSpPr/>
            <p:nvPr/>
          </p:nvSpPr>
          <p:spPr>
            <a:xfrm>
              <a:off x="5508720" y="5373720"/>
              <a:ext cx="79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68"/>
            <p:cNvSpPr/>
            <p:nvPr/>
          </p:nvSpPr>
          <p:spPr>
            <a:xfrm>
              <a:off x="5508720" y="5373720"/>
              <a:ext cx="43164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69"/>
            <p:cNvSpPr/>
            <p:nvPr/>
          </p:nvSpPr>
          <p:spPr>
            <a:xfrm flipV="1">
              <a:off x="5076720" y="4797360"/>
              <a:ext cx="863640" cy="115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Group 82"/>
          <p:cNvGrpSpPr/>
          <p:nvPr/>
        </p:nvGrpSpPr>
        <p:grpSpPr>
          <a:xfrm>
            <a:off x="7019640" y="4653000"/>
            <a:ext cx="1513080" cy="1441440"/>
            <a:chOff x="7019640" y="4653000"/>
            <a:chExt cx="1513080" cy="1441440"/>
          </a:xfrm>
        </p:grpSpPr>
        <p:sp>
          <p:nvSpPr>
            <p:cNvPr id="596" name="Oval 72"/>
            <p:cNvSpPr/>
            <p:nvPr/>
          </p:nvSpPr>
          <p:spPr>
            <a:xfrm>
              <a:off x="7020000" y="4653000"/>
              <a:ext cx="1417680" cy="14191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PubPieSlice"/>
            <p:cNvSpPr/>
            <p:nvPr/>
          </p:nvSpPr>
          <p:spPr>
            <a:xfrm flipH="1">
              <a:off x="7019280" y="4653000"/>
              <a:ext cx="1484280" cy="1441440"/>
            </a:xfrm>
            <a:custGeom>
              <a:avLst/>
              <a:gdLst>
                <a:gd name="textAreaLeft" fmla="*/ 217440 w 1484280"/>
                <a:gd name="textAreaRight" fmla="*/ 1266840 w 1484280"/>
                <a:gd name="textAreaTop" fmla="*/ 210960 h 1441440"/>
                <a:gd name="textAreaBottom" fmla="*/ 1230480 h 144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424" y="1579"/>
                  </a:moveTo>
                  <a:cubicBezTo>
                    <a:pt x="14730" y="546"/>
                    <a:pt x="1278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ubicBezTo>
                    <a:pt x="21600" y="10755"/>
                    <a:pt x="21599" y="10710"/>
                    <a:pt x="21599" y="10665"/>
                  </a:cubicBezTo>
                  <a:lnTo>
                    <a:pt x="10800" y="10800"/>
                  </a:lnTo>
                  <a:lnTo>
                    <a:pt x="16424" y="1579"/>
                  </a:lnTo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Line 74"/>
            <p:cNvSpPr/>
            <p:nvPr/>
          </p:nvSpPr>
          <p:spPr>
            <a:xfrm>
              <a:off x="7740720" y="5373720"/>
              <a:ext cx="79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Line 75"/>
            <p:cNvSpPr/>
            <p:nvPr/>
          </p:nvSpPr>
          <p:spPr>
            <a:xfrm>
              <a:off x="7740720" y="5373720"/>
              <a:ext cx="35856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Line 76"/>
            <p:cNvSpPr/>
            <p:nvPr/>
          </p:nvSpPr>
          <p:spPr>
            <a:xfrm flipV="1">
              <a:off x="7380360" y="4723920"/>
              <a:ext cx="720720" cy="12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Line 77"/>
            <p:cNvSpPr/>
            <p:nvPr/>
          </p:nvSpPr>
          <p:spPr>
            <a:xfrm flipV="1">
              <a:off x="7740720" y="4653000"/>
              <a:ext cx="0" cy="14400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Line 79"/>
            <p:cNvSpPr/>
            <p:nvPr/>
          </p:nvSpPr>
          <p:spPr>
            <a:xfrm>
              <a:off x="7093080" y="5013360"/>
              <a:ext cx="1295280" cy="7207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Line 81"/>
            <p:cNvSpPr/>
            <p:nvPr/>
          </p:nvSpPr>
          <p:spPr>
            <a:xfrm flipV="1">
              <a:off x="7093080" y="5013360"/>
              <a:ext cx="1366560" cy="7207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Group 102"/>
          <p:cNvGrpSpPr/>
          <p:nvPr/>
        </p:nvGrpSpPr>
        <p:grpSpPr>
          <a:xfrm>
            <a:off x="2556000" y="4653000"/>
            <a:ext cx="1512360" cy="1441440"/>
            <a:chOff x="2556000" y="4653000"/>
            <a:chExt cx="1512360" cy="1441440"/>
          </a:xfrm>
        </p:grpSpPr>
        <p:sp>
          <p:nvSpPr>
            <p:cNvPr id="605" name="Oval 94"/>
            <p:cNvSpPr/>
            <p:nvPr/>
          </p:nvSpPr>
          <p:spPr>
            <a:xfrm>
              <a:off x="2556000" y="4653000"/>
              <a:ext cx="1417320" cy="14194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PubPieSlice"/>
            <p:cNvSpPr/>
            <p:nvPr/>
          </p:nvSpPr>
          <p:spPr>
            <a:xfrm flipH="1">
              <a:off x="2556000" y="4653000"/>
              <a:ext cx="1483920" cy="1441440"/>
            </a:xfrm>
            <a:custGeom>
              <a:avLst/>
              <a:gdLst>
                <a:gd name="textAreaLeft" fmla="*/ 217440 w 1483920"/>
                <a:gd name="textAreaRight" fmla="*/ 1266480 w 1483920"/>
                <a:gd name="textAreaTop" fmla="*/ 210960 h 1441440"/>
                <a:gd name="textAreaBottom" fmla="*/ 1230480 h 144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786" y="0"/>
                  </a:moveTo>
                  <a:cubicBezTo>
                    <a:pt x="4826" y="7"/>
                    <a:pt x="0" y="4840"/>
                    <a:pt x="0" y="10799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ubicBezTo>
                    <a:pt x="21600" y="10755"/>
                    <a:pt x="21599" y="10710"/>
                    <a:pt x="21599" y="10665"/>
                  </a:cubicBezTo>
                  <a:lnTo>
                    <a:pt x="10800" y="10800"/>
                  </a:lnTo>
                  <a:lnTo>
                    <a:pt x="10786" y="0"/>
                  </a:lnTo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96"/>
            <p:cNvSpPr/>
            <p:nvPr/>
          </p:nvSpPr>
          <p:spPr>
            <a:xfrm flipV="1">
              <a:off x="2700000" y="5013000"/>
              <a:ext cx="1223640" cy="7225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Line 97"/>
            <p:cNvSpPr/>
            <p:nvPr/>
          </p:nvSpPr>
          <p:spPr>
            <a:xfrm flipV="1">
              <a:off x="2916000" y="4725720"/>
              <a:ext cx="720360" cy="12956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Line 98"/>
            <p:cNvSpPr/>
            <p:nvPr/>
          </p:nvSpPr>
          <p:spPr>
            <a:xfrm>
              <a:off x="2916000" y="4726080"/>
              <a:ext cx="720360" cy="12956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99"/>
            <p:cNvSpPr/>
            <p:nvPr/>
          </p:nvSpPr>
          <p:spPr>
            <a:xfrm>
              <a:off x="3276360" y="537372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100"/>
            <p:cNvSpPr/>
            <p:nvPr/>
          </p:nvSpPr>
          <p:spPr>
            <a:xfrm>
              <a:off x="3276360" y="5373720"/>
              <a:ext cx="79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101"/>
            <p:cNvSpPr/>
            <p:nvPr/>
          </p:nvSpPr>
          <p:spPr>
            <a:xfrm>
              <a:off x="2628720" y="5013360"/>
              <a:ext cx="1366560" cy="7207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13" name="Object 103"/>
              <p:cNvSpPr txBox="1"/>
              <p:nvPr/>
            </p:nvSpPr>
            <p:spPr>
              <a:xfrm>
                <a:off x="1042920" y="6165720"/>
                <a:ext cx="27000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4" name="Object 104"/>
              <p:cNvSpPr txBox="1"/>
              <p:nvPr/>
            </p:nvSpPr>
            <p:spPr>
              <a:xfrm>
                <a:off x="5364000" y="6165720"/>
                <a:ext cx="40824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5" name="Object 105"/>
              <p:cNvSpPr txBox="1"/>
              <p:nvPr/>
            </p:nvSpPr>
            <p:spPr>
              <a:xfrm>
                <a:off x="3132000" y="6093000"/>
                <a:ext cx="39240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6" name="Object 106"/>
              <p:cNvSpPr txBox="1"/>
              <p:nvPr/>
            </p:nvSpPr>
            <p:spPr>
              <a:xfrm>
                <a:off x="7588080" y="6165720"/>
                <a:ext cx="35424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Text Box 4"/>
          <p:cNvSpPr/>
          <p:nvPr/>
        </p:nvSpPr>
        <p:spPr>
          <a:xfrm>
            <a:off x="324000" y="47628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把下面每组中的两个分数通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8" name="Group 138"/>
          <p:cNvGrpSpPr/>
          <p:nvPr/>
        </p:nvGrpSpPr>
        <p:grpSpPr>
          <a:xfrm>
            <a:off x="684360" y="1197000"/>
            <a:ext cx="5976720" cy="1254240"/>
            <a:chOff x="684360" y="1197000"/>
            <a:chExt cx="5976720" cy="1254240"/>
          </a:xfrm>
        </p:grpSpPr>
        <p:sp>
          <p:nvSpPr>
            <p:cNvPr id="619" name="Text Box 5"/>
            <p:cNvSpPr/>
            <p:nvPr/>
          </p:nvSpPr>
          <p:spPr>
            <a:xfrm>
              <a:off x="684360" y="1628640"/>
              <a:ext cx="165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(1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0" name="Object 6"/>
                <p:cNvSpPr txBox="1"/>
                <p:nvPr/>
              </p:nvSpPr>
              <p:spPr>
                <a:xfrm>
                  <a:off x="1619280" y="1268280"/>
                  <a:ext cx="1297080" cy="118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和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21" name="Text Box 7"/>
            <p:cNvSpPr/>
            <p:nvPr/>
          </p:nvSpPr>
          <p:spPr>
            <a:xfrm>
              <a:off x="4067280" y="1484280"/>
              <a:ext cx="115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2" name="Object 9"/>
                <p:cNvSpPr txBox="1"/>
                <p:nvPr/>
              </p:nvSpPr>
              <p:spPr>
                <a:xfrm>
                  <a:off x="5292720" y="1197000"/>
                  <a:ext cx="1368360" cy="110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和</m:t>
                      </m:r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23" name="Text Box 12"/>
          <p:cNvSpPr/>
          <p:nvPr/>
        </p:nvSpPr>
        <p:spPr>
          <a:xfrm>
            <a:off x="5651640" y="476280"/>
            <a:ext cx="1657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14" descr="复件 u=1723156394,2211366027&amp;gp=1"/>
          <p:cNvPicPr/>
          <p:nvPr/>
        </p:nvPicPr>
        <p:blipFill>
          <a:blip r:embed="rId1"/>
          <a:stretch/>
        </p:blipFill>
        <p:spPr>
          <a:xfrm>
            <a:off x="7451640" y="0"/>
            <a:ext cx="1692360" cy="1692360"/>
          </a:xfrm>
          <a:prstGeom prst="rect">
            <a:avLst/>
          </a:prstGeom>
          <a:ln w="0">
            <a:noFill/>
          </a:ln>
        </p:spPr>
      </p:pic>
      <p:sp>
        <p:nvSpPr>
          <p:cNvPr id="625" name="Line 29"/>
          <p:cNvSpPr/>
          <p:nvPr/>
        </p:nvSpPr>
        <p:spPr>
          <a:xfrm>
            <a:off x="1332000" y="5157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27"/>
          <p:cNvSpPr/>
          <p:nvPr/>
        </p:nvSpPr>
        <p:spPr>
          <a:xfrm>
            <a:off x="2124000" y="6392880"/>
            <a:ext cx="287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7" name="Object 129"/>
              <p:cNvSpPr txBox="1"/>
              <p:nvPr/>
            </p:nvSpPr>
            <p:spPr>
              <a:xfrm>
                <a:off x="1835280" y="5300640"/>
                <a:ext cx="3664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Object 130"/>
              <p:cNvSpPr txBox="1"/>
              <p:nvPr/>
            </p:nvSpPr>
            <p:spPr>
              <a:xfrm>
                <a:off x="6227640" y="5300640"/>
                <a:ext cx="37008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Object 132"/>
              <p:cNvSpPr txBox="1"/>
              <p:nvPr/>
            </p:nvSpPr>
            <p:spPr>
              <a:xfrm>
                <a:off x="2916360" y="5229360"/>
                <a:ext cx="39528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Object 133"/>
              <p:cNvSpPr txBox="1"/>
              <p:nvPr/>
            </p:nvSpPr>
            <p:spPr>
              <a:xfrm>
                <a:off x="7164360" y="5300640"/>
                <a:ext cx="37008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31" name="Group 140"/>
          <p:cNvGrpSpPr/>
          <p:nvPr/>
        </p:nvGrpSpPr>
        <p:grpSpPr>
          <a:xfrm>
            <a:off x="1476360" y="3357720"/>
            <a:ext cx="6480360" cy="3013200"/>
            <a:chOff x="1476360" y="3357720"/>
            <a:chExt cx="6480360" cy="3013200"/>
          </a:xfrm>
        </p:grpSpPr>
        <p:grpSp>
          <p:nvGrpSpPr>
            <p:cNvPr id="632" name="Group 52"/>
            <p:cNvGrpSpPr/>
            <p:nvPr/>
          </p:nvGrpSpPr>
          <p:grpSpPr>
            <a:xfrm>
              <a:off x="2195640" y="3357720"/>
              <a:ext cx="1152360" cy="1439640"/>
              <a:chOff x="2195640" y="3357720"/>
              <a:chExt cx="1152360" cy="1439640"/>
            </a:xfrm>
          </p:grpSpPr>
          <p:grpSp>
            <p:nvGrpSpPr>
              <p:cNvPr id="633" name="Group 39"/>
              <p:cNvGrpSpPr/>
              <p:nvPr/>
            </p:nvGrpSpPr>
            <p:grpSpPr>
              <a:xfrm>
                <a:off x="2195640" y="3357720"/>
                <a:ext cx="1151280" cy="1439640"/>
                <a:chOff x="2195640" y="3357720"/>
                <a:chExt cx="1151280" cy="1439640"/>
              </a:xfrm>
            </p:grpSpPr>
            <p:grpSp>
              <p:nvGrpSpPr>
                <p:cNvPr id="634" name="Group 40"/>
                <p:cNvGrpSpPr/>
                <p:nvPr/>
              </p:nvGrpSpPr>
              <p:grpSpPr>
                <a:xfrm>
                  <a:off x="2195640" y="3357720"/>
                  <a:ext cx="1151280" cy="1439640"/>
                  <a:chOff x="2195640" y="3357720"/>
                  <a:chExt cx="1151280" cy="1439640"/>
                </a:xfrm>
              </p:grpSpPr>
              <p:sp>
                <p:nvSpPr>
                  <p:cNvPr id="635" name="Rectangle 41"/>
                  <p:cNvSpPr/>
                  <p:nvPr/>
                </p:nvSpPr>
                <p:spPr>
                  <a:xfrm>
                    <a:off x="2195640" y="3357720"/>
                    <a:ext cx="1151280" cy="14396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6" name="Line 42"/>
                  <p:cNvSpPr/>
                  <p:nvPr/>
                </p:nvSpPr>
                <p:spPr>
                  <a:xfrm>
                    <a:off x="2195640" y="3733200"/>
                    <a:ext cx="1151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7" name="Line 43"/>
                  <p:cNvSpPr/>
                  <p:nvPr/>
                </p:nvSpPr>
                <p:spPr>
                  <a:xfrm>
                    <a:off x="2195640" y="4485240"/>
                    <a:ext cx="1151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8" name="Line 44"/>
                <p:cNvSpPr/>
                <p:nvPr/>
              </p:nvSpPr>
              <p:spPr>
                <a:xfrm>
                  <a:off x="2195640" y="4108320"/>
                  <a:ext cx="1151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9" name="Rectangle 51"/>
              <p:cNvSpPr/>
              <p:nvPr/>
            </p:nvSpPr>
            <p:spPr>
              <a:xfrm>
                <a:off x="2195640" y="3357720"/>
                <a:ext cx="1152360" cy="375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0" name="Group 106"/>
            <p:cNvGrpSpPr/>
            <p:nvPr/>
          </p:nvGrpSpPr>
          <p:grpSpPr>
            <a:xfrm>
              <a:off x="6156360" y="3357720"/>
              <a:ext cx="1152360" cy="1439640"/>
              <a:chOff x="6156360" y="3357720"/>
              <a:chExt cx="1152360" cy="1439640"/>
            </a:xfrm>
          </p:grpSpPr>
          <p:grpSp>
            <p:nvGrpSpPr>
              <p:cNvPr id="641" name="Group 107"/>
              <p:cNvGrpSpPr/>
              <p:nvPr/>
            </p:nvGrpSpPr>
            <p:grpSpPr>
              <a:xfrm>
                <a:off x="6156360" y="3357720"/>
                <a:ext cx="1152360" cy="1439640"/>
                <a:chOff x="6156360" y="3357720"/>
                <a:chExt cx="1152360" cy="1439640"/>
              </a:xfrm>
            </p:grpSpPr>
            <p:grpSp>
              <p:nvGrpSpPr>
                <p:cNvPr id="642" name="Group 108"/>
                <p:cNvGrpSpPr/>
                <p:nvPr/>
              </p:nvGrpSpPr>
              <p:grpSpPr>
                <a:xfrm>
                  <a:off x="6732720" y="3357720"/>
                  <a:ext cx="576000" cy="1439640"/>
                  <a:chOff x="6732720" y="3357720"/>
                  <a:chExt cx="576000" cy="1439640"/>
                </a:xfrm>
              </p:grpSpPr>
              <p:grpSp>
                <p:nvGrpSpPr>
                  <p:cNvPr id="643" name="Group 109"/>
                  <p:cNvGrpSpPr/>
                  <p:nvPr/>
                </p:nvGrpSpPr>
                <p:grpSpPr>
                  <a:xfrm>
                    <a:off x="6732720" y="3357720"/>
                    <a:ext cx="575640" cy="1439640"/>
                    <a:chOff x="6732720" y="3357720"/>
                    <a:chExt cx="575640" cy="1439640"/>
                  </a:xfrm>
                </p:grpSpPr>
                <p:grpSp>
                  <p:nvGrpSpPr>
                    <p:cNvPr id="644" name="Group 110"/>
                    <p:cNvGrpSpPr/>
                    <p:nvPr/>
                  </p:nvGrpSpPr>
                  <p:grpSpPr>
                    <a:xfrm>
                      <a:off x="6732720" y="3357720"/>
                      <a:ext cx="575640" cy="1439640"/>
                      <a:chOff x="6732720" y="3357720"/>
                      <a:chExt cx="575640" cy="1439640"/>
                    </a:xfrm>
                  </p:grpSpPr>
                  <p:sp>
                    <p:nvSpPr>
                      <p:cNvPr id="645" name="Rectangle 111"/>
                      <p:cNvSpPr/>
                      <p:nvPr/>
                    </p:nvSpPr>
                    <p:spPr>
                      <a:xfrm>
                        <a:off x="6732720" y="3357720"/>
                        <a:ext cx="575640" cy="143964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3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6" name="Line 112"/>
                      <p:cNvSpPr/>
                      <p:nvPr/>
                    </p:nvSpPr>
                    <p:spPr>
                      <a:xfrm>
                        <a:off x="6732720" y="3733200"/>
                        <a:ext cx="5756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3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7" name="Line 113"/>
                      <p:cNvSpPr/>
                      <p:nvPr/>
                    </p:nvSpPr>
                    <p:spPr>
                      <a:xfrm>
                        <a:off x="6732720" y="4485240"/>
                        <a:ext cx="5756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3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48" name="Line 114"/>
                    <p:cNvSpPr/>
                    <p:nvPr/>
                  </p:nvSpPr>
                  <p:spPr>
                    <a:xfrm>
                      <a:off x="6732720" y="4108320"/>
                      <a:ext cx="575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49" name="Rectangle 115"/>
                  <p:cNvSpPr/>
                  <p:nvPr/>
                </p:nvSpPr>
                <p:spPr>
                  <a:xfrm>
                    <a:off x="6732720" y="3357720"/>
                    <a:ext cx="576000" cy="3754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0" name="Group 116"/>
                <p:cNvGrpSpPr/>
                <p:nvPr/>
              </p:nvGrpSpPr>
              <p:grpSpPr>
                <a:xfrm>
                  <a:off x="6156360" y="3357720"/>
                  <a:ext cx="576360" cy="1439640"/>
                  <a:chOff x="6156360" y="3357720"/>
                  <a:chExt cx="576360" cy="1439640"/>
                </a:xfrm>
              </p:grpSpPr>
              <p:grpSp>
                <p:nvGrpSpPr>
                  <p:cNvPr id="651" name="Group 117"/>
                  <p:cNvGrpSpPr/>
                  <p:nvPr/>
                </p:nvGrpSpPr>
                <p:grpSpPr>
                  <a:xfrm>
                    <a:off x="6156360" y="3357720"/>
                    <a:ext cx="576000" cy="1439640"/>
                    <a:chOff x="6156360" y="3357720"/>
                    <a:chExt cx="576000" cy="1439640"/>
                  </a:xfrm>
                </p:grpSpPr>
                <p:grpSp>
                  <p:nvGrpSpPr>
                    <p:cNvPr id="652" name="Group 118"/>
                    <p:cNvGrpSpPr/>
                    <p:nvPr/>
                  </p:nvGrpSpPr>
                  <p:grpSpPr>
                    <a:xfrm>
                      <a:off x="6156360" y="3357720"/>
                      <a:ext cx="576000" cy="1439640"/>
                      <a:chOff x="6156360" y="3357720"/>
                      <a:chExt cx="576000" cy="1439640"/>
                    </a:xfrm>
                  </p:grpSpPr>
                  <p:sp>
                    <p:nvSpPr>
                      <p:cNvPr id="653" name="Rectangle 119"/>
                      <p:cNvSpPr/>
                      <p:nvPr/>
                    </p:nvSpPr>
                    <p:spPr>
                      <a:xfrm>
                        <a:off x="6156360" y="3357720"/>
                        <a:ext cx="576000" cy="143964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3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54" name="Line 120"/>
                      <p:cNvSpPr/>
                      <p:nvPr/>
                    </p:nvSpPr>
                    <p:spPr>
                      <a:xfrm>
                        <a:off x="6156360" y="3733200"/>
                        <a:ext cx="5760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3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55" name="Line 121"/>
                      <p:cNvSpPr/>
                      <p:nvPr/>
                    </p:nvSpPr>
                    <p:spPr>
                      <a:xfrm>
                        <a:off x="6156360" y="4485240"/>
                        <a:ext cx="5760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3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56" name="Line 122"/>
                    <p:cNvSpPr/>
                    <p:nvPr/>
                  </p:nvSpPr>
                  <p:spPr>
                    <a:xfrm>
                      <a:off x="6156360" y="4108320"/>
                      <a:ext cx="576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57" name="Rectangle 123"/>
                  <p:cNvSpPr/>
                  <p:nvPr/>
                </p:nvSpPr>
                <p:spPr>
                  <a:xfrm>
                    <a:off x="6156360" y="3357720"/>
                    <a:ext cx="576360" cy="3754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58" name="Rectangle 124"/>
              <p:cNvSpPr/>
              <p:nvPr/>
            </p:nvSpPr>
            <p:spPr>
              <a:xfrm>
                <a:off x="6732720" y="3716280"/>
                <a:ext cx="576000" cy="361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9" name="Text Box 125"/>
            <p:cNvSpPr/>
            <p:nvPr/>
          </p:nvSpPr>
          <p:spPr>
            <a:xfrm>
              <a:off x="1476360" y="5302080"/>
              <a:ext cx="20876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(     )=(     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Text Box 126"/>
            <p:cNvSpPr/>
            <p:nvPr/>
          </p:nvSpPr>
          <p:spPr>
            <a:xfrm>
              <a:off x="5940360" y="5445000"/>
              <a:ext cx="201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(    )=(    )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1" name="Text Box 135"/>
          <p:cNvSpPr/>
          <p:nvPr/>
        </p:nvSpPr>
        <p:spPr>
          <a:xfrm>
            <a:off x="0" y="2349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看图写出两个分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并把通分的结果在图中表示出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Text Box 4"/>
          <p:cNvSpPr/>
          <p:nvPr/>
        </p:nvSpPr>
        <p:spPr>
          <a:xfrm>
            <a:off x="2050920" y="26028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算一算   比一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3" name="Picture 5" descr="200632622416559"/>
          <p:cNvPicPr/>
          <p:nvPr/>
        </p:nvPicPr>
        <p:blipFill>
          <a:blip r:embed="rId1"/>
          <a:stretch/>
        </p:blipFill>
        <p:spPr>
          <a:xfrm>
            <a:off x="7273800" y="0"/>
            <a:ext cx="1870200" cy="1870200"/>
          </a:xfrm>
          <a:prstGeom prst="rect">
            <a:avLst/>
          </a:prstGeom>
          <a:ln w="0">
            <a:noFill/>
          </a:ln>
        </p:spPr>
      </p:pic>
      <p:sp>
        <p:nvSpPr>
          <p:cNvPr id="664" name="Text Box 6"/>
          <p:cNvSpPr/>
          <p:nvPr/>
        </p:nvSpPr>
        <p:spPr>
          <a:xfrm>
            <a:off x="0" y="90792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把每组中的分数通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再比较它们的大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Group 24"/>
          <p:cNvGrpSpPr/>
          <p:nvPr/>
        </p:nvGrpSpPr>
        <p:grpSpPr>
          <a:xfrm>
            <a:off x="1116000" y="1773360"/>
            <a:ext cx="5545080" cy="1008000"/>
            <a:chOff x="1116000" y="1773360"/>
            <a:chExt cx="5545080" cy="1008000"/>
          </a:xfrm>
        </p:grpSpPr>
        <mc:AlternateContent>
          <mc:Choice xmlns:a14="http://schemas.microsoft.com/office/drawing/2010/main" Requires="a14">
            <p:sp>
              <p:nvSpPr>
                <p:cNvPr id="666" name="Object 9"/>
                <p:cNvSpPr txBox="1"/>
                <p:nvPr/>
              </p:nvSpPr>
              <p:spPr>
                <a:xfrm>
                  <a:off x="3203640" y="1773360"/>
                  <a:ext cx="1152360" cy="90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  <m:r>
                        <m:t xml:space="preserve">和</m:t>
                      </m:r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67" name="Object 10"/>
                <p:cNvSpPr txBox="1"/>
                <p:nvPr/>
              </p:nvSpPr>
              <p:spPr>
                <a:xfrm>
                  <a:off x="1116000" y="1773360"/>
                  <a:ext cx="936720" cy="100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和</m:t>
                      </m:r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68" name="Object 11"/>
                <p:cNvSpPr txBox="1"/>
                <p:nvPr/>
              </p:nvSpPr>
              <p:spPr>
                <a:xfrm>
                  <a:off x="5508720" y="1773360"/>
                  <a:ext cx="1152360" cy="92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  <m:r>
                        <m:t xml:space="preserve">和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69" name="Text Box 12"/>
          <p:cNvSpPr/>
          <p:nvPr/>
        </p:nvSpPr>
        <p:spPr>
          <a:xfrm>
            <a:off x="539640" y="3716280"/>
            <a:ext cx="698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0" name="Group 26"/>
          <p:cNvGrpSpPr/>
          <p:nvPr/>
        </p:nvGrpSpPr>
        <p:grpSpPr>
          <a:xfrm>
            <a:off x="250920" y="3141720"/>
            <a:ext cx="8497800" cy="3716280"/>
            <a:chOff x="250920" y="3141720"/>
            <a:chExt cx="8497800" cy="3716280"/>
          </a:xfrm>
        </p:grpSpPr>
        <p:sp>
          <p:nvSpPr>
            <p:cNvPr id="671" name="Text Box 13"/>
            <p:cNvSpPr/>
            <p:nvPr/>
          </p:nvSpPr>
          <p:spPr>
            <a:xfrm>
              <a:off x="250920" y="3141720"/>
              <a:ext cx="849780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2.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下面哪组分数的通分是对的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哪组不对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哪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不够简单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?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Text Box 17"/>
            <p:cNvSpPr/>
            <p:nvPr/>
          </p:nvSpPr>
          <p:spPr>
            <a:xfrm>
              <a:off x="250920" y="4724280"/>
              <a:ext cx="6490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(1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Text Box 18"/>
            <p:cNvSpPr/>
            <p:nvPr/>
          </p:nvSpPr>
          <p:spPr>
            <a:xfrm>
              <a:off x="2916360" y="4724280"/>
              <a:ext cx="1293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Text Box 21"/>
            <p:cNvSpPr/>
            <p:nvPr/>
          </p:nvSpPr>
          <p:spPr>
            <a:xfrm>
              <a:off x="5867280" y="4653000"/>
              <a:ext cx="151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(3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5" name="Object 15"/>
                <p:cNvSpPr txBox="1"/>
                <p:nvPr/>
              </p:nvSpPr>
              <p:spPr>
                <a:xfrm>
                  <a:off x="1187280" y="4653000"/>
                  <a:ext cx="1151280" cy="923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76" name="Object 16"/>
                <p:cNvSpPr txBox="1"/>
                <p:nvPr/>
              </p:nvSpPr>
              <p:spPr>
                <a:xfrm>
                  <a:off x="1187280" y="5873760"/>
                  <a:ext cx="1224000" cy="98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77" name="Object 19"/>
                <p:cNvSpPr txBox="1"/>
                <p:nvPr/>
              </p:nvSpPr>
              <p:spPr>
                <a:xfrm>
                  <a:off x="3924360" y="4653000"/>
                  <a:ext cx="1152360" cy="92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3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78" name="Object 20"/>
                <p:cNvSpPr txBox="1"/>
                <p:nvPr/>
              </p:nvSpPr>
              <p:spPr>
                <a:xfrm>
                  <a:off x="3851280" y="5661000"/>
                  <a:ext cx="1224000" cy="98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3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79" name="Object 22"/>
                <p:cNvSpPr txBox="1"/>
                <p:nvPr/>
              </p:nvSpPr>
              <p:spPr>
                <a:xfrm>
                  <a:off x="7020000" y="4581360"/>
                  <a:ext cx="1224000" cy="98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80" name="Object 23"/>
                <p:cNvSpPr txBox="1"/>
                <p:nvPr/>
              </p:nvSpPr>
              <p:spPr>
                <a:xfrm>
                  <a:off x="7020000" y="5589720"/>
                  <a:ext cx="1297080" cy="104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Picture 5" descr="200632622416559"/>
          <p:cNvPicPr/>
          <p:nvPr/>
        </p:nvPicPr>
        <p:blipFill>
          <a:blip r:embed="rId1"/>
          <a:stretch/>
        </p:blipFill>
        <p:spPr>
          <a:xfrm>
            <a:off x="7596360" y="0"/>
            <a:ext cx="1547640" cy="1547640"/>
          </a:xfrm>
          <a:prstGeom prst="rect">
            <a:avLst/>
          </a:prstGeom>
          <a:ln w="0">
            <a:noFill/>
          </a:ln>
        </p:spPr>
      </p:pic>
      <p:sp>
        <p:nvSpPr>
          <p:cNvPr id="682" name="Text Box 11"/>
          <p:cNvSpPr/>
          <p:nvPr/>
        </p:nvSpPr>
        <p:spPr>
          <a:xfrm>
            <a:off x="2700360" y="0"/>
            <a:ext cx="30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试一试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12"/>
          <p:cNvSpPr/>
          <p:nvPr/>
        </p:nvSpPr>
        <p:spPr>
          <a:xfrm>
            <a:off x="0" y="549360"/>
            <a:ext cx="26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一填空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24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5" name="Object 25"/>
              <p:cNvSpPr txBox="1"/>
              <p:nvPr/>
            </p:nvSpPr>
            <p:spPr>
              <a:xfrm>
                <a:off x="7020000" y="1052640"/>
                <a:ext cx="11592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86" name="Text Box 39"/>
          <p:cNvSpPr/>
          <p:nvPr/>
        </p:nvSpPr>
        <p:spPr>
          <a:xfrm>
            <a:off x="1835280" y="3860640"/>
            <a:ext cx="597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40"/>
          <p:cNvSpPr/>
          <p:nvPr/>
        </p:nvSpPr>
        <p:spPr>
          <a:xfrm>
            <a:off x="1763640" y="3546360"/>
            <a:ext cx="540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41"/>
          <p:cNvSpPr/>
          <p:nvPr/>
        </p:nvSpPr>
        <p:spPr>
          <a:xfrm>
            <a:off x="3616200" y="3762360"/>
            <a:ext cx="35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9" name="Object 43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90" name="Text Box 47"/>
          <p:cNvSpPr/>
          <p:nvPr/>
        </p:nvSpPr>
        <p:spPr>
          <a:xfrm>
            <a:off x="0" y="153360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把异分母分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           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化成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              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相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              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叫做通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48"/>
          <p:cNvSpPr/>
          <p:nvPr/>
        </p:nvSpPr>
        <p:spPr>
          <a:xfrm>
            <a:off x="1519920" y="2565360"/>
            <a:ext cx="588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通分时选用的公分母一般是原来几个分母的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           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49"/>
          <p:cNvSpPr/>
          <p:nvPr/>
        </p:nvSpPr>
        <p:spPr>
          <a:xfrm>
            <a:off x="468360" y="4869000"/>
            <a:ext cx="1839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50"/>
          <p:cNvSpPr/>
          <p:nvPr/>
        </p:nvSpPr>
        <p:spPr>
          <a:xfrm>
            <a:off x="1248840" y="3716280"/>
            <a:ext cx="680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通分的方法先求出原来几个分母的（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然后把各分数分别化成用这个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                  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作分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分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51"/>
          <p:cNvSpPr/>
          <p:nvPr/>
        </p:nvSpPr>
        <p:spPr>
          <a:xfrm>
            <a:off x="0" y="5157720"/>
            <a:ext cx="18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52"/>
          <p:cNvSpPr/>
          <p:nvPr/>
        </p:nvSpPr>
        <p:spPr>
          <a:xfrm>
            <a:off x="788040" y="5157720"/>
            <a:ext cx="771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通分的依据（                                      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53"/>
          <p:cNvSpPr/>
          <p:nvPr/>
        </p:nvSpPr>
        <p:spPr>
          <a:xfrm>
            <a:off x="3367800" y="1484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分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54"/>
          <p:cNvSpPr/>
          <p:nvPr/>
        </p:nvSpPr>
        <p:spPr>
          <a:xfrm>
            <a:off x="6194160" y="1484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原来分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55"/>
          <p:cNvSpPr/>
          <p:nvPr/>
        </p:nvSpPr>
        <p:spPr>
          <a:xfrm>
            <a:off x="1258920" y="206064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56"/>
          <p:cNvSpPr/>
          <p:nvPr/>
        </p:nvSpPr>
        <p:spPr>
          <a:xfrm>
            <a:off x="1001160" y="1989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同分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57"/>
          <p:cNvSpPr/>
          <p:nvPr/>
        </p:nvSpPr>
        <p:spPr>
          <a:xfrm>
            <a:off x="1163520" y="30686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最小公倍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58"/>
          <p:cNvSpPr/>
          <p:nvPr/>
        </p:nvSpPr>
        <p:spPr>
          <a:xfrm>
            <a:off x="7335720" y="37162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最小公倍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59"/>
          <p:cNvSpPr/>
          <p:nvPr/>
        </p:nvSpPr>
        <p:spPr>
          <a:xfrm>
            <a:off x="5916600" y="42926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最小公倍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61"/>
          <p:cNvSpPr/>
          <p:nvPr/>
        </p:nvSpPr>
        <p:spPr>
          <a:xfrm>
            <a:off x="4062960" y="515772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分数的基本性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64"/>
          <p:cNvSpPr/>
          <p:nvPr/>
        </p:nvSpPr>
        <p:spPr>
          <a:xfrm>
            <a:off x="1138680" y="5791320"/>
            <a:ext cx="693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通分的目的是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   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母的分数化成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    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母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65"/>
          <p:cNvSpPr/>
          <p:nvPr/>
        </p:nvSpPr>
        <p:spPr>
          <a:xfrm>
            <a:off x="3502440" y="5805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66"/>
          <p:cNvSpPr/>
          <p:nvPr/>
        </p:nvSpPr>
        <p:spPr>
          <a:xfrm>
            <a:off x="7175880" y="5805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7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0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0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5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5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2T06:19:17Z</dcterms:created>
  <dc:creator>Liiang</dc:creator>
  <dc:description/>
  <dc:language>en-US</dc:language>
  <cp:lastModifiedBy>a</cp:lastModifiedBy>
  <dcterms:modified xsi:type="dcterms:W3CDTF">2015-03-18T05:57:45Z</dcterms:modified>
  <cp:revision>119</cp:revision>
  <dc:subject/>
  <dc:title>幻灯片 1</dc:title>
</cp:coreProperties>
</file>