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178-E34E-4B92-B413-E91B357F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B9D-AA6A-4150-844F-2CB0F3E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533E9-8299-4F80-B1AB-E3681A4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5EF6B-C590-4364-9546-71F3084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AC85-E5FE-4028-911A-906DFA4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1A2D0-7BF0-4519-BD46-C0A5C50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B28EF-8DCE-4891-9554-70C19E2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04C2F-DA24-4DC2-9589-E26F1D6E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216CE-EB4F-4B89-A1C5-E0D24F3E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03089-D7A5-4411-9CC0-35B7811D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8997-1908-4B52-ABD6-85E9233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AB8E-2A14-4120-AD9E-1625D11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412-2378-4C14-850D-FC389F4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A9365-6755-499A-A8ED-E560A440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1FF19-8865-42C3-978F-752D2D5C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6F086-E253-4748-A8BF-34883EC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EF49-8515-458E-8407-25851BDD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3857C-6DBC-476B-A664-6820762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2B3F-192D-4441-ADB5-D7D9D38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F5EF-9A20-464C-9C19-779D3E2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00D79-3F93-4818-B818-A3CD5AF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CB2AA-CB24-48DC-A4D8-2C674A3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22FC8-E35E-4993-81A4-9AF1A70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AFE-01B8-41D5-A9E4-DCADF712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6193A-4D89-4D65-BD55-F269FF2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95B7D-1A6F-471C-93A5-D67EC161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ED169-5C89-40E4-B7DD-9CF4DF4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1052-C32D-45B8-BE81-5E7769A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B949A-9953-451D-91AD-4809DC1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4779D-04DF-490A-8885-A880A8A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40E29-B331-485E-8B69-45FFF320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E338-6A76-41ED-A850-D6D16EE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810E1-B5D5-467C-AD46-8A424AD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16476-E076-477A-BAE2-2C76AC4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3D9-3289-4DD8-B40A-7F90B299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602B7-0E27-464F-816F-634CAC4E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21E7F-6B94-407D-A4F5-D7DDA951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D8C7-6250-4DEC-A67E-FDD44EEA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7DB4-F8FF-4A23-8B80-00A97C3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5F642-D46C-4166-9902-A8629AE1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0EF3-F472-4549-8435-15F70FF3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9ACAD-B175-4459-A9D5-D785822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61F53-E635-4752-B531-6394F50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B0BF4-E87C-469B-8370-984FD220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6EBCD-DAE3-46EE-BE2D-81245E2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84F2-ACE8-4EEC-BD80-7F9B869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CDEA9-6737-4818-9CF1-CC7231E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60FC9-FF93-4AEB-9141-0EED195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EA62-A302-4EA0-A4ED-9357BB1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08142-31D7-4ED5-9F0D-D7E9F40D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D5C53-4132-48A3-B13E-399DEC77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7173E-BDC8-44AB-888F-B7C5E4CF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7465A-E047-49B6-836D-60CBBE20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723E8-A4FA-4DC1-8AF9-69DE16B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8E6EB-CA97-4201-83EC-D45CBE94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1C05D-EBB3-432D-B5CB-EE3E97F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DBF9-E7A0-459C-A40B-53878AC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449D5-2F91-4FAE-97F2-0C053129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EA2B6-977E-44C6-B1DE-8821093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DCA52-FE7A-40C6-A935-1CA2C94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785B5-4279-4FD6-B19F-DAD8F4D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F9B66-B2C3-40B6-8B39-6898ACC3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97102-50D4-4943-8558-0F1F551B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F7FBF-36EE-4C24-BA07-6823FDAE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C5C08-D673-4CAD-89B6-5B9AE3FA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49B0E-022F-454F-A7B6-9AFA135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F328B-5531-4F99-B456-7B0927A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5D2E-0B8F-49EE-9362-4242AE7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18A22-4894-4534-82AE-2E2B697F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F6225-50B9-4DD4-AC7D-3AB59FC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10430-367A-4C25-A04C-B2280F7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B1105-207E-4013-836D-8FC8613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9FB28-90C1-4061-AF66-292056E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D2970-9CCF-4B29-9166-CBB7E33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28EDF-91FB-4F3E-A51E-7A45DBC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3A747-E465-455D-A84B-A30EEF2D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11EE6-6058-49B5-B6CE-D337AE05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87EE-D537-4664-80EB-A26696C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9149-BAEC-4B0D-BA6E-FB7E4DC1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82F9-E062-4CBD-99D8-CCA3B4C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7FB-3471-4B86-AF9C-EFCD7617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A56-59CB-40A1-9E74-B3C1B13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57C-0A30-4E4E-BA98-88B4EF7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71A-35EF-41C9-A2E8-102116B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BC0D-44C8-4676-BEDC-B84CC009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FF6-3867-4FA4-A552-7128F281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E9A5-6A9B-4188-81B1-262A39E2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C9D6-8886-4EDC-8C45-8DE3EFA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1E19-73D1-4B6F-8FED-3F04CDDB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1205-A82A-4DF2-890F-E4B7CBE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AB9C-EA57-4417-8B75-9B2B72AE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048-7159-4DDD-8E41-137CD209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2F54-5D4B-4685-A22C-3CFCBA3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B1F4-C520-4893-96DF-F058CEB2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467A-D8A6-48DF-A3DA-079619E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E451-CE25-48B2-9CE3-38E83FB7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2B2F-E3BF-4C0A-A6EE-3D88F447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9BD2-A7D2-4CF3-8982-A0C2F06F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677C-7D50-4673-AFC3-C732C550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1F14-6AA3-499C-BB69-1F1F1E7D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9B4A-8104-492C-977D-4FA78A78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5CFF-5362-4552-803C-F35BFEE1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649-4115-4D32-9AE6-09FDA36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DE67-6F44-4958-B48A-DDC65BC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C377-F077-4114-B9B3-8A27F844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1463-CBBF-452D-8110-A486517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1505-48ED-4704-BC11-187B69D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EF21-C317-41AD-A452-3A93098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8400-7565-4D81-9834-FBD3ED8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AB22-FD29-4775-8248-F52AEB98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0407-41F3-4D14-960D-AD9C2EBD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2D15-19F7-4E04-80C1-E4878FA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21ED-D002-4E15-B337-E8B2ED1F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FA2-2F1A-4B8B-B86A-87B9FCC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7322-83B0-41B5-A5FA-6CDCE1D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51C8-05F9-4AC9-BA6E-83D3152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5A51-1DEB-4032-90D9-8295F16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C746-8A60-45D8-8221-85F78E4D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D43C-7DD5-46C0-8831-3FCAF6E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9114-A3EC-4171-A2EF-9E08531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C9790-CDF2-4C52-98C0-A5291E7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19A6-E692-40A7-80D2-8B112B3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C904-D3C8-4D21-9E54-D75B06D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731F-F633-4644-B527-293F996D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034-0888-4D7D-B20C-0C947EA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1DFD-4B4E-4EA5-9129-55C0B0A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FD871-FC0F-42CC-A91B-09AD6B9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0FF2-B97A-46C8-A757-5F2F66D0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46598-AEF1-421F-96D5-29E5D4F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4A6D-D269-45B6-9D93-EEFF697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5AC4-DCCA-4B81-B486-D9F2AC1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32DA-7FC5-40A5-B722-9A2FC38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4E3F-EC55-45BA-8D2B-F98F4A6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A3FF-8963-429C-A1CE-DDB5934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B4AF-63CC-4D8F-BBB4-FBC04FD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826-D6AF-49C4-9B1B-56EF364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4516-6BA5-42AD-8290-71153BA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69402-7123-47BD-A47D-11A671AC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225E-B915-43E1-938F-59C1DB87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0A42-B064-4852-A7D2-260FBDC4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FB5F6-20D6-482F-B5EF-A10CCE0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A5A3-F522-4475-A41E-6C69A0B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D796D-A1EC-48AA-94B9-3E08862F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C5537-BAA8-4405-B596-5209C3E9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5FCCB-3DEF-41DD-854B-C651796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C7B67-7CA9-48FD-A8C4-9B023FE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F22-DC3E-4D6D-B639-5C1C80F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4E89-8950-4690-9CBE-76A3581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A07BE-0F29-41A1-A46C-B419C82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E8F8-3105-42D9-A14D-7D3C6BE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72E6-69CC-4477-9347-4AA4A888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F790-7D52-4C4D-AC19-F9A98A30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E458-B7A7-48B1-A5A0-AE9B00DE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5785F-2858-441D-A317-49C72C0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B12A8-7C34-4F23-929D-21D0526E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54CD0-780C-423B-A787-819DC3B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6FA25-8947-4072-BF8D-FC0FF19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079-AE97-4377-9AF8-440C1604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090B3-52E6-4973-89CA-7F2B3F2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A96D-8FD4-4AA4-B80E-853E71A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7240-7AC2-498E-A52F-3ABAEB3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ACA1-7F8B-4667-97B8-9E62977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54D23-BACC-4D24-895D-D1133C5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4DB0-C3D9-44B8-9250-8C3802BE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6F218-4C60-4B73-9B50-4C2EA1C2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1943-A461-433B-88F4-CBA70D8D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B55F-77B6-4878-9AE7-DB4D399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1D931-216A-419C-B2EA-02697131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307-2B85-4B89-B188-642DEE1A3B0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FC92-6B9A-4951-B3F9-F3C07D02FD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2BC-2A71-4FC0-88E5-130039D06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7C1-F5ED-4984-83C8-B60845AC6E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7618-4B20-4281-B4DE-D564E7047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108-EE58-46B7-BDD4-9A0B78C405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C28D-FA6F-4750-AF8B-917F36B9E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6B58-6A4A-4E12-B392-267864E4C9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082-E688-405B-A297-2CFB83DB4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289-2EA0-49CC-B62F-669F4DC2F4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A69-14F6-43BB-933F-B4851D0B8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D77-4216-452A-B44D-D29D6D077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8A80-DDB3-493D-ADB6-2CDACF9C9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7FF-7493-413F-8CE9-08E04B29EDC6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B01-5013-48E1-A72A-38F10C1C98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40E-16A0-40A7-926A-3642BA1E51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8DC-7078-4A9E-AA2A-433CF559AF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712-232C-4702-B650-8EA7B13896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5D9-9823-4E64-A88C-B52DE23994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44B4-6C8B-4FE1-813F-BF9BBAFB2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DE5-D2BC-4F26-BB5E-2E975D0FDE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56A-6946-40BC-AD5A-4B40C2C769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5AB6-BBF3-4632-850E-F3B9E3298E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CA3-60C1-4D31-AA62-8A30E53C52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86A-F0B7-4E22-B4E7-DB503AB23A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4D7-D283-4E45-B87A-0B915718A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D:\数据库\四年级\第五单元\19.陶罐和铁罐\chatu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3"/>
          <p:cNvGrpSpPr/>
          <p:nvPr/>
        </p:nvGrpSpPr>
        <p:grpSpPr>
          <a:xfrm>
            <a:off x="2971800" y="1905120"/>
            <a:ext cx="5867280" cy="4040280"/>
            <a:chOff x="2971800" y="1905120"/>
            <a:chExt cx="5867280" cy="4040280"/>
          </a:xfrm>
        </p:grpSpPr>
        <p:sp>
          <p:nvSpPr>
            <p:cNvPr id="585" name="Text Box 4"/>
            <p:cNvSpPr/>
            <p:nvPr/>
          </p:nvSpPr>
          <p:spPr>
            <a:xfrm>
              <a:off x="6553080" y="440388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陶罐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4648320" y="190512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ac164"/>
                  </a:solidFill>
                  <a:latin typeface="Times New Roman"/>
                </a:rPr>
                <a:t>和</a:t>
              </a:r>
              <a:endParaRPr b="0" lang="en-US" sz="8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2971800" y="493704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铁罐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2"/>
          <p:cNvSpPr txBox="1"/>
          <p:nvPr/>
        </p:nvSpPr>
        <p:spPr>
          <a:xfrm>
            <a:off x="2209680" y="685800"/>
            <a:ext cx="45435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华文细黑"/>
              </a:rPr>
              <a:t>自读课文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华文细黑"/>
              <a:ea typeface="华文细黑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190520" y="3819600"/>
            <a:ext cx="71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114300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要求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1752480" y="2590920"/>
            <a:ext cx="6477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读准字音，画出生字词，联系上下文理解词的意思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课文围绕陶罐和铁罐讲了一件什么事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752480" y="1600200"/>
            <a:ext cx="617220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陶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罐     骄傲     懦弱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谦虚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住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嘴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吵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架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感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到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捧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着     傲慢     神气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恼怒 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理会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荒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凉     惊讶     光洁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朴素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价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值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 兴奋      奚落     轻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够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受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相提并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91440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，认一认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371600" y="4495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和你在一起，我感到羞耻，你算什么东西！”铁罐                                            说，“走着瞧吧，总有一天，我要把你碰成碎片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106668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铁罐说的话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600200" y="1143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你敢碰我吗？陶罐子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傲慢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447920" y="190512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就知道你不敢，懦弱的东西！”铁罐说，带着更加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轻蔑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的神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1447920" y="289548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住嘴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恼怒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了，“你怎么敢和我相提并论！你等着吧，要不了几天，你就会破成碎片，我却永远在这里，什么也不怕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1523880" y="4800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蛮不讲理、怒不可遏地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828800" y="5105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不再理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铁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21932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陶罐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话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7524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敢，铁罐兄弟。”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谦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回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22096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陶罐争辩说，“我们生来就是盛东西的，并不是来互相碰撞的。说到盛东西，我不见得比你差。再说…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676520" y="3886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何必这样说呢？”陶罐说，“我们还是和睦相处吧，有什么可吵的呢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371600" y="1066680"/>
            <a:ext cx="72388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你敢碰我吗？陶罐子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敢，铁罐兄弟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我就知道你不敢，懦弱的东西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 “我们生来就是盛东西的，并不是来互相碰撞的。说到盛东西，我不见得比你差。再说……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住嘴！” “你怎么敢和我相提并论！你等着吧，要不了几天，你就会破成碎片，我却永远在这里，什么也不怕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何必这样说呢？”“我们还是和睦相处吧，有什么可吵的呢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和你在一起，我感到羞耻，你算什么东西！” “走着瞧吧，总有一天，我要把你碰成碎片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陶罐不再理会铁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12952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陶罐和铁罐的对话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1026"/>
          <p:cNvSpPr txBox="1"/>
          <p:nvPr/>
        </p:nvSpPr>
        <p:spPr>
          <a:xfrm>
            <a:off x="1447920" y="609480"/>
            <a:ext cx="260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我能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08" name="Picture 1027" descr="D:\2003下学期\插图\0001.gif"/>
          <p:cNvPicPr/>
          <p:nvPr/>
        </p:nvPicPr>
        <p:blipFill>
          <a:blip r:embed="rId3"/>
          <a:stretch/>
        </p:blipFill>
        <p:spPr>
          <a:xfrm>
            <a:off x="6934320" y="533520"/>
            <a:ext cx="1861920" cy="20746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8"/>
          <p:cNvSpPr/>
          <p:nvPr/>
        </p:nvSpPr>
        <p:spPr>
          <a:xfrm>
            <a:off x="1066680" y="1981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真读读描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陶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句子，边读边想他们的样子，小组合作，根据课文的描写，画出铁罐和陶罐的样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Text Box 1029"/>
          <p:cNvSpPr/>
          <p:nvPr/>
        </p:nvSpPr>
        <p:spPr>
          <a:xfrm>
            <a:off x="1066680" y="44197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罐：“傲慢”    “轻蔑”     “恼怒”     “蛮不讲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陶罐：“谦虚”      “不再理会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WordArt 2"/>
          <p:cNvSpPr txBox="1"/>
          <p:nvPr/>
        </p:nvSpPr>
        <p:spPr>
          <a:xfrm>
            <a:off x="2286000" y="609480"/>
            <a:ext cx="38098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pic>
        <p:nvPicPr>
          <p:cNvPr id="612" name="Picture 3" descr="D:\2003下学期\4nianjishuangwenban\pic\drf011.gif"/>
          <p:cNvPicPr/>
          <p:nvPr/>
        </p:nvPicPr>
        <p:blipFill>
          <a:blip r:embed="rId1"/>
          <a:stretch/>
        </p:blipFill>
        <p:spPr>
          <a:xfrm>
            <a:off x="7391520" y="609480"/>
            <a:ext cx="825480" cy="9907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54800" y="2209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573440" y="4952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905120" y="2209680"/>
            <a:ext cx="548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铁罐说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828800" y="32767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陶罐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190512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自己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343400" y="266688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4267080" y="3733920"/>
            <a:ext cx="3048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4267080" y="5029200"/>
            <a:ext cx="32004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WordArt 2"/>
          <p:cNvSpPr txBox="1"/>
          <p:nvPr/>
        </p:nvSpPr>
        <p:spPr>
          <a:xfrm>
            <a:off x="3352680" y="533520"/>
            <a:ext cx="4038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latin typeface="隶书"/>
              </a:rPr>
              <a:t>好话送给你</a:t>
            </a:r>
            <a:endParaRPr b="1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latin typeface="隶书"/>
              <a:ea typeface="隶书"/>
            </a:endParaRPr>
          </a:p>
        </p:txBody>
      </p:sp>
      <p:pic>
        <p:nvPicPr>
          <p:cNvPr id="622" name="Picture 3" descr="D:\2003下学期\4nianjishuangwenban\pic\gaofeng520.gif"/>
          <p:cNvPicPr/>
          <p:nvPr/>
        </p:nvPicPr>
        <p:blipFill>
          <a:blip r:embed="rId1"/>
          <a:stretch/>
        </p:blipFill>
        <p:spPr>
          <a:xfrm>
            <a:off x="1447920" y="0"/>
            <a:ext cx="1371600" cy="10159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3395520" y="222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尺有所短，寸有所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4707000" y="350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眼看别人的优点，右眼看自己的缺点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3729960" y="527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你们能学着也写一句格言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50:08Z</dcterms:modified>
  <cp:revision>29</cp:revision>
  <dc:subject/>
  <dc:title>PowerPoint Presentation</dc:title>
</cp:coreProperties>
</file>