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9F8-7135-4AFB-885C-7EECD882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4A2-9262-4786-896A-6B20636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1C44E-56A9-41B0-A261-C366189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7EF49-E7D6-42D8-8ACA-61E19555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5CC4E-2C67-4114-A5DA-5246E71C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2EFE8-9608-4F13-86B6-E7C6C736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E0F2A-2906-4D9B-9C51-5921833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15B71-41EC-4D7F-B2DE-660F9247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FDC9F-0820-4BFA-928E-09AC8384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0E02D-C8B1-4712-9080-1C2E30B4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AE665-FC19-48EA-8976-341748DE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5B9C7-8970-44BB-8941-53ACF469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499-3B7A-4A9A-9EF5-42EEE423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64512-671D-4669-943C-2BA25AD4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8E0F3-D391-4E60-8D06-472D42EB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42EF4-E4F6-40F3-BFD6-CA99BE74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7B9D4-CCBF-4092-8071-06950F8D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B4058-1C11-48F3-B8D6-1AA77B8D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8BCE2-ADA2-4C60-8ECB-C0D4AFA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87EC7-0EF9-4F3F-B14C-ACC555B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91C6B-8724-4866-AB86-2EC859A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73359-C1CC-48B6-9E8E-855CDE3E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15763-7A00-4222-83E0-A9963FF3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3E1-274E-496A-91A3-DC0ADFC6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11D0B-EB1B-4762-A503-5E62F688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512C2-7178-4229-B758-99545CE8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63B2E-A55F-4E4C-9B45-AF1F8603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B501C-0142-4BBD-B94D-1DEFF604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BF05B-D10A-4E35-82FE-A9335FA1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AD59B-CC3C-444E-994A-7F98DEAB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ACFDE-2654-47B1-928B-797D252B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83761-8918-4705-925D-412000F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43498-5B38-443D-A48B-1A6A2B5B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6F753-586F-44E8-B964-5A6339D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C471-EC2D-491C-83CB-6530C9C6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1E3CA-6DC0-4E92-A9B8-1B58F63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4DF1B-9FE3-4149-AFE1-0D459D08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941F8-A31F-4AB0-9AA1-6D0EE0F9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0A81C-E662-4592-B9A5-14888BD9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91A5B-4F4A-4BAD-9E31-50990560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534D2-E6DF-44F3-BDCD-9226567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CD221-6141-4B96-A319-0AB18A1F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3AA0A-D95A-4885-804B-14B4E2F8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63A77-FCF5-4E1C-8659-DFDD9B33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EE9EA-920A-4571-BA85-E1EBE21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B7FA-C329-40EE-B002-16722040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F74D1-A310-466E-B607-1B74336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1E810-613B-47E0-B3DD-B70B3DE3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3B28E-77E6-4786-82DD-6ED76EC0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5BE02-2DDD-47D1-8726-EC79BF90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5BF14-2E71-4FF1-A8E0-A95CF9A8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7689B-0749-4CE1-B5E0-45B5F314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3CB28-C3E3-41D0-92C3-59896D99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D0E4F-3E3D-47CE-B63E-87BD26D2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9714B-BDEE-42DB-BC3F-1437EA9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C3279-DABF-47CC-9B5E-79A10F56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D468-7B14-479E-A4B5-1543ECAB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1D70A-7B9A-47D5-967A-F62DC4FE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9C389-DF71-495E-A4B4-CF2D095E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26C90-8E14-41BD-9956-BE054C1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F2074-15D0-4E41-A5BF-3BF8ECC7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20B9E-4888-4712-9B50-98A4270A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FDEAD-F3AC-474F-8270-89A39564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F9D4F-E472-418F-B345-3386D36F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520E9-B466-4A32-AC83-682DF222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7F1F6-D04A-42E2-BE97-1D23ABBA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5FD0A-4A72-4AE3-A57E-CA19086F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C06-4056-40DE-B9E2-89DDE693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A5C43-1017-49EC-B374-7B9B4CBF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F95CE-C266-45F5-ABA8-F48E470C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9A596-CA01-49D0-A71B-A44AB57E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D45DF-F159-4CE9-843D-66A14D75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CEE6F-9A15-4EFF-A8AC-1B867135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6CFDE-2D4D-4A69-8E16-29782573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51D5E-1D39-4F75-9DAD-D2249031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80274-F4B1-4B70-BFF4-F3E041D2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7B6D6-D682-4AB5-998B-03835531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2115-2DCC-4E6C-9E38-6CA56B5D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2C1A-5CC8-421E-BDB4-E0E6B0B4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B86D-276F-4BCB-857B-BFB77ABB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163-A8CE-458E-A84A-B5FC9908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54E4-D325-4019-8D9C-8E5588DA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0F16-F48C-42EC-8CDF-3D2F0AD1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6484-1AB7-4857-AE32-810A27AC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4484-E23F-467C-997E-28489E8D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FCA6-63BA-4001-9FFF-B9FB379D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F356-6BFB-4B7D-A0D7-EC700FCC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99FD-224B-48DC-AECC-7B5FF0E0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C715-1D51-496C-9787-B7D2FE7C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8B23-B823-43FB-A2F7-39453BB0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56AE-EF69-4E79-BBC1-93DE47F0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A5B-55AF-4D64-A09D-9A6D148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71D2-F174-4223-A513-B20AE5D5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923E-E2B3-4980-A8FC-C04D51AB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F2F3-9431-435F-A4D5-5CD0C6E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57B6-F716-4928-9DC3-8022B45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8949-EC7D-4D26-A9AC-4C3F5A86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60D1-1F0A-4755-81B0-A8D860DA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86AF-37BA-48EA-BC18-96135FE4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6332-3437-4A2F-B48F-01B1182B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BD6B-6B83-4FB8-8D39-2EFF7399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E188-2C5E-4AF7-B436-CF3E75CE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36B-F71D-4B15-BAAE-6DFA8A29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22A3-372F-491C-B0A1-0DCEBE28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1AB81-6AD9-49DD-97AB-8E385F81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F34F-534C-4B25-91D6-2F2B89A7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E47B-963D-4D4D-BDFF-B63DA7C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30DD-568C-48E4-ABA3-7D8B8FBD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70C8-199C-4C81-9433-8C9FF64E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2DD3-B7E8-4E6E-A350-C2277622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4826-57D3-4FF4-827B-08FEC522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7283-FF23-4333-ABB0-B38C537E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8CE14-16C1-4AD0-9054-A105053C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C50-3CC6-4C0B-9F37-F337313D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6253-E8B0-4FBB-98F7-17119664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0C198-A293-45EB-9AD5-4627F672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4ECF-78E6-4B1F-897A-C02FCFEF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83171-94B9-4A4C-94B1-EBA0BFEA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8FF8-8582-481E-87E6-5B9882AD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63F9-DD35-465A-BDC5-6E189925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3317B-5656-41F2-B74F-13B2547B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8ECA5-F42A-4C7D-BC67-73FA6EB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5EE1-D681-4FCA-933C-EE53083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51312-B3B9-4105-B3E1-822A8994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6C9-B4C4-47B1-BC37-7BF3F7A5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A274D-D967-4D1F-BB82-9CBF4EAF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4F4CB-4478-45A1-9247-E1BAA290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0A04-3368-453D-B2A6-62692EE7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495EC-CF74-4B17-844B-7558BC16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532BD-6D04-43F2-A6D6-10F9754F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A1524-5A18-43EB-986C-048FE046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66A41-454F-48C9-8AA9-970D7C49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144EE-B99A-4F2B-A5DC-DF13DC9F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595B6-BE47-488D-BB3C-0743B75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FF4CB-E4CA-4D82-B64D-3F14E2B3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79E-087C-415C-8272-0517BDF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5B38-42DC-423A-B518-5D6E9837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4126B-E73A-4D6F-B92B-CF0D6BD5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9AD4B-1BBA-46CB-934B-53C84ED5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56FAA-A6AB-4A59-9C54-FDF3CE48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B91F-62E8-4E8C-B421-57F3155A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AB06D-2268-4AA3-8BB8-DEAF06A5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83776-7C2D-4857-9319-D988A1A8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7BEE-64A0-4ADA-B0F0-F0EAD38D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A1B0-E623-4D4E-B14A-FCB4BC51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8A83E-C0B1-4308-9E5C-4E18FAE5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1EC-11D2-45FE-AB03-FDDF1773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8376-DF57-46AC-8687-FA325E0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EA31-BE84-46B6-8468-59D851FC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A756D-725A-472E-A1D6-AEFB350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F80C8-E9FC-45A8-A881-99DD2334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2031E-6417-4D2C-BDCE-C6B483E0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200B0-A019-4CD1-9CA6-C7B91FB7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F7E47-2A4F-4A14-AB50-D46C8DEF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6E74C-0019-486C-B0D1-AE7EA05E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15202-5F28-4910-8FEF-7196F896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3BA76-36D7-4367-BF7E-FB37ED56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0A5-DA42-45BD-A990-B5461215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7B2C6-6D78-47BA-969F-D383D91A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3582-1F85-40F6-9391-71BDAA84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FEB5F-F9FE-4B0E-B451-1F7030AB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D7BF-60EF-4FAF-8C0A-7FE641C4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DF61E-BB51-44FE-A138-E4AC63BE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62642-44D7-4533-8E64-8D44DA1D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28C84-166A-42C6-AB91-145BF878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32D18-FD69-4690-84C6-183E578A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C787F-6D84-4D99-8479-C871D55B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B9689-CAC8-4F69-B5F7-249E0F6F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121C-55C6-4A18-B25C-141F6A04BF20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29F4-C62B-438F-AB7F-9EDC0D83992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18FA-68AB-4E2B-A6DB-53F1A26BC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AA48-7AEC-46BD-8212-C0DA0C0199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C098-6737-4B97-BF2D-94A7DC9FB0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A42F-6DB9-4F0F-B00C-01462A88B1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F97F-B5A8-4249-853E-8F2F485111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0013-2B08-468F-B555-BD0B5281D2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8330-CA81-483A-9F6D-2DF1D9332D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BAEB-879D-42E9-A2D1-0D6083FB33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27E-C1C2-4CD4-B6C6-6A59F20D23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B841-2F08-42A3-A69E-7DA7FB7F0E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D249-CDDF-43B3-AD40-515CA93005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pic>
        <p:nvPicPr>
          <p:cNvPr id="89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B033-7EBD-4521-87E0-42900D5B1E1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3FFA-1F0F-40C9-A2DA-87FE69E535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9E6C-0FC8-4063-9F7E-AAA7975313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675-3B4F-402B-902E-A8D8D5B7F4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6B8F-3895-4DF3-A80F-B0B7CB0747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386-CE7E-4FFD-90A6-7FDCDA2F02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B0C5-D06E-48FA-9047-8C0E7414C5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21FB-B9A3-4A3A-82B8-4A35C58C8C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3029-C801-4DCF-A9B9-F63DDC6C32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4276-EEFD-49E0-A89B-1221AC4B0B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96C1-85F9-49A4-A6F9-4E4614ED0C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2F89-68AB-4820-A594-BD8BD429DD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E8E0-9182-4101-A261-8EE49CD155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3"/>
          <p:cNvSpPr/>
          <p:nvPr/>
        </p:nvSpPr>
        <p:spPr>
          <a:xfrm>
            <a:off x="5671080" y="4952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陶渊明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8354160" y="1056600"/>
            <a:ext cx="789840" cy="65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008cb"/>
                </a:solidFill>
                <a:latin typeface="Times New Roman"/>
              </a:rPr>
              <a:t>育才实验中学       李梅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85" name="WordArt 5"/>
          <p:cNvSpPr txBox="1"/>
          <p:nvPr/>
        </p:nvSpPr>
        <p:spPr>
          <a:xfrm>
            <a:off x="1600200" y="1828800"/>
            <a:ext cx="6553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桃花源记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1219320" y="762120"/>
            <a:ext cx="7924680" cy="527328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编号：５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533520"/>
            <a:ext cx="1219320" cy="5580360"/>
          </a:xfrm>
          <a:prstGeom prst="rect">
            <a:avLst/>
          </a:prstGeom>
          <a:solidFill>
            <a:srgbClr val="fac164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16" name="WordArt 4"/>
          <p:cNvSpPr txBox="1"/>
          <p:nvPr/>
        </p:nvSpPr>
        <p:spPr>
          <a:xfrm>
            <a:off x="1752480" y="1828800"/>
            <a:ext cx="3048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如此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中宋"/>
              <a:ea typeface="华文中宋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2971800" y="4038480"/>
            <a:ext cx="2743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像这样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这样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1219320" y="990720"/>
            <a:ext cx="7924680" cy="527328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e60c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0ce60c"/>
                </a:solidFill>
                <a:latin typeface="Times New Roman"/>
              </a:rPr>
              <a:t>编号：６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0" y="457200"/>
            <a:ext cx="1143000" cy="558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0" name="WordArt 4"/>
          <p:cNvSpPr txBox="1"/>
          <p:nvPr/>
        </p:nvSpPr>
        <p:spPr>
          <a:xfrm>
            <a:off x="1600200" y="1752480"/>
            <a:ext cx="33526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鲜美</a:t>
            </a:r>
            <a:endParaRPr b="0" lang="en-US" sz="72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2743200" y="4343400"/>
            <a:ext cx="6051600" cy="193716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08d6"/>
                </a:solidFill>
                <a:latin typeface="Times New Roman"/>
              </a:rPr>
              <a:t>（指色彩）鲜艳美丽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08d6"/>
                </a:solidFill>
                <a:latin typeface="Times New Roman"/>
              </a:rPr>
              <a:t>　指食物味道好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2"/>
          <p:cNvSpPr/>
          <p:nvPr/>
        </p:nvSpPr>
        <p:spPr>
          <a:xfrm>
            <a:off x="1143000" y="1447920"/>
            <a:ext cx="3346560" cy="16556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2125080" y="1981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c08d6"/>
                </a:solidFill>
                <a:latin typeface="Times New Roman"/>
              </a:rPr>
              <a:t>发现桃源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1143000" y="3124080"/>
            <a:ext cx="1295280" cy="1600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99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2516040" y="3377880"/>
            <a:ext cx="4416480" cy="2161800"/>
          </a:xfrm>
          <a:prstGeom prst="sun">
            <a:avLst>
              <a:gd name="adj" fmla="val 25000"/>
            </a:avLst>
          </a:prstGeom>
          <a:solidFill>
            <a:srgbClr val="ff6699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访问桃源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8077320" y="3200400"/>
            <a:ext cx="804600" cy="3018600"/>
          </a:xfrm>
          <a:prstGeom prst="rect">
            <a:avLst/>
          </a:prstGeom>
          <a:solidFill>
            <a:srgbClr val="fac164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离开桃源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6248520" y="4572000"/>
            <a:ext cx="1752480" cy="12952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ac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8" name="Tree"/>
          <p:cNvSpPr/>
          <p:nvPr/>
        </p:nvSpPr>
        <p:spPr>
          <a:xfrm>
            <a:off x="0" y="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9" name="AutoShape 21"/>
          <p:cNvSpPr/>
          <p:nvPr/>
        </p:nvSpPr>
        <p:spPr>
          <a:xfrm>
            <a:off x="6095880" y="762120"/>
            <a:ext cx="3048120" cy="2438280"/>
          </a:xfrm>
          <a:prstGeom prst="cloudCallout">
            <a:avLst>
              <a:gd name="adj1" fmla="val -78074"/>
              <a:gd name="adj2" fmla="val 47722"/>
            </a:avLst>
          </a:prstGeom>
          <a:solidFill>
            <a:srgbClr val="0ac60a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6477120" y="685800"/>
            <a:ext cx="21333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ec08d6"/>
                </a:solidFill>
                <a:latin typeface="Times New Roman"/>
              </a:rPr>
              <a:t>世外桃源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c08d6"/>
                </a:solidFill>
                <a:latin typeface="Times New Roman"/>
              </a:endParaRPr>
            </a:p>
          </p:txBody>
        </p:sp>
        <p:pic>
          <p:nvPicPr>
            <p:cNvPr id="6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c08d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e684"/>
            </a:gs>
            <a:gs pos="100000">
              <a:srgbClr val="c9dd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3176280" y="304920"/>
            <a:ext cx="3061080" cy="916920"/>
          </a:xfrm>
          <a:prstGeom prst="rect">
            <a:avLst/>
          </a:prstGeom>
          <a:solidFill>
            <a:srgbClr val="fac164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707e1"/>
                </a:solidFill>
                <a:latin typeface="Times New Roman"/>
              </a:rPr>
              <a:t>学习目标及重点</a:t>
            </a:r>
            <a:endParaRPr b="0" lang="en-US" sz="5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1219320" y="1828800"/>
            <a:ext cx="7467480" cy="825120"/>
          </a:xfrm>
          <a:prstGeom prst="rect">
            <a:avLst/>
          </a:prstGeom>
          <a:solidFill>
            <a:srgbClr val="f0e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a50021"/>
                </a:solidFill>
                <a:latin typeface="Times New Roman"/>
              </a:rPr>
              <a:t>、了解本文所反映的生活理想与社会现实之间的关系。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219320" y="4572000"/>
            <a:ext cx="7467480" cy="825120"/>
          </a:xfrm>
          <a:prstGeom prst="rect">
            <a:avLst/>
          </a:prstGeom>
          <a:noFill/>
          <a:ln w="9360">
            <a:solidFill>
              <a:srgbClr val="1707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、积累一部分常用文言词语，了解古今异义现象。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2"/>
          <p:cNvSpPr txBox="1"/>
          <p:nvPr/>
        </p:nvSpPr>
        <p:spPr>
          <a:xfrm>
            <a:off x="6934320" y="5410080"/>
            <a:ext cx="182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检查预习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1295280" y="12193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59e06"/>
                </a:solidFill>
                <a:latin typeface="Times New Roman"/>
              </a:rPr>
              <a:t>给下列课文中的字注音并解释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阡陌            髫             怡然             诣                骥             津                要                豁然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814320" y="2862360"/>
            <a:ext cx="790200" cy="131292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</a:rPr>
              <a:t>然</a:t>
            </a:r>
            <a:endParaRPr b="0" lang="en-US" sz="80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1752480" y="1752480"/>
            <a:ext cx="609840" cy="4038840"/>
          </a:xfrm>
          <a:custGeom>
            <a:avLst/>
            <a:gdLst>
              <a:gd name="textAreaLeft" fmla="*/ 389520 w 609840"/>
              <a:gd name="textAreaRight" fmla="*/ 610200 w 60984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3049560" y="1752480"/>
            <a:ext cx="2009520" cy="3751560"/>
          </a:xfrm>
          <a:prstGeom prst="rect">
            <a:avLst/>
          </a:prstGeom>
          <a:solidFill>
            <a:srgbClr val="0ce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欣然归往</a:t>
            </a:r>
            <a:endParaRPr b="0" lang="en-US" sz="6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豁然开朗</a:t>
            </a:r>
            <a:endParaRPr b="0" lang="en-US" sz="6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怡然自乐</a:t>
            </a:r>
            <a:endParaRPr b="0" lang="en-US" sz="6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屋舍俨然</a:t>
            </a:r>
            <a:endParaRPr b="0" lang="en-US" sz="60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6248520" y="3581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7395840" y="284040"/>
            <a:ext cx="911520" cy="75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形容词词尾，无实义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228600" y="0"/>
            <a:ext cx="4800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制作卡片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457200" y="1752480"/>
            <a:ext cx="83059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类别：文言实词　　编号：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标题：志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　　　１、动词：作标记　　如“处处志之”（《桃花源记》）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　　　２、名词：标志　　　如“寻向所志”（《桃花源记》）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0" y="457200"/>
            <a:ext cx="1143000" cy="558036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0ce60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066680" y="762120"/>
            <a:ext cx="8077320" cy="416124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编号：１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3048120" y="2971800"/>
            <a:ext cx="6095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交错相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邮电运输事业的总称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1" name="WordArt 6"/>
          <p:cNvSpPr txBox="1"/>
          <p:nvPr/>
        </p:nvSpPr>
        <p:spPr>
          <a:xfrm>
            <a:off x="1143000" y="1676520"/>
            <a:ext cx="182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交通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 flipH="1">
            <a:off x="-720" y="380880"/>
            <a:ext cx="1143000" cy="5580360"/>
          </a:xfrm>
          <a:prstGeom prst="rect">
            <a:avLst/>
          </a:prstGeom>
          <a:solidFill>
            <a:srgbClr val="ffcc99"/>
          </a:solidFill>
          <a:ln w="9360">
            <a:solidFill>
              <a:srgbClr val="c9ddf1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1295280" y="914400"/>
            <a:ext cx="784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编号：２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4" name="WordArt 4"/>
          <p:cNvSpPr txBox="1"/>
          <p:nvPr/>
        </p:nvSpPr>
        <p:spPr>
          <a:xfrm>
            <a:off x="1676520" y="1828800"/>
            <a:ext cx="2286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妻子</a:t>
            </a:r>
            <a:endParaRPr b="0" i="1" lang="en-US" sz="7200" spc="1" strike="noStrike">
              <a:ln w="9360">
                <a:solidFill>
                  <a:srgbClr val="00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4009680" y="3048120"/>
            <a:ext cx="306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妻子和儿女</a:t>
            </a:r>
            <a:endParaRPr b="0" lang="en-US" sz="54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专指男子的配偶</a:t>
            </a:r>
            <a:endParaRPr b="0" lang="en-US" sz="5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026"/>
          <p:cNvSpPr/>
          <p:nvPr/>
        </p:nvSpPr>
        <p:spPr>
          <a:xfrm>
            <a:off x="1219320" y="533520"/>
            <a:ext cx="7924680" cy="527328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编号：３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7" name="Rectangle 1027"/>
          <p:cNvSpPr/>
          <p:nvPr/>
        </p:nvSpPr>
        <p:spPr>
          <a:xfrm flipH="1">
            <a:off x="-720" y="380880"/>
            <a:ext cx="1203480" cy="5580360"/>
          </a:xfrm>
          <a:prstGeom prst="rect">
            <a:avLst/>
          </a:prstGeom>
          <a:solidFill>
            <a:srgbClr val="fac164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8" name="WordArt 1028"/>
          <p:cNvSpPr txBox="1"/>
          <p:nvPr/>
        </p:nvSpPr>
        <p:spPr>
          <a:xfrm>
            <a:off x="2057400" y="1447920"/>
            <a:ext cx="3581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绝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9" name="Text Box 1030"/>
          <p:cNvSpPr/>
          <p:nvPr/>
        </p:nvSpPr>
        <p:spPr>
          <a:xfrm>
            <a:off x="3184560" y="3745080"/>
            <a:ext cx="5959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e60c"/>
                </a:solidFill>
                <a:latin typeface="Times New Roman"/>
              </a:rPr>
              <a:t>与人世隔绝的境地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e60c"/>
                </a:solidFill>
                <a:latin typeface="Times New Roman"/>
              </a:rPr>
              <a:t>山穷水尽的地步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143000" y="1003320"/>
            <a:ext cx="8001000" cy="508824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e60c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0ce60c"/>
                </a:solidFill>
                <a:latin typeface="Times New Roman"/>
              </a:rPr>
              <a:t>编号：４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1143000" cy="556272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2" name="WordArt 5"/>
          <p:cNvSpPr txBox="1"/>
          <p:nvPr/>
        </p:nvSpPr>
        <p:spPr>
          <a:xfrm>
            <a:off x="1371600" y="220968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无论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2895480" y="4038480"/>
            <a:ext cx="5943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08d6"/>
                </a:solidFill>
                <a:latin typeface="Times New Roman"/>
              </a:rPr>
              <a:t>不要说，更不要说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08d6"/>
                </a:solidFill>
                <a:latin typeface="Times New Roman"/>
              </a:rPr>
              <a:t>表条件关系的关联词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3T16:10:15Z</dcterms:created>
  <dc:creator>qg</dc:creator>
  <dc:description/>
  <dc:language>en-US</dc:language>
  <cp:lastModifiedBy>a</cp:lastModifiedBy>
  <dcterms:modified xsi:type="dcterms:W3CDTF">2015-02-10T11:33:55Z</dcterms:modified>
  <cp:revision>19</cp:revision>
  <dc:subject/>
  <dc:title>PowerPoint 演示文稿</dc:title>
</cp:coreProperties>
</file>