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B6E-BFBF-42F5-BD04-758D421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1CF-FE71-4DB1-AB48-1F9F7A8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FB7E-05D6-488A-86C1-99BF149F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26FAC-58C1-4387-ADCF-0012F2B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97BC5-05E3-45F0-83BD-CD476EA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9AFD-9A08-4768-8D6E-4386775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74BA7-495A-4D3F-B2AD-0C058A0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FE9B-BF1E-419B-A7E6-8BFFB7EE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4FBC9-7998-4541-9FFF-64D9DCA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28008-9C57-45E7-BB33-0160A843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0929-E1A8-4E18-8835-48C0E67F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7BA89-F364-4CA9-BDF3-98289768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302-5537-4161-8222-830B59C5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AFE51-FBED-4925-95B7-6677D6DF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03BDF-2837-40E6-8511-D3802512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FBBF2-6639-469F-BA15-47468B08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FD9D8-1166-40E0-B64B-F60EB6A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C863-0F14-4BE6-8A4D-59D8C05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772A-D6A9-4029-A649-F6A3ABD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908D5-D44C-4C30-8289-6940C7C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4B2C9-EA3E-4549-B665-C384F8C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6A674-C201-4A22-AD09-BBCA2E68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D042-437E-4CDD-8D1A-B52861DA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195-3AFB-4DAD-8840-40B06BC2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74D63-F7E3-48C5-B685-9895BD46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7460-1788-4274-BAEE-A14118B2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A1A4E-19F9-416D-84B6-AC9343C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0FDD-53C7-4A5E-AC65-03E59C01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B51CE-E1E4-406B-9526-C9B87DFB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80CB-C6A8-4E9B-B672-825F405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434D-C1D0-4BC9-83E4-62FE7771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5FD5-446C-4EFF-9580-1377D85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27635-6BB4-48DF-AF55-56F8068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15221-9DCD-4818-A2A2-650F5DA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B339-A75E-41B0-8197-47CFE90D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E907-FE9B-4D77-85EC-3F23D5E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C896-0250-4C13-A11F-7D6258C5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EB4EE-3E1D-44C1-B48C-144D9723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4664A-170D-4B81-9C1A-0F4A9159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F644-0CA0-4E95-AF0D-E2295699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0E4B6-9828-4F13-8E9C-A4F189F7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7C747-7776-441D-A8BF-7E83EEC2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FBE16-17A7-49D6-A79D-4541D53C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30977-E109-40C9-B253-072B319B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61A6A-E8D3-43C4-9F36-6F1694C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EC27-3086-438C-81A2-83E05BA7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E4ED1-46CC-4429-B7EC-A1CA680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84D72-ED49-4728-BF21-86104C6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98985-F506-44A1-A691-DA11D758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D2E16-158B-4044-89BF-DC14FCA4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BDB72-937C-407C-BBCA-EEEF7C46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2330E-45B1-4985-97C8-D7613ED6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A3A5C-EA03-474F-93BD-893FC68A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EC429-C9BA-4F54-8153-3BB1E14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53FDC-E906-41B4-984B-A4CB3BF4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93D94-435E-43C4-A2B1-F326602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548-05F1-4B68-B0EC-2E9BFEBC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B4144-085E-4C3A-8F2C-D41361A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AE972-4962-473A-8910-BD90482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6CA39-3315-4990-9420-940D455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DC2FE-ADCF-483C-9D75-3E2044C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ADA80-02F2-42A4-95A7-79CBEC08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8E5C4-754C-4E75-943C-75D8026D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DADD7-E75C-4F4A-A66A-B59D7F2D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0327A-C6E9-465D-9BB8-3ABAC050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E4C63-E2CF-46ED-8C42-8BF973D0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60674-DE09-455D-B21D-6D2392F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F93-1B27-4E18-BBFB-7C2E8548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4DC32-D30F-4B3D-B05C-08057BE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E2253-D94A-4DAF-BA5E-CAC263BF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1AA1E-2293-459D-A11A-811F434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85100-0789-4938-96A3-1136B380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CA868-8A26-49E3-9689-5BC35AA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07BD4-EDDA-4EC3-9614-8EB1A30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4F5E5-0694-4BD7-A0DB-40056CB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6DE35-43C0-4009-8A8A-37A392F0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98217-5458-46CE-AB26-C572D619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18BA-ED50-45E8-A218-F95581F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8F6A-BE50-4B6F-A596-308EE86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7350-8514-43A3-9648-6CAEE48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107-16EB-416D-8863-40289A6D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DCF-686D-46E5-B9E2-35FEAAF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0802-7284-442E-9BA6-6ACF055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3FA9-8C96-4007-A99B-5D872FC3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8E8E-B2D7-4FE4-9ADA-3153DB9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B65-47BF-438F-8BB9-D49597A7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F9DE-C242-41BB-BD6D-61C419CA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6619C-93E7-4FE6-942C-67B9D1C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3F8E-1C6E-4B2A-A5E7-7BCE1CE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91E0-2275-436B-A079-2180DD04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7A48-E0F5-4502-9065-7D4F41D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24E-D9B6-4306-B020-0F760BBD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87B1-BB08-498B-9611-43D38761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15BE-A188-400C-9DFD-C8B1BE6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10FB-D438-4CB9-AD03-3E7EC2C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4A27-417A-436B-AFCA-774709E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6E15-EB26-4F02-BED9-FB1CAEA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4ED0-B7BB-4B7E-A798-1A215C27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C634-B9D1-4CD1-ADB4-F6EFD944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B386-28A1-48D2-ADAE-64E68A8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BC55-E4EF-44ED-9FC1-3EF38B0D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754A8-DF05-470F-BD65-A4A8D31D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ACB-D57E-438B-A460-CEEEFA5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0571-77EF-412A-BE3D-A31B6F0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0041-8FD4-445E-859D-1A1243BD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528F-EC16-429C-8DAA-06F3831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4035-6185-42B4-9D58-EA1CE29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A23F-BCD6-4462-BF7A-E4B10E5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1C78-721D-4C2B-9B01-590B9AC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98E7-8424-4FDB-B65E-BC1FDD2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D5A9-5C28-46AE-B917-0C262F6F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FC9F-CB0F-4827-AC4A-66E5731E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C5E7-B1AE-4E81-9B0E-CA11E778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79E-59C7-44F5-BE2E-58EF8D49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4E27B-4849-48F2-8896-52F427B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3D80B-6A24-4B58-ADD2-2DCF350D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0CC9-03B2-4976-BBC5-77DEFE8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0032-BBE1-4A8E-AB90-0041ADA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E8D9-CCF3-48C5-ACBE-493DF2A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3F5B2-F4D7-4EEE-8424-7FE95D7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FD6D-C22C-443F-97C0-C2108F0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BEC0-E6C8-45FF-A431-F71C6047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76650-B70B-4BD4-A47B-FA857493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C250-D1C4-4BD5-9A9E-38FD73B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BF9-4060-41D8-A6ED-DFCC8F69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C7AF-1DEE-41B0-8F9D-74889D1E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C640-6E28-452D-9682-1D450D3F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EC85E-6BF4-4423-818F-8B1DF225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B1F38-05B6-4C67-B7CC-85867626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F2C6-F895-4B95-B0AC-F174D32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DC80-6453-440B-9D67-FBAFCB4F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77EB-93EE-4B44-B740-C75A652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531F8-9030-4558-BCC2-FA21243F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BD81-560C-4DDB-A519-AD06AF8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5D1C-99C7-4140-BD1E-DD1356F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3EE-6A20-4502-ADA9-A850B6D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339B-AD68-49E0-BB05-E0B7B382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8D67-07B3-4CCD-91B8-3E5BDC9F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4A57-E58C-431E-9B35-0B75310D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176A-E455-4A34-B2D1-7F5F600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C9603-14EB-47E8-AF2A-09BC823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2EB5-2624-4104-8F3F-66B49432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19B90-A65C-4EFC-8CCE-5C56CE6E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0F49-81D0-44C2-93FE-B5B210B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802F-078D-45DD-99F0-01F9ED29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D490-BEE2-43CA-9079-C0183E07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479-5FAE-4F2E-ABB8-6CD88BB7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BF1A9-670B-4D45-A021-7BBF530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1257-D78E-4E15-A461-A8602D4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6776-3B4A-44A5-BD05-37EF3AF4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B002-FD3B-4307-8DEC-CCF23A69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4A7B-FD22-4D50-8EE8-799264C7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A8C4F-60A6-4DA9-8F14-FA2648D1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E4BC-5A88-4B17-8CA2-1D66A714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7129-F3A7-46E0-ADB7-81F935C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79C06-5DFD-4F0E-BD3A-89ED696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953E5-A8F9-41F4-8231-AB59528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C78-8B80-4065-9E1A-E561004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AC514-F0C2-49C5-BDA4-CD84A0B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49D40-A248-47E5-BC80-51BBB57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22F59-BA6B-48AA-87FA-E21A7B2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6E8A-36F8-4853-840D-7DFF725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A688-86C8-4202-8ECF-35D705BA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325CC-E3DD-4B98-B978-C7DB9A02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E4DC4-951E-4028-AFC9-E6F33EB7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5D9F2-660A-4CBF-830C-65D05801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5EFB1-A8AA-41B8-A9C2-441D73D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413D-57A6-476C-9CA5-2B56CD71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3CC3-0C14-4B35-BF9B-E6CB4549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8AB-4369-4269-B9AA-2C9D5EB223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AA67-739B-4B76-942B-D791C8426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92DC-87C1-4FC4-9C8A-FBF3729BB3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BDF-1705-4FA9-BB85-F53F1451D9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EBD3-8276-4987-942D-6C982BF12A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2EE-7FE8-4733-A604-EFBB114AF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8C25-7CAA-4C66-AD48-3E065E505C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77F-E05C-45FF-A994-A0F498F76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76F0-15FD-4F2B-B269-0DE03753B4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7CEB-F361-451F-8B1C-0BA085A10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65B3-7B11-4A48-9B9E-0189039819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7367-E3FA-463C-9192-93D526C3E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46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7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8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7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8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1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2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3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4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5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6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8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99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1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2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3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04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05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6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7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1BF-AF33-4C4B-B261-E86592CBB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F2D3-AB05-4D21-9F48-8A745A920C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7E7D-DB39-4AC7-857C-3F6BD9A72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3DB3-19B2-46E4-B3EB-5A0099AA3BE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0B87-5425-45BC-BA7C-4BD4F2C99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D42-162E-4301-8FAF-03BE287451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A0FD-D972-4461-BAAE-8EB62E558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923-CE0D-428A-B3A6-5B23B26BCB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96B-2BFD-4A77-9A25-31D018488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B41E-8D7F-42EB-8652-5414AF64B5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482E-4A2D-45F1-857F-E5AD9659CF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9E7-79F7-464C-827D-3EBC40FF3A7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F66-B16B-40DF-B831-58B372BBF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3,8,&#29238;&#20146;&#21644;&#25105;(&#33150;&#26684;&#23572;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" descr="D:\lvming\04-05下\04-05下教学\苏教版\3.3\十一、台阶\图片\台阶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隶书"/>
              </a:rPr>
              <a:t>台阶</a:t>
            </a:r>
            <a:r>
              <a:rPr b="0" lang="zh-CN" sz="44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  <a:ea typeface="华文行楷"/>
              </a:rPr>
              <a:t>李森祥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学习目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学习抓住关键语句，理解故事内容和人物思想感情的阅读方法。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理解课文围绕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台阶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组织材料，安排详略的写法。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感受父亲性格中的艰苦创业的精神和坚韧不拔的毅力，培养对待人生的积极健康的心态。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诵读感知，整体把握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f89f7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6f89f7"/>
                </a:solidFill>
                <a:latin typeface="Tahoma"/>
              </a:rPr>
              <a:t>读准字音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凹凼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d</a:t>
            </a:r>
            <a:r>
              <a:rPr b="0" lang="en-US" sz="2800" spc="-1" strike="noStrike">
                <a:solidFill>
                  <a:srgbClr val="6f89f7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ng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揩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kāi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黏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ni</a:t>
            </a:r>
            <a:r>
              <a:rPr b="0" lang="en-US" sz="2800" spc="-1" strike="noStrike">
                <a:solidFill>
                  <a:srgbClr val="6f89f7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　　 尴尬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gān g</a:t>
            </a:r>
            <a:r>
              <a:rPr b="0" lang="en-US" sz="2800" spc="-1" strike="noStrike">
                <a:solidFill>
                  <a:srgbClr val="6f89f7"/>
                </a:solidFill>
                <a:latin typeface="Times New Roman"/>
              </a:rPr>
              <a:t>à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硌（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6f89f7"/>
                </a:solidFill>
                <a:latin typeface="Times New Roman"/>
              </a:rPr>
              <a:t>è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烦躁（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6f89f7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o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f89f7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6f89f7"/>
                </a:solidFill>
                <a:latin typeface="宋体"/>
              </a:rPr>
              <a:t>通感全文，简要讲述故事情节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父亲为什么要造一栋有高台阶的新屋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6f89f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父亲是怎么造起一栋有高台阶的新屋的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6f89f7"/>
                </a:solidFill>
                <a:latin typeface="宋体"/>
              </a:rPr>
              <a:t>）新屋造好了，父亲怎么样？</a:t>
            </a:r>
            <a:r>
              <a:rPr b="0" lang="zh-CN" sz="2800" spc="-1" strike="noStrike">
                <a:solidFill>
                  <a:srgbClr val="6f89f7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f89f7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6f89f7"/>
                </a:solidFill>
                <a:latin typeface="宋体"/>
              </a:rPr>
              <a:t>高效搜求相关的重要信息。</a:t>
            </a:r>
            <a:r>
              <a:rPr b="0" lang="zh-CN" sz="2800" spc="-1" strike="noStrike">
                <a:solidFill>
                  <a:srgbClr val="6f89f7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f89f7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6f89f7"/>
                </a:solidFill>
                <a:latin typeface="Tahoma"/>
              </a:rPr>
              <a:t>理清小说的结构层次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合作研讨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为什么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父亲总觉得我们家的台阶低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新台阶砌好了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，为什么父亲反而处处感到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不对劲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了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作者为什么在老屋的三级石板上用了那么多笔墨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父亲坐在绿阴里，能看见别人家高高的台阶，那里栽着几棵柳树，柳树枝老是摇来摇去，却摇不散父亲那专注的目光。这时，一片片旱烟雾在父亲头上飘来飘去。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这一处描写表现父亲什么样的思想感情？为什么不作心理描写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为什么新屋的主体工程写得简略，造台阶反而写得详细？父亲放鞭炮时的神情有什么特色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为什么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回来时，一副若有所失的模样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？这种心态怎么理解？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）从父亲苦干大半辈子盖起新屋，砌上了九级台阶的生活经历，你受到怎样的启示？你是如何看待父亲这个人物形象的？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说话延伸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隶书"/>
                <a:ea typeface="隶书"/>
              </a:rPr>
              <a:t>请同学们从家居住房变化的角度，谈谈自己对社会发展引发的人们思想观念（如按揭买房）和生活方式的改变的独特的体察和感悟。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感谢父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从凄楚、辛酸中走来的父辈，可能他们的愿望、追求，在儿子的眼里，不是耀眼、精彩的。但却是实实在在的，他们血管中流淌着的那份坚韧不拔、拼命硬干的生命因子，恰是撑托事业辉煌的砥柱。让我们从心底祈愿，造好了新屋、砌上了九级台阶的劳苦的父辈们能尽享这份收获和喜悦，感谢父亲！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活动与探究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（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660066"/>
                </a:solidFill>
                <a:latin typeface="宋体"/>
              </a:rPr>
              <a:t>感悟亲情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 ）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宋体"/>
              </a:rPr>
              <a:t>请同学们仔细观察父亲和母亲，作一次肖像描写。然后，向父母征要他们结婚或年轻时的照片，作又一次肖像描写。把两次肖像作一个比较，以书面形式发表随感。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10900"/>
                </a:solidFill>
                <a:latin typeface="Arial"/>
              </a:rPr>
              <a:t>父亲和我</a:t>
            </a:r>
            <a:r>
              <a:rPr b="1" lang="en-US" sz="2400" spc="-1" strike="noStrike">
                <a:solidFill>
                  <a:srgbClr val="e109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e10900"/>
                </a:solidFill>
                <a:latin typeface="Arial"/>
                <a:ea typeface="Arial"/>
              </a:rPr>
              <a:t>腾格尔</a:t>
            </a:r>
            <a:r>
              <a:rPr b="1" lang="en-US" sz="2400" spc="-1" strike="noStrike">
                <a:solidFill>
                  <a:srgbClr val="e109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是你创造了这个家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然后又创造了我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是你拖着我的手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从昨天走到现在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啊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......</a:t>
            </a: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我亲爱的爸爸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你是我最崇敬的人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啊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......</a:t>
            </a: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我慈祥的爸爸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你是我未来的偶像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当你拖着疲惫的身躯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结束了一天的劳动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当你走进这属于你的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关心的还是我回来没回来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一袋烟你抽到天刚亮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一壶酒使你忘却忧和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952880" y="1371600"/>
            <a:ext cx="457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有时妈妈说你又恨你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可你却从来不埋怨什么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在你的眼里常出现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我被人打倒在地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在那长长的黑夜里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我被人欺骗上当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没有的事亲爱的爸爸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这只是你心痛的梦幻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因为我不是不幸的人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因为我有一个好爸爸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我要分担你的忧和愁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不再让你为我总担心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你将永远牵着我的手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Arial"/>
              </a:rPr>
              <a:t>走向没有尽头的未来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8" name="父亲和我(1).mp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72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15:31Z</dcterms:created>
  <dc:creator>x</dc:creator>
  <dc:description/>
  <dc:language>en-US</dc:language>
  <cp:lastModifiedBy>a</cp:lastModifiedBy>
  <dcterms:modified xsi:type="dcterms:W3CDTF">2015-02-10T11:48:40Z</dcterms:modified>
  <cp:revision>7</cp:revision>
  <dc:subject/>
  <dc:title>台阶 </dc:title>
</cp:coreProperties>
</file>