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F79-056E-4FA4-B615-E4CCE02B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561-B01F-4CAE-B478-72E5AD2D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BB316-B8EA-4F7D-9BB7-9D0A99EA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567D8-6DC3-4540-9DCB-BA1218B4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38062-237A-46C0-B0B5-E6B374A6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726E4-BCE2-4734-8F86-216798F2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CFF78-CD20-4BFE-8C10-D586E774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160A3-1342-4FBE-A1DC-7D997A04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843CA-2DF9-4FC9-B9FF-F0A05D62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9BD6B-356D-45CA-B4B4-1040B814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DB9CA-89E7-41C1-8613-AB0B0676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02941-7385-48B5-B5F6-7F842686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4E5-A582-4DC8-BCB2-BA4E9B6B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907AD-E1F0-43E9-86EB-71110E42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6047C-935A-49A4-81BA-0EB6EB5D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1BF3B-F8B8-4BF3-9343-CE322838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ABCBF-B257-4021-A3C4-69E9E13D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48262-FD4A-4D6B-AF16-33C4C5E3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815BE-ACD4-4032-99D6-7019A58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EDAA2-07E7-43C2-A84A-1FC3BD72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06087-8AFB-40ED-9A6B-552EB83B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EC57A-B2EE-40F8-A555-9DCECA20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95717-F3BA-4393-AFA9-5ED63932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46D-175F-440B-B7B3-58087BEC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0BD50-831D-4317-9DCA-9C230ACE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B7944-33B1-4697-A58F-E62E52EB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C1313-E344-48E5-80E3-0238BDD5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96830-171A-49A6-9805-11B33236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FFE1D-0D9A-4AD8-8093-14E32029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33B27-E9BB-42BE-803F-FFC39168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4FDAF-D8ED-4A3A-B71C-E3F4E4FF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927C0-CFC0-415C-B822-BDB589F3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D7B3A-1FDA-41EA-B8D6-5D59E1ED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32AB0-DD3A-49BD-B7AB-3CB4E89A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3E2E-9829-4AA8-AD05-67031208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DE422-FEBB-4A4E-98E6-303F3D64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76FDB-56D9-43C0-BB7E-8788B354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1C7B0-7CC3-4AE8-A065-6463E121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B4083-3FDE-4EAB-9474-902A1186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CE652-F1F6-4A0A-A108-64F36DAA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B660F-8C1C-4F32-AA15-E88CAB20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8C4AC-CD7E-4634-A7E6-A825B0C5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47DDB-7389-49CD-B498-E8D883C5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0A401-CB36-459F-8D4C-74E60FE4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C3F6C-4EC3-4438-B061-76284122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91B1-B177-42B6-9C86-A47BB260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B7C9B-C338-4026-A07A-C941CB47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77F4F-D732-4D94-99B9-BCCFF19B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FB335-F693-457F-B801-6CC2AC3B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8BF96-90DA-458B-AA4D-D380FC87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D88FC-79D3-4AED-A041-C39EE03F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135D5-E4D7-4659-9B2D-16620998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B2E7D-02E7-4B8E-BBD5-50C915F5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02B65-4BE0-4330-8366-0B2F32DC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84211-1F06-4A51-AB19-4B287612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96D3B-0273-4D6E-A407-BA6FEF34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8F96-7078-4404-B990-3BE8188A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929B0-7336-4534-8E77-67F45E33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84B5E-561D-4E3E-B6F6-8B39736C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10BC0-5A30-4F86-BB33-77815546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F13EB7-B66C-4B42-B0E8-88520974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A8834-26CE-4F6C-971C-1DDC8C5C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693E2-A286-4AB6-934A-C1FD511E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DBBB6-7643-4EE9-915D-5F7C307F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30AE-F72B-4511-8DAF-03C517BE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2F3D-DBC5-4C20-9643-A526A933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0896-3A53-46EA-BC8C-4A1770D5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988F-9984-4EBC-BA9C-3FDCCD58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4EC8-31A9-48F0-83B5-7059D035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9B88-1FC1-4704-9782-46465061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BE42-A5A8-42E5-9C7C-FB1C6027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7BC4-ECB2-4138-A8C8-0BD7D7BE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40DF-4DAE-4221-A9BA-619E10D2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45D9-6E07-42EF-9D32-A352981C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6B465-4DBD-4A0E-9435-69AA716B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EFBE-DA11-4B06-8E7D-0F52A270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F2AB4-6166-47D7-9256-5BF8CDA0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C3476-ED76-4931-9C2E-69AD84D1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3D1E9-AE25-4321-BA31-6EC25182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A86-DE1D-4188-82F0-8E7C4D77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86772-2843-429A-AA4E-506C9C71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D12B4-E438-4552-9145-EB4A4D3F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0895-915D-437C-92A6-1A4DC755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B9D98-B3E1-4954-9945-F151B0D1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F9EA-B9FA-443E-8527-D91F9C3B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AF83-4601-434F-B640-CEF239C1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FF7C-5DAE-4678-AF3F-7D4D04D7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12712-FA22-450C-AFB8-F27354FA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C7123-3EED-425C-95F3-2CAF1F28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C28D1-1F80-43BC-8512-918904EF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017-73B5-467C-B84B-CA9114E9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EBBC5-5ABA-49B9-9FED-EBECB733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FED8A-E653-4C7A-B4BC-718C66C5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C3F1-0E4A-4211-A8B1-28CBC5A7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CE5A4-3CFE-48CA-BDCB-ABFB3749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2E79F-C656-4F95-9770-A8F3401A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F7EE6-3BA7-4D11-8CDB-17A9BF3D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630BD-31D1-4CD2-B2ED-3D4F4F43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10957-D030-4332-B924-52DD2E75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314F-15B8-4132-8027-98A9F954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40F92-C179-4819-A807-0703A9D5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71C-994E-445E-A64C-542F79B0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9A50C-D362-4276-9766-2E672AD7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FF04F-85D2-43EF-8B59-54A0BA75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E2048-4EF2-459B-9608-D4857538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CDBBA-F60F-473B-8616-AB632964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99636-769A-4A6E-B3BE-B1029D39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CFB81-16C3-4610-A3E1-C068B43C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1C136-FD0A-4536-81AD-F749FC4F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4A5D8-807E-4AE2-8BA1-C3BC40DB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3F803-A7A1-4AA1-A04B-288F9E3E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5D4A6-9152-41E0-92A3-BD222C6F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834-7EEC-4B93-9620-D9479135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94C1D-8C06-4BE7-810C-723D20E7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FAD26-2D77-4283-B0CA-8F4C99D4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0886D-D4F8-4FF6-9E65-AE9781F4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F434F-F0C7-47FC-B8D0-301D88A0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6C08B-BF71-481D-980F-AC6CF106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49B8F-4795-4466-9C67-2F1655DA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5F8A2-80A9-4ACB-B8CE-C1946B44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7B285-8644-44D5-B366-6B5E7A29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9F3B4-D195-407F-9C41-EBF46D51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0F693-3F0A-4631-91FB-453BA361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377-E34A-4FC4-9E7F-C3380343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4695C-090D-435F-8263-F9BE9C0D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48238-649F-48F4-9C2B-599A363C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50B67-B5EA-423E-9959-66D432A1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47D8B-9187-4FB5-93F1-9553185D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60D5D-9952-48B0-BFB7-7A374F2F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99AFD-BA59-48C0-8794-F724A48C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5F530-3593-4A45-86F1-BA270DEA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92D56-DEF5-4F0F-A95F-D1934740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03850-269C-4F4C-BB74-5E653953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08AF8-7853-4A67-9902-711DF227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ACE-48C2-4289-8B89-7257D04B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317B7-ACA4-4922-A760-774D311C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F6FC5-4106-49BB-AC03-0048755F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D071F-667A-4A0A-AF4F-8EBB6C26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B96A3-5E7D-43B0-AB6F-E9F64F9E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77F43-4C39-4B24-8F65-D6482B59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2FCE5-92FA-4AF3-97C8-BBEBAC1B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3CE2F-03E1-4A36-A97D-F1B5E456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01D57-DC69-4AF4-96EF-9DFA2439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12383-C7EA-4B78-9F4D-D6A846CC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80448-D23E-4A02-AFB8-81C0E8BD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9C5-2290-4E25-9124-19ECE561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72AF9-FB22-4E94-BB24-62CF1E38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26F73-3C99-45E6-9764-3527FAA0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653A2-B466-459F-BA04-0DD5CFA0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50646-5D41-4778-9127-E955E03D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D989E-BC8B-48F1-89AF-2B843C33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6CB59-0CBF-41ED-B067-189BBF5A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91B3A-382F-43A8-B239-B0CDBD65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430E9-D0F8-4763-BF15-5A44FC03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FEEC4-C62E-4D02-994B-02D0CF4F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7F020-5592-4B97-B444-1AD7851A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1F49-7D5B-41B3-B86B-9B85383A1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F076-3F93-421B-9C59-A14F18FADD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2B8D-57FB-461B-BFBE-9A0F8BB893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1E3A-B5A2-451C-8A1C-F9E4DFFDB6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FF88-CDD5-47E1-9C15-24254CE13F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9206-ABCE-419B-AA4F-C6FB1C1D2D9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6D8E-AE7D-4DD5-B0EF-2ED26C63E2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6C01-C617-4CC0-A043-BBFCB23CB8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9573-7907-4AEB-9DAA-426EC2BD39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B29E-196F-48E3-85F4-E744149758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EECD-F691-4D90-B2C0-07E0C00223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4ED1-3421-4179-A936-E08E57C16FF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3F49-FE74-467B-AADD-76E4CE81DC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6569-A6DC-49AF-B927-9D9CD4BBE22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ECD0-6956-444E-8A23-12931C6D57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D085-C028-40FA-9C1C-0796AB9CEAE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DD7F-8502-472B-902E-7062564181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2FAD-9129-43C7-98FF-3E1E11139F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3B3D-6253-4FCF-AFE3-6B98035A88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F6D5-5967-41AB-A551-0181B44EB8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0875-AEC4-4048-B8DF-DBE388B68B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28A2-0F06-4ACC-B10E-42936543DE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6A3A-767C-4F10-9DE8-FD2BD270F9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CD63-04B8-476D-B769-58CAFDF4C7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AF3B-FF97-42ED-9347-3504D85684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79280" y="1052640"/>
            <a:ext cx="878544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教学目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实例使学生初步体会分布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表示数据的过程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掌握几种常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统计图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象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条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折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扇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茎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根据问题的需要选择合适的统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表灵活进行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教学重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绘制和分析常用统计图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合适的统计图表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79280" y="26028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教学内容  统计图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468360" y="1773360"/>
            <a:ext cx="2158920" cy="581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统计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3132000" y="260280"/>
            <a:ext cx="27352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取调查对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6516720" y="189000"/>
            <a:ext cx="22320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普查或抽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2987640" y="3141720"/>
            <a:ext cx="316872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整理并分析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7020000" y="2781360"/>
            <a:ext cx="1873080" cy="1323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列统计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Object 9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60360" cy="3743280"/>
          </a:xfrm>
          <a:prstGeom prst="rect">
            <a:avLst/>
          </a:prstGeom>
          <a:ln w="0">
            <a:noFill/>
          </a:ln>
        </p:spPr>
      </p:pic>
      <p:sp>
        <p:nvSpPr>
          <p:cNvPr id="541" name="Line 13"/>
          <p:cNvSpPr/>
          <p:nvPr/>
        </p:nvSpPr>
        <p:spPr>
          <a:xfrm flipV="1">
            <a:off x="6156360" y="306972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4"/>
          <p:cNvSpPr/>
          <p:nvPr/>
        </p:nvSpPr>
        <p:spPr>
          <a:xfrm>
            <a:off x="6156360" y="3429000"/>
            <a:ext cx="86364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5"/>
          <p:cNvSpPr/>
          <p:nvPr/>
        </p:nvSpPr>
        <p:spPr>
          <a:xfrm>
            <a:off x="5867280" y="54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7"/>
          <p:cNvSpPr/>
          <p:nvPr/>
        </p:nvSpPr>
        <p:spPr>
          <a:xfrm>
            <a:off x="3132000" y="1773360"/>
            <a:ext cx="1871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收集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252360" y="4221000"/>
            <a:ext cx="100800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收集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9"/>
          <p:cNvSpPr/>
          <p:nvPr/>
        </p:nvSpPr>
        <p:spPr>
          <a:xfrm>
            <a:off x="1258920" y="4797360"/>
            <a:ext cx="72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1"/>
          <p:cNvSpPr/>
          <p:nvPr/>
        </p:nvSpPr>
        <p:spPr>
          <a:xfrm>
            <a:off x="2987640" y="4724280"/>
            <a:ext cx="936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2"/>
          <p:cNvSpPr/>
          <p:nvPr/>
        </p:nvSpPr>
        <p:spPr>
          <a:xfrm>
            <a:off x="1979640" y="4221000"/>
            <a:ext cx="122400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整理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3924360" y="4437000"/>
            <a:ext cx="1873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取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24"/>
          <p:cNvSpPr/>
          <p:nvPr/>
        </p:nvSpPr>
        <p:spPr>
          <a:xfrm>
            <a:off x="5797440" y="4726080"/>
            <a:ext cx="873360" cy="144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5"/>
          <p:cNvSpPr/>
          <p:nvPr/>
        </p:nvSpPr>
        <p:spPr>
          <a:xfrm>
            <a:off x="6661080" y="4437000"/>
            <a:ext cx="18734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出决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179280" y="5445000"/>
            <a:ext cx="87854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何整理和分析已收集的数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较准确的获取信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而作出恰当的决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7"/>
          <p:cNvSpPr/>
          <p:nvPr/>
        </p:nvSpPr>
        <p:spPr>
          <a:xfrm>
            <a:off x="5515200" y="5950080"/>
            <a:ext cx="2554920" cy="581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统计学的任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468360" y="47628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数据统计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539640" y="1197000"/>
            <a:ext cx="7920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下列数据列出统计数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468360" y="3573360"/>
          <a:ext cx="8207280" cy="1036800"/>
        </p:xfrm>
        <a:graphic>
          <a:graphicData uri="http://schemas.openxmlformats.org/drawingml/2006/table">
            <a:tbl>
              <a:tblPr/>
              <a:tblGrid>
                <a:gridCol w="952560"/>
                <a:gridCol w="689040"/>
                <a:gridCol w="820440"/>
                <a:gridCol w="820800"/>
                <a:gridCol w="820800"/>
                <a:gridCol w="820800"/>
                <a:gridCol w="820800"/>
                <a:gridCol w="820440"/>
                <a:gridCol w="820800"/>
                <a:gridCol w="82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频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Text Box 39"/>
          <p:cNvSpPr/>
          <p:nvPr/>
        </p:nvSpPr>
        <p:spPr>
          <a:xfrm>
            <a:off x="1332000" y="4076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    3      1      5       5     6       3      7     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324000" y="4869000"/>
          <a:ext cx="8569080" cy="1158840"/>
        </p:xfrm>
        <a:graphic>
          <a:graphicData uri="http://schemas.openxmlformats.org/drawingml/2006/table">
            <a:tbl>
              <a:tblPr/>
              <a:tblGrid>
                <a:gridCol w="1368360"/>
                <a:gridCol w="1727280"/>
                <a:gridCol w="2736720"/>
                <a:gridCol w="2736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字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超过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于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超过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于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超过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频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179280" y="2602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绘制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3"/>
          <p:cNvGrpSpPr/>
          <p:nvPr/>
        </p:nvGrpSpPr>
        <p:grpSpPr>
          <a:xfrm>
            <a:off x="324000" y="1052640"/>
            <a:ext cx="5039640" cy="2952360"/>
            <a:chOff x="324000" y="1052640"/>
            <a:chExt cx="5039640" cy="2952360"/>
          </a:xfrm>
        </p:grpSpPr>
        <p:pic>
          <p:nvPicPr>
            <p:cNvPr id="561" name="Object 4" descr=""/>
            <p:cNvPicPr/>
            <p:nvPr/>
          </p:nvPicPr>
          <p:blipFill>
            <a:blip r:embed="rId1"/>
            <a:stretch/>
          </p:blipFill>
          <p:spPr>
            <a:xfrm>
              <a:off x="324000" y="1052640"/>
              <a:ext cx="4985280" cy="29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5"/>
            <p:cNvSpPr/>
            <p:nvPr/>
          </p:nvSpPr>
          <p:spPr>
            <a:xfrm>
              <a:off x="4589640" y="3267000"/>
              <a:ext cx="77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数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Object 7" descr=""/>
          <p:cNvPicPr/>
          <p:nvPr/>
        </p:nvPicPr>
        <p:blipFill>
          <a:blip r:embed="rId2"/>
          <a:stretch/>
        </p:blipFill>
        <p:spPr>
          <a:xfrm>
            <a:off x="5297400" y="1039680"/>
            <a:ext cx="3548160" cy="216072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9"/>
          <p:cNvGrpSpPr/>
          <p:nvPr/>
        </p:nvGrpSpPr>
        <p:grpSpPr>
          <a:xfrm>
            <a:off x="324000" y="4149720"/>
            <a:ext cx="4968720" cy="2495520"/>
            <a:chOff x="324000" y="4149720"/>
            <a:chExt cx="4968720" cy="2495520"/>
          </a:xfrm>
        </p:grpSpPr>
        <p:pic>
          <p:nvPicPr>
            <p:cNvPr id="565" name="Object 10" descr=""/>
            <p:cNvPicPr/>
            <p:nvPr/>
          </p:nvPicPr>
          <p:blipFill>
            <a:blip r:embed="rId3"/>
            <a:stretch/>
          </p:blipFill>
          <p:spPr>
            <a:xfrm>
              <a:off x="324000" y="4149720"/>
              <a:ext cx="4968720" cy="24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Text Box 11"/>
            <p:cNvSpPr/>
            <p:nvPr/>
          </p:nvSpPr>
          <p:spPr>
            <a:xfrm>
              <a:off x="4360320" y="6093000"/>
              <a:ext cx="74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数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2"/>
            <p:cNvSpPr/>
            <p:nvPr/>
          </p:nvSpPr>
          <p:spPr>
            <a:xfrm>
              <a:off x="571680" y="422100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频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Text Box 13"/>
          <p:cNvSpPr/>
          <p:nvPr/>
        </p:nvSpPr>
        <p:spPr>
          <a:xfrm>
            <a:off x="5364000" y="3429000"/>
            <a:ext cx="3311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各种图形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数据有信息损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读图获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5435640" y="2708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扇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250920" y="981000"/>
            <a:ext cx="856908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是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的智商情况调查后得到的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图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图表回答下列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Object 3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6890040" cy="279684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4"/>
          <p:cNvSpPr/>
          <p:nvPr/>
        </p:nvSpPr>
        <p:spPr>
          <a:xfrm>
            <a:off x="1403280" y="234936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人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324000" y="5300640"/>
            <a:ext cx="61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有多少人的智商在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有多少人的智商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6588000" y="5300640"/>
            <a:ext cx="1873440" cy="94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还能从图中获得什么信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250920" y="189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读图知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17"/>
          <p:cNvSpPr/>
          <p:nvPr/>
        </p:nvSpPr>
        <p:spPr>
          <a:xfrm>
            <a:off x="2484360" y="5445000"/>
            <a:ext cx="3311640" cy="648000"/>
          </a:xfrm>
          <a:custGeom>
            <a:avLst/>
            <a:gdLst>
              <a:gd name="textAreaLeft" fmla="*/ 41760 w 3311640"/>
              <a:gd name="textAreaRight" fmla="*/ 3269880 w 3311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110339" h="21600">
                <a:moveTo>
                  <a:pt x="0" y="0"/>
                </a:moveTo>
                <a:lnTo>
                  <a:pt x="110339" y="0"/>
                </a:lnTo>
                <a:lnTo>
                  <a:pt x="110339" y="21600"/>
                </a:lnTo>
                <a:lnTo>
                  <a:pt x="0" y="21600"/>
                </a:lnTo>
                <a:close/>
              </a:path>
              <a:path fill="lightenLess" w="110339" h="21600">
                <a:moveTo>
                  <a:pt x="0" y="0"/>
                </a:moveTo>
                <a:lnTo>
                  <a:pt x="110339" y="0"/>
                </a:lnTo>
                <a:lnTo>
                  <a:pt x="108939" y="1400"/>
                </a:lnTo>
                <a:lnTo>
                  <a:pt x="1400" y="1400"/>
                </a:lnTo>
                <a:close/>
              </a:path>
              <a:path fill="darken" w="110339" h="21600">
                <a:moveTo>
                  <a:pt x="110339" y="0"/>
                </a:moveTo>
                <a:lnTo>
                  <a:pt x="110339" y="21600"/>
                </a:lnTo>
                <a:lnTo>
                  <a:pt x="108939" y="20200"/>
                </a:lnTo>
                <a:lnTo>
                  <a:pt x="108939" y="1400"/>
                </a:lnTo>
                <a:close/>
              </a:path>
              <a:path fill="darkenLess" w="110339" h="21600">
                <a:moveTo>
                  <a:pt x="110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939" y="20200"/>
                </a:lnTo>
                <a:close/>
              </a:path>
              <a:path fill="lighten" w="110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0339" h="21600">
                <a:moveTo>
                  <a:pt x="48163" y="3794"/>
                </a:moveTo>
                <a:lnTo>
                  <a:pt x="62176" y="10800"/>
                </a:lnTo>
                <a:lnTo>
                  <a:pt x="481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练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</a:rPr>
              <a:t>25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练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324000" y="404640"/>
            <a:ext cx="84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395280" y="404640"/>
            <a:ext cx="84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826920" y="620640"/>
            <a:ext cx="3961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分析理解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2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1763640" y="126828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分析比较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象形统计图与条形统计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755640" y="2708280"/>
            <a:ext cx="4033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思考交流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4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1908000" y="364500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分析比较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折线统计图与扇形统计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0" y="836640"/>
            <a:ext cx="8713800" cy="74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关部门从甲、乙两个城市所有的自动售货机中分别随机抽取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记录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: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: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间各自的销售情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1;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2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.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你用适当的方式统计上述数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后加以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析比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324000" y="189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探 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2843280" y="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茎叶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5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4"/>
          <p:cNvSpPr/>
          <p:nvPr/>
        </p:nvSpPr>
        <p:spPr>
          <a:xfrm>
            <a:off x="1835280" y="1989000"/>
            <a:ext cx="4752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 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2195640" y="4149720"/>
            <a:ext cx="4752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9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3     4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06:02:54Z</dcterms:created>
  <dc:creator>YUJH</dc:creator>
  <dc:description/>
  <dc:language>en-US</dc:language>
  <cp:lastModifiedBy>a</cp:lastModifiedBy>
  <dcterms:modified xsi:type="dcterms:W3CDTF">2015-03-18T06:06:51Z</dcterms:modified>
  <cp:revision>12</cp:revision>
  <dc:subject/>
  <dc:title>幻灯片 1</dc:title>
</cp:coreProperties>
</file>