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cashreg.wav" ContentType="audio/x-wav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laser.wav" ContentType="audio/x-wav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applause.wav" ContentType="audio/x-wav"/>
  <Override PartName="/ppt/media/image20.jpeg" ContentType="image/jpeg"/>
  <Override PartName="/ppt/media/image15.jpeg" ContentType="image/jpeg"/>
  <Override PartName="/ppt/media/camera.wav" ContentType="audio/x-wav"/>
  <Override PartName="/ppt/media/image13.jpeg" ContentType="image/jpeg"/>
  <Override PartName="/ppt/media/image2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858-1351-4DC1-9FA0-43EFE806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C98-66DE-4158-BB1C-836147A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01CF-52C2-45D9-860F-916F3AE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B030-D6A9-4BC2-ABFD-7BDFF52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042D2-AECC-4455-AB06-40EF0F1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994F-6B6A-4D8B-BD89-B05A927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CF94E-FA2F-4BB7-BC80-939F73B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CE0F-7325-4314-81F2-91CE492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23EE8-CC91-4E19-A6B3-6427367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C0FE-3C4E-4206-940C-24FC7731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03F21-3DE9-426C-ABE3-92D57DE5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8DA60-E0AA-4B35-9CA4-73147966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FC2-D0DF-48B0-ADBB-8FE56444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F1D9E-6000-4DFA-BAF2-E9C0E6F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8313-D32F-4EAC-9942-137BE10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25CFD-4A63-4E52-A99A-2F3A9DAD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8199-C05A-4523-A0C5-15BE4A5F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71142-6002-4FE4-BDC8-B47AABC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B7F58-A040-428B-8FAC-BE797957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5B28E-60E9-4435-B207-1BA1685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142F2-9B21-4AF7-9959-B243E30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BE58A-BAB4-41EF-BC31-FF7657D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9F453-CA79-4161-84F6-18BDAE7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E9B-55A7-412C-864D-8ECE152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F46D2-E74C-45DB-8865-172C06B2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8083C-68F1-4C4B-902C-E316FF1E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5E6CB-E7BC-4B34-80D8-E72D50F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8F135-F7C2-42A0-AF29-6CA9782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4CD23-E7C2-4658-BD2A-1604E55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E7CED-E5A4-4303-AC06-514E86D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1407-7358-444C-AA00-7579B74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D7B73-80AD-4C95-AA5A-5A34047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B89F6-0F8C-4CEF-A734-E116A0E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6AC64-1ACF-4686-A603-695BF17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1EE-F96C-4557-B47B-C26FAB79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176B-E4F9-4FF7-97A6-6483C019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FC60-40ED-41BA-B4CA-D5AD1F9A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32A1F-B8D5-4C0D-8850-507339A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6D4C5-42AA-4888-88E4-E71596D7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A905B-50EA-4C45-99F2-094E0264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6A6CC-7F9E-41F4-8C38-43E60C6A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20ED3-2EF5-47DE-B9B7-D532A40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EC928-628A-45A1-AD17-D2D0D44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6BFE6-D0D1-403B-AF30-CC989F7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2CDDD-05A0-444D-80E0-662DB91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57DA-4871-4BA7-91DF-D124744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1A948-9593-40C1-ADDD-DE6A2838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2C44F-1A0E-4508-A282-C2A2C2A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D46F8-0113-4DA0-B8BA-D6F542E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58E9D-A8F3-4038-8CB1-6447BB11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A7985-4DB5-4628-917E-AF00C7B6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F13BA-AC85-4FA0-A69F-98BC4A49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8BC0C-80EC-4B91-9900-39E7D15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D9A23-703D-4790-888E-B352039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8EDF8-0766-4D87-A4CA-68C993DD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39087-5054-4224-AC59-63A6E143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0178-9A80-4F21-8D69-F96687C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97E8C-D99D-43E4-AA06-A3BFA20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F0138-7B03-4DE5-88B3-7B57519A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D2887-D10A-4C7B-A339-24FBEA0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9CF13-D6C4-444F-B741-66E73DB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610B6-279B-4D52-94BC-42FD0B8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7312F-A8BB-4BA4-B0B3-42FB5118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74F09-525C-4208-9E67-B178092A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7DB98-56A5-4377-ADFD-9C143742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B1381-3AA6-4726-AC33-39ED296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D18F8-9824-46EC-87C0-B0BE9C87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F31-44E6-4E07-9BF6-4303338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D2666-25B9-4A75-B09D-179FC683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11391-92C2-495F-9B34-316A1F24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5CB2F-3B2F-426E-815E-44806E03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AC5CA-1DA3-4E14-95C1-15FFF792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49904-0D7A-4DF0-B85C-A04DEAA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3B994-C574-452A-8868-377438F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069B2-6300-4688-BBA5-AF8465F9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D6F85-793D-4377-B3E3-E4DFF45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D147C-E5C3-4303-A10C-631CAA1D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E561E-592C-4047-A07E-F3A79626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73F9-E3BC-4D16-9D0B-A005867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EF5C2-BDAB-44DB-BB84-80855173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543A4-171B-401A-81AC-6DBBA67B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5949D-C1BF-46FF-AE01-611CF82B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D1A9E-5034-478A-BFA6-16A3E9A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BD921-CE81-45F2-AB61-4C5EFF7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CC495-5EBB-496D-BBF3-BFAF019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76F0B-2E81-4658-8659-38F077B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4B800-B087-4BC2-AB1A-A6B3AE0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04861-B738-471D-9E9B-9BC8372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D317A-76EE-4728-B17D-E9C27261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AA2D-8E02-419D-B8D0-EDA6924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8983F-8A89-4347-8681-82F1098A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39721-9D39-4A7B-8FBF-645DF4FF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43991-4685-46A1-94FB-4D9828BC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93BC9-D855-41B4-8959-DFA6DF93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B8329-DB3F-415F-BC72-87B01D95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FA3DC-C285-4A55-B351-1533983D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99996-9CC2-4638-9653-8DC9356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8D9D4-E3D2-4AC3-A746-AB233B5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93A68-0B6C-4298-9F34-BEC0E25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2BA90-A816-476E-92E1-85E8194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BCFE-AB58-431B-BD7D-F7508CC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B7FED-C2DE-4B13-AF48-514FC80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F9636-B278-4B4D-8AEB-DA3907A9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33B5F-5A91-4E27-80AB-4643C98B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7CAFE-DD24-45A7-AB69-B9D8ED40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719DC-ACD4-46AD-A9B1-85FDA0C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6BFA2-EC82-46EB-A2E0-5E148B1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97591-CF9E-4A88-9391-5100D837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5AEE4-D93C-4A27-A392-1B497B7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8E5B2-6285-48F6-A909-0C0673F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3B512-B2D5-4F75-8D45-6645DE1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085-51A0-4C13-BD29-1F61A074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0CAC-E8C7-4363-99A3-E148B61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A8DBE-86FD-46F9-94AC-21302FB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3E5CA-202F-4E52-9541-23441574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169AF-5873-459C-AD55-653631A9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10B51-E442-4CF7-BF11-3A23FB1D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7B4C7-0EA2-4F20-BB4C-137310A5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C52D-77F2-42FB-843E-61568FA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0249-026C-4BB8-857C-A4F1104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691-FA9B-4066-B2E1-4814B790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C9BA-87EE-4469-A1CA-A9099131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9B3D-D4A8-4C04-B59D-30CE8CDA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8004-8A3A-4984-9460-AAD97C0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07B3-4644-4975-9733-E36352D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4A4D-200E-4795-B4B8-7499FB1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3B2B-BA46-4DB3-99BD-852D354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117-CB0D-47C1-B583-9E8415F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9715-B0B4-4BF8-BF5B-F9DB143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8723-BC60-4BA1-B3B8-0170A17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DCFC-20B3-4560-AD81-3672262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7039-58E1-4506-A32F-6A029EF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8238-C59A-4286-B299-CE38931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7C43-B3B1-4DE6-BA7C-3766C1C6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24A9-5BDE-401D-ABC3-91E48E38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1939-D09D-47E0-8B5A-383E24C6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6673-0A6F-4819-A8F6-590FAABF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B9B8F-6382-4A60-BA76-0173D19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2A5-AD35-4756-82BF-C5B2CB1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CDC5-B1E8-4776-926E-123174C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50C5-0FF2-4282-B1EB-197DAA2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7B2F-1D53-4925-8398-F776620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6F17-1179-48E2-A3AC-2FDEADC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68B4-F894-4702-876C-325147B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6C8D-6466-4800-BC71-ACB1094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49B9-3719-455D-B8FA-E8B083F9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7575-6624-4212-ACC1-6CAA48C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691F-C2A4-4BD7-AE4C-88195A9E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9317-B97F-4F89-BD18-C54D0DB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356-D766-491A-929D-E0C4FE42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DF93-B604-433E-A204-9529E974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8AB3-60E0-4A16-8926-AA94F288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3F57-7E5F-461C-8C48-6770E400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9E61-7EA0-474F-9861-3C85998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AE8D9-91EE-467A-980D-0501B88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DC9F-40DE-4106-BA6C-28E6D9C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7691-93D5-4DCE-ADCD-53C4157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5E34-9358-40A5-A4DF-FD32084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59C4-8312-4F10-8442-66830877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3ADE-C51D-41E1-B314-734D9BAD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F79-DADE-4C91-8B93-67093F77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E6F2-653A-470C-B632-BAADC216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9A97-AADB-4F32-B045-A84CA8A7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8639-A7C0-4C0D-9996-55FF735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AC5D-F45A-4A05-A8CE-F46318B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AB482-E579-41FA-AA8B-1719AEF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4493-E609-4CA9-A888-205E128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C5DC-9E5A-4CBA-9B58-784C194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C8D7-E050-48E6-935E-7408A43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A264-5DD0-4732-AFA5-D79ECB8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43D1-654B-4176-BF3E-A8B48CD4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961-CD96-4C35-A340-7CE7F43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77AA-FFCC-40D7-971F-1F9C692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0B79-0DFC-460B-BA6C-7E29A802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4BC6-A192-44DD-9445-F77B7B90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F4C7-738E-434D-9E94-DE0AE61E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32206-9CE5-412C-950F-D11D4BB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97D8-A455-44E6-97D8-B70F094A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B672-3E8D-4855-95B6-C4ECA17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2521-EE5D-4184-86CB-1A4EF717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B4DF-E295-4941-A740-4411EF2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A9AC-6E53-4D30-B5B2-7043718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4A5-CDD0-4C06-8BE3-9180E9D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43D6-576E-48CC-BBE2-1CCAE2D7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812C-B917-4C06-B7B6-0BD5C6C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5C4F-D1D7-44AF-BD05-09D19FE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D0E8-B4C2-42FB-8D1A-F2C5724F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F295-02FE-475F-B080-3049D37C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940FF-BDDF-4899-9834-A3ABDCC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031B-6252-4CF4-8B1D-5B976D0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9816-6DC8-4AAA-933B-9C2750A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01A53-2931-4070-B30B-4579FD1B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93CF-ED81-486B-A30B-DFC20ED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DD9-18E8-41CE-B2F2-82C90E9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7FCC-0987-47BB-9385-94F4F3E8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3A6C-D975-4F20-8541-AD38E6F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93B2-655C-4A3E-92F7-7100F37F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A7A1-C143-438E-8736-D425671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F17F9-8670-4F92-96B1-8336656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8ACC-BAF8-45A7-ACF5-6E8D97B8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2628-6495-4C8E-AD22-E92E90B2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7FE60-B160-41E6-AB06-548DB440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3A2A4-DD82-4C34-845E-B845DB1A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FA39-F67D-43CD-B496-CAE6962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18E1-EDCE-4605-BB5F-F29B9A90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A8E-554E-4EAA-9A55-12D5BB9B0765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2F2-F176-4E9F-9492-89D59A2B18E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5D0-3325-47DD-9F75-8292B7F7798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C0E-0027-4447-B68F-8541013D47C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9589-7955-4EE3-B8CA-24986CE1C6F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8FDE-1DF0-4339-B310-049E7957966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9EB9-E9C3-4E4F-9F1B-4FAD796DB02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91A-BC7F-4CA6-9002-A4511D22BF35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657-625D-4D0E-B40F-56673FCFA1F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8F10-86FA-4121-B68F-0DB11275EA5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C3B2-62B8-41DB-8010-606DA77BC64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187F-1EC6-4A2C-9933-0523989F8E6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F21A-AE55-4AF1-9F8F-85663799319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BA3-4F58-4FBB-AAFA-8F8D7401F35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9FB-CE8B-41E4-A9B8-BD2B9644D0B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A5A-8DFC-41A0-8AD3-5BE2AFEBA65E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42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8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661-08BF-498E-A789-86016255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88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E4C-8847-4DA6-B65B-4832DB242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9E4-844B-45C7-AF91-092BDE6CEA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CEC-41B2-4CCA-8E06-0BDA0906A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4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8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9F6-0727-4300-9C95-06A6C932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220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0AB-4BD5-4B54-966B-E3E14CFF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D371-9A6D-4A1A-A23C-F65857AE00B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60D-73D7-438A-ADEA-AE0B38AB9B7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FCE-1DF8-4666-B451-C79FD6A2579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563-5FF0-42A6-B673-72CD3856F455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58E-4CA1-4775-BC4E-5690C1960EF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4C2-3B8D-438A-80A7-0CFADD86488F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图片2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会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17" name="WordArt 6"/>
          <p:cNvSpPr txBox="1"/>
          <p:nvPr/>
        </p:nvSpPr>
        <p:spPr>
          <a:xfrm>
            <a:off x="971640" y="1484280"/>
            <a:ext cx="280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嫦娥奔月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8" name="WordArt 9"/>
          <p:cNvSpPr txBox="1"/>
          <p:nvPr/>
        </p:nvSpPr>
        <p:spPr>
          <a:xfrm>
            <a:off x="3635280" y="3213000"/>
            <a:ext cx="266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宇宙飞船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344600" y="2019240"/>
            <a:ext cx="661680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创艺简隶书"/>
              </a:rPr>
              <a:t>小组学习讨论，太空生活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创艺简隶书"/>
              </a:rPr>
              <a:t>么有趣？与我们地面上生活有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创艺简隶书"/>
              </a:rPr>
              <a:t>么不同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4" descr="业３ 拷贝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716292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睡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喝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走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洗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>
            <a:off x="5796000" y="692280"/>
            <a:ext cx="144360" cy="3960720"/>
          </a:xfrm>
          <a:custGeom>
            <a:avLst/>
            <a:gdLst>
              <a:gd name="textAreaLeft" fmla="*/ 0 w 144360"/>
              <a:gd name="textAreaRight" fmla="*/ 52200 w 144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443640" y="1484280"/>
            <a:ext cx="107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失重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8" descr="4.gif (7056 字节)"/>
          <p:cNvPicPr/>
          <p:nvPr/>
        </p:nvPicPr>
        <p:blipFill>
          <a:blip r:embed="rId2"/>
          <a:stretch/>
        </p:blipFill>
        <p:spPr>
          <a:xfrm>
            <a:off x="8229600" y="60958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宇宙飞船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站着睡觉和躺着睡觉一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。不过，要想睡上一个安稳觉，宇航员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必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自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睡袋里。不然，翻一个身，就会飘到别处去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4" descr="4.gif (7056 字节)"/>
          <p:cNvPicPr/>
          <p:nvPr/>
        </p:nvPicPr>
        <p:blipFill>
          <a:blip r:embed="rId1"/>
          <a:stretch/>
        </p:blipFill>
        <p:spPr>
          <a:xfrm>
            <a:off x="7667640" y="587700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喝水的时候，如果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普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，即使把杯子倒过来，水也不会往下流。因为在宇宙飞船里，水失去了重量。宇航员要想喝到水，得使用一种带吸管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料杯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4.gif (7056 字节)"/>
          <p:cNvPicPr/>
          <p:nvPr/>
        </p:nvPicPr>
        <p:blipFill>
          <a:blip r:embed="rId1"/>
          <a:stretch/>
        </p:blipFill>
        <p:spPr>
          <a:xfrm>
            <a:off x="7667640" y="587700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宇宙飞船里走路更有趣。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使劲就会飘到半空中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咳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声就有可能后退好几步。为了能平稳地走路，宇航员都穿鞋底带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鞋子，好牢牢地钩住带网格的地板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4" descr="4.gif (7056 字节)"/>
          <p:cNvPicPr/>
          <p:nvPr/>
        </p:nvPicPr>
        <p:blipFill>
          <a:blip r:embed="rId1"/>
          <a:stretch/>
        </p:blipFill>
        <p:spPr>
          <a:xfrm>
            <a:off x="7667640" y="587700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宇宙飞船里洗澡可不是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容易事，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头喷出来的水总是漂浮在空中。为了解决这个难题，科学家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一种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器，它可以把喷出来的水朝一个方向吸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4" descr="4.gif (7056 字节)"/>
          <p:cNvPicPr/>
          <p:nvPr/>
        </p:nvPicPr>
        <p:blipFill>
          <a:blip r:embed="rId1"/>
          <a:stretch/>
        </p:blipFill>
        <p:spPr>
          <a:xfrm>
            <a:off x="7667640" y="587700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填空：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知道太空的趣事很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趣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趣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趣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"/>
          <p:cNvSpPr/>
          <p:nvPr/>
        </p:nvSpPr>
        <p:spPr>
          <a:xfrm>
            <a:off x="1042920" y="3933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知道，这些有趣现象的原因是在宇宙飞船里，存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现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1476360" y="249228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睡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3851280" y="249228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喝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"/>
          <p:cNvSpPr/>
          <p:nvPr/>
        </p:nvSpPr>
        <p:spPr>
          <a:xfrm>
            <a:off x="6372360" y="24922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走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2124000" y="2997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洗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4067280" y="4365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失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认一认：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舒服       必须       绑住     水杯        咳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子        条件      喷头      设计        淋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523880" y="1371240"/>
            <a:ext cx="5600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808000"/>
                </a:solidFill>
                <a:latin typeface="宋体"/>
                <a:ea typeface="创艺简隶书"/>
              </a:rPr>
              <a:t>你们还知道太空生活还有哪些趣事吗？是怎么知道的，谁来向大家介绍？</a:t>
            </a:r>
            <a:r>
              <a:rPr b="0" lang="zh-CN" sz="3200" spc="-1" strike="noStrike">
                <a:solidFill>
                  <a:srgbClr val="808000"/>
                </a:solidFill>
                <a:latin typeface="Arial"/>
                <a:ea typeface="创艺简隶书"/>
              </a:rPr>
              <a:t> 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051012092808ls05101214"/>
          <p:cNvPicPr/>
          <p:nvPr/>
        </p:nvPicPr>
        <p:blipFill>
          <a:blip r:embed="rId1"/>
          <a:stretch/>
        </p:blipFill>
        <p:spPr>
          <a:xfrm>
            <a:off x="539640" y="333360"/>
            <a:ext cx="7417080" cy="593244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</a:rPr>
              <a:t>准备</a:t>
            </a:r>
            <a:endParaRPr b="0" lang="en-US" sz="60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051012092818ls05101217"/>
          <p:cNvPicPr/>
          <p:nvPr/>
        </p:nvPicPr>
        <p:blipFill>
          <a:blip r:embed="rId1"/>
          <a:stretch/>
        </p:blipFill>
        <p:spPr>
          <a:xfrm>
            <a:off x="539640" y="217440"/>
            <a:ext cx="7993080" cy="639432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</a:rPr>
              <a:t>点火</a:t>
            </a:r>
            <a:endParaRPr b="0" lang="en-US" sz="60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" descr="051012092826ls05101218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39468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5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4" descr="051012092906ls05101219"/>
          <p:cNvPicPr/>
          <p:nvPr/>
        </p:nvPicPr>
        <p:blipFill>
          <a:blip r:embed="rId1"/>
          <a:stretch/>
        </p:blipFill>
        <p:spPr>
          <a:xfrm>
            <a:off x="468360" y="146160"/>
            <a:ext cx="8064360" cy="6451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</a:rPr>
              <a:t>升空</a:t>
            </a:r>
            <a:endParaRPr b="0" lang="en-US" sz="60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051012094926ls05101225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051012092913ls05101220"/>
          <p:cNvPicPr/>
          <p:nvPr/>
        </p:nvPicPr>
        <p:blipFill>
          <a:blip r:embed="rId1"/>
          <a:stretch/>
        </p:blipFill>
        <p:spPr>
          <a:xfrm>
            <a:off x="684360" y="318960"/>
            <a:ext cx="7848360" cy="627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xin_46210021706201403006148"/>
          <p:cNvPicPr/>
          <p:nvPr/>
        </p:nvPicPr>
        <p:blipFill>
          <a:blip r:embed="rId1"/>
          <a:stretch/>
        </p:blipFill>
        <p:spPr>
          <a:xfrm>
            <a:off x="1619280" y="0"/>
            <a:ext cx="6337440" cy="47973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95280" y="4797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知道宇航员在太空中怎样生活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起来还挺有趣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00"/>
                </a:solidFill>
                <a:latin typeface="Arial"/>
              </a:rPr>
              <a:t>32</a:t>
            </a:r>
            <a:r>
              <a:rPr b="1" lang="zh-CN" sz="6000" spc="-1" strike="noStrike">
                <a:solidFill>
                  <a:srgbClr val="808000"/>
                </a:solidFill>
                <a:latin typeface="Arial"/>
              </a:rPr>
              <a:t>、太空生活趣事多</a:t>
            </a:r>
            <a:endParaRPr b="0" lang="en-US" sz="60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0:57:03Z</dcterms:created>
  <dc:creator>chenmc</dc:creator>
  <dc:description/>
  <dc:language>en-US</dc:language>
  <cp:lastModifiedBy>a</cp:lastModifiedBy>
  <dcterms:modified xsi:type="dcterms:W3CDTF">2015-01-22T02:40:13Z</dcterms:modified>
  <cp:revision>11</cp:revision>
  <dc:subject/>
  <dc:title>幻灯片 1</dc:title>
</cp:coreProperties>
</file>