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DFD-D307-49CC-B32C-2DF9DF85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D6B-611A-46C4-9A63-EE39BDAB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DDCA2-66F9-48B2-B191-7E41D861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14F91-6B7E-4549-B54D-0701E9FA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E4C85-8F9B-4885-9BE0-A7F33E5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883CE-07D6-4500-9460-DAB9F6C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5F81B-85F9-43F4-8730-B3542A8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73C1B-AFC8-4B1B-8F4D-E8DCE09E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B1CA7-B276-465C-A659-65FC78A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0819-C43C-46D7-944B-8D554151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5101-9D7D-4829-8997-B2AA68B1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2E834-97E9-4E68-94BB-4C959AC3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86C-3EC6-4667-A0FB-215DCC45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4D77E-8AD2-4575-A47A-F9AEBE9B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EACE-768E-42F5-8D85-5DA59CC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0047-E002-46CF-BEE8-D3666E8F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1B529-22FF-4F23-9661-C5C4C78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27184-03F8-4E06-90EF-FC5B7B6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0226D-01C4-443E-9006-79C7CB3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23F62-CB18-40BF-8D08-8CC2A64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061B-4823-430D-84D1-61F0AA3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99DDE-8A7B-491A-B0D8-6C94B8D1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72382-61DE-4244-9ADE-3987091B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59E-C73A-4D50-BF14-D9178BCC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1C8B2-D46D-49C1-9B1F-45A91657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84FA-1F99-454F-9A00-41D245D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9C69C-1457-452C-B9B8-5E4E308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AF3AC-7BB3-4E96-B0F3-FA86A85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6DBC-0A0B-4B46-8C90-FB47175C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3CDB-428E-4D1B-962C-BB9D0BDC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87888-6130-4C73-A042-B455409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8C9C-E6B6-4E71-8B1B-0CEB33D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0203B-E757-4443-A1FC-EFC19C0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FEAF-B313-43BD-BE98-1F3CF6C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1E3-DA36-49F9-9E1F-671190E1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61936-BCB3-46F4-88FC-DADFA9A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40335-1FC1-4BBD-8651-C4C86C7A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103DC-95AA-4FB4-AFEA-3F9B7BA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C834F-DF48-46D8-80E7-96DC6621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7BC4-A612-47C1-99C6-535703A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3B631-50C5-48EC-929D-E19AE37B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6013E-85A1-4C55-AC70-D536174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814A4-24DE-4FE8-8064-BB2DA8FD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A8A26-A0E6-439B-BB70-E5E8A39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A8E77-EE5B-4454-A920-9D6085E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5D05-3966-47AE-B08E-5BB48D7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42F67-3A88-4BE4-B00A-6104FBE9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330D7-7F0E-4351-8CC3-0AF3184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E31C-DE37-40FF-BFBA-7B882D8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2601F-CBA2-4216-B42F-F8693832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17DAA-696D-4B69-9FE8-0F055FD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62911-C31D-40C9-B63B-D0962849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5A049-CD88-417C-97A0-C87C9A4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D50DB-0340-4C06-B985-66937AC8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B5D2B-54BE-4D13-B25A-4066E46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4FECB-8DAA-4A5C-83D5-86703755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22CA-0337-430D-8188-E52C1D2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2FC7C-7229-40A7-ABCD-23F5F840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B7029-0F76-4AE3-810F-98C4231C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D5C1-A39B-430D-8338-AE45CC5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E877C-91EA-4707-8390-5E0EAA24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CE23F-8C8D-43B3-9F36-D81D5679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AE477-5926-46DB-8D56-F308870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E7535-B552-4344-998F-49B2777D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27AC-599F-4E56-9B21-38666A0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9BCC-06E9-4195-83CF-35F535C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86E-10F1-4399-BB9F-F76AD9B4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D3A-BB8B-4F35-87F5-361E872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872-0802-4CC7-B9F9-7EFE17D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E7BF-E317-4BD2-AA74-966329C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9CD2-A6B9-4A88-A6B1-10A3DCA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711-37B0-4F59-BFD4-A01F96D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3C7-B63E-49AD-848F-025F15C6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C0D0-8101-4AD6-9CBE-6C30902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ED7F-BF94-4732-BF0F-42EF75E4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3B8A-0B29-4EFF-AA2F-CFA4443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DCB2-6298-4A6C-8E37-E529736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9239-1CFD-4901-BAE9-A0EF1DD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6F66-5DA5-4875-A0E1-0E913375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8FD-1A1A-4D53-A1FE-1235EC81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5A3D-49B2-4CFC-9DEE-BCC8AE8C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6329-7E55-430B-9B65-173B5DF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78F4-A40F-4A9C-BACF-056F37D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E677-DEE2-4303-8FBA-6AA9309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D39B-8DB7-4772-B78F-60B79004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BD75-6C34-42BE-B100-E201C153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93CB-198E-4821-ACC7-BC596DC1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B88D-012B-4CFC-83EB-0F9CC4D3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BE31-2038-4961-963B-8E3D69C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20A7-5859-4D4F-A627-AD2E18E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57B-BBBD-4E73-9790-89F10319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DD6D-9FFE-44BC-8E0A-4AA485E1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22E9-3BF0-4357-8F79-3ADCDC9F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6DF7-9E3C-48A1-954D-42FD753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336D-3453-4005-9077-EB9B65F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E6E7-6C09-41F8-B1E0-3841553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CA36-0EFA-4A55-A2DD-D583DD2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F2A6-17FB-41F2-B619-D50C5F97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AA85-73AA-48AC-8781-53946AC4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6382-2037-430E-A929-1D83DB30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77F9-4134-4A88-AF56-573DF004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40C-1F57-484E-BC67-1F80114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F47C-712C-4709-93C1-0B4788D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C1FC-31B9-4A7B-A006-5E59AA15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C94A-C473-47A6-B559-A01B78A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D485-369B-40D3-BC3A-0BC01AA1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10B8-AABA-47C0-8048-E75C6D72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47A2-F127-41D0-9371-512628D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5B07-58B9-48EC-95CF-A9F07FF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881F-2A23-44A0-93CF-D25B3B0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03BB-D680-4D90-879D-DF0D471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A909-D32F-4E78-9F7A-0FA878B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BFE-5F24-4453-8675-C07637A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C15C-2907-4AE1-AF43-F4427FA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E95B-D702-4F60-A4D7-2F6C4104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80C2-85BA-46E9-95F4-8CE8A99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ECBF-1F0B-4D18-866D-7576071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CE50-46EC-467F-8D18-69065E2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53EC-A06D-4D0A-AB8C-ACD7ADF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A74E2-C01A-4ADF-8D5A-341956DE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4DF9C-4025-487E-884D-AE4C23D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26AC-CA14-4161-BF53-06379A5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6042-3443-46C2-8B50-FAACD6B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423-F14E-4A50-9257-7BBA2BA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0D5E-F2D7-452D-82B0-E632905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6CEA-9186-4C22-95A4-2A810008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AF0C-8ED4-4313-8381-F805D9CF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3432-B354-4521-B86D-B6CC5E49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0133-9245-4745-9865-4FEE05D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F3FE-1398-4385-8322-A6A03647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739A-CC51-4824-8E55-BAE0352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3AD0-701A-48B0-8C2A-227AFA5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A06D-4B31-4FF9-9BCD-861D7D00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A97A-73CA-4C47-9D2A-C22F939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944-7B8C-4429-A23E-39B3C71B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FA68-0270-4B9E-A517-5BE54E2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ACAC-FD1E-4240-BC5C-A41FFFA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7B81-3C77-4725-BE26-6BAC972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68E1-2F1F-450D-9BDB-5C29A68B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B392-1B41-40D0-8F64-516BFD45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794C-AD2D-465B-8770-242E4CAD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F061-FF36-4F3E-A46E-3FE8BDF3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08B3-73CC-4224-A5B0-957762B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68FB-57A6-428F-8AB8-1AFB6F78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A364-E1A5-42C7-9E5B-96B93A7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083-3BCB-487D-B9F6-8298C86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5C8C5-B231-4A24-9AC8-78FFC1CA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D0F1-F28D-4C22-B3D6-4846BAE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1459-897A-442B-88A8-5D79F4A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8F2FD-81AA-487F-A530-014F6A8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7236-A586-4F53-AD22-3ED54B5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573F-B20F-4789-8DDC-C81DE1B3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7CAB7-5DF8-489E-BEA6-1B8D3667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DFA5B-ABAB-4612-A6B6-C40D512C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A1526-9EFC-4189-863B-2D583111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42421-75C1-4AA0-915A-AD57901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6E1-2A11-4FAC-86EA-6A870AF9B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825-82A8-48F1-80D2-3A45D3C7DA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079-284F-4E26-A53F-B1C0809490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B31-E86E-4497-82A1-0478B057DB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7AA-1FF5-4D4D-8F66-96600CF37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8B6F-51AE-441E-B28E-44F6688B82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DB12-EADD-4C4C-BCBE-9F14DE7DC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73B-F791-4E5B-9DB0-E9B648A5AD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A37-06EF-4AFB-B7BA-70CE60F398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B339-2CC2-4E92-83F8-C47FEB428E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3097-872E-40BA-9294-06F93001E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B81-4BAE-429D-B558-D98227F458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FAB-A25E-4651-804F-21ACA12A3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E203-C0B6-495E-BBD1-52DFFB34A2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138-AFBA-4A42-B851-045F688E2B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A9E-58DE-4043-B09F-F9A852694A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9259-778A-4BDC-B9F7-43A2268DB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0127-AF70-4785-A98B-C5C4F55AA7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1C7-DDD2-4ED4-A103-23E4D86FAE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D0A-B792-41AA-A4F4-4EE44E65FA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C4AB-AEB2-4345-9CA3-11C2F1AD3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F164-956A-4296-B466-2C51F17D55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8820-DAE1-494E-817D-F6067A2F93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4998-B66E-47BA-A9A9-07DDBAC610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C7E7-F246-475C-B37B-1AC0CC418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109"/>
          <p:cNvPicPr/>
          <p:nvPr/>
        </p:nvPicPr>
        <p:blipFill>
          <a:blip r:embed="rId1"/>
          <a:srcRect l="0" t="0" r="0" b="12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85800" y="457200"/>
            <a:ext cx="7543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天上的街市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一文中由地上的街市写到天上的明星，是（        ）然后写到天上的街市、浅浅的天河和牛郎织女自由自在的生活，是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由一事物想到另一事物的心理过程叫（        ）；在原有感情基础上创造出新形象的心理过程叫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5181480" y="182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5562720" y="2940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1219320" y="4311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334120" y="4876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304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温故而知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图片1gfrrw"/>
          <p:cNvPicPr/>
          <p:nvPr/>
        </p:nvPicPr>
        <p:blipFill>
          <a:blip r:embed="rId1"/>
          <a:srcRect l="0" t="0" r="0" b="63"/>
          <a:stretch/>
        </p:blipFill>
        <p:spPr>
          <a:xfrm>
            <a:off x="6480" y="0"/>
            <a:ext cx="9137520" cy="6886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838080" y="533520"/>
            <a:ext cx="297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练兵工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752480" y="22096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请结合本课内容，以“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由圆角而想到的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”为题，展开想象，体裁不限，写一篇文章，不少于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图片122"/>
          <p:cNvPicPr/>
          <p:nvPr/>
        </p:nvPicPr>
        <p:blipFill>
          <a:blip r:embed="rId1"/>
          <a:srcRect l="0" t="0" r="0" b="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800000"/>
            </a:solidFill>
            <a:miter/>
          </a:ln>
        </p:spPr>
      </p:pic>
      <p:sp>
        <p:nvSpPr>
          <p:cNvPr id="541" name="Text Box 3"/>
          <p:cNvSpPr/>
          <p:nvPr/>
        </p:nvSpPr>
        <p:spPr>
          <a:xfrm>
            <a:off x="383400" y="380880"/>
            <a:ext cx="1826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发散思维  展开想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图片1"/>
          <p:cNvPicPr/>
          <p:nvPr/>
        </p:nvPicPr>
        <p:blipFill>
          <a:blip r:embed="rId1"/>
          <a:srcRect l="0" t="0" r="-33" b="-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57200" y="1752480"/>
            <a:ext cx="50292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了解联想和想象的基本常识，培养联想和想象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培养口语交际能力，做到条理清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培养科学探索的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4" descr="pic143"/>
          <p:cNvPicPr/>
          <p:nvPr/>
        </p:nvPicPr>
        <p:blipFill>
          <a:blip r:embed="rId1"/>
          <a:srcRect l="0" t="0" r="0" b="-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6" descr="图片2222"/>
          <p:cNvPicPr/>
          <p:nvPr/>
        </p:nvPicPr>
        <p:blipFill>
          <a:blip r:embed="rId2"/>
          <a:stretch/>
        </p:blipFill>
        <p:spPr>
          <a:xfrm rot="1039800">
            <a:off x="6095880" y="420840"/>
            <a:ext cx="2732040" cy="2855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"/>
          <p:cNvSpPr/>
          <p:nvPr/>
        </p:nvSpPr>
        <p:spPr>
          <a:xfrm>
            <a:off x="838080" y="117144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请大家围绕下面两个几何图形展开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4754520" y="2895480"/>
            <a:ext cx="2865600" cy="3445200"/>
            <a:chOff x="4754520" y="2895480"/>
            <a:chExt cx="2865600" cy="3445200"/>
          </a:xfrm>
        </p:grpSpPr>
        <p:pic>
          <p:nvPicPr>
            <p:cNvPr id="548" name="Object 13" descr=""/>
            <p:cNvPicPr/>
            <p:nvPr/>
          </p:nvPicPr>
          <p:blipFill>
            <a:blip r:embed="rId3"/>
            <a:stretch/>
          </p:blipFill>
          <p:spPr>
            <a:xfrm>
              <a:off x="4754520" y="2895480"/>
              <a:ext cx="2865600" cy="32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8"/>
            <p:cNvSpPr/>
            <p:nvPr/>
          </p:nvSpPr>
          <p:spPr>
            <a:xfrm>
              <a:off x="5516640" y="5759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21"/>
          <p:cNvGrpSpPr/>
          <p:nvPr/>
        </p:nvGrpSpPr>
        <p:grpSpPr>
          <a:xfrm>
            <a:off x="1295280" y="3048120"/>
            <a:ext cx="2362320" cy="3058560"/>
            <a:chOff x="1295280" y="3048120"/>
            <a:chExt cx="2362320" cy="3058560"/>
          </a:xfrm>
        </p:grpSpPr>
        <p:sp>
          <p:nvSpPr>
            <p:cNvPr id="551" name="Oval 3"/>
            <p:cNvSpPr/>
            <p:nvPr/>
          </p:nvSpPr>
          <p:spPr>
            <a:xfrm>
              <a:off x="1295280" y="3048120"/>
              <a:ext cx="2362320" cy="232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9"/>
            <p:cNvSpPr/>
            <p:nvPr/>
          </p:nvSpPr>
          <p:spPr>
            <a:xfrm>
              <a:off x="1981080" y="5525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Text Box 23"/>
          <p:cNvSpPr/>
          <p:nvPr/>
        </p:nvSpPr>
        <p:spPr>
          <a:xfrm>
            <a:off x="119700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JDSJ066"/>
          <p:cNvPicPr/>
          <p:nvPr/>
        </p:nvPicPr>
        <p:blipFill>
          <a:blip r:embed="rId1"/>
          <a:srcRect l="0" t="0" r="0" b="50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"/>
          <p:cNvSpPr/>
          <p:nvPr/>
        </p:nvSpPr>
        <p:spPr>
          <a:xfrm>
            <a:off x="533520" y="3808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看到甲，我想起了圆圆的汉堡包，在透着西方风格的西餐店里都有出售；看到乙，就想起了我们中国传统节日端午节吃的粽子；甲与乙和起来，就想到了中西方饮食文化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114.mid" descr=""/>
          <p:cNvPicPr/>
          <p:nvPr/>
        </p:nvPicPr>
        <p:blipFill>
          <a:blip r:embed="rId2"/>
          <a:stretch/>
        </p:blipFill>
        <p:spPr>
          <a:xfrm>
            <a:off x="6934320" y="49528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9" descr="图片109"/>
          <p:cNvPicPr/>
          <p:nvPr/>
        </p:nvPicPr>
        <p:blipFill>
          <a:blip r:embed="rId1"/>
          <a:srcRect l="0" t="0" r="0" b="12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2"/>
          <p:cNvSpPr/>
          <p:nvPr/>
        </p:nvSpPr>
        <p:spPr>
          <a:xfrm>
            <a:off x="685800" y="304920"/>
            <a:ext cx="7467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拼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角形两个，大小不论；线段两条，长短不论；圆两个，可大可小，也可是椭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13"/>
          <p:cNvGrpSpPr/>
          <p:nvPr/>
        </p:nvGrpSpPr>
        <p:grpSpPr>
          <a:xfrm>
            <a:off x="3505320" y="2438280"/>
            <a:ext cx="3848040" cy="2057400"/>
            <a:chOff x="3505320" y="2438280"/>
            <a:chExt cx="3848040" cy="2057400"/>
          </a:xfrm>
        </p:grpSpPr>
        <p:pic>
          <p:nvPicPr>
            <p:cNvPr id="560" name="Object 3" descr=""/>
            <p:cNvPicPr/>
            <p:nvPr/>
          </p:nvPicPr>
          <p:blipFill>
            <a:blip r:embed="rId2"/>
            <a:stretch/>
          </p:blipFill>
          <p:spPr>
            <a:xfrm>
              <a:off x="5562720" y="2438280"/>
              <a:ext cx="1790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Object 4" descr=""/>
            <p:cNvPicPr/>
            <p:nvPr/>
          </p:nvPicPr>
          <p:blipFill>
            <a:blip r:embed="rId3"/>
            <a:stretch/>
          </p:blipFill>
          <p:spPr>
            <a:xfrm>
              <a:off x="3505320" y="2968560"/>
              <a:ext cx="1350720" cy="122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14"/>
          <p:cNvGrpSpPr/>
          <p:nvPr/>
        </p:nvGrpSpPr>
        <p:grpSpPr>
          <a:xfrm>
            <a:off x="3733920" y="4800600"/>
            <a:ext cx="4343400" cy="76320"/>
            <a:chOff x="3733920" y="4800600"/>
            <a:chExt cx="4343400" cy="76320"/>
          </a:xfrm>
        </p:grpSpPr>
        <p:sp>
          <p:nvSpPr>
            <p:cNvPr id="563" name="Line 6"/>
            <p:cNvSpPr/>
            <p:nvPr/>
          </p:nvSpPr>
          <p:spPr>
            <a:xfrm>
              <a:off x="3733920" y="4800600"/>
              <a:ext cx="1066680" cy="0"/>
            </a:xfrm>
            <a:prstGeom prst="line">
              <a:avLst/>
            </a:prstGeom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7"/>
            <p:cNvSpPr/>
            <p:nvPr/>
          </p:nvSpPr>
          <p:spPr>
            <a:xfrm>
              <a:off x="5715000" y="4876920"/>
              <a:ext cx="2362320" cy="0"/>
            </a:xfrm>
            <a:prstGeom prst="line">
              <a:avLst/>
            </a:prstGeom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15"/>
          <p:cNvGrpSpPr/>
          <p:nvPr/>
        </p:nvGrpSpPr>
        <p:grpSpPr>
          <a:xfrm>
            <a:off x="3733920" y="5105520"/>
            <a:ext cx="3581280" cy="1600200"/>
            <a:chOff x="3733920" y="5105520"/>
            <a:chExt cx="3581280" cy="1600200"/>
          </a:xfrm>
        </p:grpSpPr>
        <p:sp>
          <p:nvSpPr>
            <p:cNvPr id="566" name="Oval 8"/>
            <p:cNvSpPr/>
            <p:nvPr/>
          </p:nvSpPr>
          <p:spPr>
            <a:xfrm>
              <a:off x="3733920" y="5638680"/>
              <a:ext cx="838080" cy="83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5715000" y="5105520"/>
              <a:ext cx="1600200" cy="1600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914400" y="3809880"/>
            <a:ext cx="2057400" cy="2590920"/>
            <a:chOff x="914400" y="3809880"/>
            <a:chExt cx="2057400" cy="2590920"/>
          </a:xfrm>
        </p:grpSpPr>
        <p:sp>
          <p:nvSpPr>
            <p:cNvPr id="569" name="Oval 10"/>
            <p:cNvSpPr/>
            <p:nvPr/>
          </p:nvSpPr>
          <p:spPr>
            <a:xfrm>
              <a:off x="914400" y="5410080"/>
              <a:ext cx="20574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11"/>
            <p:cNvSpPr/>
            <p:nvPr/>
          </p:nvSpPr>
          <p:spPr>
            <a:xfrm>
              <a:off x="1295280" y="3809880"/>
              <a:ext cx="106704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15"/>
          <p:cNvSpPr/>
          <p:nvPr/>
        </p:nvSpPr>
        <p:spPr>
          <a:xfrm>
            <a:off x="4876920" y="15238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16"/>
          <p:cNvSpPr/>
          <p:nvPr/>
        </p:nvSpPr>
        <p:spPr>
          <a:xfrm>
            <a:off x="4267080" y="4038480"/>
            <a:ext cx="3886200" cy="152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7"/>
          <p:cNvSpPr/>
          <p:nvPr/>
        </p:nvSpPr>
        <p:spPr>
          <a:xfrm>
            <a:off x="5029200" y="4572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8"/>
          <p:cNvSpPr/>
          <p:nvPr/>
        </p:nvSpPr>
        <p:spPr>
          <a:xfrm>
            <a:off x="533412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Object 19" descr=""/>
          <p:cNvPicPr/>
          <p:nvPr/>
        </p:nvPicPr>
        <p:blipFill>
          <a:blip r:embed="rId1"/>
          <a:stretch/>
        </p:blipFill>
        <p:spPr>
          <a:xfrm>
            <a:off x="722160" y="2514600"/>
            <a:ext cx="3083040" cy="33526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20"/>
          <p:cNvSpPr/>
          <p:nvPr/>
        </p:nvSpPr>
        <p:spPr>
          <a:xfrm>
            <a:off x="1523880" y="5911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青  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5257800" y="5911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绿  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533520" y="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隶书"/>
              </a:rPr>
              <a:t>根据所给图形，拼成一幅图，并给所拼图形起个名字，并说说它所表示的含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109.mid" descr=""/>
          <p:cNvPicPr/>
          <p:nvPr/>
        </p:nvPicPr>
        <p:blipFill>
          <a:blip r:embed="rId2"/>
          <a:stretch/>
        </p:blipFill>
        <p:spPr>
          <a:xfrm>
            <a:off x="7467480" y="5562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066680" y="6094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隶书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76212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四大名著之一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西游记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中，有一个人物最具反叛精神，他是（            ）他是通过作者的（        ）创造出来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990720" y="3048120"/>
            <a:ext cx="693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人们由鸟的形态结构创造了飞机，有蝙蝠发明了雷达，由水底的鱼制造了潜水艇，所以，联想和想象在现实生活中发挥着越来越重要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1828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孙悟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457200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图片107"/>
          <p:cNvPicPr/>
          <p:nvPr/>
        </p:nvPicPr>
        <p:blipFill>
          <a:blip r:embed="rId1"/>
          <a:srcRect l="0" t="0" r="0" b="-19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137160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请结合本课内容，谈谈你的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20:05Z</dcterms:created>
  <dc:creator>cgy</dc:creator>
  <dc:description/>
  <dc:language>en-US</dc:language>
  <cp:lastModifiedBy>a</cp:lastModifiedBy>
  <dcterms:modified xsi:type="dcterms:W3CDTF">2015-02-10T02:50:25Z</dcterms:modified>
  <cp:revision>18</cp:revision>
  <dc:subject/>
  <dc:title>PowerPoint 演示文稿</dc:title>
</cp:coreProperties>
</file>