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385-57BF-4C41-B4E5-B4836064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A7E-07D2-40C1-90C3-D4096020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31B46-8711-4BC6-B63E-4F346B65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330D6-50E0-4304-BB36-0C40F023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40BEC-9E91-4BC6-A628-1AE0CC26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884FA-2B65-4456-8D24-AD3CBEF0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EE0DB-E515-4403-852D-05B2F83C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DD748-1E1C-4777-9430-5FEB595F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FB0E1-3F35-4823-AD1B-1F5B22E8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6D6E5-6066-4F36-81F0-391A451F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051D4-4CFC-46ED-A8E2-772E0052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3E77D-FE5E-42A5-BC12-79E807B7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AA9-D6C7-4A38-9FF4-CDA52AD7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87789-76B0-4D86-B09C-60774BAD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9AE49-704E-4BCB-97DE-E7BA5D8F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EDE60-DC47-47F7-B5B8-2B392633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37FB9-41EE-47D1-804E-832D2BB3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8E2EF-0B81-4C03-A54B-7B7C86EA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8EA8F-10E0-4901-B07C-0B265485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60D6F-3FB5-4F90-842C-43697E32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4818E-1BA5-4AD4-B41B-A1950A78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0E20C-983F-4F38-AF3F-9D4A69E7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12A14-B060-4C22-8E5E-D5C9129D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AFB-CAAE-4399-B4FB-B5811305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B9800-BEDC-4587-AB33-755FC7A0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9D7AD-55CF-41B4-8CDF-39632B48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49D98-0F9A-41D4-8BE8-F24B9C66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F54F4-206B-41E3-979C-96B0EBA8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35217-E97D-4B3D-8237-1457336F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AEC55-0403-4AE9-8AF5-2CD810EF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8722D-09C3-48AA-A50A-DC922B7B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B5EBC-1B5F-4240-9C5D-C409F983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3944A-E905-4E64-A70B-E3347BA6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C5B7A-7886-47D0-B3E6-2A1AAC1F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76EA-3423-4B89-8A6A-86055C99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52300-2A15-46D4-BE16-A6A36187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A8FE9-81CD-44FF-BAD2-79B795AD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13695-709B-4420-B417-0A9B4F71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91646-ECCA-490F-A740-B29B4714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26E72-6E1E-41AA-A3A5-FFE3BD0F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5AE84-D831-4F40-BD66-DC611F26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CD100-E95A-442F-B56F-EA4F1442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82E80-2124-49A7-BC63-AF7C31DD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B8877-9AAE-4F85-A4D9-A374C1BE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C825E-47D5-497C-9A91-C2CA674E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A29A-A6A6-4660-96D9-5EC8E0C1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E1E6B-10E0-4F35-B888-F91C5448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24D33-8093-402E-82C6-F14F1F0A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9D9C9-DAB1-4DFC-A125-57621315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8137E-7DDF-4070-9A22-854F1F6D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FD5D6-E738-403D-A76A-8AD28A28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3C42CB-67A2-44EB-8B43-3E45A035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282AD-2CE1-40BA-8C6A-EB37B36F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CC100-6346-4D2C-8CA8-B3103128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9EC6BA-C3C8-45FA-A410-00DBF9CD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AF7CD-AADD-4515-847F-C64F9910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C7FF-FC64-4FBC-9063-18CD6EB7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A1AF7-FA2E-44F9-857D-5B75D5CD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A55FB-3AD4-4F98-8B78-1EACBDE6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726B7-CC26-4F8D-9EF6-7B4561B8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7FE12-208C-4398-862C-D6823A90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00B37-029C-4A5D-BF31-79661C15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63EFD-37B9-4731-8F90-95076A9B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93660-CBF7-4CBE-A1CB-C4C34EEB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AB08F3-FD51-4091-86F9-CF6C1930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E7DDB-9FC4-402E-A110-477D36E9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50C143-1BC7-464B-AFEE-C4F78EFE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2319-E742-4F31-A714-EB6FE207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F8E54-21EC-42C4-80F3-126FFAFC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8D3CFC-E4E5-493F-BC5B-A864228D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65644-C760-491D-9EB6-B70D48A6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7C07A-AEB6-4B07-AF61-C513053D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AC71B-51B5-4D9C-9264-AAC0F963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52DFBE-B43C-4B36-9E24-748A7ADA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32CAF-A520-4C32-843B-FA5BAC93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62D837-A6C8-496B-A971-58532D65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DB8D2D-070D-43BD-A3BD-9479A09E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477E-D962-4F53-92E8-2ADC4CE6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18EB-E6B2-43CC-B620-A078FF64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C599-704D-4ED2-922D-1B9184C6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68B-C142-45D4-AACF-A771EA70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3627-9CD9-4B72-ACB9-B222CB96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8B40-55CB-49F2-9BD3-8FB67ABD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BF71-D023-463A-B260-4E3752BC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9D79-BD03-480E-A707-12576AB3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53C3-7F4C-4A34-8A54-E04A2176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2F37-321D-4C26-B38A-298CA37F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67AF6-FA23-4E41-A15D-2D92FAF7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24AC9-B9CD-405A-A54B-5810DB5D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F645A-7256-4DC8-A0D1-E33C1004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F471D-7089-4CB8-A70A-8D9C8A66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8E0-13F4-4E52-9025-AB0FAEF8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DAD88-2495-492D-91D0-F9397FFA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81A2A-C3CB-4BB7-BEA8-3A018A56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A7718-3CC4-4235-ABF2-9B8A7C39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15D00-C17E-4768-9FDE-A5CD2A2A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3A916-768D-4EFF-A790-23728788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08AC5-16A2-4DBF-ACB5-C00ED34E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2F6E4-C42E-4EF2-ADFD-C2C53F94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660B7-8220-4AC8-BE19-A132EAA1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733D2-0E12-4516-98EE-3E440086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502A3-F8F8-4385-8A9B-3FC7B881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9CF-7CD6-40A3-9BED-3EB484FC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E4553-092B-4786-80C3-0299477F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00930-7241-46D6-B6E4-54C4E5AD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A3466-4FF5-4294-8CE4-674BC052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C29B0-3AD0-48F1-B25F-6BE01DA2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C27BD-97E4-43B9-A12B-5FD48916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CA454-823B-4909-A9F1-6DA63748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5364A-F864-4870-9A6F-58A951B4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0DB61-9AB7-44A3-A5B2-514635D7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7843D-6E5E-4750-8D00-5A34ED81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B5258-E0A7-4391-AFDB-94042E5C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836-2CE3-4BB0-BDBE-61AD6563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60D9B-A0FC-4946-A379-CA69D64F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AE9B5-7782-4E34-A011-0E0B7236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FB6D4-0A5E-43A2-887B-389B944F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78B51-988D-4CC5-BFBB-76EBEE4C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8EE53-7973-46FB-9000-53F5182E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632E2-6DB1-46DC-BDE3-819AA883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188B9-5E90-454C-90DC-544D4762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96EC6-3B07-4BE3-AE32-CC4F875F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19041-E8C8-4437-A424-09785F73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4CBCC-5D90-467F-8222-161C9788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D76-F5FC-4CEE-A8A0-528C1380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D94C3-E869-42AC-8928-45F6A394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74164-69A9-4485-84A1-A48EA77C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D1BC9-C0A7-415F-9DF2-BA2BE680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7E11F-557B-47B8-A1E1-D2B24BE0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8F85B-9FF8-4E89-9380-94ADC243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F6DC8-648D-4317-AEB6-8CFF1D43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5EE6D-823C-4C75-B63E-603A67CE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8112A-42EC-41E2-9D02-E4F46E38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20A22-308D-4CF6-B3E6-BE192782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F2A3B-A918-4C05-845A-960D57D0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7CE-5343-4D18-8DBC-1A2C82CF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6ADED-A011-4268-B0AA-4194032F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2E799-3B33-4942-A549-FBB63B20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82826-10D8-4F0B-A627-97CE9672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F825B-F1CC-4A19-8AB3-37F093D7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A1BB4-5606-4D46-9F61-17ADAF52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D80D4-B7E6-4A64-BBC6-D7E711BE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76915-A30E-4A3A-A2F1-0688B365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D733A-324D-47BA-845C-BEF0588A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876D1-5AC5-4AC6-94D6-D2166042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80768-520B-4480-ABCA-626986E0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5F33-2D32-4EA9-9F3A-E7342940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B9418-185D-4550-A061-09E75E8C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C581B-90DC-4F7E-8B4C-1E8D844B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F7AD2-6F20-40C9-B702-31058F7E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55134-C2F2-4F5A-BBE4-CCB14102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2A759-7E33-4742-947A-3FC41433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E560E-7249-4656-BC07-4469F475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1F24C-5191-407E-A5ED-48EE0371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70FAB-359D-4CFC-92B7-F2B3D208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30371-C4D0-4748-A771-D53192A1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40707-94C6-4B02-8FD3-83EFCAD2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673A-9833-494B-8604-D02C0C55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374F0-A7EB-4970-8544-2AF97095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A9E2E-812D-4A41-B811-83EB2284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77612-4CB0-4BDD-A791-4EE05174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29C84-9920-4808-B8BB-D3E022F1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D7066-5639-4E06-B0AB-D1CC21D8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5D62D-427B-43CF-866B-BBC19AF4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6E0D5-25C6-492F-9047-B7F10CCD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F115C-A575-4677-9EBD-D2282906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E3C48-6B22-4ABB-B929-EE062D83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C9D69-A6FF-4CF5-B3FA-D36296D7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9F12-08E1-48A1-9CD5-B2FEB3639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DDF1-52D0-45A9-A60D-933077C1A07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DAFC-8D52-4747-BCD5-4E4AF8C288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BDDD-540C-481D-9212-23A22A0828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5644-F048-4D9D-AA5A-5D3793021E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433B-25D2-4B8C-A7D5-68F3DAD09B8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0054-4CC6-44B2-B68D-B40ADA26E9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339A-EA60-40F9-A70E-9BE979AD19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5AB8-C6F1-47EF-8001-194B79BBCB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AAE7-6166-4A91-9E95-2A41C097B7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BB2C-A597-40E3-90A6-043A8CCF74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18FC-B106-413E-975A-0DE5B8B10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07F5-7627-420F-998E-5ADE857B86B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621E-61CB-46D5-B780-97B7A8B2A2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9D79-05AE-4422-B4CB-93AA9850124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D157-3B4F-427F-B683-30B9ED3E16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8AE3-3DAD-4632-B14B-79DA925CC1A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C877-4FDE-48AE-AD56-C381F4659D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42D3-337D-43C8-870A-31BF550EAA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3A1D-F00E-42E1-9904-9880E4BF99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69DD-E5BB-4320-A3EC-D2DD7F3F707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72B8-91DD-43F3-BD16-4251DC57A8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BFDB-3248-449A-9E3C-6649C30404E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5668-D770-4E6D-B2F7-318DDEDBF3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A84E-5367-4EDB-9C05-B483C2382BC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A9CC-DAE8-442A-938D-303306FCE3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TR097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"/>
          <p:cNvSpPr/>
          <p:nvPr/>
        </p:nvSpPr>
        <p:spPr>
          <a:xfrm>
            <a:off x="1332000" y="20408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图形的变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108000" y="442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旋转在学业考试中的几种出现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Track05.MP3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fill="hold"/>
                                        <p:tgtEl>
                                          <p:spTgt spid="5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图，将半径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c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割成十个区域，其中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于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称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于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称，连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则图中阴影部分的面积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果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HWOCRTEMP_ROC10"/>
          <p:cNvPicPr/>
          <p:nvPr/>
        </p:nvPicPr>
        <p:blipFill>
          <a:blip r:embed="rId1"/>
          <a:stretch/>
        </p:blipFill>
        <p:spPr>
          <a:xfrm>
            <a:off x="6300720" y="4149720"/>
            <a:ext cx="18604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图是某设计师设计图案的一部分，请你运用旋转变换的方法，在方格纸中将图形绕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顺时针依次旋转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80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70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依次画出旋转后所得到的图形，你会得到一个美丽的图案，但涂阴影时不要涂错了位置，否则不会出现理想的效果，你来试一试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HWOCRTEMP_ROC1740"/>
          <p:cNvPicPr/>
          <p:nvPr/>
        </p:nvPicPr>
        <p:blipFill>
          <a:blip r:embed="rId1"/>
          <a:srcRect l="0" t="0" r="54" b="0"/>
          <a:stretch/>
        </p:blipFill>
        <p:spPr>
          <a:xfrm>
            <a:off x="6732720" y="4797360"/>
            <a:ext cx="16160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图：已知正方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正方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G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边长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正方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正方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角线的交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和，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G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绕着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旋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求这两个图形重叠部分的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4"/>
          <p:cNvGrpSpPr/>
          <p:nvPr/>
        </p:nvGrpSpPr>
        <p:grpSpPr>
          <a:xfrm>
            <a:off x="1981080" y="4393800"/>
            <a:ext cx="2433240" cy="2034000"/>
            <a:chOff x="1981080" y="4393800"/>
            <a:chExt cx="2433240" cy="2034000"/>
          </a:xfrm>
        </p:grpSpPr>
        <p:sp>
          <p:nvSpPr>
            <p:cNvPr id="628" name="Rectangle 5"/>
            <p:cNvSpPr/>
            <p:nvPr/>
          </p:nvSpPr>
          <p:spPr>
            <a:xfrm rot="21021600">
              <a:off x="2411640" y="4509720"/>
              <a:ext cx="1512720" cy="15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6"/>
            <p:cNvSpPr/>
            <p:nvPr/>
          </p:nvSpPr>
          <p:spPr>
            <a:xfrm>
              <a:off x="1981080" y="45100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"/>
            <p:cNvSpPr/>
            <p:nvPr/>
          </p:nvSpPr>
          <p:spPr>
            <a:xfrm>
              <a:off x="2124000" y="60595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8"/>
            <p:cNvSpPr/>
            <p:nvPr/>
          </p:nvSpPr>
          <p:spPr>
            <a:xfrm>
              <a:off x="4069080" y="5734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2628720" y="3357720"/>
            <a:ext cx="2216880" cy="1952280"/>
            <a:chOff x="2628720" y="3357720"/>
            <a:chExt cx="2216880" cy="1952280"/>
          </a:xfrm>
        </p:grpSpPr>
        <p:sp>
          <p:nvSpPr>
            <p:cNvPr id="633" name="Rectangle 10"/>
            <p:cNvSpPr/>
            <p:nvPr/>
          </p:nvSpPr>
          <p:spPr>
            <a:xfrm>
              <a:off x="2987280" y="3644640"/>
              <a:ext cx="1512720" cy="15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11"/>
            <p:cNvSpPr/>
            <p:nvPr/>
          </p:nvSpPr>
          <p:spPr>
            <a:xfrm>
              <a:off x="2628720" y="3357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12"/>
            <p:cNvSpPr/>
            <p:nvPr/>
          </p:nvSpPr>
          <p:spPr>
            <a:xfrm>
              <a:off x="2628720" y="4941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13"/>
            <p:cNvSpPr/>
            <p:nvPr/>
          </p:nvSpPr>
          <p:spPr>
            <a:xfrm>
              <a:off x="4500360" y="4941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14"/>
            <p:cNvSpPr/>
            <p:nvPr/>
          </p:nvSpPr>
          <p:spPr>
            <a:xfrm>
              <a:off x="4500360" y="342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15"/>
            <p:cNvSpPr/>
            <p:nvPr/>
          </p:nvSpPr>
          <p:spPr>
            <a:xfrm>
              <a:off x="3707640" y="414936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(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Line 16"/>
          <p:cNvSpPr/>
          <p:nvPr/>
        </p:nvSpPr>
        <p:spPr>
          <a:xfrm flipH="1" flipV="1">
            <a:off x="3779640" y="4437000"/>
            <a:ext cx="718920" cy="72072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7"/>
          <p:cNvSpPr/>
          <p:nvPr/>
        </p:nvSpPr>
        <p:spPr>
          <a:xfrm flipV="1">
            <a:off x="2987640" y="4437000"/>
            <a:ext cx="792360" cy="72072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18"/>
          <p:cNvGrpSpPr/>
          <p:nvPr/>
        </p:nvGrpSpPr>
        <p:grpSpPr>
          <a:xfrm>
            <a:off x="5290560" y="3357720"/>
            <a:ext cx="2890800" cy="3624120"/>
            <a:chOff x="5290560" y="3357720"/>
            <a:chExt cx="2890800" cy="3624120"/>
          </a:xfrm>
        </p:grpSpPr>
        <p:sp>
          <p:nvSpPr>
            <p:cNvPr id="642" name="Text Box 19"/>
            <p:cNvSpPr/>
            <p:nvPr/>
          </p:nvSpPr>
          <p:spPr>
            <a:xfrm>
              <a:off x="5724720" y="4653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20"/>
            <p:cNvSpPr/>
            <p:nvPr/>
          </p:nvSpPr>
          <p:spPr>
            <a:xfrm>
              <a:off x="7164720" y="5229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Group 21"/>
            <p:cNvGrpSpPr/>
            <p:nvPr/>
          </p:nvGrpSpPr>
          <p:grpSpPr>
            <a:xfrm>
              <a:off x="5290560" y="4415040"/>
              <a:ext cx="2890800" cy="2566800"/>
              <a:chOff x="5290560" y="4415040"/>
              <a:chExt cx="2890800" cy="2566800"/>
            </a:xfrm>
          </p:grpSpPr>
          <p:sp>
            <p:nvSpPr>
              <p:cNvPr id="645" name="Rectangle 22"/>
              <p:cNvSpPr/>
              <p:nvPr/>
            </p:nvSpPr>
            <p:spPr>
              <a:xfrm rot="19403400">
                <a:off x="5934960" y="4716720"/>
                <a:ext cx="1512720" cy="151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23"/>
              <p:cNvSpPr/>
              <p:nvPr/>
            </p:nvSpPr>
            <p:spPr>
              <a:xfrm rot="19981800">
                <a:off x="5356440" y="524484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Text Box 24"/>
              <p:cNvSpPr/>
              <p:nvPr/>
            </p:nvSpPr>
            <p:spPr>
              <a:xfrm rot="19981800">
                <a:off x="6184080" y="65520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Text Box 25"/>
              <p:cNvSpPr/>
              <p:nvPr/>
            </p:nvSpPr>
            <p:spPr>
              <a:xfrm rot="19981800">
                <a:off x="7770960" y="53827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Rectangle 26"/>
            <p:cNvSpPr/>
            <p:nvPr/>
          </p:nvSpPr>
          <p:spPr>
            <a:xfrm>
              <a:off x="6083280" y="3645000"/>
              <a:ext cx="1513080" cy="15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27"/>
            <p:cNvSpPr/>
            <p:nvPr/>
          </p:nvSpPr>
          <p:spPr>
            <a:xfrm>
              <a:off x="5724720" y="3357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28"/>
            <p:cNvSpPr/>
            <p:nvPr/>
          </p:nvSpPr>
          <p:spPr>
            <a:xfrm>
              <a:off x="5940720" y="5229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29"/>
            <p:cNvSpPr/>
            <p:nvPr/>
          </p:nvSpPr>
          <p:spPr>
            <a:xfrm>
              <a:off x="7596720" y="4942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30"/>
            <p:cNvSpPr/>
            <p:nvPr/>
          </p:nvSpPr>
          <p:spPr>
            <a:xfrm>
              <a:off x="7596720" y="3429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31"/>
            <p:cNvSpPr/>
            <p:nvPr/>
          </p:nvSpPr>
          <p:spPr>
            <a:xfrm>
              <a:off x="6804000" y="414972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(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32"/>
            <p:cNvSpPr/>
            <p:nvPr/>
          </p:nvSpPr>
          <p:spPr>
            <a:xfrm flipH="1" flipV="1">
              <a:off x="6875280" y="4437360"/>
              <a:ext cx="718920" cy="720720"/>
            </a:xfrm>
            <a:prstGeom prst="line">
              <a:avLst/>
            </a:prstGeom>
            <a:ln w="381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33"/>
            <p:cNvSpPr/>
            <p:nvPr/>
          </p:nvSpPr>
          <p:spPr>
            <a:xfrm flipV="1">
              <a:off x="6083280" y="4437360"/>
              <a:ext cx="792360" cy="720720"/>
            </a:xfrm>
            <a:prstGeom prst="line">
              <a:avLst/>
            </a:prstGeom>
            <a:ln w="381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Text Box 34"/>
          <p:cNvSpPr/>
          <p:nvPr/>
        </p:nvSpPr>
        <p:spPr>
          <a:xfrm>
            <a:off x="399780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5"/>
          <p:cNvSpPr/>
          <p:nvPr/>
        </p:nvSpPr>
        <p:spPr>
          <a:xfrm>
            <a:off x="2700360" y="42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把两个全等的等腰直角三角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其直角边长均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叠放在一起（如图①），且使三角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直角顶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三角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斜边中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重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现将三角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顺时针旋转（旋转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满足条件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°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四边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G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旋转过程中两三角板的重叠部分（如图②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上述旋转过程中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怎样的数量关系？四边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G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面积有何变化？证明你发现的结论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在上述旋转过程中，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=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K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面积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之间的函数关系式，并写出自变量的取值范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前提下，是否存在某一位置，使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K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面积恰好等于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面积的？若存在，求出此时的值；若不存在，说明理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3" descr="HWOCRTEMP_ROC420"/>
          <p:cNvPicPr/>
          <p:nvPr/>
        </p:nvPicPr>
        <p:blipFill>
          <a:blip r:embed="rId1"/>
          <a:stretch/>
        </p:blipFill>
        <p:spPr>
          <a:xfrm>
            <a:off x="3419640" y="4941720"/>
            <a:ext cx="1500120" cy="15814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HWOCRTEMP_ROC430"/>
          <p:cNvPicPr/>
          <p:nvPr/>
        </p:nvPicPr>
        <p:blipFill>
          <a:blip r:embed="rId2"/>
          <a:stretch/>
        </p:blipFill>
        <p:spPr>
          <a:xfrm>
            <a:off x="5940360" y="4869000"/>
            <a:ext cx="172872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探究提高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图，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△A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，已知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A=90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=30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=6c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把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中心逆时针旋转，使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旋转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边的延长线上的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处，那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边扫过的图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图中阴影部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面积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取近似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4" descr="HWOCRTEMP_ROC2520"/>
          <p:cNvPicPr/>
          <p:nvPr/>
        </p:nvPicPr>
        <p:blipFill>
          <a:blip r:embed="rId1"/>
          <a:stretch/>
        </p:blipFill>
        <p:spPr>
          <a:xfrm>
            <a:off x="5867280" y="4289400"/>
            <a:ext cx="25210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探究提高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457200" y="1600200"/>
            <a:ext cx="8229600" cy="4824360"/>
            <a:chOff x="457200" y="1600200"/>
            <a:chExt cx="8229600" cy="4824360"/>
          </a:xfrm>
        </p:grpSpPr>
        <p:sp>
          <p:nvSpPr>
            <p:cNvPr id="667" name="Rectangle 4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已知，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正方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的一点，连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）将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绕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顺时针旋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°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到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′C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位置（如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长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长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），求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旋转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′C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过程中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所扫过区域（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中阴影部分）的面积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=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B=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B=135°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长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）如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PC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2PB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请说明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必在对角线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上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8" name="Picture 5" descr=""/>
            <p:cNvPicPr/>
            <p:nvPr/>
          </p:nvPicPr>
          <p:blipFill>
            <a:blip r:embed="rId1"/>
            <a:stretch/>
          </p:blipFill>
          <p:spPr>
            <a:xfrm>
              <a:off x="1476360" y="4724280"/>
              <a:ext cx="141912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6" descr=""/>
            <p:cNvPicPr/>
            <p:nvPr/>
          </p:nvPicPr>
          <p:blipFill>
            <a:blip r:embed="rId2"/>
            <a:stretch/>
          </p:blipFill>
          <p:spPr>
            <a:xfrm>
              <a:off x="4788000" y="4724280"/>
              <a:ext cx="1465200" cy="1671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探究提高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3"/>
          <p:cNvGrpSpPr/>
          <p:nvPr/>
        </p:nvGrpSpPr>
        <p:grpSpPr>
          <a:xfrm>
            <a:off x="468360" y="1197000"/>
            <a:ext cx="8229600" cy="5429160"/>
            <a:chOff x="468360" y="1197000"/>
            <a:chExt cx="8229600" cy="5429160"/>
          </a:xfrm>
        </p:grpSpPr>
        <p:sp>
          <p:nvSpPr>
            <p:cNvPr id="672" name="Rectangle 4"/>
            <p:cNvSpPr/>
            <p:nvPr/>
          </p:nvSpPr>
          <p:spPr>
            <a:xfrm>
              <a:off x="468360" y="11970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当汽车在雨天行驶时，为了看清楚道路，司机要启动前方挡风玻璃上的雨刷器．如图是某汽车的一个雨刷器的示意图，雨刷器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与雨刷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在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处固定连接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不能转动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，当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绕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点转动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90°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时，雨刷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扫过的面积是多少呢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小明仔细观察了雨刷器的转动情况，量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D=80 cm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、∠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BA=20°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、端点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与点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的距离分别为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15cm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5 cm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．他经过认真思考只选用了其中的部分数据就求得了结果，你知道小明是怎样计算的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也请你算一算雨刷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扫过的面积为</a:t>
              </a:r>
              <a:r>
                <a:rPr b="0" lang="zh-CN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m2(π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．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4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Picture 5" descr="HWOCRTEMP_ROC250"/>
            <p:cNvPicPr/>
            <p:nvPr/>
          </p:nvPicPr>
          <p:blipFill>
            <a:blip r:embed="rId1"/>
            <a:stretch/>
          </p:blipFill>
          <p:spPr>
            <a:xfrm>
              <a:off x="5580000" y="5191200"/>
              <a:ext cx="1656000" cy="143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2700360" y="3141720"/>
            <a:ext cx="404352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Arial"/>
              </a:rPr>
              <a:t>谢谢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468360" y="6922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已知如图，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若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绕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顺时针旋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得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试猜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什么关系？说明理由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面积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求四边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F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多少度时，四边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E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矩形？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3" descr="1"/>
          <p:cNvPicPr/>
          <p:nvPr/>
        </p:nvPicPr>
        <p:blipFill>
          <a:blip r:embed="rId1"/>
          <a:stretch/>
        </p:blipFill>
        <p:spPr>
          <a:xfrm>
            <a:off x="5724360" y="2997360"/>
            <a:ext cx="247824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0" y="685800"/>
            <a:ext cx="896472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旋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一个图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绕某一个定点沿某一个方向转动一个角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样的图形运动称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旋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个定点称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旋转中心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动的角度称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旋转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性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旋转不改变图形的形状和大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即旋转前后的两个图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全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意一对对应点与旋转中心的连线所成的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彼此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相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都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旋转角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经过旋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对应点到旋转中心的距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旋转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要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旋转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①中心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②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向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角度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395280" y="0"/>
            <a:ext cx="6985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755640" y="1628640"/>
            <a:ext cx="73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旋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一个图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绕某一个定点沿某一个方向转动一个角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样的图形运动称为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旋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个定点称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旋转中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转动的角度称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旋转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8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468360" y="1268280"/>
            <a:ext cx="82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性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旋转不改变图形的形状和大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即旋转前后的两个图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全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任意一对对应点与旋转中心的连线所成的角彼此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相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都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旋转角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经过旋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对应点到旋转中心的距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旋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旋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①中心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方向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角度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0" y="-73080"/>
            <a:ext cx="896472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学业考试</a:t>
            </a:r>
            <a:r>
              <a:rPr b="1" lang="zh-CN" sz="3200" spc="-1" strike="noStrike">
                <a:solidFill>
                  <a:srgbClr val="66ff33"/>
                </a:solidFill>
                <a:latin typeface="宋体"/>
              </a:rPr>
              <a:t>对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旋转的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通过具体实例认识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旋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探索它的基本性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理解对应点到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旋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心的距离相等、对应点与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旋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心连线所成的角彼此相等的性质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了解平行四边形、圆是中心对称图形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能作出简单平面图形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旋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后的图形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学业考试对旋转的要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索图形之间的变换关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轴对称、平移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旋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及其组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灵活运用轴对称、平移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旋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组合进行图案设计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欣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旋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现实生活中的应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实验操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5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3189240" cy="20084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6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3024000" cy="23367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7" descr=""/>
          <p:cNvPicPr/>
          <p:nvPr/>
        </p:nvPicPr>
        <p:blipFill>
          <a:blip r:embed="rId3"/>
          <a:stretch/>
        </p:blipFill>
        <p:spPr>
          <a:xfrm>
            <a:off x="3054240" y="3789360"/>
            <a:ext cx="238140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归纳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图，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半径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半径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图上所示位置出发绕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无滑动的滚动，要使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圆心返回到原来的位置，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滚动的圈数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HWOCRTEMP_ROC2430"/>
          <p:cNvPicPr/>
          <p:nvPr/>
        </p:nvPicPr>
        <p:blipFill>
          <a:blip r:embed="rId1"/>
          <a:stretch/>
        </p:blipFill>
        <p:spPr>
          <a:xfrm>
            <a:off x="6012000" y="3664080"/>
            <a:ext cx="16840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395280" y="921240"/>
            <a:ext cx="8459640" cy="2725200"/>
            <a:chOff x="395280" y="921240"/>
            <a:chExt cx="8459640" cy="2725200"/>
          </a:xfrm>
        </p:grpSpPr>
        <p:sp>
          <p:nvSpPr>
            <p:cNvPr id="596" name="Rectangle 3"/>
            <p:cNvSpPr/>
            <p:nvPr/>
          </p:nvSpPr>
          <p:spPr>
            <a:xfrm>
              <a:off x="395280" y="921240"/>
              <a:ext cx="8459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1.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在图中，将左边方格纸中的图形绕</a:t>
              </a:r>
              <a:r>
                <a:rPr b="0" lang="en-US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O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顺时针旋转</a:t>
              </a:r>
              <a:r>
                <a:rPr b="0" lang="en-US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90°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得到的图形是（ 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4"/>
            <p:cNvGrpSpPr/>
            <p:nvPr/>
          </p:nvGrpSpPr>
          <p:grpSpPr>
            <a:xfrm>
              <a:off x="1046160" y="2209680"/>
              <a:ext cx="6694560" cy="1436760"/>
              <a:chOff x="1046160" y="2209680"/>
              <a:chExt cx="6694560" cy="1436760"/>
            </a:xfrm>
          </p:grpSpPr>
          <p:pic>
            <p:nvPicPr>
              <p:cNvPr id="598" name="Picture 5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046160" y="2270160"/>
                <a:ext cx="933480" cy="92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Picture 6" descr=""/>
              <p:cNvPicPr/>
              <p:nvPr/>
            </p:nvPicPr>
            <p:blipFill>
              <a:blip r:embed="rId2">
                <a:biLevel thresh="50000"/>
              </a:blip>
              <a:stretch/>
            </p:blipFill>
            <p:spPr>
              <a:xfrm>
                <a:off x="2558880" y="2263680"/>
                <a:ext cx="933480" cy="94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0" name="Picture 7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3938400" y="2263680"/>
                <a:ext cx="924120" cy="94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1" name="Picture 8" descr=""/>
              <p:cNvPicPr/>
              <p:nvPr/>
            </p:nvPicPr>
            <p:blipFill>
              <a:blip r:embed="rId4">
                <a:biLevel thresh="50000"/>
              </a:blip>
              <a:stretch/>
            </p:blipFill>
            <p:spPr>
              <a:xfrm>
                <a:off x="5367240" y="2209680"/>
                <a:ext cx="942840" cy="92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" name="Picture 9" descr=""/>
              <p:cNvPicPr/>
              <p:nvPr/>
            </p:nvPicPr>
            <p:blipFill>
              <a:blip r:embed="rId5">
                <a:biLevel thresh="50000"/>
              </a:blip>
              <a:stretch/>
            </p:blipFill>
            <p:spPr>
              <a:xfrm>
                <a:off x="6807240" y="2273400"/>
                <a:ext cx="933480" cy="93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Rectangle 10"/>
              <p:cNvSpPr/>
              <p:nvPr/>
            </p:nvSpPr>
            <p:spPr>
              <a:xfrm>
                <a:off x="2695680" y="3270960"/>
                <a:ext cx="285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.                   B.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11"/>
              <p:cNvSpPr/>
              <p:nvPr/>
            </p:nvSpPr>
            <p:spPr>
              <a:xfrm>
                <a:off x="7095960" y="327816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12"/>
              <p:cNvSpPr/>
              <p:nvPr/>
            </p:nvSpPr>
            <p:spPr>
              <a:xfrm>
                <a:off x="5729400" y="327816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6" name="Group 13"/>
          <p:cNvGrpSpPr/>
          <p:nvPr/>
        </p:nvGrpSpPr>
        <p:grpSpPr>
          <a:xfrm>
            <a:off x="395280" y="3645000"/>
            <a:ext cx="7777080" cy="2808360"/>
            <a:chOff x="395280" y="3645000"/>
            <a:chExt cx="7777080" cy="2808360"/>
          </a:xfrm>
        </p:grpSpPr>
        <p:pic>
          <p:nvPicPr>
            <p:cNvPr id="607" name="Picture 14" descr=""/>
            <p:cNvPicPr/>
            <p:nvPr/>
          </p:nvPicPr>
          <p:blipFill>
            <a:blip r:embed="rId6"/>
            <a:stretch/>
          </p:blipFill>
          <p:spPr>
            <a:xfrm>
              <a:off x="5868720" y="4737240"/>
              <a:ext cx="2303640" cy="171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8" name="Group 15"/>
            <p:cNvGrpSpPr/>
            <p:nvPr/>
          </p:nvGrpSpPr>
          <p:grpSpPr>
            <a:xfrm>
              <a:off x="395280" y="3645000"/>
              <a:ext cx="7704000" cy="2043720"/>
              <a:chOff x="395280" y="3645000"/>
              <a:chExt cx="7704000" cy="2043720"/>
            </a:xfrm>
          </p:grpSpPr>
          <p:sp>
            <p:nvSpPr>
              <p:cNvPr id="609" name="Rectangle 16"/>
              <p:cNvSpPr/>
              <p:nvPr/>
            </p:nvSpPr>
            <p:spPr>
              <a:xfrm>
                <a:off x="395280" y="3645000"/>
                <a:ext cx="770400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如图，已知正方形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BCD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的边长为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2.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如果将线段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D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绕着点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旋转后，点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落在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B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的延长线上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D′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点处，那么          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′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等于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__________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0" name="Object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5219640" y="4724640"/>
                <a:ext cx="1440000" cy="307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11" name="Text Box 18"/>
          <p:cNvSpPr/>
          <p:nvPr/>
        </p:nvSpPr>
        <p:spPr>
          <a:xfrm>
            <a:off x="395280" y="260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宋体"/>
                <a:ea typeface="Times New Roman"/>
              </a:rPr>
              <a:t>例题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179280" y="907920"/>
            <a:ext cx="8964720" cy="2154240"/>
            <a:chOff x="179280" y="907920"/>
            <a:chExt cx="8964720" cy="2154240"/>
          </a:xfrm>
        </p:grpSpPr>
        <p:sp>
          <p:nvSpPr>
            <p:cNvPr id="613" name="Rectangle 3"/>
            <p:cNvSpPr/>
            <p:nvPr/>
          </p:nvSpPr>
          <p:spPr>
            <a:xfrm>
              <a:off x="179280" y="907920"/>
              <a:ext cx="8964720" cy="18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如图，在△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中，∠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=90°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B=AC=2cm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，把这个三角形在平面内绕点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顺时针旋转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90°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，那么点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移动所走过的路线长是</a:t>
              </a:r>
              <a:r>
                <a:rPr b="0" lang="zh-CN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．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不取近似值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4" name="Picture 4" descr="HWOCRTEMP_ROC3660"/>
            <p:cNvPicPr/>
            <p:nvPr/>
          </p:nvPicPr>
          <p:blipFill>
            <a:blip r:embed="rId1"/>
            <a:stretch/>
          </p:blipFill>
          <p:spPr>
            <a:xfrm>
              <a:off x="7524720" y="1989000"/>
              <a:ext cx="1363680" cy="107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6"/>
          <p:cNvGrpSpPr/>
          <p:nvPr/>
        </p:nvGrpSpPr>
        <p:grpSpPr>
          <a:xfrm>
            <a:off x="395280" y="3500280"/>
            <a:ext cx="8532720" cy="2438640"/>
            <a:chOff x="395280" y="3500280"/>
            <a:chExt cx="8532720" cy="2438640"/>
          </a:xfrm>
        </p:grpSpPr>
        <p:pic>
          <p:nvPicPr>
            <p:cNvPr id="617" name="Picture 7" descr="HWOCRTEMP_ROC4010"/>
            <p:cNvPicPr/>
            <p:nvPr/>
          </p:nvPicPr>
          <p:blipFill>
            <a:blip r:embed="rId2"/>
            <a:stretch/>
          </p:blipFill>
          <p:spPr>
            <a:xfrm>
              <a:off x="1547640" y="4437000"/>
              <a:ext cx="5975640" cy="15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Text Box 8"/>
            <p:cNvSpPr/>
            <p:nvPr/>
          </p:nvSpPr>
          <p:spPr>
            <a:xfrm>
              <a:off x="395280" y="3500280"/>
              <a:ext cx="8532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．下面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张扑克牌中，属于中心对称的是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 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2:57:47Z</dcterms:created>
  <dc:creator>czuser</dc:creator>
  <dc:description/>
  <cp:keywords/>
  <dc:language>en-US</dc:language>
  <cp:lastModifiedBy>a</cp:lastModifiedBy>
  <dcterms:modified xsi:type="dcterms:W3CDTF">2015-03-18T05:58:19Z</dcterms:modified>
  <cp:revision>16</cp:revision>
  <dc:subject/>
  <dc:title>幻灯片 1</dc:title>
</cp:coreProperties>
</file>