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7.jpeg" ContentType="image/jpeg"/>
  <Override PartName="/ppt/media/image3.gif" ContentType="image/gif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7DB-9654-4BDE-9B0D-08BF25C33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F123-EACB-46A4-8F11-DE56BA55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80DAD-30E7-4E88-8008-5C2A1719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4DBBE2-4335-4D16-AF64-AF427B42A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FBF9D2-229E-4999-9989-D2B90A20E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E64AE-5BA7-4EFE-B160-FABF524C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582998-BC74-4163-9075-25E95D70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1077B4-3DFF-4C74-B0EE-9A0EC4439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8DAA3-D643-4A56-B914-F574084E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BF4D04-011D-42F7-9CC7-EEF147E75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89ECD-5C3F-4394-9308-B95AB469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68FA2D-3062-4443-BD21-1BE12ABA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CBAE-7DFA-4B6D-AF21-476FEBD7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B93523-DFB0-41A3-9729-CECE634D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3C8F08-EA47-4619-9FB1-265CB2ED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B75E29-C3AF-4F5B-ABC0-D84EEB04B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8FA216-966A-47A5-A11C-9218A0A80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8B1747-9851-4627-9DCC-912C85ADA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C65F7-41E1-4DC8-8F60-6DB5ED27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AEAD89-C0A4-413E-84BC-A1536F68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294C0-5A7F-4993-90F5-812CC897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FE303C-1470-4E07-A9C9-AFC6FEF3B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C4B1C-A4DC-4D39-AC79-658C92831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B9C-9D64-476E-AEA3-90B768A0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B849DF-7FB6-43FE-B504-2B545104E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5E5BF-72B7-4AD7-AC9D-3FBB65772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F10DA-830B-4579-9840-62D6219A6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A68CD0-3674-4588-B583-F3AE3934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D673F2-9FC7-4CF8-B7D9-84E757FAB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5FB6E-4D62-498F-9A5A-906FFA6BF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C5E0A-6E6A-4B4A-A823-FCAE5AB4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C0BF0-53C9-431B-96D2-520869C0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84B7B-8C86-407F-9F90-1D1E5800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F002BD-182C-467D-9F83-49FBB866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2086C-A5E6-4C4C-ADF5-86BC776D7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FB116-171A-43E3-A82F-7AD8D1F9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F6665F-F749-4AFD-8E93-D57AE903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F450A5-5377-42AA-A4BB-84A6ACEB2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0B4EB2-7B2E-48AD-BAFB-BC5E10686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89B25F-AEC5-4A8F-A849-2B17C3C6B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154CE8-7C72-4A9E-B5E9-A7FA7FB64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0ABA4-7CAE-4477-A9FC-CBDF4693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F7BA73-B669-400E-AAFD-678E04E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E0DE27-D022-4E7A-8480-FE18252AD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004F8-48D7-4DF9-AF67-D7DF5402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2745-38A5-4E11-AB58-DF7634720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B6B367-CF87-4E07-9A4D-BD3B81AFF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A601EA-446F-4D96-AE0B-A49A7F158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9EE0B-0DCB-4662-BADB-84BC959C4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65C189-0AFD-46C3-9846-1624BB82D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6639C-34C0-4034-9F5B-F0A292CA9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940CCD-6013-4441-983C-743744A1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F018F6-DB83-4045-9215-BB56375D2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DBEF31-2870-4F23-8827-B24F3599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8480C-5D04-4D2D-BCD3-21167BD37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F315E8-6696-4B2A-A238-61D30F46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1A3C4-A13E-4739-963F-DAA0DDBF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2492FB-AA71-41DB-8A9D-C93AA2C1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6C7F6-8DA8-4366-89AB-C886712EE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A12DA1-AC1C-4687-A25B-1A743667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D03BAA-BF3C-48FD-B35C-BC429BBB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827C4F-9C30-4949-9D3F-A52A2758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FD62A1-4DA9-479B-9565-B5351841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9ABBE-8AB4-40F1-A65B-4C845695F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C7BF7-EC3F-4BEE-B12C-15EC8F15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5CCD-05BE-472A-8DBE-8CFFB2E5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4804C-135B-45F8-8B41-FD2BEE317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E6E81-AC9C-45FA-8DD5-8EA12B5C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2E0D6-DEA7-434A-8376-BCFC64CA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15FAE-0C45-4933-BA70-6C29A389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940C-CC04-4B5F-89D4-34A8273D3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2A30-39EF-4E38-A463-A9AFE8220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0B77-8451-4300-9EEF-A0893EFD6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EFE1-3FB2-4546-AF9F-A0675677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FA8EB0-03B0-4DAA-ACE8-0EDDEDC06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424AB-1921-46E1-931B-18B088403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2C7C9-D5B1-45D8-9CA8-F341BFD3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FF405-F5D7-4F8B-AB0D-E43EC509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ACA79-FD2B-48B8-8185-ADD0BE75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954-0F95-4A13-A1FD-5E50B3AE9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ABA439-3FAB-454A-9E15-1A68A056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D6F07-23A9-4760-958C-C95DD480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A7ACF-B514-4023-AD2C-5A904F0B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EE027-38AA-44AB-AF96-0FB25153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67BAB-6FBC-4BAB-822A-368FFBC0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7B65F-DF5F-4F1C-87A7-8C7719F42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34C17-614E-4BAA-BC8E-6353E8B3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F43DE2-7A08-4A55-B554-F9E3FE08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683AC-CEF0-4A5A-AD0E-DBEE7D591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2AE69-80BD-47BD-9976-690DCA4C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E7E1-F0B4-4299-B900-CAC9786BA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77954-C909-4495-A39C-0792C460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361EF2-B994-4A03-BDB8-40B09482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382F-212F-4BC6-A0E8-7DE7230B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849DB6-AF66-4AE1-BE03-25439E1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6A7ECB-68BE-48BF-8C94-A47B1243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7F7A4-E255-4975-8AD8-328DD8BD1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3E96E-6800-4468-9F3E-C11246C62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80C3B-EDD6-4B6A-A9B3-EC75997F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E4C58-9B1F-428A-B510-2F5B70E6D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E6B06-37CA-431A-AFC7-B683FAF3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BE4-1E74-4AC5-8935-E7AC174A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06727-B5DF-49D4-861A-EB740399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4EB0A-907F-4A43-9FF3-6C096551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1D021F-BD0B-4FE9-979E-4CB3BB1EF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8C8DD-DEF5-476D-81F5-9FB6DFFF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4DD1B-8273-45BE-A953-833F33E6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36BE6-62C0-44EF-AE77-A35EDF29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3B69DF-8A91-4AD0-8ECA-66827864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AFF0-84F5-40CC-9149-DA0E0662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A4F71-B0DA-4B6B-B839-67D7CA2CD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05767-1F44-453B-B012-E2C3E4B3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2F49-968C-4882-BB79-7EDA7AAD0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62FA78-B5A3-487D-8C44-553795D6B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904B4-9795-4802-9F26-7A388918E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E4BE7-C636-4ADC-BB18-7DC2EE050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4F0543-F756-40AA-AA6F-5629C7B8C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65AE9-E9C0-4F9F-B7B1-FB14B53F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7B24C-2C40-4208-856A-20925A2D4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6B476-5D0A-4EF9-8156-96CD2B286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9321F-7F85-41E6-9746-D2C21FF5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17EBBB-A226-46AF-86CA-74A3BFE6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20CCA-4DE6-4967-9397-581B15700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86F7-990B-439E-9B4B-0AF58EBDD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3EF04B-9077-4A17-A973-1EEA0DEA5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FF574-8362-4EC7-B842-EC10A0B23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748D0-CD3E-4566-BF78-DF4A465CA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BBD26-57A9-4E26-82B8-59A75B019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33BD2-AA8C-45E4-9C9E-0188B0281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003808-4A49-4114-8534-A8D990D66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B6C1B9-291B-4280-83D6-22B6F7D7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4FC60-4059-44DD-8629-A208ED2A1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A9F649-6615-48F4-8842-415E18879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97026-227B-4B8C-9D04-BB58F686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7C4F-1222-4654-AED2-7F177B805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0B38A-F6E0-489A-BDB8-607D8D16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24766F-2B38-4617-B79A-AE28EEDCB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629D4A-DC80-4B35-97DC-79B93BD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033A0-FE76-4DEE-B439-804E2575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32C7D-6A34-4A1F-BB75-304BC35D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FDC64-14AE-449B-9634-47FD598D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E6BB57-AD9F-4BED-888D-4BD6D309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30F3E-8680-46CA-A755-1E4C09E8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08582-22BA-467F-BFD3-31AC082E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DACB83-FFC8-4536-A058-40C20F9C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E366-DC4E-4DCD-8E16-868CFAFE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621F0-3873-434D-99CE-5422D3C8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2DAA04-4035-49A4-B4CC-9427729E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66D88-B9C0-4373-8327-BA9E104E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82DA55-EF1E-4D61-9C75-B062B62B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879BD-3C17-44AD-8E6C-5C15E872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43A2A6-7626-454F-AC77-1C079DF0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35E94-27D8-4498-8072-0A89603D9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A5E5DA-DF45-4A6B-8A87-1CED3934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F71C0-EABB-4275-9B0E-46402213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37ABCC-37D8-42BD-B6EE-8461D7CD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E6EBE-79A1-4228-A97C-A19C514C5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AC0D4-9B13-4236-83AC-9ADFDAF26AD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700F-82A2-4306-ABAD-AD0CD00709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38F37-D484-495C-89BB-A631E47D33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CDCE-CC8E-4D4C-B690-CD02D9301E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6BFB-1112-4267-BE06-5FC45EF25DA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5382-9DC6-458F-89EA-4E59F51135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2B5D-24CC-46E4-8F1A-33D0530B675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9DA5-957E-4DAE-8DB4-E8CC4866741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EE9E-12E9-4F4E-B68D-C99A6310BC8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B2FF-52B9-412A-B913-7E824986BF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8D5D-55C0-42F6-8BD0-62DC43604AF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C9EAC-D205-4598-8354-EEC3C53C0F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6899-03AB-4DDD-84F8-D707F59D57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807A-FE5A-4CE0-8F62-41FE002185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FF6E8-770A-45F6-9B6E-64092B7D0CF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EA39-F44D-4E91-909F-A35DBF04AD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93F1-BB62-41A4-9C85-B9452BF23B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E835-D250-42A3-8CB6-7D56BFB8B3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4533E-FA7F-4699-ADBB-A66AA143E52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67C9-8395-49E0-ACD0-CEE7438A34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E95D3-4BEF-499A-A1E4-FD49163160C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4CE1-2754-48D9-BF3C-0FC9A06202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D23B-F5CB-4372-9D31-27037C4AB3A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ABB9-769E-4833-965E-D70B949235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3.gif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685800" y="2057400"/>
            <a:ext cx="7467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ff"/>
                </a:solidFill>
                <a:latin typeface="Times New Roman"/>
              </a:rPr>
              <a:t>4.9.</a:t>
            </a:r>
            <a:r>
              <a:rPr b="0" lang="zh-CN" sz="54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图形的放大与缩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1676520" y="457200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华文隶书"/>
                <a:ea typeface="华文隶书"/>
              </a:rPr>
              <a:t>六合一中              孙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533520" y="76212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 Box 3"/>
          <p:cNvSpPr/>
          <p:nvPr/>
        </p:nvSpPr>
        <p:spPr>
          <a:xfrm>
            <a:off x="406440" y="1125360"/>
            <a:ext cx="81961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下面的一个三角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用上面的方法亲自试一试缩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果在射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分别取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使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=2O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O=2O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那么结果又会怎样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AutoShape 4"/>
          <p:cNvSpPr/>
          <p:nvPr/>
        </p:nvSpPr>
        <p:spPr>
          <a:xfrm rot="1565400">
            <a:off x="2438280" y="2133360"/>
            <a:ext cx="911520" cy="69372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Group 5"/>
          <p:cNvGrpSpPr/>
          <p:nvPr/>
        </p:nvGrpSpPr>
        <p:grpSpPr>
          <a:xfrm>
            <a:off x="1946520" y="4219560"/>
            <a:ext cx="4879440" cy="1860120"/>
            <a:chOff x="1946520" y="4219560"/>
            <a:chExt cx="4879440" cy="1860120"/>
          </a:xfrm>
        </p:grpSpPr>
        <p:sp>
          <p:nvSpPr>
            <p:cNvPr id="621" name="Line 6"/>
            <p:cNvSpPr/>
            <p:nvPr/>
          </p:nvSpPr>
          <p:spPr>
            <a:xfrm flipV="1">
              <a:off x="2629440" y="4219560"/>
              <a:ext cx="3798360" cy="186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7"/>
            <p:cNvSpPr/>
            <p:nvPr/>
          </p:nvSpPr>
          <p:spPr>
            <a:xfrm>
              <a:off x="2126160" y="4337280"/>
              <a:ext cx="4699800" cy="955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Line 8"/>
            <p:cNvSpPr/>
            <p:nvPr/>
          </p:nvSpPr>
          <p:spPr>
            <a:xfrm flipV="1">
              <a:off x="1946520" y="4761000"/>
              <a:ext cx="4392360" cy="523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AutoShape 9"/>
            <p:cNvSpPr/>
            <p:nvPr/>
          </p:nvSpPr>
          <p:spPr>
            <a:xfrm rot="2155200">
              <a:off x="5979600" y="4444560"/>
              <a:ext cx="635040" cy="629280"/>
            </a:xfrm>
            <a:prstGeom prst="rtTriangl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5" name="Text Box 10"/>
          <p:cNvSpPr/>
          <p:nvPr/>
        </p:nvSpPr>
        <p:spPr>
          <a:xfrm>
            <a:off x="6095880" y="5181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11"/>
          <p:cNvSpPr/>
          <p:nvPr/>
        </p:nvSpPr>
        <p:spPr>
          <a:xfrm>
            <a:off x="4800600" y="44197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12"/>
          <p:cNvSpPr/>
          <p:nvPr/>
        </p:nvSpPr>
        <p:spPr>
          <a:xfrm>
            <a:off x="5562720" y="4495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3"/>
          <p:cNvSpPr/>
          <p:nvPr/>
        </p:nvSpPr>
        <p:spPr>
          <a:xfrm>
            <a:off x="5943600" y="3962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4"/>
          <p:cNvSpPr/>
          <p:nvPr/>
        </p:nvSpPr>
        <p:spPr>
          <a:xfrm>
            <a:off x="22096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5"/>
          <p:cNvSpPr/>
          <p:nvPr/>
        </p:nvSpPr>
        <p:spPr>
          <a:xfrm>
            <a:off x="1982880" y="2362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6"/>
          <p:cNvSpPr/>
          <p:nvPr/>
        </p:nvSpPr>
        <p:spPr>
          <a:xfrm>
            <a:off x="3125880" y="2819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609480" y="609480"/>
            <a:ext cx="82296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课堂小结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如果两个图形不仅是相似图形，而且是每组对应点所在的直线都经过同一个点，那么这样的两个图形叫做</a:t>
            </a:r>
            <a:r>
              <a:rPr b="1" lang="zh-CN" sz="2800" spc="-1" strike="noStrike" u="sng">
                <a:solidFill>
                  <a:srgbClr val="37322d"/>
                </a:solidFill>
                <a:uFillTx/>
                <a:latin typeface="Times New Roman"/>
              </a:rPr>
              <a:t>　　　　　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 这个点叫做</a:t>
            </a:r>
            <a:r>
              <a:rPr b="1" lang="zh-CN" sz="2800" spc="-1" strike="noStrike" u="sng">
                <a:solidFill>
                  <a:srgbClr val="37322d"/>
                </a:solidFill>
                <a:uFillTx/>
                <a:latin typeface="Times New Roman"/>
              </a:rPr>
              <a:t>　　　　　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这时的相似比又称为</a:t>
            </a:r>
            <a:r>
              <a:rPr b="1" lang="zh-CN" sz="2800" spc="-1" strike="noStrike" u="sng">
                <a:solidFill>
                  <a:srgbClr val="37322d"/>
                </a:solidFill>
                <a:uFillTx/>
                <a:latin typeface="Times New Roman"/>
              </a:rPr>
              <a:t>　　　　 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　　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位似图形上任意一对对应点到位似中心的距离之比等于</a:t>
            </a:r>
            <a:r>
              <a:rPr b="0" lang="zh-CN" sz="2800" spc="-1" strike="noStrike" u="sng">
                <a:solidFill>
                  <a:srgbClr val="37322d"/>
                </a:solidFill>
                <a:uFillTx/>
                <a:latin typeface="Times New Roman"/>
              </a:rPr>
              <a:t>　　　　　 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　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学会把任意图形</a:t>
            </a:r>
            <a:r>
              <a:rPr b="0" lang="zh-CN" sz="2800" spc="-1" strike="noStrike" u="sng">
                <a:solidFill>
                  <a:srgbClr val="37322d"/>
                </a:solidFill>
                <a:uFillTx/>
                <a:latin typeface="Times New Roman"/>
              </a:rPr>
              <a:t>　　　　　　 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3413520" y="20574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e04"/>
                </a:solidFill>
                <a:latin typeface="Times New Roman"/>
              </a:rPr>
              <a:t>位似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Rectangle 4"/>
          <p:cNvSpPr/>
          <p:nvPr/>
        </p:nvSpPr>
        <p:spPr>
          <a:xfrm>
            <a:off x="4480200" y="2666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e04"/>
                </a:solidFill>
                <a:latin typeface="Times New Roman"/>
              </a:rPr>
              <a:t>位似中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5703840" y="3276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e04"/>
                </a:solidFill>
                <a:latin typeface="Times New Roman"/>
              </a:rPr>
              <a:t>位似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Rectangle 6"/>
          <p:cNvSpPr/>
          <p:nvPr/>
        </p:nvSpPr>
        <p:spPr>
          <a:xfrm>
            <a:off x="2960640" y="4419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e04"/>
                </a:solidFill>
                <a:latin typeface="Times New Roman"/>
              </a:rPr>
              <a:t>位似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Rectangle 7"/>
          <p:cNvSpPr/>
          <p:nvPr/>
        </p:nvSpPr>
        <p:spPr>
          <a:xfrm>
            <a:off x="5695200" y="4952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c4e04"/>
                </a:solidFill>
                <a:latin typeface="Times New Roman"/>
              </a:rPr>
              <a:t>放大与缩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ext Box 8"/>
          <p:cNvSpPr/>
          <p:nvPr/>
        </p:nvSpPr>
        <p:spPr>
          <a:xfrm>
            <a:off x="1066680" y="56386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f93d29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、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还可以用</a:t>
            </a:r>
            <a:r>
              <a:rPr b="0" lang="en-US" sz="2800" spc="-1" strike="noStrike">
                <a:solidFill>
                  <a:srgbClr val="37322d"/>
                </a:solidFill>
                <a:latin typeface="Times New Roman"/>
              </a:rPr>
              <a:t>Word    Powerpoint  Authorware       Photoshop </a:t>
            </a:r>
            <a:r>
              <a:rPr b="0" lang="zh-CN" sz="2800" spc="-1" strike="noStrike">
                <a:solidFill>
                  <a:srgbClr val="37322d"/>
                </a:solidFill>
                <a:latin typeface="Times New Roman"/>
              </a:rPr>
              <a:t>几何画板等工具把图形放大与缩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2"/>
          <p:cNvSpPr/>
          <p:nvPr/>
        </p:nvSpPr>
        <p:spPr>
          <a:xfrm>
            <a:off x="380880" y="1219320"/>
            <a:ext cx="8305920" cy="32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:P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137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1,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5400" spc="-1" strike="noStrike" baseline="-25000">
                <a:solidFill>
                  <a:srgbClr val="000000"/>
                </a:solidFill>
                <a:latin typeface="Times New Roman"/>
              </a:rPr>
              <a:t>138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.1;   2(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把放大前后的图形夹在作业本中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4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3339360" y="106668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行楷"/>
              </a:rPr>
              <a:t>图形的放大与缩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Picture 3" descr="big2"/>
          <p:cNvPicPr/>
          <p:nvPr/>
        </p:nvPicPr>
        <p:blipFill>
          <a:blip r:embed="rId1"/>
          <a:stretch/>
        </p:blipFill>
        <p:spPr>
          <a:xfrm>
            <a:off x="990720" y="3276720"/>
            <a:ext cx="73188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4" descr="big2"/>
          <p:cNvPicPr/>
          <p:nvPr/>
        </p:nvPicPr>
        <p:blipFill>
          <a:blip r:embed="rId2"/>
          <a:stretch/>
        </p:blipFill>
        <p:spPr>
          <a:xfrm>
            <a:off x="2438280" y="3124080"/>
            <a:ext cx="1096920" cy="10969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5" descr="big2"/>
          <p:cNvPicPr/>
          <p:nvPr/>
        </p:nvPicPr>
        <p:blipFill>
          <a:blip r:embed="rId3"/>
          <a:stretch/>
        </p:blipFill>
        <p:spPr>
          <a:xfrm>
            <a:off x="4343400" y="2895480"/>
            <a:ext cx="1460520" cy="14605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6" descr="big2"/>
          <p:cNvPicPr/>
          <p:nvPr/>
        </p:nvPicPr>
        <p:blipFill>
          <a:blip r:embed="rId4"/>
          <a:stretch/>
        </p:blipFill>
        <p:spPr>
          <a:xfrm>
            <a:off x="6477120" y="27432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0034"/>
          <p:cNvPicPr/>
          <p:nvPr/>
        </p:nvPicPr>
        <p:blipFill>
          <a:blip r:embed="rId5"/>
          <a:stretch/>
        </p:blipFill>
        <p:spPr>
          <a:xfrm>
            <a:off x="7246800" y="5181480"/>
            <a:ext cx="1897200" cy="10749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0034"/>
          <p:cNvPicPr/>
          <p:nvPr/>
        </p:nvPicPr>
        <p:blipFill>
          <a:blip r:embed="rId6"/>
          <a:stretch/>
        </p:blipFill>
        <p:spPr>
          <a:xfrm>
            <a:off x="4419720" y="4648320"/>
            <a:ext cx="2846160" cy="16128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0030"/>
          <p:cNvPicPr/>
          <p:nvPr/>
        </p:nvPicPr>
        <p:blipFill>
          <a:blip r:embed="rId7"/>
          <a:stretch/>
        </p:blipFill>
        <p:spPr>
          <a:xfrm>
            <a:off x="1066680" y="4457880"/>
            <a:ext cx="2286000" cy="186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C:\Documents and Settings\All Users\Documents\My Pictures\示例图片\102573.jpg"/>
          <p:cNvPicPr/>
          <p:nvPr/>
        </p:nvPicPr>
        <p:blipFill>
          <a:blip r:embed="rId1"/>
          <a:stretch/>
        </p:blipFill>
        <p:spPr>
          <a:xfrm>
            <a:off x="457200" y="1066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C:\Documents and Settings\All Users\Documents\My Pictures\示例图片\102573.jpg"/>
          <p:cNvPicPr/>
          <p:nvPr/>
        </p:nvPicPr>
        <p:blipFill>
          <a:blip r:embed="rId2"/>
          <a:stretch/>
        </p:blipFill>
        <p:spPr>
          <a:xfrm>
            <a:off x="2666880" y="2743200"/>
            <a:ext cx="1600200" cy="152388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4" descr="C:\Documents and Settings\All Users\Documents\My Pictures\示例图片\102573.jpg"/>
          <p:cNvPicPr/>
          <p:nvPr/>
        </p:nvPicPr>
        <p:blipFill>
          <a:blip r:embed="rId3"/>
          <a:stretch/>
        </p:blipFill>
        <p:spPr>
          <a:xfrm>
            <a:off x="5486400" y="480060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5" descr="C:\Documents and Settings\All Users\Documents\My Pictures\示例图片\102573.jpg"/>
          <p:cNvPicPr/>
          <p:nvPr/>
        </p:nvPicPr>
        <p:blipFill>
          <a:blip r:embed="rId4"/>
          <a:stretch/>
        </p:blipFill>
        <p:spPr>
          <a:xfrm>
            <a:off x="4343400" y="3962520"/>
            <a:ext cx="990720" cy="990360"/>
          </a:xfrm>
          <a:prstGeom prst="rect">
            <a:avLst/>
          </a:prstGeom>
          <a:ln w="0">
            <a:noFill/>
          </a:ln>
        </p:spPr>
      </p:pic>
      <p:sp>
        <p:nvSpPr>
          <p:cNvPr id="547" name="Line 6"/>
          <p:cNvSpPr/>
          <p:nvPr/>
        </p:nvSpPr>
        <p:spPr>
          <a:xfrm>
            <a:off x="990720" y="533520"/>
            <a:ext cx="6172200" cy="5486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Line 7"/>
          <p:cNvSpPr/>
          <p:nvPr/>
        </p:nvSpPr>
        <p:spPr>
          <a:xfrm>
            <a:off x="0" y="3200400"/>
            <a:ext cx="7162920" cy="2819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8"/>
          <p:cNvSpPr/>
          <p:nvPr/>
        </p:nvSpPr>
        <p:spPr>
          <a:xfrm flipH="1" flipV="1">
            <a:off x="380520" y="838080"/>
            <a:ext cx="6782040" cy="5181840"/>
          </a:xfrm>
          <a:prstGeom prst="line">
            <a:avLst/>
          </a:prstGeom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9"/>
          <p:cNvSpPr/>
          <p:nvPr/>
        </p:nvSpPr>
        <p:spPr>
          <a:xfrm>
            <a:off x="7238880" y="5867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10"/>
          <p:cNvSpPr/>
          <p:nvPr/>
        </p:nvSpPr>
        <p:spPr>
          <a:xfrm flipH="1" flipV="1">
            <a:off x="-360" y="2209680"/>
            <a:ext cx="7162920" cy="3810240"/>
          </a:xfrm>
          <a:prstGeom prst="line">
            <a:avLst/>
          </a:prstGeom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11"/>
          <p:cNvSpPr/>
          <p:nvPr/>
        </p:nvSpPr>
        <p:spPr>
          <a:xfrm flipH="1" flipV="1">
            <a:off x="1676520" y="761760"/>
            <a:ext cx="5486400" cy="52578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Text Box 12"/>
          <p:cNvSpPr/>
          <p:nvPr/>
        </p:nvSpPr>
        <p:spPr>
          <a:xfrm>
            <a:off x="3657600" y="0"/>
            <a:ext cx="5486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下列一组图片是形状相同的图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图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取一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它与另一张图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如图片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上相应的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之间的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连线是否经过镜头中心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图片上换其它的点试一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还有类似的规律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13"/>
          <p:cNvSpPr/>
          <p:nvPr/>
        </p:nvSpPr>
        <p:spPr>
          <a:xfrm>
            <a:off x="228600" y="259092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14"/>
          <p:cNvSpPr/>
          <p:nvPr/>
        </p:nvSpPr>
        <p:spPr>
          <a:xfrm>
            <a:off x="2286000" y="36576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15"/>
          <p:cNvSpPr/>
          <p:nvPr/>
        </p:nvSpPr>
        <p:spPr>
          <a:xfrm>
            <a:off x="3962520" y="44956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6"/>
          <p:cNvSpPr/>
          <p:nvPr/>
        </p:nvSpPr>
        <p:spPr>
          <a:xfrm>
            <a:off x="5486400" y="54864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  <a:ea typeface="仿宋_GB2312"/>
              </a:rPr>
              <a:t>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17"/>
          <p:cNvSpPr/>
          <p:nvPr/>
        </p:nvSpPr>
        <p:spPr>
          <a:xfrm>
            <a:off x="1143000" y="6858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Text Box 18"/>
          <p:cNvSpPr/>
          <p:nvPr/>
        </p:nvSpPr>
        <p:spPr>
          <a:xfrm>
            <a:off x="2971800" y="2286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685800" y="457200"/>
            <a:ext cx="76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似图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概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如果两个图形不仅是相似图形，而且是每组对应点所在的直线都经过同一个点，那么这样的两个图形叫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似图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914400" y="563868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个点叫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似中心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914400" y="609588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时的相似比又称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位似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609480" y="2514600"/>
            <a:ext cx="7467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特征：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　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6"/>
          <p:cNvSpPr/>
          <p:nvPr/>
        </p:nvSpPr>
        <p:spPr>
          <a:xfrm>
            <a:off x="380880" y="3809880"/>
            <a:ext cx="7620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判断题：位似图形是相似图形（　　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　　相似图形是位似图形（　　　　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5638680" y="44197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93d29"/>
                </a:solidFill>
                <a:latin typeface="Times New Roman"/>
              </a:rPr>
              <a:t>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8"/>
          <p:cNvSpPr/>
          <p:nvPr/>
        </p:nvSpPr>
        <p:spPr>
          <a:xfrm>
            <a:off x="5715000" y="3809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Line 9"/>
          <p:cNvSpPr/>
          <p:nvPr/>
        </p:nvSpPr>
        <p:spPr>
          <a:xfrm>
            <a:off x="838080" y="1981080"/>
            <a:ext cx="1524240" cy="0"/>
          </a:xfrm>
          <a:prstGeom prst="line">
            <a:avLst/>
          </a:prstGeom>
          <a:ln w="76320">
            <a:solidFill>
              <a:srgbClr val="f93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Line 10"/>
          <p:cNvSpPr/>
          <p:nvPr/>
        </p:nvSpPr>
        <p:spPr>
          <a:xfrm>
            <a:off x="2286000" y="1981080"/>
            <a:ext cx="3809880" cy="0"/>
          </a:xfrm>
          <a:prstGeom prst="line">
            <a:avLst/>
          </a:prstGeom>
          <a:ln w="76320">
            <a:solidFill>
              <a:srgbClr val="f93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1"/>
          <p:cNvSpPr/>
          <p:nvPr/>
        </p:nvSpPr>
        <p:spPr>
          <a:xfrm>
            <a:off x="1279440" y="497376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改正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Text Box 12"/>
          <p:cNvSpPr/>
          <p:nvPr/>
        </p:nvSpPr>
        <p:spPr>
          <a:xfrm>
            <a:off x="2590920" y="251460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相似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13"/>
          <p:cNvSpPr/>
          <p:nvPr/>
        </p:nvSpPr>
        <p:spPr>
          <a:xfrm>
            <a:off x="2438280" y="312408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组对应点所在的直线都经过同一个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Text Box 14"/>
          <p:cNvSpPr/>
          <p:nvPr/>
        </p:nvSpPr>
        <p:spPr>
          <a:xfrm>
            <a:off x="2209680" y="5014800"/>
            <a:ext cx="63248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a7a35"/>
                </a:solidFill>
                <a:latin typeface="Times New Roman"/>
              </a:rPr>
              <a:t>相似图形不一定是位似图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15"/>
          <p:cNvSpPr/>
          <p:nvPr/>
        </p:nvSpPr>
        <p:spPr>
          <a:xfrm>
            <a:off x="2514600" y="6553080"/>
            <a:ext cx="914400" cy="0"/>
          </a:xfrm>
          <a:prstGeom prst="line">
            <a:avLst/>
          </a:prstGeom>
          <a:ln w="76320">
            <a:solidFill>
              <a:srgbClr val="f93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16"/>
          <p:cNvSpPr/>
          <p:nvPr/>
        </p:nvSpPr>
        <p:spPr>
          <a:xfrm>
            <a:off x="2209680" y="6095880"/>
            <a:ext cx="381240" cy="0"/>
          </a:xfrm>
          <a:prstGeom prst="line">
            <a:avLst/>
          </a:prstGeom>
          <a:ln w="76320">
            <a:solidFill>
              <a:srgbClr val="f93d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457200" y="2286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做一做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Text Box 3"/>
          <p:cNvSpPr/>
          <p:nvPr/>
        </p:nvSpPr>
        <p:spPr>
          <a:xfrm>
            <a:off x="380880" y="1066680"/>
            <a:ext cx="838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下列各组图形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哪些是位似图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若是位似图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请指出它的位似中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685800" y="2209680"/>
            <a:ext cx="2057400" cy="205740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AutoShape 5"/>
          <p:cNvSpPr/>
          <p:nvPr/>
        </p:nvSpPr>
        <p:spPr>
          <a:xfrm>
            <a:off x="1219320" y="2743200"/>
            <a:ext cx="990360" cy="990720"/>
          </a:xfrm>
          <a:prstGeom prst="plus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6"/>
          <p:cNvSpPr/>
          <p:nvPr/>
        </p:nvSpPr>
        <p:spPr>
          <a:xfrm>
            <a:off x="1219320" y="2209680"/>
            <a:ext cx="9903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7"/>
          <p:cNvSpPr/>
          <p:nvPr/>
        </p:nvSpPr>
        <p:spPr>
          <a:xfrm>
            <a:off x="685800" y="27432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Line 8"/>
          <p:cNvSpPr/>
          <p:nvPr/>
        </p:nvSpPr>
        <p:spPr>
          <a:xfrm flipV="1">
            <a:off x="685800" y="2743200"/>
            <a:ext cx="205740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Line 10"/>
          <p:cNvSpPr/>
          <p:nvPr/>
        </p:nvSpPr>
        <p:spPr>
          <a:xfrm flipH="1">
            <a:off x="1218960" y="2209680"/>
            <a:ext cx="990360" cy="205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1"/>
          <p:cNvSpPr/>
          <p:nvPr/>
        </p:nvSpPr>
        <p:spPr>
          <a:xfrm>
            <a:off x="1219320" y="2743200"/>
            <a:ext cx="9903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2"/>
          <p:cNvSpPr/>
          <p:nvPr/>
        </p:nvSpPr>
        <p:spPr>
          <a:xfrm flipH="1">
            <a:off x="1218960" y="2743200"/>
            <a:ext cx="99036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13"/>
          <p:cNvSpPr/>
          <p:nvPr/>
        </p:nvSpPr>
        <p:spPr>
          <a:xfrm>
            <a:off x="1447920" y="31240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AutoShape 14"/>
          <p:cNvSpPr/>
          <p:nvPr/>
        </p:nvSpPr>
        <p:spPr>
          <a:xfrm>
            <a:off x="4191120" y="2514600"/>
            <a:ext cx="2286000" cy="985680"/>
          </a:xfrm>
          <a:prstGeom prst="leftArrow">
            <a:avLst>
              <a:gd name="adj1" fmla="val 38167"/>
              <a:gd name="adj2" fmla="val 5798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AutoShape 15"/>
          <p:cNvSpPr/>
          <p:nvPr/>
        </p:nvSpPr>
        <p:spPr>
          <a:xfrm rot="21108600">
            <a:off x="4419720" y="3352680"/>
            <a:ext cx="3276360" cy="1325520"/>
          </a:xfrm>
          <a:prstGeom prst="leftArrow">
            <a:avLst>
              <a:gd name="adj1" fmla="val 33009"/>
              <a:gd name="adj2" fmla="val 633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16"/>
          <p:cNvSpPr/>
          <p:nvPr/>
        </p:nvSpPr>
        <p:spPr>
          <a:xfrm>
            <a:off x="1143000" y="4876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17"/>
          <p:cNvSpPr/>
          <p:nvPr/>
        </p:nvSpPr>
        <p:spPr>
          <a:xfrm>
            <a:off x="54864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2" descr="C:\Documents and Settings\sj\My Documents\My Pictures\2004112902-01.jpg"/>
          <p:cNvPicPr/>
          <p:nvPr/>
        </p:nvPicPr>
        <p:blipFill>
          <a:blip r:embed="rId1"/>
          <a:stretch/>
        </p:blipFill>
        <p:spPr>
          <a:xfrm>
            <a:off x="914400" y="1295280"/>
            <a:ext cx="6781680" cy="3797280"/>
          </a:xfrm>
          <a:prstGeom prst="rect">
            <a:avLst/>
          </a:prstGeom>
          <a:ln w="0">
            <a:noFill/>
          </a:ln>
        </p:spPr>
      </p:pic>
      <p:sp>
        <p:nvSpPr>
          <p:cNvPr id="591" name="Text Box 3"/>
          <p:cNvSpPr/>
          <p:nvPr/>
        </p:nvSpPr>
        <p:spPr>
          <a:xfrm>
            <a:off x="533520" y="4572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下列各个图形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位似图形的是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533520" y="58672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AutoShape 5"/>
          <p:cNvSpPr/>
          <p:nvPr/>
        </p:nvSpPr>
        <p:spPr>
          <a:xfrm>
            <a:off x="1752480" y="5867280"/>
            <a:ext cx="685800" cy="60984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4289" h="21600">
                <a:moveTo>
                  <a:pt x="0" y="0"/>
                </a:moveTo>
                <a:lnTo>
                  <a:pt x="24289" y="0"/>
                </a:lnTo>
                <a:lnTo>
                  <a:pt x="24289" y="21600"/>
                </a:lnTo>
                <a:lnTo>
                  <a:pt x="0" y="21600"/>
                </a:lnTo>
                <a:close/>
              </a:path>
              <a:path fill="lightenLess" w="24289" h="21600">
                <a:moveTo>
                  <a:pt x="0" y="0"/>
                </a:moveTo>
                <a:lnTo>
                  <a:pt x="24289" y="0"/>
                </a:lnTo>
                <a:lnTo>
                  <a:pt x="22889" y="1400"/>
                </a:lnTo>
                <a:lnTo>
                  <a:pt x="1400" y="1400"/>
                </a:lnTo>
                <a:close/>
              </a:path>
              <a:path fill="darken" w="24289" h="21600">
                <a:moveTo>
                  <a:pt x="24289" y="0"/>
                </a:moveTo>
                <a:lnTo>
                  <a:pt x="24289" y="21600"/>
                </a:lnTo>
                <a:lnTo>
                  <a:pt x="22889" y="20200"/>
                </a:lnTo>
                <a:lnTo>
                  <a:pt x="22889" y="1400"/>
                </a:lnTo>
                <a:close/>
              </a:path>
              <a:path fill="darkenLess" w="24289" h="21600">
                <a:moveTo>
                  <a:pt x="242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89" y="20200"/>
                </a:lnTo>
                <a:close/>
              </a:path>
              <a:path fill="lighten" w="242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89" h="21600">
                <a:moveTo>
                  <a:pt x="5138" y="3794"/>
                </a:moveTo>
                <a:lnTo>
                  <a:pt x="19151" y="10800"/>
                </a:lnTo>
                <a:lnTo>
                  <a:pt x="5138" y="17806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AutoShape 6"/>
          <p:cNvSpPr/>
          <p:nvPr/>
        </p:nvSpPr>
        <p:spPr>
          <a:xfrm>
            <a:off x="3048120" y="57913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5494" y="10800"/>
                </a:moveTo>
                <a:lnTo>
                  <a:pt x="4989" y="17806"/>
                </a:lnTo>
                <a:lnTo>
                  <a:pt x="4989" y="3794"/>
                </a:lnTo>
                <a:close/>
              </a:path>
              <a:path fill="darken" w="23991" h="21600">
                <a:moveTo>
                  <a:pt x="17340" y="3794"/>
                </a:moveTo>
                <a:lnTo>
                  <a:pt x="17340" y="17806"/>
                </a:lnTo>
                <a:lnTo>
                  <a:pt x="19002" y="17806"/>
                </a:lnTo>
                <a:lnTo>
                  <a:pt x="19002" y="379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ext Box 2"/>
          <p:cNvSpPr/>
          <p:nvPr/>
        </p:nvSpPr>
        <p:spPr>
          <a:xfrm>
            <a:off x="457200" y="762120"/>
            <a:ext cx="7620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课本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页图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任取一对对应点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度量这两个点到位似中心的距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它们的比与位似比有什么关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中再试一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还有类似的规律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3"/>
          <p:cNvSpPr/>
          <p:nvPr/>
        </p:nvSpPr>
        <p:spPr>
          <a:xfrm>
            <a:off x="304920" y="3276720"/>
            <a:ext cx="7848360" cy="581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位似图形上任意一对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对应点到位似中心的距离之比</a:t>
            </a:r>
            <a:r>
              <a:rPr b="0" lang="zh-CN" sz="3200" spc="-1" strike="noStrike">
                <a:solidFill>
                  <a:srgbClr val="3333ff"/>
                </a:solidFill>
                <a:latin typeface="Times New Roman"/>
              </a:rPr>
              <a:t>等于相似比</a:t>
            </a: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4"/>
          <p:cNvSpPr/>
          <p:nvPr/>
        </p:nvSpPr>
        <p:spPr>
          <a:xfrm>
            <a:off x="762120" y="47242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数学上可以证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个结论是正确的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5"/>
          <p:cNvSpPr/>
          <p:nvPr/>
        </p:nvSpPr>
        <p:spPr>
          <a:xfrm>
            <a:off x="0" y="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做一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旋转 DSC00257"/>
          <p:cNvPicPr/>
          <p:nvPr/>
        </p:nvPicPr>
        <p:blipFill>
          <a:blip r:embed="rId1"/>
          <a:stretch/>
        </p:blipFill>
        <p:spPr>
          <a:xfrm>
            <a:off x="1447920" y="1981080"/>
            <a:ext cx="6095880" cy="4572000"/>
          </a:xfrm>
          <a:prstGeom prst="rect">
            <a:avLst/>
          </a:prstGeom>
          <a:ln w="0">
            <a:noFill/>
          </a:ln>
        </p:spPr>
      </p:pic>
      <p:sp>
        <p:nvSpPr>
          <p:cNvPr id="600" name="Text Box 3"/>
          <p:cNvSpPr/>
          <p:nvPr/>
        </p:nvSpPr>
        <p:spPr>
          <a:xfrm>
            <a:off x="308880" y="2514600"/>
            <a:ext cx="6069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想一想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4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还记得本章第三节用橡皮筋放大图形的方法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实际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用这种方法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放大前后的两个图形是位似图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你能用这种方法将一个已知的多边形放大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使放大后的图形与原图形的位似比分别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533520" y="762120"/>
            <a:ext cx="81532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随堂练习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按如下方法可以将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三边缩小为原来的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如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任取一点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连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,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并取它们的中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, △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三边就是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相应三边的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(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实际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△AB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与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位似图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3" name="Object 3"/>
              <p:cNvSpPr txBox="1"/>
              <p:nvPr/>
            </p:nvSpPr>
            <p:spPr>
              <a:xfrm>
                <a:off x="6964200" y="1130400"/>
                <a:ext cx="274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04" name="Line 4"/>
          <p:cNvSpPr/>
          <p:nvPr/>
        </p:nvSpPr>
        <p:spPr>
          <a:xfrm flipV="1">
            <a:off x="2336760" y="3297240"/>
            <a:ext cx="3848040" cy="2487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5"/>
          <p:cNvSpPr/>
          <p:nvPr/>
        </p:nvSpPr>
        <p:spPr>
          <a:xfrm>
            <a:off x="2340720" y="5689080"/>
            <a:ext cx="4624560" cy="382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6"/>
          <p:cNvSpPr/>
          <p:nvPr/>
        </p:nvSpPr>
        <p:spPr>
          <a:xfrm flipV="1">
            <a:off x="2372040" y="4966560"/>
            <a:ext cx="3142440" cy="759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AutoShape 7"/>
          <p:cNvSpPr/>
          <p:nvPr/>
        </p:nvSpPr>
        <p:spPr>
          <a:xfrm rot="1748400">
            <a:off x="3943080" y="4729320"/>
            <a:ext cx="974520" cy="966600"/>
          </a:xfrm>
          <a:prstGeom prst="rtTriangle">
            <a:avLst/>
          </a:prstGeom>
          <a:solidFill>
            <a:srgbClr val="f93d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AutoShape 8"/>
          <p:cNvSpPr/>
          <p:nvPr/>
        </p:nvSpPr>
        <p:spPr>
          <a:xfrm rot="1748400">
            <a:off x="5365440" y="3769920"/>
            <a:ext cx="1949400" cy="1932120"/>
          </a:xfrm>
          <a:prstGeom prst="rtTriangl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9"/>
          <p:cNvSpPr/>
          <p:nvPr/>
        </p:nvSpPr>
        <p:spPr>
          <a:xfrm>
            <a:off x="4419720" y="58672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0"/>
          <p:cNvSpPr/>
          <p:nvPr/>
        </p:nvSpPr>
        <p:spPr>
          <a:xfrm>
            <a:off x="220968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1"/>
          <p:cNvSpPr/>
          <p:nvPr/>
        </p:nvSpPr>
        <p:spPr>
          <a:xfrm>
            <a:off x="3962520" y="4114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2"/>
          <p:cNvSpPr/>
          <p:nvPr/>
        </p:nvSpPr>
        <p:spPr>
          <a:xfrm>
            <a:off x="4724280" y="4724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3505320" y="50292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4"/>
          <p:cNvSpPr/>
          <p:nvPr/>
        </p:nvSpPr>
        <p:spPr>
          <a:xfrm>
            <a:off x="6553080" y="5943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5"/>
          <p:cNvSpPr/>
          <p:nvPr/>
        </p:nvSpPr>
        <p:spPr>
          <a:xfrm>
            <a:off x="5715000" y="31240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22d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6" name="Object 16"/>
              <p:cNvSpPr txBox="1"/>
              <p:nvPr/>
            </p:nvSpPr>
            <p:spPr>
              <a:xfrm>
                <a:off x="6858000" y="2273400"/>
                <a:ext cx="274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8T15:41:12Z</dcterms:created>
  <dc:creator>sj</dc:creator>
  <dc:description/>
  <dc:language>en-US</dc:language>
  <cp:lastModifiedBy>a</cp:lastModifiedBy>
  <dcterms:modified xsi:type="dcterms:W3CDTF">2015-03-17T05:46:57Z</dcterms:modified>
  <cp:revision>2</cp:revision>
  <dc:subject/>
  <dc:title>PowerPoint 演示文稿</dc:title>
</cp:coreProperties>
</file>