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2D88-327A-47C5-9E7C-A7F6127EA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9AB2-96DC-438F-9B6D-7EFE6C2AE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0A16B-A37A-48E5-83BD-3238FA8A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292EF-7102-4DED-8FDA-7C6D6EAE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5786E-6422-44DE-8B1D-4BF2C59BB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FE4337-200D-42AF-928E-58FE5FA4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78F29-0C49-4D30-83BE-9AB89E0A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0A9F9D-5ECB-4339-9A62-63455F33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E3BF9-09A0-4034-81C0-587E9DDF9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8B11A8-3FBC-4611-9D05-88D4CC4A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24B55-3F17-420E-BADB-BE5677B5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9C3AE-630B-482B-80D1-D7F9175D2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763-3CD5-442A-845D-D6E0B938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49FE6-D63C-41AD-ACB5-84D32177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18B7D-FD7E-4C11-8FDF-FB9AFFE9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1F87CF-E6CE-44D3-872A-6301CADE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F8D18-0796-485B-B666-13967107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FD923-9D9E-447D-A688-7D2DEFE3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1E658-BD0F-4579-873B-5EAB3BBD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4A0E31-2AD8-44AB-8B0F-42B02C0D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63797A-925E-41EA-A0E3-7648B0DB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B6A97-1FFE-4724-9287-1A76CCEB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A313F-9445-407C-8900-AFDBB7FC3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CD5-6805-413A-9E52-8F0285B30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DCC414-5986-40E5-98A4-D46C5863D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B881A-FA61-4826-A712-EAD37E6C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36D26-515D-4DB6-890F-3928440A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6FD5C-7F02-4F5A-A053-5597CC05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C82E3-D052-4E8B-A47C-D90E8257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28B528-D0F0-4A95-87A9-0B18D1DF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B158D-9D53-481B-9563-AF865574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ACB5E-AE87-4AE4-A5B1-992A5C57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52935-8777-487F-8E5D-DA854340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88ADA-598D-4E94-91B0-712F4AF0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709D-5E3A-456F-9BC0-45DBC980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C9827-5B83-4482-9832-D2043B7B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F37E1-48B1-4AF9-A174-53C2EC129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69C7F-7D89-4F89-B2FD-74A885DFF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00CA1-DB54-45D3-A18B-874F08239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28C79F-2BAC-4CE4-94DF-F23D4952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02A0E-632D-4A3B-9F88-917E2FB1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4B792-20C2-407F-9573-A8B4F993E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2FC07-04A2-4CFE-B1A8-1663C3FB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AD0AD-A885-4766-876D-45AF04E3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28FA89-FA1A-478C-A852-0442D88A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0957B-0C02-4CA0-9B48-59B85AB9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B8629D-BDB9-4B8D-BBB4-337B68A3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01C657-2CD2-48DB-9420-A1895239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063A3-CC9F-4C8A-AEF6-0A79BD91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DB9E0-14EF-4D00-BF2C-0677B2B7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0099D-D189-4CAB-BC02-C1760AEBA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BB6C37-9405-452F-AAD5-C6BFB2160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6570AA-AEDE-4C9B-AD5D-E2D652BD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737CF-B37C-47A3-A893-173D0BA31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DB416-9B6D-46FE-BF57-8D1BD97D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C8512-F73D-4C54-AE6C-582130B3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CE77-66FB-4854-9167-1FA042EA0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45DC5-A543-4AFB-AEC2-71D13DC62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E46BD-C7AE-4141-9F53-8E8619058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4580E0-E024-4555-A72E-285AB4BC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A340A3-D239-44EB-A77D-3670347B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001DD-E38C-4E79-B551-811FA72C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F20E2-76B5-4D5D-85A5-F3404DB0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02B0C-74E3-45AA-ABAE-C5FF0A4D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0F6311-DD64-4B71-B1D9-134ADC248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16B458-4B12-4B27-939D-350531CD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367FB1-A1EC-443B-A718-F1B745B22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8DBD-D978-4797-8416-CD04040D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C84606-4466-4153-A657-28C04F9D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7CC641-45A1-4BD0-A433-4FF53DCE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88C458-D08F-4BBC-AFE7-5AABFCD3C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B13DAB-2114-4273-9D54-CEA8A176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2F0091-5F2E-4455-A86A-E5A0A39F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9EEFE-5311-48B9-AD76-0F089211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F3526C-3F8D-4795-BD00-7AD68645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42E410-E193-4E09-B71C-9189AD738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D3BC7-F06D-4159-A2F4-3ACA9853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C2FA-3A1B-4037-9FC1-5777F978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F662-921C-4737-9152-755702CFE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16AD-BA45-464D-8245-E77C85FF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CE64-0A05-4F63-9F2F-70429B94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44CE-DB73-46C8-9413-7E1948C8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B51E-BD28-4970-89CF-D585F10DF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E5C1-D515-485F-AE96-56500082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0D3FD-7D04-400B-B855-76D3F2775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1053-7E11-45DA-8F81-6981EFAD8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1B0DD-6621-4016-81D7-325501EE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54F27-010D-4B70-B257-44373ED23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5F6F1-DC1B-4CD1-B76D-0843556C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78CF9-EF8C-4CA1-8142-E17203F5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B8AE0-8265-4022-A6A2-1E5223682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A20-FD62-4C43-AE44-922FF70D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11945-2DD4-4D52-97BA-DC9D062D4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E96F2-C51B-44A2-8708-4A186D9F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0842C-BE4C-47EF-A601-46E436C3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22F4-DD00-4631-9301-C42C380B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8EA6B-D702-4BDB-842C-4D1D8398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8E8A8-9371-4C11-801D-693D1B63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23869-CE8C-491A-84BD-0EB5959F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561AC-C8B7-4BA3-B063-452613AA8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34E2E-3115-4C98-B4D1-103CE29B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768FB-A4DE-4D74-B4AD-2FB25D05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4BC-EDF3-4A74-B21C-25386574E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90B69-BD58-48C4-83C6-11E5C173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F59E-E309-4FF6-B8C5-58E7C2FB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F36AB-D7C6-49F7-822C-F6BD2705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6E0D9-8BB0-4691-8CCC-25202D7A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50A1-2A5B-4F0D-B861-7A5E207D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C5B45-A4EB-4DAC-AB0E-3A06DADF2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6E8BF-1418-4014-B6A6-3088A70E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F3D02-A8A6-423C-A034-E31C6AC1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B14D6-D404-46F1-8413-1879988D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4F84D-1603-42B0-90CA-3C04C239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58D-4F76-4D36-9712-27FAAEDA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DA90B-060F-492A-AFD0-580839D4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0BE9E-9738-4595-8AD0-421793F6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925A2-2656-4549-B2E8-01A86417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17F01-FDA4-4F0E-ADB7-50A15A43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5029F-467D-4BF2-8BB1-E4504339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D2E26-B421-4547-A9F4-DC5F8EC8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0E1B8-FE44-4C5D-8CE1-729B74CE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EC74B-1CD6-41C9-BB1F-0FD946BD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BE2C6-F2DB-46CD-BA47-BAE9D93B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AD15C-0F86-41B9-8CDF-370BBA14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51D-DC13-490D-BA2F-955CDC3B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76072-1EAF-4984-A5AA-CC417843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699379-E734-480E-AECC-3B14D95F5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A0870-7F62-4AE8-83B9-DCDC29DF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46CA5-2041-48B1-AE12-F35779F6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E65D5C-B316-4AB6-B26B-56912F6B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B595C-DEE5-4E58-B9D2-02F1474B2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B2A31-1EE6-4455-8731-162D840C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5A65F-BA1C-45EF-8581-D3F9EF27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E12EC-4AC6-4DE5-BE40-61AEE8B6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BB9DA-F1C6-44FD-BB01-154B97C6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18C3-DC0C-4627-BB28-496B398D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B8570-DEE2-4D7C-BA8C-1B68D752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0A8000-31FB-4583-AF1C-1FD8285F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BB0BC-A772-42DC-95C1-0EBF1BFF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C6591-E404-45A6-BF99-E1605458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9F217-E36A-4771-8A89-9D130E5C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ABFD6-9855-4965-894C-399F1582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CE76C-3AE6-47E7-B858-5D3D7C93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69A10-CB06-441E-8F78-B0FCB0D2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66865-E4A5-4A9B-92F1-3EA1BC0F0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1BE56-5E19-4911-B2C2-768B2FAE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ABE5-6424-471F-A541-49EC4475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40599-4D43-4489-B8AA-C85BAD09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25D4B-C18E-4BC8-ACDC-B59AC239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73D19-924E-4E07-905A-C8E7A1DF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6CE25-2061-4EC6-A080-EECBC4047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70AEC-C2A5-4D3C-8EB9-9304013CC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FF4568-0743-4311-8D1D-F354C1667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490CF-357B-4E21-AA56-8CCD356D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84753-03CE-4F7E-B69A-E5053886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8C5CC-D6F3-4BD0-A637-385A3ECB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406493-D9C2-40E5-996F-6D34547C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0BB5-2E10-4FE8-84C9-9B7915FF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3CED7-9F6A-46FF-90A3-70CB3F56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03FFF6-4C61-411D-BD47-6633FF1E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340392-65B1-4758-B8C9-26A6B18F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1934E-B83C-4014-918D-211DFFE1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DFAAF-EF2C-4B75-9563-E1AEC871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C3342-A2D2-4ECF-A0CB-FCB6B113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12BC5-A913-4E1A-A427-F1A993E9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E90A3-AED1-4441-96AA-21065AD8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8C43AE-15B7-4322-A7B7-3A838194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9FC745-F28A-484C-8ACA-99B36446F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094E-4E54-4C63-AAF7-08BE2D2A76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6640-6FB8-45F5-AAB0-65CEABDE35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5ECC-7F44-45CF-A5C3-A29898BA31F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7390D-ECB5-48F1-9D84-EB3CC756190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5906-7223-498E-9157-3F1F227C9D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8A8C-9F74-4705-9C64-FA27C4C2B7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C10B-9722-4FCE-A467-579ADE0A4C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05D0-5A07-4484-8645-BFDC4570568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E4B7-D362-4BFE-ADD7-B2D90D98AE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7BEB-FEDD-42FD-A777-7D1B4B422D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3CBD-1D1A-46E9-A9F7-DDD444DF34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26DD-0811-4C03-B3B1-9EE7654F5BE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95FD-7A77-4B64-BD08-C96A332C323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86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2CEA-F138-411C-A8A4-9D326303B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AC79-AEE3-487C-A938-E428B0163B4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5CAE-343A-4B31-A390-5292E85672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E2BD0-92FB-4152-871B-E6089982B64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6B40-05C9-4450-8FFC-443C2B7501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23C9-C274-4A14-B5B9-1E4748B701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E6C4-B488-4179-B5A4-BCEC244351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6D63-36F7-41AB-9F98-255ADD844E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478A-488F-4687-A883-B06BF5625C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32F9-FF67-4E0C-B60C-27C84E1FB4C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0D4E-E501-463F-B13F-6F97E63CBEC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25E8-61AA-4450-82EA-ACAAEAD410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B8CA-71D9-48B9-9063-2EB9D9A411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2666880" y="0"/>
            <a:ext cx="40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隶书"/>
                <a:ea typeface="隶书"/>
              </a:rPr>
              <a:t>图 形 的 拼 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3"/>
          <p:cNvSpPr/>
          <p:nvPr/>
        </p:nvSpPr>
        <p:spPr>
          <a:xfrm>
            <a:off x="0" y="6094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教学目标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609480" y="1143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通过动手操作，使学生体会并能用自己的语言描述长方形、正方形边的特征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533520" y="20574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通过观察、操作，使学生初步感知所学图形之间的关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533520" y="26668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通过图形拼组，使学生获得美的感受，激发学习兴趣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Text Box 8"/>
          <p:cNvSpPr/>
          <p:nvPr/>
        </p:nvSpPr>
        <p:spPr>
          <a:xfrm>
            <a:off x="0" y="31240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教学重点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9"/>
          <p:cNvSpPr/>
          <p:nvPr/>
        </p:nvSpPr>
        <p:spPr>
          <a:xfrm>
            <a:off x="0" y="36576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教学难点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10"/>
          <p:cNvSpPr/>
          <p:nvPr/>
        </p:nvSpPr>
        <p:spPr>
          <a:xfrm>
            <a:off x="609480" y="41911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大量拼摆图形，让学生发现图形由简单到复杂的变化及联系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Text Box 11"/>
          <p:cNvSpPr/>
          <p:nvPr/>
        </p:nvSpPr>
        <p:spPr>
          <a:xfrm>
            <a:off x="0" y="4724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教具、学具准备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Text Box 12"/>
          <p:cNvSpPr/>
          <p:nvPr/>
        </p:nvSpPr>
        <p:spPr>
          <a:xfrm>
            <a:off x="533520" y="53341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多媒体课件、长方形纸片、小棒、硬纸条、大头针、学具盒等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13"/>
          <p:cNvSpPr/>
          <p:nvPr/>
        </p:nvSpPr>
        <p:spPr>
          <a:xfrm>
            <a:off x="1676520" y="32767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初步感知图形之间的关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6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63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>
            <a:hlinkClick r:id="" action="ppaction://hlinkshowjump?jump=nextslide"/>
          </p:cNvPr>
          <p:cNvSpPr/>
          <p:nvPr/>
        </p:nvSpPr>
        <p:spPr>
          <a:xfrm>
            <a:off x="685800" y="1752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形象感知，引入新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3">
            <a:hlinkClick r:id="rId1" action="ppaction://hlinksldjump"/>
          </p:cNvPr>
          <p:cNvSpPr/>
          <p:nvPr/>
        </p:nvSpPr>
        <p:spPr>
          <a:xfrm>
            <a:off x="685800" y="2743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实践探索，构建新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Rectangle 4">
            <a:hlinkClick r:id="rId2" action="ppaction://hlinksldjump"/>
          </p:cNvPr>
          <p:cNvSpPr/>
          <p:nvPr/>
        </p:nvSpPr>
        <p:spPr>
          <a:xfrm>
            <a:off x="2304720" y="3657600"/>
            <a:ext cx="4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、巩固运用，实践创新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Rectangle 5">
            <a:hlinkClick r:id="rId3" action="ppaction://hlinksldjump"/>
          </p:cNvPr>
          <p:cNvSpPr/>
          <p:nvPr/>
        </p:nvSpPr>
        <p:spPr>
          <a:xfrm>
            <a:off x="609480" y="4495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、全课小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Rectangle 6">
            <a:hlinkClick r:id="rId4" action="ppaction://hlinksldjump"/>
          </p:cNvPr>
          <p:cNvSpPr/>
          <p:nvPr/>
        </p:nvSpPr>
        <p:spPr>
          <a:xfrm>
            <a:off x="2226240" y="53341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五、课外延伸，生活拓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Rectangle 7"/>
          <p:cNvSpPr/>
          <p:nvPr/>
        </p:nvSpPr>
        <p:spPr>
          <a:xfrm>
            <a:off x="3615480" y="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33"/>
                </a:solidFill>
                <a:latin typeface="隶书"/>
                <a:ea typeface="隶书"/>
              </a:rPr>
              <a:t>图 形 的 拼 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7" name="Text Box 8"/>
          <p:cNvSpPr/>
          <p:nvPr/>
        </p:nvSpPr>
        <p:spPr>
          <a:xfrm>
            <a:off x="609480" y="990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33"/>
                </a:solidFill>
                <a:latin typeface="Times New Roman"/>
              </a:rPr>
              <a:t>教学过程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3352680" y="22860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33"/>
                </a:solidFill>
                <a:latin typeface="Times New Roman"/>
              </a:rPr>
              <a:t>教学过程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7"/>
          <p:cNvSpPr/>
          <p:nvPr/>
        </p:nvSpPr>
        <p:spPr>
          <a:xfrm>
            <a:off x="609480" y="1143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形象感知，引入新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8"/>
          <p:cNvSpPr/>
          <p:nvPr/>
        </p:nvSpPr>
        <p:spPr>
          <a:xfrm>
            <a:off x="838080" y="198108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课件出示汽车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Text Box 9"/>
          <p:cNvSpPr/>
          <p:nvPr/>
        </p:nvSpPr>
        <p:spPr>
          <a:xfrm>
            <a:off x="762120" y="2743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师：这是什么？是由哪些图形组成的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10"/>
          <p:cNvSpPr/>
          <p:nvPr/>
        </p:nvSpPr>
        <p:spPr>
          <a:xfrm>
            <a:off x="609480" y="4876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、课件出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3" name="Object 11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2819160" cy="1666800"/>
          </a:xfrm>
          <a:prstGeom prst="rect">
            <a:avLst/>
          </a:prstGeom>
          <a:ln w="0">
            <a:noFill/>
          </a:ln>
        </p:spPr>
      </p:pic>
      <p:sp>
        <p:nvSpPr>
          <p:cNvPr id="604" name="Oval 12"/>
          <p:cNvSpPr/>
          <p:nvPr/>
        </p:nvSpPr>
        <p:spPr>
          <a:xfrm>
            <a:off x="2971800" y="4800600"/>
            <a:ext cx="838080" cy="838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Rectangle 13"/>
          <p:cNvSpPr/>
          <p:nvPr/>
        </p:nvSpPr>
        <p:spPr>
          <a:xfrm>
            <a:off x="5486400" y="4876920"/>
            <a:ext cx="1371600" cy="533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Rectangle 14"/>
          <p:cNvSpPr/>
          <p:nvPr/>
        </p:nvSpPr>
        <p:spPr>
          <a:xfrm>
            <a:off x="7315200" y="4952880"/>
            <a:ext cx="838080" cy="83844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AutoShape 15"/>
          <p:cNvSpPr/>
          <p:nvPr/>
        </p:nvSpPr>
        <p:spPr>
          <a:xfrm>
            <a:off x="4191120" y="4572000"/>
            <a:ext cx="1066680" cy="106668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AutoShape 16">
            <a:hlinkClick r:id="rId2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AutoShape 17">
            <a:hlinkClick r:id="" action="ppaction://hlinkshowjump?jump=nextslide"/>
          </p:cNvPr>
          <p:cNvSpPr/>
          <p:nvPr/>
        </p:nvSpPr>
        <p:spPr>
          <a:xfrm>
            <a:off x="78487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ext Box 2"/>
          <p:cNvSpPr/>
          <p:nvPr/>
        </p:nvSpPr>
        <p:spPr>
          <a:xfrm>
            <a:off x="457200" y="4495680"/>
            <a:ext cx="7620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小结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原来呀，图形中存在着这么多的秘密，你们还想知道更多的图形之间的秘密吗？让我们来快乐地进行图形变变变吧！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Text Box 3"/>
          <p:cNvSpPr/>
          <p:nvPr/>
        </p:nvSpPr>
        <p:spPr>
          <a:xfrm>
            <a:off x="0" y="228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二、实践探索，构建新知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Text Box 4"/>
          <p:cNvSpPr/>
          <p:nvPr/>
        </p:nvSpPr>
        <p:spPr>
          <a:xfrm>
            <a:off x="304920" y="6858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、探索长方形和正方形边的特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Text Box 5"/>
          <p:cNvSpPr/>
          <p:nvPr/>
        </p:nvSpPr>
        <p:spPr>
          <a:xfrm>
            <a:off x="533520" y="1066680"/>
            <a:ext cx="83818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师：你能用小棒摆出这些图形吗？（讨论只有圆不能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学生独自用小棒摆一摆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四人小组互相交流你们摆了什么图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讨论你们有什么发现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展示并准备用几句话介绍一下，你摆的图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全班交流、反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AutoShape 7">
            <a:hlinkClick r:id="rId1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AutoShape 8">
            <a:hlinkClick r:id="" action="ppaction://hlinkshowjump?jump=nextslide"/>
          </p:cNvPr>
          <p:cNvSpPr/>
          <p:nvPr/>
        </p:nvSpPr>
        <p:spPr>
          <a:xfrm>
            <a:off x="78487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3"/>
          <p:cNvSpPr/>
          <p:nvPr/>
        </p:nvSpPr>
        <p:spPr>
          <a:xfrm>
            <a:off x="0" y="4572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探索图形之间的联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380880" y="12193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用正方形拼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533520" y="19810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师：（出示长方形）用两个同样的长方形拼一拼，你能拼出什么图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0" y="44956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生：两个同样的长方形可以拼成一个正方形或长方形，也可以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Rectangle 7"/>
          <p:cNvSpPr/>
          <p:nvPr/>
        </p:nvSpPr>
        <p:spPr>
          <a:xfrm>
            <a:off x="1752480" y="3200400"/>
            <a:ext cx="4572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8"/>
          <p:cNvSpPr/>
          <p:nvPr/>
        </p:nvSpPr>
        <p:spPr>
          <a:xfrm>
            <a:off x="2514600" y="3200400"/>
            <a:ext cx="457200" cy="9144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AutoShape 9">
            <a:hlinkClick r:id="rId1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AutoShape 10">
            <a:hlinkClick r:id="" action="ppaction://hlinkshowjump?jump=nextslide"/>
          </p:cNvPr>
          <p:cNvSpPr/>
          <p:nvPr/>
        </p:nvSpPr>
        <p:spPr>
          <a:xfrm>
            <a:off x="78487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2"/>
          <p:cNvSpPr/>
          <p:nvPr/>
        </p:nvSpPr>
        <p:spPr>
          <a:xfrm>
            <a:off x="990720" y="6019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展示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Text Box 13"/>
          <p:cNvSpPr/>
          <p:nvPr/>
        </p:nvSpPr>
        <p:spPr>
          <a:xfrm>
            <a:off x="533520" y="5335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把长方形变成正方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Text Box 14"/>
          <p:cNvSpPr/>
          <p:nvPr/>
        </p:nvSpPr>
        <p:spPr>
          <a:xfrm>
            <a:off x="533520" y="12193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师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出示长方形纸，如果要把长方形变成正方形怎么变？你会变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Text Box 15"/>
          <p:cNvSpPr/>
          <p:nvPr/>
        </p:nvSpPr>
        <p:spPr>
          <a:xfrm>
            <a:off x="533520" y="24382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师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你认为哪种方法对？哪种变得最好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Text Box 16"/>
          <p:cNvSpPr/>
          <p:nvPr/>
        </p:nvSpPr>
        <p:spPr>
          <a:xfrm>
            <a:off x="838080" y="3200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生操作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剪出正方形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Text Box 17"/>
          <p:cNvSpPr/>
          <p:nvPr/>
        </p:nvSpPr>
        <p:spPr>
          <a:xfrm>
            <a:off x="228600" y="37339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把正方形变其他图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Rectangle 18"/>
          <p:cNvSpPr/>
          <p:nvPr/>
        </p:nvSpPr>
        <p:spPr>
          <a:xfrm>
            <a:off x="1908000" y="4419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师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现在你手中是什么图形？正方形还能变成什么图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Rectangle 19"/>
          <p:cNvSpPr/>
          <p:nvPr/>
        </p:nvSpPr>
        <p:spPr>
          <a:xfrm>
            <a:off x="914400" y="4952880"/>
            <a:ext cx="266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学生自己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Rectangle 20"/>
          <p:cNvSpPr/>
          <p:nvPr/>
        </p:nvSpPr>
        <p:spPr>
          <a:xfrm>
            <a:off x="2028960" y="5486400"/>
            <a:ext cx="5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小组交流怎么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AutoShape 21">
            <a:hlinkClick r:id="rId1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AutoShape 22">
            <a:hlinkClick r:id="" action="ppaction://hlinkshowjump?jump=nextslide"/>
          </p:cNvPr>
          <p:cNvSpPr/>
          <p:nvPr/>
        </p:nvSpPr>
        <p:spPr>
          <a:xfrm>
            <a:off x="78487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0" y="3808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三、巩固运用，实践创新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Rectangle 8"/>
          <p:cNvSpPr/>
          <p:nvPr/>
        </p:nvSpPr>
        <p:spPr>
          <a:xfrm>
            <a:off x="304920" y="365760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小朋友，通过合作拼出了许多美丽的图案，个个都是很棒的图案设计师，现在就请你们帮小强一个忙，他们家买了许多新地砖，一般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块就能拼成一个图案，现在老师这儿就有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块地砖的样本，请你们发现想象为小强设计地板图案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Text Box 9"/>
          <p:cNvSpPr/>
          <p:nvPr/>
        </p:nvSpPr>
        <p:spPr>
          <a:xfrm>
            <a:off x="304920" y="9144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综合拼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Text Box 10"/>
          <p:cNvSpPr/>
          <p:nvPr/>
        </p:nvSpPr>
        <p:spPr>
          <a:xfrm>
            <a:off x="609480" y="1371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师：如果给你更多的图形，你们能否拼出更多的美丽图形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Rectangle 11"/>
          <p:cNvSpPr/>
          <p:nvPr/>
        </p:nvSpPr>
        <p:spPr>
          <a:xfrm>
            <a:off x="1520280" y="175248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提供学具盒，进行图形拼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0" name="Text Box 12"/>
          <p:cNvSpPr/>
          <p:nvPr/>
        </p:nvSpPr>
        <p:spPr>
          <a:xfrm>
            <a:off x="762120" y="22096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展示多种拼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Rectangle 14"/>
          <p:cNvSpPr/>
          <p:nvPr/>
        </p:nvSpPr>
        <p:spPr>
          <a:xfrm>
            <a:off x="1459080" y="2590920"/>
            <a:ext cx="26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课件展示教师的拼组作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Rectangle 15"/>
          <p:cNvSpPr/>
          <p:nvPr/>
        </p:nvSpPr>
        <p:spPr>
          <a:xfrm>
            <a:off x="2556360" y="3048120"/>
            <a:ext cx="7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：小组合作，再拼一次，展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3" name="Rectangle 16"/>
          <p:cNvSpPr/>
          <p:nvPr/>
        </p:nvSpPr>
        <p:spPr>
          <a:xfrm>
            <a:off x="1312200" y="53341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课件出示地砖样本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Rectangle 17"/>
          <p:cNvSpPr/>
          <p:nvPr/>
        </p:nvSpPr>
        <p:spPr>
          <a:xfrm>
            <a:off x="1495800" y="58672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学生试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Rectangle 18"/>
          <p:cNvSpPr/>
          <p:nvPr/>
        </p:nvSpPr>
        <p:spPr>
          <a:xfrm>
            <a:off x="1419480" y="6400800"/>
            <a:ext cx="59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作品展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6" name="Object 19" descr=""/>
          <p:cNvPicPr/>
          <p:nvPr/>
        </p:nvPicPr>
        <p:blipFill>
          <a:blip r:embed="rId1"/>
          <a:stretch/>
        </p:blipFill>
        <p:spPr>
          <a:xfrm>
            <a:off x="4191120" y="54100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647" name="AutoShape 20">
            <a:hlinkClick r:id="rId2" action="ppaction://hlinksldjump"/>
          </p:cNvPr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AutoShape 21">
            <a:hlinkClick r:id="" action="ppaction://hlinkshowjump?jump=nextslide"/>
          </p:cNvPr>
          <p:cNvSpPr/>
          <p:nvPr/>
        </p:nvSpPr>
        <p:spPr>
          <a:xfrm>
            <a:off x="78487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1371600" y="1371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四、全课小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2272320" y="21337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今天你开心吗？为什么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AutoShape 4"/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AutoShape 5">
            <a:hlinkClick r:id="" action="ppaction://hlinkshowjump?jump=nextslide"/>
          </p:cNvPr>
          <p:cNvSpPr/>
          <p:nvPr/>
        </p:nvSpPr>
        <p:spPr>
          <a:xfrm>
            <a:off x="7848720" y="64771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5"/>
          <p:cNvSpPr/>
          <p:nvPr/>
        </p:nvSpPr>
        <p:spPr>
          <a:xfrm>
            <a:off x="2454840" y="685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五、课外延伸，生活拓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60948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课件出示一个大风车，这是什么？你们喜欢大风车吗？你们会运用今天的知识做一个大风车吗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2030760" y="25146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小组讨论，怎么做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Rectangle 8"/>
          <p:cNvSpPr/>
          <p:nvPr/>
        </p:nvSpPr>
        <p:spPr>
          <a:xfrm>
            <a:off x="1573200" y="3124080"/>
            <a:ext cx="10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说一说，做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Rectangle 9"/>
          <p:cNvSpPr/>
          <p:nvPr/>
        </p:nvSpPr>
        <p:spPr>
          <a:xfrm>
            <a:off x="2182680" y="3733920"/>
            <a:ext cx="74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课件演示风车的做法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Rectangle 10"/>
          <p:cNvSpPr/>
          <p:nvPr/>
        </p:nvSpPr>
        <p:spPr>
          <a:xfrm>
            <a:off x="1321920" y="4267080"/>
            <a:ext cx="24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学生做一做，玩一玩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Rectangle 11"/>
          <p:cNvSpPr/>
          <p:nvPr/>
        </p:nvSpPr>
        <p:spPr>
          <a:xfrm>
            <a:off x="4620960" y="4800600"/>
            <a:ext cx="7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最后完整地介绍风车的制作过程。（体现图形的转化过程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AutoShape 12"/>
          <p:cNvSpPr/>
          <p:nvPr/>
        </p:nvSpPr>
        <p:spPr>
          <a:xfrm>
            <a:off x="8458200" y="64771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15:05:23Z</dcterms:created>
  <dc:creator>gg</dc:creator>
  <dc:description/>
  <dc:language>en-US</dc:language>
  <cp:lastModifiedBy>a</cp:lastModifiedBy>
  <dcterms:modified xsi:type="dcterms:W3CDTF">2015-03-17T06:20:51Z</dcterms:modified>
  <cp:revision>5</cp:revision>
  <dc:subject/>
  <dc:title>PowerPoint 演示文稿</dc:title>
</cp:coreProperties>
</file>