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11.gif" ContentType="image/gif"/>
  <Override PartName="/ppt/media/image8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1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9D9-2D36-4A7B-9F45-D1B49002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78F-43A2-49AA-8777-225C9797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89291-F317-4079-BBBA-0D1E0A41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AD73D-D356-42AC-AF7C-191BB6DA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0FB79-C5AB-498E-935C-EAA731C7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97F51-B3CC-4C91-802A-260F6435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521E5-ADB7-408E-AE5F-61D07C6B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44226-71CF-420B-A3D2-F778C6F2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9E47F-8820-405A-9292-41CC144F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FF728-6015-4640-AB38-FD0FE8F6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04AD7-575A-4130-850C-10E0BB9F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9FF2B-3C03-448E-9130-A66F5EAF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25D-C8AA-468C-8FCF-905B63A5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FACD0-ACB7-4803-A7FA-0BB771CD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1B6EB-9791-472D-BFC7-DA1D6582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3614E-559B-49A1-81B7-B3B1472C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51C2D-4318-424C-8094-05F3806E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5EBF8-3947-4ED3-90FA-8D358E9C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AB030-2A41-4CF1-B3FB-94B9EAE6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46DFE-A769-4623-BDF0-D2F8A44E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0A494-1BA6-4ED9-91BE-19B58BF2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1181F-D185-4E20-80DB-67C1CBCA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1116F-59A1-4722-B2ED-D97673ED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A5D-8013-438D-A0EB-453F4725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7307D-4EAF-4493-B4D5-41FA5D0E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51D29-D88C-43BD-ADEE-9CB3B96B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6DAE3-A459-4940-BF9E-364AE78A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2506D-B2E1-4156-BE2A-A3FD570E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0492F-8C04-459E-AC8C-4723EF89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1DDF4-A1E1-4C28-95A1-BF19CC23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D8CEB-9FE5-4A46-B746-6BB13F83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04B57-7CD4-4820-B4EF-7855D16A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8FBB7-344B-43CB-A7FC-C6A598CD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C02F4-B4B4-4D59-8BA6-F2075878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909D-2711-4D42-BC22-02734C20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BD486-08DF-43F9-891A-688CA42C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18D15-07C1-4422-B4DE-A9529BB1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D46E9-7D96-48AB-A593-B0119072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834EC-E806-4F7C-B5AD-597B1883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C1816-E4CC-46C6-A965-426433C0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43CF9-7C68-4597-8B49-58F58851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03645-76C9-4853-9E6D-11DC1C89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2D3A6-0465-4620-AA19-E4E26AEE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B416D-3F3E-4D7D-8C63-B1182C28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0173F-459F-4FBE-9922-F8752E6F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53BF-7E0C-48D1-81F4-C48661BF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7CD2A-2157-4173-B871-4C7A7E53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AE177-C418-44B9-B968-AEA876DD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87AFC-3A57-4D30-B85E-142F1CA1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8FA5F-A627-4D91-A19C-2D4F9F30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A8F9C-3AA3-4BD0-B11C-003B5B29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E5C18-F2AE-4F2A-BD9C-2A70E6B8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829F1-6C2A-4F6E-ADC4-DDCAD1E1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F3A0C-50F9-404B-BC3A-4D4999E0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19C19-A6FB-4033-9BA0-0B3534E9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2023C-6DEE-4C78-A6FF-86A216BF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17F6-F628-42E5-A822-48CDA2F2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0844B-11E5-4161-B13D-3AA9A494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008E9-AD6A-448D-A6A5-52FB227F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B927F-7935-48FF-81B9-1E5212C1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C7B21-BC70-4C44-A454-073C66AD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812E3-3FB1-4B48-9F69-6C89C905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3ADF4-6122-495F-A7F9-8D50F623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1A026-AB28-4019-8DF5-751B515E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23BF5-B5DE-45B6-AF1C-A1F881DC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FDA7E-965A-4873-8564-07CD0778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8E1EA-52A5-4979-9E3C-F41B843E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5164-C8AF-495B-8BCD-5CA255F7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78BE6C-36E1-4F78-B0DC-AFD10620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BBD840-9147-420C-A6C9-85AD49E3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E99C9-3F61-4513-84A3-83B7AD8E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946B2-B11B-4A99-9E0F-9CABEAA4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F10D5-1105-406A-8C1A-72AC7B9D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AF262-40E2-4E43-88CB-791679BC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B9514-E097-459B-AB97-7644E077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F47C2D-3E79-4DB0-90FB-191D4C52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4AC53-E9B9-4CFD-8BBD-CEB41E53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B19E-4F43-453C-BAB2-48F7BB75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0DE6-83FC-4643-B1B4-EA17BBA5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FB57-3C9E-4296-8268-D3D1BDFB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9A3-DA00-404A-BA58-F1ED558B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6E40-0AE9-40FB-A1B6-58C44F59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C378-601D-485F-9876-F3B40E26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DB6C-89C0-4968-95AE-CFE0A999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7823-98B2-4D4A-9D51-464E9F56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9C50-AF1A-47B7-BB05-4AA52E9A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5985A-C4AF-4011-BA3B-8CEA5165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043E-45A5-4295-9C09-5431131C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DE372-E854-463B-8E93-97C8009E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F011-6CCB-4199-8EBE-8F0B8CDC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0A403-EB9F-4B7B-BD93-B54FE90A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4F2-B318-4391-A88B-7DD5EDAC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6F58-C625-47D1-9547-707ECF04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68450-78C8-4B3A-AB63-96911C0D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C539C-4E02-41E9-BE41-4378A15B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0CD60-E767-40B0-8146-0E455FA5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7AE8A-CF68-4946-83CF-47A0BA46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0A13B-0D9C-4AE9-8F0F-487321C5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48D5-7844-41FA-9E46-7E787C63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1D64B-7116-4A53-AC9B-7DB225AC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5B166-CABF-4C3D-A94B-630E46FD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5DA07-535E-4EB5-8426-696BEDB3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FF8-83EB-4237-BC52-B2A9FDB6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A7C2E-64B6-46BE-871D-43953ABA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F496E-12B0-4D20-B6D5-AE4FDF6D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970D0-04C2-430E-A83D-F0688DA9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A0A38-75A0-4A27-9A9A-40A309E7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D719C-9F84-43C3-B943-42165C31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E5709-9E6F-4664-A7A2-DEC33664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CC550-B0AB-4D2E-B2EC-76A6615C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A85B7-8F23-43FF-8C57-DAA575DB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5F551-9BA0-4B17-8C7E-C9980F9E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2D90B-F265-44F0-A427-BECCEB4E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EB2-5206-49D6-B39F-9AFCD106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31900-AF85-4818-A1C5-15F388EA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4122C-7AE2-42A6-ADC5-55206BE9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67085-6302-4BFA-9DEF-2DE71099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A69A1-538C-45FE-9D26-D21B668F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C00F0-ECA4-40AE-8829-A96308F5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89036-5250-4FA7-AA8E-8BEBBFE0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3F88B-D560-4227-BC93-CAB5E7D0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B9765-127B-46EC-93CC-CE24365C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41370-46E8-4178-8B69-F91B7AF5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06D47-1FDA-4B9E-9405-0FD7203C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6E4-3164-492D-889E-0F4145EA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B320A-DDDD-4051-818D-4CE8320C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59D03-BFE4-4189-94BA-FE4E6098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77EA9-323A-4207-8CA1-97DD36CF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E72D0-406F-4B1D-B17C-EF4F9381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6CB9D-1112-474F-A88B-B5F15A22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820A1-7611-4F70-8332-DDD757D2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F31E6-ACD5-4ABF-A47B-81CE85AA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A7050-197C-44C6-81D9-48212B39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5867F-CA61-4625-B673-6C2A4CD2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FF568-9A50-4B9D-B6EA-0ACCE050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0CAB-FDDA-412D-A74D-28980D58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91F62-9F0D-4F7D-B45B-5961DC8A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C9A72-B61F-4C87-B4FB-42FEC5AB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029F7-ABD7-408A-A8FA-1E8F7CCA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4CDF6-3421-4AE6-84AA-C75C6FEA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9825A-FE47-43E7-B370-CE908EC7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A9144-3DEE-4B35-A769-4DC88067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20005-7DA1-43E3-A746-4D80ECCE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86E55-ED91-4A93-A741-39B5AC07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E914F-CFDB-4973-ADEC-4E6CA410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2078E-73FE-44E0-89A6-87551EFA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7E2-E49A-4E4A-A345-3B0B2BB5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23A60-F642-43F0-9232-A4D8FED7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8BFA4-324A-423B-8137-3DAF32FC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A9284-EAEC-4D72-9D3C-93609C4D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7D593-7763-4EB9-8254-6714FD91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0C339-DB70-40D1-ADA0-49D4914F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FE729-8A7F-480D-9133-2FC734AD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A9ED7-421D-4629-A4CF-D135937B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67E1A-8FFF-43FE-9A0C-FDB9F624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890C3-55E6-4504-B921-E92524AB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1E09C-AEE8-47AE-82C7-13A102E4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F97-85E6-4AC4-92FD-C0F7873B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7A809-E815-4B3C-B393-AD5DA22F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CAA6F-2765-46B2-B917-DD662D83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88F26-320C-40DC-BC69-B4835DC8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430CF-25B6-42BE-AED9-4676A01D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0F2A3-1281-495F-98F9-FCC37419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4B8AE-FBE5-46F5-99C8-C139A2BF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3348A-FBEF-45F6-91EA-A320BFEB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60A3E-C2C6-4968-9E94-57BFF16B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24C98-234E-48F2-ABB5-6F84CC48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11798-F362-4EE0-B4A1-FE11E414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35D5-5A07-4ADF-9BC3-93C00ADF13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6F25-02EA-4BCC-A2F1-D09B1DF91DE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27DD-CC2E-4CA9-B367-393AB854A6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C493-4281-4F67-BD0C-DB1087C884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2514-CCF9-4721-944C-FF9C1D0EBE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6456-B063-45BE-93F2-7EB40ABC9EC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282A-24BA-4AAD-ADA7-AD40434ADF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1AEF-494D-4309-BAE9-A3220EF673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AE79-2737-40FC-A4A8-AFDE82BC98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5399-EE66-4CE5-A9B5-74724F8790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21B4-7415-4371-A128-FB6F539094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C315-E192-49B1-9889-AE4AFB964CF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47ED-E3A9-4310-BAD8-695B4B9DCA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D1C2-C561-424F-87C8-BFBC471B9E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BAB0-1CA4-43E4-8958-7275D9C820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E5B7-E43B-4FB1-9F4E-AB6E84C1EE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22A4-426D-4E21-9B41-D4EB2CED221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322E-4FCD-4A06-981F-3DD22F2592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403C-687D-467F-A671-E14EE19E3A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FBF0-28BD-4C7D-9B0D-CFA86BA531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26F6-F52A-4CF2-A461-79BB964639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2396-5B80-430F-8D0B-AD087CCB18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C2B7-2234-4EEE-8273-A45402DDEC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41E0-17F6-4391-93C6-9F2738008F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A154-912C-4E89-8F31-DC8C22BAEC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17D2-39D0-48E4-B1D7-768226F341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6"/>
          <p:cNvSpPr/>
          <p:nvPr/>
        </p:nvSpPr>
        <p:spPr>
          <a:xfrm>
            <a:off x="6229440" y="5229360"/>
            <a:ext cx="25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沈引兔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2006.10.18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AutoShape 2"/>
          <p:cNvSpPr/>
          <p:nvPr/>
        </p:nvSpPr>
        <p:spPr>
          <a:xfrm>
            <a:off x="250920" y="260280"/>
            <a:ext cx="3311280" cy="792360"/>
          </a:xfrm>
          <a:prstGeom prst="cloudCallout">
            <a:avLst>
              <a:gd name="adj1" fmla="val 12990"/>
              <a:gd name="adj2" fmla="val 1498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35" name="Group 70"/>
          <p:cNvGrpSpPr/>
          <p:nvPr/>
        </p:nvGrpSpPr>
        <p:grpSpPr>
          <a:xfrm>
            <a:off x="2953800" y="906840"/>
            <a:ext cx="2821680" cy="3589200"/>
            <a:chOff x="2953800" y="906840"/>
            <a:chExt cx="2821680" cy="3589200"/>
          </a:xfrm>
        </p:grpSpPr>
        <p:sp>
          <p:nvSpPr>
            <p:cNvPr id="736" name="AutoShape 71"/>
            <p:cNvSpPr/>
            <p:nvPr/>
          </p:nvSpPr>
          <p:spPr>
            <a:xfrm flipV="1" rot="12528000">
              <a:off x="3147480" y="1412280"/>
              <a:ext cx="2449440" cy="1368720"/>
            </a:xfrm>
            <a:prstGeom prst="rtTriangl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7" name="AutoShape 72"/>
            <p:cNvSpPr/>
            <p:nvPr/>
          </p:nvSpPr>
          <p:spPr>
            <a:xfrm rot="9072000">
              <a:off x="3132000" y="2622240"/>
              <a:ext cx="2449440" cy="1368360"/>
            </a:xfrm>
            <a:prstGeom prst="rtTriangle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38" name="AutoShape 73"/>
          <p:cNvSpPr/>
          <p:nvPr/>
        </p:nvSpPr>
        <p:spPr>
          <a:xfrm rot="9072000">
            <a:off x="3131640" y="2622240"/>
            <a:ext cx="2449800" cy="1368360"/>
          </a:xfrm>
          <a:prstGeom prst="rtTriangl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9" name="Text Box 74"/>
          <p:cNvSpPr/>
          <p:nvPr/>
        </p:nvSpPr>
        <p:spPr>
          <a:xfrm>
            <a:off x="2413080" y="3054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0" name="Text Box 75"/>
          <p:cNvSpPr/>
          <p:nvPr/>
        </p:nvSpPr>
        <p:spPr>
          <a:xfrm>
            <a:off x="4788000" y="1685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1" name="Text Box 76"/>
          <p:cNvSpPr/>
          <p:nvPr/>
        </p:nvSpPr>
        <p:spPr>
          <a:xfrm>
            <a:off x="5653080" y="3125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2" name="Oval 77"/>
          <p:cNvSpPr/>
          <p:nvPr/>
        </p:nvSpPr>
        <p:spPr>
          <a:xfrm>
            <a:off x="4351320" y="2905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3" name="Text Box 78"/>
          <p:cNvSpPr/>
          <p:nvPr/>
        </p:nvSpPr>
        <p:spPr>
          <a:xfrm>
            <a:off x="4572000" y="2611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4" name="Text Box 79"/>
          <p:cNvSpPr/>
          <p:nvPr/>
        </p:nvSpPr>
        <p:spPr>
          <a:xfrm>
            <a:off x="2771640" y="16146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5" name="Text Box 80"/>
          <p:cNvSpPr/>
          <p:nvPr/>
        </p:nvSpPr>
        <p:spPr>
          <a:xfrm>
            <a:off x="4284720" y="42051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6" name="Text Box 81"/>
          <p:cNvSpPr/>
          <p:nvPr/>
        </p:nvSpPr>
        <p:spPr>
          <a:xfrm>
            <a:off x="514836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7" name="Text Box 83"/>
          <p:cNvSpPr/>
          <p:nvPr/>
        </p:nvSpPr>
        <p:spPr>
          <a:xfrm>
            <a:off x="1258920" y="4865760"/>
            <a:ext cx="69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旋转角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8" name="Text Box 84"/>
          <p:cNvSpPr/>
          <p:nvPr/>
        </p:nvSpPr>
        <p:spPr>
          <a:xfrm>
            <a:off x="3130560" y="493092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∠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、∠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O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∠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28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AutoShape 4"/>
          <p:cNvSpPr/>
          <p:nvPr/>
        </p:nvSpPr>
        <p:spPr>
          <a:xfrm>
            <a:off x="152280" y="189000"/>
            <a:ext cx="3556080" cy="718920"/>
          </a:xfrm>
          <a:prstGeom prst="cloudCallout">
            <a:avLst>
              <a:gd name="adj1" fmla="val -30402"/>
              <a:gd name="adj2" fmla="val 17538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精心做一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0" name="Text Box 8"/>
          <p:cNvSpPr/>
          <p:nvPr/>
        </p:nvSpPr>
        <p:spPr>
          <a:xfrm>
            <a:off x="1978200" y="981000"/>
            <a:ext cx="67705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在正方形</a:t>
            </a:r>
            <a:r>
              <a:rPr b="0" lang="en-US" sz="2600" spc="-1" strike="noStrike">
                <a:solidFill>
                  <a:srgbClr val="000000"/>
                </a:solidFill>
                <a:latin typeface="华文中宋"/>
              </a:rPr>
              <a:t>ABCD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华文中宋"/>
              </a:rPr>
              <a:t>E</a:t>
            </a:r>
            <a:r>
              <a:rPr b="0" lang="zh-CN" sz="2600" spc="-1" strike="noStrike">
                <a:solidFill>
                  <a:srgbClr val="000000"/>
                </a:solidFill>
                <a:latin typeface="华文中宋"/>
              </a:rPr>
              <a:t>是</a:t>
            </a:r>
            <a:r>
              <a:rPr b="0" lang="en-US" sz="2600" spc="-1" strike="noStrike">
                <a:solidFill>
                  <a:srgbClr val="000000"/>
                </a:solidFill>
                <a:latin typeface="华文中宋"/>
              </a:rPr>
              <a:t>CB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延长线上一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华文中宋"/>
              </a:rPr>
              <a:t>△ABE</a:t>
            </a:r>
            <a:r>
              <a:rPr b="0" lang="zh-CN" sz="2600" spc="-1" strike="noStrike">
                <a:solidFill>
                  <a:srgbClr val="000000"/>
                </a:solidFill>
                <a:latin typeface="华文中宋"/>
              </a:rPr>
              <a:t>经过旋转后得到△</a:t>
            </a:r>
            <a:r>
              <a:rPr b="0" lang="en-US" sz="2600" spc="-1" strike="noStrike">
                <a:solidFill>
                  <a:srgbClr val="000000"/>
                </a:solidFill>
                <a:latin typeface="华文中宋"/>
              </a:rPr>
              <a:t>ADF,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请按图回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3543480" y="24811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旋转中心是哪一点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2" name="Text Box 10"/>
          <p:cNvSpPr/>
          <p:nvPr/>
        </p:nvSpPr>
        <p:spPr>
          <a:xfrm>
            <a:off x="3543480" y="3071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旋转了多少度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3" name="Text Box 11"/>
          <p:cNvSpPr/>
          <p:nvPr/>
        </p:nvSpPr>
        <p:spPr>
          <a:xfrm>
            <a:off x="3543480" y="361800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如果点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的中点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那么经过上述旋转后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点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到了什么位置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4" name="Text Box 27"/>
          <p:cNvSpPr/>
          <p:nvPr/>
        </p:nvSpPr>
        <p:spPr>
          <a:xfrm>
            <a:off x="7221600" y="2508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5" name="Text Box 28"/>
          <p:cNvSpPr/>
          <p:nvPr/>
        </p:nvSpPr>
        <p:spPr>
          <a:xfrm>
            <a:off x="6804000" y="31179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0" lang="en-US" sz="2000" spc="-1" strike="noStrike" baseline="38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6" name="Rectangle 31"/>
          <p:cNvSpPr/>
          <p:nvPr/>
        </p:nvSpPr>
        <p:spPr>
          <a:xfrm>
            <a:off x="682560" y="3357720"/>
            <a:ext cx="2448000" cy="24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57" name="Group 32"/>
          <p:cNvGrpSpPr/>
          <p:nvPr/>
        </p:nvGrpSpPr>
        <p:grpSpPr>
          <a:xfrm>
            <a:off x="682560" y="2349000"/>
            <a:ext cx="2448000" cy="1008720"/>
            <a:chOff x="682560" y="2349000"/>
            <a:chExt cx="2448000" cy="1008720"/>
          </a:xfrm>
        </p:grpSpPr>
        <p:sp>
          <p:nvSpPr>
            <p:cNvPr id="758" name="Line 33"/>
            <p:cNvSpPr/>
            <p:nvPr/>
          </p:nvSpPr>
          <p:spPr>
            <a:xfrm flipV="1">
              <a:off x="682560" y="2349000"/>
              <a:ext cx="2448000" cy="100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9" name="Line 34"/>
            <p:cNvSpPr/>
            <p:nvPr/>
          </p:nvSpPr>
          <p:spPr>
            <a:xfrm flipV="1">
              <a:off x="3130560" y="2349000"/>
              <a:ext cx="0" cy="100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0" name="Line 35"/>
            <p:cNvSpPr/>
            <p:nvPr/>
          </p:nvSpPr>
          <p:spPr>
            <a:xfrm>
              <a:off x="682560" y="3357720"/>
              <a:ext cx="24480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61" name="Group 36"/>
          <p:cNvGrpSpPr/>
          <p:nvPr/>
        </p:nvGrpSpPr>
        <p:grpSpPr>
          <a:xfrm>
            <a:off x="682560" y="3357720"/>
            <a:ext cx="1008000" cy="2447640"/>
            <a:chOff x="682560" y="3357720"/>
            <a:chExt cx="1008000" cy="2447640"/>
          </a:xfrm>
        </p:grpSpPr>
        <p:sp>
          <p:nvSpPr>
            <p:cNvPr id="762" name="Line 37"/>
            <p:cNvSpPr/>
            <p:nvPr/>
          </p:nvSpPr>
          <p:spPr>
            <a:xfrm>
              <a:off x="682560" y="3357720"/>
              <a:ext cx="1008000" cy="244764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3" name="Line 38"/>
            <p:cNvSpPr/>
            <p:nvPr/>
          </p:nvSpPr>
          <p:spPr>
            <a:xfrm>
              <a:off x="682560" y="5805360"/>
              <a:ext cx="10080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4" name="Line 39"/>
            <p:cNvSpPr/>
            <p:nvPr/>
          </p:nvSpPr>
          <p:spPr>
            <a:xfrm>
              <a:off x="682560" y="3357720"/>
              <a:ext cx="0" cy="244764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65" name="Text Box 40"/>
          <p:cNvSpPr/>
          <p:nvPr/>
        </p:nvSpPr>
        <p:spPr>
          <a:xfrm>
            <a:off x="250920" y="31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6" name="Text Box 41"/>
          <p:cNvSpPr/>
          <p:nvPr/>
        </p:nvSpPr>
        <p:spPr>
          <a:xfrm>
            <a:off x="3203640" y="306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7" name="Text Box 42"/>
          <p:cNvSpPr/>
          <p:nvPr/>
        </p:nvSpPr>
        <p:spPr>
          <a:xfrm>
            <a:off x="1690560" y="5419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8" name="Text Box 43"/>
          <p:cNvSpPr/>
          <p:nvPr/>
        </p:nvSpPr>
        <p:spPr>
          <a:xfrm>
            <a:off x="3203640" y="558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9" name="Text Box 44"/>
          <p:cNvSpPr/>
          <p:nvPr/>
        </p:nvSpPr>
        <p:spPr>
          <a:xfrm>
            <a:off x="3132000" y="206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0" name="Text Box 45"/>
          <p:cNvSpPr/>
          <p:nvPr/>
        </p:nvSpPr>
        <p:spPr>
          <a:xfrm>
            <a:off x="1619280" y="290052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Text Box 46"/>
          <p:cNvSpPr/>
          <p:nvPr/>
        </p:nvSpPr>
        <p:spPr>
          <a:xfrm>
            <a:off x="32220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2" name="Text Box 47"/>
          <p:cNvSpPr/>
          <p:nvPr/>
        </p:nvSpPr>
        <p:spPr>
          <a:xfrm>
            <a:off x="539640" y="409248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3" name="Arc 61"/>
          <p:cNvSpPr/>
          <p:nvPr/>
        </p:nvSpPr>
        <p:spPr>
          <a:xfrm flipH="1" rot="11585400">
            <a:off x="884880" y="3187440"/>
            <a:ext cx="934920" cy="1541520"/>
          </a:xfrm>
          <a:custGeom>
            <a:avLst/>
            <a:gdLst/>
            <a:ahLst/>
            <a:rect l="l" t="t" r="r" b="b"/>
            <a:pathLst>
              <a:path fill="none" w="23100" h="25671">
                <a:moveTo>
                  <a:pt x="0" y="52"/>
                </a:moveTo>
                <a:cubicBezTo>
                  <a:pt x="499" y="17"/>
                  <a:pt x="999" y="0"/>
                  <a:pt x="1500" y="0"/>
                </a:cubicBezTo>
                <a:cubicBezTo>
                  <a:pt x="13429" y="0"/>
                  <a:pt x="23100" y="9670"/>
                  <a:pt x="23100" y="21600"/>
                </a:cubicBezTo>
                <a:cubicBezTo>
                  <a:pt x="23100" y="22966"/>
                  <a:pt x="22970" y="24329"/>
                  <a:pt x="22712" y="25670"/>
                </a:cubicBezTo>
              </a:path>
              <a:path stroke="0" w="23100" h="25671">
                <a:moveTo>
                  <a:pt x="0" y="52"/>
                </a:moveTo>
                <a:cubicBezTo>
                  <a:pt x="499" y="17"/>
                  <a:pt x="999" y="0"/>
                  <a:pt x="1500" y="0"/>
                </a:cubicBezTo>
                <a:cubicBezTo>
                  <a:pt x="13429" y="0"/>
                  <a:pt x="23100" y="9670"/>
                  <a:pt x="23100" y="21600"/>
                </a:cubicBezTo>
                <a:cubicBezTo>
                  <a:pt x="23100" y="22966"/>
                  <a:pt x="22970" y="24329"/>
                  <a:pt x="22712" y="25670"/>
                </a:cubicBezTo>
                <a:lnTo>
                  <a:pt x="1500" y="21600"/>
                </a:lnTo>
                <a:lnTo>
                  <a:pt x="0" y="52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prstDash val="dash"/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4" name="Line 65"/>
          <p:cNvSpPr/>
          <p:nvPr/>
        </p:nvSpPr>
        <p:spPr>
          <a:xfrm flipH="1">
            <a:off x="1709280" y="2387520"/>
            <a:ext cx="1368360" cy="345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5" name="Text Box 66"/>
          <p:cNvSpPr/>
          <p:nvPr/>
        </p:nvSpPr>
        <p:spPr>
          <a:xfrm>
            <a:off x="3527280" y="457056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连结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EF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，那么△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AEF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</a:rPr>
              <a:t>是怎样的三角形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76" name="Group 68"/>
          <p:cNvGrpSpPr/>
          <p:nvPr/>
        </p:nvGrpSpPr>
        <p:grpSpPr>
          <a:xfrm>
            <a:off x="-1765080" y="2349360"/>
            <a:ext cx="4894920" cy="2016000"/>
            <a:chOff x="-1765080" y="2349360"/>
            <a:chExt cx="4894920" cy="2016000"/>
          </a:xfrm>
        </p:grpSpPr>
        <p:grpSp>
          <p:nvGrpSpPr>
            <p:cNvPr id="777" name="Group 48"/>
            <p:cNvGrpSpPr/>
            <p:nvPr/>
          </p:nvGrpSpPr>
          <p:grpSpPr>
            <a:xfrm>
              <a:off x="-1765080" y="2349360"/>
              <a:ext cx="4894920" cy="2016000"/>
              <a:chOff x="-1765080" y="2349360"/>
              <a:chExt cx="4894920" cy="2016000"/>
            </a:xfrm>
          </p:grpSpPr>
          <p:grpSp>
            <p:nvGrpSpPr>
              <p:cNvPr id="778" name="Group 49"/>
              <p:cNvGrpSpPr/>
              <p:nvPr/>
            </p:nvGrpSpPr>
            <p:grpSpPr>
              <a:xfrm>
                <a:off x="682200" y="2349360"/>
                <a:ext cx="2447640" cy="1008000"/>
                <a:chOff x="682200" y="2349360"/>
                <a:chExt cx="2447640" cy="1008000"/>
              </a:xfrm>
            </p:grpSpPr>
            <p:sp>
              <p:nvSpPr>
                <p:cNvPr id="779" name="Line 50"/>
                <p:cNvSpPr/>
                <p:nvPr/>
              </p:nvSpPr>
              <p:spPr>
                <a:xfrm flipV="1">
                  <a:off x="682200" y="2349360"/>
                  <a:ext cx="2447640" cy="1008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80" name="Line 51"/>
                <p:cNvSpPr/>
                <p:nvPr/>
              </p:nvSpPr>
              <p:spPr>
                <a:xfrm flipV="1">
                  <a:off x="3129840" y="2349360"/>
                  <a:ext cx="0" cy="100800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81" name="Line 52"/>
                <p:cNvSpPr/>
                <p:nvPr/>
              </p:nvSpPr>
              <p:spPr>
                <a:xfrm>
                  <a:off x="682200" y="3357360"/>
                  <a:ext cx="2447640" cy="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53"/>
              <p:cNvGrpSpPr/>
              <p:nvPr/>
            </p:nvGrpSpPr>
            <p:grpSpPr>
              <a:xfrm>
                <a:off x="-1765080" y="3357360"/>
                <a:ext cx="2447640" cy="1008000"/>
                <a:chOff x="-1765080" y="3357360"/>
                <a:chExt cx="2447640" cy="1008000"/>
              </a:xfrm>
            </p:grpSpPr>
            <p:sp>
              <p:nvSpPr>
                <p:cNvPr id="783" name="Line 54"/>
                <p:cNvSpPr/>
                <p:nvPr/>
              </p:nvSpPr>
              <p:spPr>
                <a:xfrm flipH="1">
                  <a:off x="-1765080" y="3357360"/>
                  <a:ext cx="2447640" cy="100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84" name="Line 55"/>
                <p:cNvSpPr/>
                <p:nvPr/>
              </p:nvSpPr>
              <p:spPr>
                <a:xfrm>
                  <a:off x="-1765080" y="3357360"/>
                  <a:ext cx="0" cy="100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85" name="Line 56"/>
                <p:cNvSpPr/>
                <p:nvPr/>
              </p:nvSpPr>
              <p:spPr>
                <a:xfrm flipH="1">
                  <a:off x="-1765080" y="3357360"/>
                  <a:ext cx="2447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6" name="Oval 67"/>
            <p:cNvSpPr/>
            <p:nvPr/>
          </p:nvSpPr>
          <p:spPr>
            <a:xfrm>
              <a:off x="1950840" y="331272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68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30" descr=""/>
          <p:cNvPicPr/>
          <p:nvPr/>
        </p:nvPicPr>
        <p:blipFill>
          <a:blip r:embed="rId1"/>
          <a:srcRect l="49888" t="13517" r="245" b="-375"/>
          <a:stretch/>
        </p:blipFill>
        <p:spPr>
          <a:xfrm>
            <a:off x="6227640" y="4149720"/>
            <a:ext cx="2203560" cy="230364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6"/>
          <p:cNvSpPr/>
          <p:nvPr/>
        </p:nvSpPr>
        <p:spPr>
          <a:xfrm>
            <a:off x="179280" y="150840"/>
            <a:ext cx="3124440" cy="757080"/>
          </a:xfrm>
          <a:prstGeom prst="cloudCallout">
            <a:avLst>
              <a:gd name="adj1" fmla="val -29370"/>
              <a:gd name="adj2" fmla="val 14140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动手画一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9" name="Text Box 8"/>
          <p:cNvSpPr/>
          <p:nvPr/>
        </p:nvSpPr>
        <p:spPr>
          <a:xfrm>
            <a:off x="1403280" y="90792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线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的一点，将线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绕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顺时针旋转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90</a:t>
            </a:r>
            <a:r>
              <a:rPr b="0" lang="en-US" sz="2000" spc="-1" strike="noStrike" baseline="50000">
                <a:solidFill>
                  <a:srgbClr val="ff33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旋转后的线段与原线段的位置关系如何？如果逆时针旋转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90</a:t>
            </a:r>
            <a:r>
              <a:rPr b="0" lang="en-US" sz="2000" spc="-1" strike="noStrike" baseline="50000">
                <a:solidFill>
                  <a:srgbClr val="ff33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呢？你能将它们画出来吗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0" name="Line 17"/>
          <p:cNvSpPr/>
          <p:nvPr/>
        </p:nvSpPr>
        <p:spPr>
          <a:xfrm>
            <a:off x="3333600" y="2635200"/>
            <a:ext cx="172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1" name="Text Box 18"/>
          <p:cNvSpPr/>
          <p:nvPr/>
        </p:nvSpPr>
        <p:spPr>
          <a:xfrm>
            <a:off x="2987640" y="25495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2" name="Text Box 19"/>
          <p:cNvSpPr/>
          <p:nvPr/>
        </p:nvSpPr>
        <p:spPr>
          <a:xfrm>
            <a:off x="4917960" y="25891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4357800" y="2611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4" name="Oval 21"/>
          <p:cNvSpPr/>
          <p:nvPr/>
        </p:nvSpPr>
        <p:spPr>
          <a:xfrm>
            <a:off x="4529160" y="25956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5" name="Text Box 31"/>
          <p:cNvSpPr/>
          <p:nvPr/>
        </p:nvSpPr>
        <p:spPr>
          <a:xfrm>
            <a:off x="1317600" y="4206960"/>
            <a:ext cx="58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宋体"/>
              </a:rPr>
              <a:t>逆时针方向旋转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  <a:ea typeface="宋体"/>
              </a:rPr>
              <a:t>90°, A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″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  <a:ea typeface="宋体"/>
              </a:rPr>
              <a:t>B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″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  <a:ea typeface="宋体"/>
              </a:rPr>
              <a:t>⊥A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6" name="Text Box 32"/>
          <p:cNvSpPr/>
          <p:nvPr/>
        </p:nvSpPr>
        <p:spPr>
          <a:xfrm>
            <a:off x="826920" y="3213000"/>
            <a:ext cx="55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宋体"/>
              </a:rPr>
              <a:t>解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宋体"/>
              </a:rPr>
              <a:t>顺时针方向旋转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  <a:ea typeface="宋体"/>
              </a:rPr>
              <a:t>90°, A′B′⊥A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7" name="Text Box 34"/>
          <p:cNvSpPr/>
          <p:nvPr/>
        </p:nvSpPr>
        <p:spPr>
          <a:xfrm>
            <a:off x="1698840" y="5372280"/>
            <a:ext cx="49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结论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: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线段旋转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90 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°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后与原来位置互相垂直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98" name="Group 39"/>
          <p:cNvGrpSpPr/>
          <p:nvPr/>
        </p:nvGrpSpPr>
        <p:grpSpPr>
          <a:xfrm>
            <a:off x="6370560" y="1982880"/>
            <a:ext cx="2087640" cy="2238120"/>
            <a:chOff x="6370560" y="1982880"/>
            <a:chExt cx="2087640" cy="2238120"/>
          </a:xfrm>
        </p:grpSpPr>
        <p:pic>
          <p:nvPicPr>
            <p:cNvPr id="799" name="Picture 29" descr=""/>
            <p:cNvPicPr/>
            <p:nvPr/>
          </p:nvPicPr>
          <p:blipFill>
            <a:blip r:embed="rId2"/>
            <a:srcRect l="0" t="0" r="50133" b="22234"/>
            <a:stretch/>
          </p:blipFill>
          <p:spPr>
            <a:xfrm>
              <a:off x="6370560" y="2268360"/>
              <a:ext cx="208764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Text Box 38"/>
            <p:cNvSpPr/>
            <p:nvPr/>
          </p:nvSpPr>
          <p:spPr>
            <a:xfrm>
              <a:off x="7667640" y="198288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A′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1"/>
          <p:cNvSpPr/>
          <p:nvPr/>
        </p:nvSpPr>
        <p:spPr>
          <a:xfrm>
            <a:off x="971640" y="765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节课我们主要学了什么内容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2" name="Text Box 24"/>
          <p:cNvSpPr/>
          <p:nvPr/>
        </p:nvSpPr>
        <p:spPr>
          <a:xfrm>
            <a:off x="900000" y="17064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旋转的概念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平面内，将一个图形绕着一个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定点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转动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这样的图形运动称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旋转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03" name="Group 31"/>
          <p:cNvGrpSpPr/>
          <p:nvPr/>
        </p:nvGrpSpPr>
        <p:grpSpPr>
          <a:xfrm>
            <a:off x="898560" y="2708280"/>
            <a:ext cx="6337440" cy="1952280"/>
            <a:chOff x="898560" y="2708280"/>
            <a:chExt cx="6337440" cy="1952280"/>
          </a:xfrm>
        </p:grpSpPr>
        <p:sp>
          <p:nvSpPr>
            <p:cNvPr id="804" name="Text Box 23"/>
            <p:cNvSpPr/>
            <p:nvPr/>
          </p:nvSpPr>
          <p:spPr>
            <a:xfrm>
              <a:off x="898560" y="3427200"/>
              <a:ext cx="511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决定旋转的三个要素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5" name="AutoShape 25"/>
            <p:cNvSpPr/>
            <p:nvPr/>
          </p:nvSpPr>
          <p:spPr>
            <a:xfrm>
              <a:off x="4643280" y="2852640"/>
              <a:ext cx="73080" cy="165564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6" name="Text Box 27"/>
            <p:cNvSpPr/>
            <p:nvPr/>
          </p:nvSpPr>
          <p:spPr>
            <a:xfrm>
              <a:off x="4859280" y="2708280"/>
              <a:ext cx="23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</a:rPr>
                <a:t>旋转中心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7" name="Text Box 28"/>
            <p:cNvSpPr/>
            <p:nvPr/>
          </p:nvSpPr>
          <p:spPr>
            <a:xfrm>
              <a:off x="4811760" y="3420720"/>
              <a:ext cx="18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</a:rPr>
                <a:t>旋转方向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8" name="Text Box 29"/>
            <p:cNvSpPr/>
            <p:nvPr/>
          </p:nvSpPr>
          <p:spPr>
            <a:xfrm>
              <a:off x="4803840" y="4140000"/>
              <a:ext cx="23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</a:rPr>
                <a:t>旋转角度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09" name="AutoShape 33"/>
          <p:cNvSpPr/>
          <p:nvPr/>
        </p:nvSpPr>
        <p:spPr>
          <a:xfrm>
            <a:off x="7740720" y="5877000"/>
            <a:ext cx="934920" cy="691920"/>
          </a:xfrm>
          <a:custGeom>
            <a:avLst/>
            <a:gdLst>
              <a:gd name="textAreaLeft" fmla="*/ 44640 w 934920"/>
              <a:gd name="textAreaRight" fmla="*/ 890280 w 93492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29182" h="21600">
                <a:moveTo>
                  <a:pt x="0" y="0"/>
                </a:moveTo>
                <a:lnTo>
                  <a:pt x="29182" y="0"/>
                </a:lnTo>
                <a:lnTo>
                  <a:pt x="29182" y="21600"/>
                </a:lnTo>
                <a:lnTo>
                  <a:pt x="0" y="21600"/>
                </a:lnTo>
                <a:close/>
              </a:path>
              <a:path fill="lightenLess" w="29182" h="21600">
                <a:moveTo>
                  <a:pt x="0" y="0"/>
                </a:moveTo>
                <a:lnTo>
                  <a:pt x="29182" y="0"/>
                </a:lnTo>
                <a:lnTo>
                  <a:pt x="27782" y="1400"/>
                </a:lnTo>
                <a:lnTo>
                  <a:pt x="1400" y="1400"/>
                </a:lnTo>
                <a:close/>
              </a:path>
              <a:path fill="darken" w="29182" h="21600">
                <a:moveTo>
                  <a:pt x="29182" y="0"/>
                </a:moveTo>
                <a:lnTo>
                  <a:pt x="29182" y="21600"/>
                </a:lnTo>
                <a:lnTo>
                  <a:pt x="27782" y="20200"/>
                </a:lnTo>
                <a:lnTo>
                  <a:pt x="27782" y="1400"/>
                </a:lnTo>
                <a:close/>
              </a:path>
              <a:path fill="darkenLess" w="29182" h="21600">
                <a:moveTo>
                  <a:pt x="29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82" y="20200"/>
                </a:lnTo>
                <a:close/>
              </a:path>
              <a:path fill="lighten" w="29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82" h="21600">
                <a:moveTo>
                  <a:pt x="7584" y="3794"/>
                </a:moveTo>
                <a:lnTo>
                  <a:pt x="21597" y="10800"/>
                </a:lnTo>
                <a:lnTo>
                  <a:pt x="7584" y="17806"/>
                </a:lnTo>
                <a:close/>
              </a:path>
            </a:pathLst>
          </a:custGeom>
          <a:solidFill>
            <a:srgbClr val="ff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Text Box 34"/>
          <p:cNvSpPr/>
          <p:nvPr/>
        </p:nvSpPr>
        <p:spPr>
          <a:xfrm>
            <a:off x="1116000" y="50925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通过这节课的学习谈谈你的感想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2"/>
          <p:cNvSpPr/>
          <p:nvPr/>
        </p:nvSpPr>
        <p:spPr>
          <a:xfrm>
            <a:off x="1243080" y="36306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见作业本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1260360" y="2822400"/>
            <a:ext cx="70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课本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页练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题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1042920" y="204300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课后作业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7740720" y="5805360"/>
            <a:ext cx="934920" cy="692280"/>
          </a:xfrm>
          <a:custGeom>
            <a:avLst/>
            <a:gdLst>
              <a:gd name="textAreaLeft" fmla="*/ 44640 w 934920"/>
              <a:gd name="textAreaRight" fmla="*/ 890280 w 934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9167" h="21600">
                <a:moveTo>
                  <a:pt x="0" y="0"/>
                </a:moveTo>
                <a:lnTo>
                  <a:pt x="29167" y="0"/>
                </a:lnTo>
                <a:lnTo>
                  <a:pt x="29167" y="21600"/>
                </a:lnTo>
                <a:lnTo>
                  <a:pt x="0" y="21600"/>
                </a:lnTo>
                <a:close/>
              </a:path>
              <a:path fill="lightenLess" w="29167" h="21600">
                <a:moveTo>
                  <a:pt x="0" y="0"/>
                </a:moveTo>
                <a:lnTo>
                  <a:pt x="29167" y="0"/>
                </a:lnTo>
                <a:lnTo>
                  <a:pt x="27767" y="1400"/>
                </a:lnTo>
                <a:lnTo>
                  <a:pt x="1400" y="1400"/>
                </a:lnTo>
                <a:close/>
              </a:path>
              <a:path fill="darken" w="29167" h="21600">
                <a:moveTo>
                  <a:pt x="29167" y="0"/>
                </a:moveTo>
                <a:lnTo>
                  <a:pt x="29167" y="21600"/>
                </a:lnTo>
                <a:lnTo>
                  <a:pt x="27767" y="20200"/>
                </a:lnTo>
                <a:lnTo>
                  <a:pt x="27767" y="1400"/>
                </a:lnTo>
                <a:close/>
              </a:path>
              <a:path fill="darkenLess" w="29167" h="21600">
                <a:moveTo>
                  <a:pt x="29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67" y="20200"/>
                </a:lnTo>
                <a:close/>
              </a:path>
              <a:path fill="lighten" w="29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67" h="21600">
                <a:moveTo>
                  <a:pt x="7577" y="3794"/>
                </a:moveTo>
                <a:lnTo>
                  <a:pt x="21590" y="10800"/>
                </a:lnTo>
                <a:lnTo>
                  <a:pt x="7577" y="17806"/>
                </a:lnTo>
                <a:close/>
              </a:path>
            </a:pathLst>
          </a:custGeom>
          <a:solidFill>
            <a:srgbClr val="ff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6"/>
          <p:cNvSpPr/>
          <p:nvPr/>
        </p:nvSpPr>
        <p:spPr>
          <a:xfrm>
            <a:off x="1116000" y="283680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课后作业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6" name="Text Box 7"/>
          <p:cNvSpPr/>
          <p:nvPr/>
        </p:nvSpPr>
        <p:spPr>
          <a:xfrm>
            <a:off x="3348000" y="2952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见作业本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WordArt 4"/>
          <p:cNvSpPr txBox="1"/>
          <p:nvPr/>
        </p:nvSpPr>
        <p:spPr>
          <a:xfrm rot="5400000">
            <a:off x="2483640" y="2203920"/>
            <a:ext cx="3456000" cy="24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1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82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6" descr="39"/>
          <p:cNvPicPr/>
          <p:nvPr/>
        </p:nvPicPr>
        <p:blipFill>
          <a:blip r:embed="rId1"/>
          <a:srcRect l="0" t="0" r="0" b="-25"/>
          <a:stretch/>
        </p:blipFill>
        <p:spPr>
          <a:xfrm>
            <a:off x="-82440" y="0"/>
            <a:ext cx="9262800" cy="681984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7"/>
          <p:cNvSpPr/>
          <p:nvPr/>
        </p:nvSpPr>
        <p:spPr>
          <a:xfrm>
            <a:off x="-65160" y="376200"/>
            <a:ext cx="34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  <a:ea typeface="隶书"/>
              </a:rPr>
              <a:t>世界如此美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2"/>
          <p:cNvGrpSpPr/>
          <p:nvPr/>
        </p:nvGrpSpPr>
        <p:grpSpPr>
          <a:xfrm>
            <a:off x="971640" y="1052640"/>
            <a:ext cx="7775640" cy="3625200"/>
            <a:chOff x="971640" y="1052640"/>
            <a:chExt cx="7775640" cy="3625200"/>
          </a:xfrm>
        </p:grpSpPr>
        <p:graphicFrame>
          <p:nvGraphicFramePr>
            <p:cNvPr id="579" name="ShockwaveFlash1"/>
            <p:cNvGraphicFramePr/>
            <p:nvPr/>
          </p:nvGraphicFramePr>
          <p:xfrm>
            <a:off x="971640" y="1941480"/>
            <a:ext cx="3168720" cy="273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0" name="ShockwaveFlash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1941480"/>
                      <a:ext cx="3168720" cy="273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81" name="Picture 19" descr="CLOCK__4"/>
            <p:cNvPicPr/>
            <p:nvPr/>
          </p:nvPicPr>
          <p:blipFill>
            <a:blip r:embed="rId3"/>
            <a:stretch/>
          </p:blipFill>
          <p:spPr>
            <a:xfrm>
              <a:off x="5075280" y="2014560"/>
              <a:ext cx="2160720" cy="21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20"/>
            <p:cNvSpPr/>
            <p:nvPr/>
          </p:nvSpPr>
          <p:spPr>
            <a:xfrm>
              <a:off x="1042920" y="1052640"/>
              <a:ext cx="77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33"/>
                  </a:solidFill>
                  <a:latin typeface="Arial"/>
                  <a:ea typeface="宋体"/>
                </a:rPr>
                <a:t>观察：下列图片中，电扇的风叶，时钟的时针、分针在转动的过程中有什么共同特征？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83" name="Rectangle 15"/>
          <p:cNvSpPr/>
          <p:nvPr/>
        </p:nvSpPr>
        <p:spPr>
          <a:xfrm>
            <a:off x="1116000" y="45925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平面内，一个图形绕一个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定点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转动，像这样的运动我们称它为</a:t>
            </a:r>
            <a:r>
              <a:rPr b="1" i="1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旋转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。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1116000" y="5646600"/>
            <a:ext cx="697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请列举一些日常生活中其它的旋转现象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Text Box 21"/>
          <p:cNvSpPr/>
          <p:nvPr/>
        </p:nvSpPr>
        <p:spPr>
          <a:xfrm>
            <a:off x="1042920" y="11592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§15.2.1 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图形的旋转</a:t>
            </a: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9" descr="风车4"/>
          <p:cNvPicPr/>
          <p:nvPr/>
        </p:nvPicPr>
        <p:blipFill>
          <a:blip r:embed="rId1"/>
          <a:stretch/>
        </p:blipFill>
        <p:spPr>
          <a:xfrm>
            <a:off x="0" y="3789360"/>
            <a:ext cx="4560840" cy="3068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1" descr="dhj02-"/>
          <p:cNvPicPr/>
          <p:nvPr/>
        </p:nvPicPr>
        <p:blipFill>
          <a:blip r:embed="rId2"/>
          <a:stretch/>
        </p:blipFill>
        <p:spPr>
          <a:xfrm>
            <a:off x="4727520" y="0"/>
            <a:ext cx="4416480" cy="31431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3" descr="GY_001"/>
          <p:cNvPicPr/>
          <p:nvPr/>
        </p:nvPicPr>
        <p:blipFill>
          <a:blip r:embed="rId3"/>
          <a:stretch/>
        </p:blipFill>
        <p:spPr>
          <a:xfrm>
            <a:off x="4718160" y="3790800"/>
            <a:ext cx="4425840" cy="3067200"/>
          </a:xfrm>
          <a:prstGeom prst="rect">
            <a:avLst/>
          </a:prstGeom>
          <a:ln w="0">
            <a:noFill/>
          </a:ln>
        </p:spPr>
      </p:pic>
      <p:pic>
        <p:nvPicPr>
          <p:cNvPr id="589" name="Object 14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5"/>
          <p:cNvSpPr/>
          <p:nvPr/>
        </p:nvSpPr>
        <p:spPr>
          <a:xfrm>
            <a:off x="2884320" y="31575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生 活 中 的 旋 转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5" descr="秋千"/>
          <p:cNvPicPr/>
          <p:nvPr/>
        </p:nvPicPr>
        <p:blipFill>
          <a:blip r:embed="rId1"/>
          <a:stretch/>
        </p:blipFill>
        <p:spPr>
          <a:xfrm>
            <a:off x="2987640" y="3716280"/>
            <a:ext cx="5962680" cy="35434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0" descr="U515P33T148D33393F2100DT20040517165953"/>
          <p:cNvPicPr/>
          <p:nvPr/>
        </p:nvPicPr>
        <p:blipFill>
          <a:blip r:embed="rId2"/>
          <a:stretch/>
        </p:blipFill>
        <p:spPr>
          <a:xfrm>
            <a:off x="4572000" y="-27000"/>
            <a:ext cx="4572000" cy="30225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2" descr="05"/>
          <p:cNvPicPr/>
          <p:nvPr/>
        </p:nvPicPr>
        <p:blipFill>
          <a:blip r:embed="rId3"/>
          <a:stretch/>
        </p:blipFill>
        <p:spPr>
          <a:xfrm>
            <a:off x="17640" y="-27000"/>
            <a:ext cx="4410000" cy="30243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3" descr="儿童风车"/>
          <p:cNvPicPr/>
          <p:nvPr/>
        </p:nvPicPr>
        <p:blipFill>
          <a:blip r:embed="rId4"/>
          <a:stretch/>
        </p:blipFill>
        <p:spPr>
          <a:xfrm>
            <a:off x="19080" y="3716280"/>
            <a:ext cx="4443480" cy="30844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16"/>
          <p:cNvSpPr/>
          <p:nvPr/>
        </p:nvSpPr>
        <p:spPr>
          <a:xfrm>
            <a:off x="2884320" y="3068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生 活 中 的 旋 转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127"/>
          <p:cNvGrpSpPr/>
          <p:nvPr/>
        </p:nvGrpSpPr>
        <p:grpSpPr>
          <a:xfrm>
            <a:off x="4052880" y="476280"/>
            <a:ext cx="228240" cy="4736160"/>
            <a:chOff x="4052880" y="476280"/>
            <a:chExt cx="228240" cy="4736160"/>
          </a:xfrm>
        </p:grpSpPr>
        <p:grpSp>
          <p:nvGrpSpPr>
            <p:cNvPr id="597" name="Group 128"/>
            <p:cNvGrpSpPr/>
            <p:nvPr/>
          </p:nvGrpSpPr>
          <p:grpSpPr>
            <a:xfrm>
              <a:off x="4052880" y="2835000"/>
              <a:ext cx="216000" cy="2377440"/>
              <a:chOff x="4052880" y="2835000"/>
              <a:chExt cx="216000" cy="2377440"/>
            </a:xfrm>
          </p:grpSpPr>
          <p:sp>
            <p:nvSpPr>
              <p:cNvPr id="598" name="Line 129"/>
              <p:cNvSpPr/>
              <p:nvPr/>
            </p:nvSpPr>
            <p:spPr>
              <a:xfrm>
                <a:off x="4167360" y="2835000"/>
                <a:ext cx="0" cy="2092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99" name="Oval 130"/>
              <p:cNvSpPr/>
              <p:nvPr/>
            </p:nvSpPr>
            <p:spPr>
              <a:xfrm>
                <a:off x="4052880" y="4927320"/>
                <a:ext cx="216000" cy="285120"/>
              </a:xfrm>
              <a:prstGeom prst="ellipse">
                <a:avLst/>
              </a:prstGeom>
              <a:solidFill>
                <a:srgbClr val="0000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131"/>
            <p:cNvGrpSpPr/>
            <p:nvPr/>
          </p:nvGrpSpPr>
          <p:grpSpPr>
            <a:xfrm>
              <a:off x="4065480" y="476280"/>
              <a:ext cx="215640" cy="2377440"/>
              <a:chOff x="4065480" y="476280"/>
              <a:chExt cx="215640" cy="2377440"/>
            </a:xfrm>
          </p:grpSpPr>
          <p:sp>
            <p:nvSpPr>
              <p:cNvPr id="601" name="Line 132"/>
              <p:cNvSpPr/>
              <p:nvPr/>
            </p:nvSpPr>
            <p:spPr>
              <a:xfrm flipV="1">
                <a:off x="4167000" y="761400"/>
                <a:ext cx="0" cy="2092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2" name="Oval 133"/>
              <p:cNvSpPr/>
              <p:nvPr/>
            </p:nvSpPr>
            <p:spPr>
              <a:xfrm rot="10800000">
                <a:off x="4065480" y="476280"/>
                <a:ext cx="215640" cy="285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603" name="Group 62"/>
          <p:cNvGrpSpPr/>
          <p:nvPr/>
        </p:nvGrpSpPr>
        <p:grpSpPr>
          <a:xfrm>
            <a:off x="4065480" y="476280"/>
            <a:ext cx="218880" cy="4736160"/>
            <a:chOff x="4065480" y="476280"/>
            <a:chExt cx="218880" cy="4736160"/>
          </a:xfrm>
        </p:grpSpPr>
        <p:grpSp>
          <p:nvGrpSpPr>
            <p:cNvPr id="604" name="Group 63"/>
            <p:cNvGrpSpPr/>
            <p:nvPr/>
          </p:nvGrpSpPr>
          <p:grpSpPr>
            <a:xfrm>
              <a:off x="4065480" y="2835000"/>
              <a:ext cx="207000" cy="2377440"/>
              <a:chOff x="4065480" y="2835000"/>
              <a:chExt cx="207000" cy="2377440"/>
            </a:xfrm>
          </p:grpSpPr>
          <p:sp>
            <p:nvSpPr>
              <p:cNvPr id="605" name="Line 64"/>
              <p:cNvSpPr/>
              <p:nvPr/>
            </p:nvSpPr>
            <p:spPr>
              <a:xfrm>
                <a:off x="4174920" y="2835000"/>
                <a:ext cx="0" cy="2092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6" name="Oval 65"/>
              <p:cNvSpPr/>
              <p:nvPr/>
            </p:nvSpPr>
            <p:spPr>
              <a:xfrm>
                <a:off x="4065480" y="4927320"/>
                <a:ext cx="207000" cy="285120"/>
              </a:xfrm>
              <a:prstGeom prst="ellipse">
                <a:avLst/>
              </a:prstGeom>
              <a:solidFill>
                <a:srgbClr val="0000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66"/>
            <p:cNvGrpSpPr/>
            <p:nvPr/>
          </p:nvGrpSpPr>
          <p:grpSpPr>
            <a:xfrm>
              <a:off x="4077720" y="476280"/>
              <a:ext cx="206640" cy="2377440"/>
              <a:chOff x="4077720" y="476280"/>
              <a:chExt cx="206640" cy="2377440"/>
            </a:xfrm>
          </p:grpSpPr>
          <p:sp>
            <p:nvSpPr>
              <p:cNvPr id="608" name="Line 67"/>
              <p:cNvSpPr/>
              <p:nvPr/>
            </p:nvSpPr>
            <p:spPr>
              <a:xfrm flipV="1">
                <a:off x="4174920" y="761400"/>
                <a:ext cx="0" cy="2092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9" name="Oval 68"/>
              <p:cNvSpPr/>
              <p:nvPr/>
            </p:nvSpPr>
            <p:spPr>
              <a:xfrm rot="10800000">
                <a:off x="4077720" y="476280"/>
                <a:ext cx="206640" cy="285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610" name="Group 41"/>
          <p:cNvGrpSpPr/>
          <p:nvPr/>
        </p:nvGrpSpPr>
        <p:grpSpPr>
          <a:xfrm>
            <a:off x="4067280" y="476280"/>
            <a:ext cx="228240" cy="4736160"/>
            <a:chOff x="4067280" y="476280"/>
            <a:chExt cx="228240" cy="4736160"/>
          </a:xfrm>
        </p:grpSpPr>
        <p:grpSp>
          <p:nvGrpSpPr>
            <p:cNvPr id="611" name="Group 25"/>
            <p:cNvGrpSpPr/>
            <p:nvPr/>
          </p:nvGrpSpPr>
          <p:grpSpPr>
            <a:xfrm>
              <a:off x="4067280" y="2835000"/>
              <a:ext cx="216000" cy="2377440"/>
              <a:chOff x="4067280" y="2835000"/>
              <a:chExt cx="216000" cy="2377440"/>
            </a:xfrm>
          </p:grpSpPr>
          <p:sp>
            <p:nvSpPr>
              <p:cNvPr id="612" name="Line 23"/>
              <p:cNvSpPr/>
              <p:nvPr/>
            </p:nvSpPr>
            <p:spPr>
              <a:xfrm>
                <a:off x="4181760" y="2835000"/>
                <a:ext cx="0" cy="2092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3" name="Oval 24"/>
              <p:cNvSpPr/>
              <p:nvPr/>
            </p:nvSpPr>
            <p:spPr>
              <a:xfrm>
                <a:off x="4067280" y="4927320"/>
                <a:ext cx="216000" cy="285120"/>
              </a:xfrm>
              <a:prstGeom prst="ellipse">
                <a:avLst/>
              </a:prstGeom>
              <a:solidFill>
                <a:srgbClr val="0000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34"/>
            <p:cNvGrpSpPr/>
            <p:nvPr/>
          </p:nvGrpSpPr>
          <p:grpSpPr>
            <a:xfrm>
              <a:off x="4079880" y="476280"/>
              <a:ext cx="215640" cy="2377440"/>
              <a:chOff x="4079880" y="476280"/>
              <a:chExt cx="215640" cy="2377440"/>
            </a:xfrm>
          </p:grpSpPr>
          <p:sp>
            <p:nvSpPr>
              <p:cNvPr id="615" name="Line 35"/>
              <p:cNvSpPr/>
              <p:nvPr/>
            </p:nvSpPr>
            <p:spPr>
              <a:xfrm flipV="1">
                <a:off x="4181400" y="761400"/>
                <a:ext cx="0" cy="2092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6" name="Oval 36"/>
              <p:cNvSpPr/>
              <p:nvPr/>
            </p:nvSpPr>
            <p:spPr>
              <a:xfrm rot="10800000">
                <a:off x="4079880" y="476280"/>
                <a:ext cx="215640" cy="285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Oval 26"/>
          <p:cNvSpPr/>
          <p:nvPr/>
        </p:nvSpPr>
        <p:spPr>
          <a:xfrm>
            <a:off x="4138560" y="28414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Text Box 42"/>
          <p:cNvSpPr/>
          <p:nvPr/>
        </p:nvSpPr>
        <p:spPr>
          <a:xfrm>
            <a:off x="2916360" y="11890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单摆的转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Text Box 27"/>
          <p:cNvSpPr/>
          <p:nvPr/>
        </p:nvSpPr>
        <p:spPr>
          <a:xfrm>
            <a:off x="3967200" y="24145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20" name="Group 171"/>
          <p:cNvGrpSpPr/>
          <p:nvPr/>
        </p:nvGrpSpPr>
        <p:grpSpPr>
          <a:xfrm>
            <a:off x="3912480" y="3246120"/>
            <a:ext cx="5158080" cy="463320"/>
            <a:chOff x="3912480" y="3246120"/>
            <a:chExt cx="5158080" cy="463320"/>
          </a:xfrm>
        </p:grpSpPr>
        <p:sp>
          <p:nvSpPr>
            <p:cNvPr id="621" name="Arc 71"/>
            <p:cNvSpPr/>
            <p:nvPr/>
          </p:nvSpPr>
          <p:spPr>
            <a:xfrm flipH="1" rot="3034800">
              <a:off x="4040280" y="3247560"/>
              <a:ext cx="206280" cy="428760"/>
            </a:xfrm>
            <a:custGeom>
              <a:avLst/>
              <a:gdLst/>
              <a:ahLst/>
              <a:rect l="l" t="t" r="r" b="b"/>
              <a:pathLst>
                <a:path fill="none" w="15531" h="21471">
                  <a:moveTo>
                    <a:pt x="13172" y="21470"/>
                  </a:moveTo>
                  <a:cubicBezTo>
                    <a:pt x="8162" y="20920"/>
                    <a:pt x="3502" y="18635"/>
                    <a:pt x="0" y="15011"/>
                  </a:cubicBezTo>
                </a:path>
                <a:path stroke="0" w="15531" h="21471">
                  <a:moveTo>
                    <a:pt x="13172" y="21470"/>
                  </a:moveTo>
                  <a:cubicBezTo>
                    <a:pt x="8162" y="20920"/>
                    <a:pt x="3502" y="18635"/>
                    <a:pt x="0" y="15011"/>
                  </a:cubicBezTo>
                  <a:lnTo>
                    <a:pt x="15531" y="0"/>
                  </a:lnTo>
                  <a:lnTo>
                    <a:pt x="13172" y="2147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622" name="Group 77"/>
            <p:cNvGrpSpPr/>
            <p:nvPr/>
          </p:nvGrpSpPr>
          <p:grpSpPr>
            <a:xfrm>
              <a:off x="4067280" y="3249720"/>
              <a:ext cx="5003280" cy="459720"/>
              <a:chOff x="4067280" y="3249720"/>
              <a:chExt cx="5003280" cy="459720"/>
            </a:xfrm>
          </p:grpSpPr>
          <p:sp>
            <p:nvSpPr>
              <p:cNvPr id="623" name="Line 72"/>
              <p:cNvSpPr/>
              <p:nvPr/>
            </p:nvSpPr>
            <p:spPr>
              <a:xfrm>
                <a:off x="4067280" y="3492720"/>
                <a:ext cx="1843560" cy="3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4" name="Text Box 73"/>
              <p:cNvSpPr/>
              <p:nvPr/>
            </p:nvSpPr>
            <p:spPr>
              <a:xfrm>
                <a:off x="5995800" y="3249720"/>
                <a:ext cx="307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Arial"/>
                  </a:rPr>
                  <a:t>∠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Arial"/>
                  </a:rPr>
                  <a:t>AOB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Arial"/>
                  </a:rPr>
                  <a:t>叫做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Arial"/>
                  </a:rPr>
                  <a:t>旋转角，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76"/>
          <p:cNvGrpSpPr/>
          <p:nvPr/>
        </p:nvGrpSpPr>
        <p:grpSpPr>
          <a:xfrm>
            <a:off x="4356000" y="2421000"/>
            <a:ext cx="4176000" cy="459720"/>
            <a:chOff x="4356000" y="2421000"/>
            <a:chExt cx="4176000" cy="459720"/>
          </a:xfrm>
        </p:grpSpPr>
        <p:sp>
          <p:nvSpPr>
            <p:cNvPr id="626" name="Text Box 74"/>
            <p:cNvSpPr/>
            <p:nvPr/>
          </p:nvSpPr>
          <p:spPr>
            <a:xfrm>
              <a:off x="5524920" y="2421000"/>
              <a:ext cx="30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定点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称为旋转中心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7" name="Line 75"/>
            <p:cNvSpPr/>
            <p:nvPr/>
          </p:nvSpPr>
          <p:spPr>
            <a:xfrm>
              <a:off x="4356000" y="2664000"/>
              <a:ext cx="1252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28" name="Text Box 138"/>
          <p:cNvSpPr/>
          <p:nvPr/>
        </p:nvSpPr>
        <p:spPr>
          <a:xfrm>
            <a:off x="5796000" y="3686040"/>
            <a:ext cx="30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即对应点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与旋转中心连线的夹角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Text Box 139"/>
          <p:cNvSpPr/>
          <p:nvPr/>
        </p:nvSpPr>
        <p:spPr>
          <a:xfrm>
            <a:off x="5954760" y="44784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OB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的度数叫做旋转的角度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30" name="Group 141"/>
          <p:cNvGrpSpPr/>
          <p:nvPr/>
        </p:nvGrpSpPr>
        <p:grpSpPr>
          <a:xfrm>
            <a:off x="4051800" y="3317760"/>
            <a:ext cx="677520" cy="775080"/>
            <a:chOff x="4051800" y="3317760"/>
            <a:chExt cx="677520" cy="775080"/>
          </a:xfrm>
        </p:grpSpPr>
        <p:sp>
          <p:nvSpPr>
            <p:cNvPr id="631" name="Arc 135"/>
            <p:cNvSpPr/>
            <p:nvPr/>
          </p:nvSpPr>
          <p:spPr>
            <a:xfrm rot="18565200">
              <a:off x="4120920" y="3406320"/>
              <a:ext cx="406080" cy="371520"/>
            </a:xfrm>
            <a:custGeom>
              <a:avLst/>
              <a:gdLst/>
              <a:ahLst/>
              <a:rect l="l" t="t" r="r" b="b"/>
              <a:pathLst>
                <a:path fill="none" w="17778" h="21471">
                  <a:moveTo>
                    <a:pt x="15419" y="21470"/>
                  </a:moveTo>
                  <a:cubicBezTo>
                    <a:pt x="9187" y="20786"/>
                    <a:pt x="3561" y="17428"/>
                    <a:pt x="0" y="12268"/>
                  </a:cubicBezTo>
                </a:path>
                <a:path stroke="0" w="17778" h="21471">
                  <a:moveTo>
                    <a:pt x="15419" y="21470"/>
                  </a:moveTo>
                  <a:cubicBezTo>
                    <a:pt x="9187" y="20786"/>
                    <a:pt x="3561" y="17428"/>
                    <a:pt x="0" y="12268"/>
                  </a:cubicBezTo>
                  <a:lnTo>
                    <a:pt x="17778" y="0"/>
                  </a:lnTo>
                  <a:lnTo>
                    <a:pt x="15419" y="21470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2" name="Text Box 140"/>
            <p:cNvSpPr/>
            <p:nvPr/>
          </p:nvSpPr>
          <p:spPr>
            <a:xfrm>
              <a:off x="4154400" y="3693960"/>
              <a:ext cx="57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r>
                <a:rPr b="0" lang="en-US" sz="1600" spc="-1" strike="noStrike" baseline="4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33" name="Text Box 125"/>
          <p:cNvSpPr/>
          <p:nvPr/>
        </p:nvSpPr>
        <p:spPr>
          <a:xfrm>
            <a:off x="3951360" y="51991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34" name="Group 170"/>
          <p:cNvGrpSpPr/>
          <p:nvPr/>
        </p:nvGrpSpPr>
        <p:grpSpPr>
          <a:xfrm>
            <a:off x="3116160" y="4710240"/>
            <a:ext cx="1347840" cy="556560"/>
            <a:chOff x="3116160" y="4710240"/>
            <a:chExt cx="1347840" cy="556560"/>
          </a:xfrm>
        </p:grpSpPr>
        <p:grpSp>
          <p:nvGrpSpPr>
            <p:cNvPr id="635" name="Group 154"/>
            <p:cNvGrpSpPr/>
            <p:nvPr/>
          </p:nvGrpSpPr>
          <p:grpSpPr>
            <a:xfrm>
              <a:off x="3887640" y="4826160"/>
              <a:ext cx="576360" cy="440640"/>
              <a:chOff x="3887640" y="4826160"/>
              <a:chExt cx="576360" cy="440640"/>
            </a:xfrm>
          </p:grpSpPr>
          <p:sp>
            <p:nvSpPr>
              <p:cNvPr id="636" name="Text Box 147"/>
              <p:cNvSpPr/>
              <p:nvPr/>
            </p:nvSpPr>
            <p:spPr>
              <a:xfrm>
                <a:off x="3887640" y="4835520"/>
                <a:ext cx="576360" cy="43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中宋"/>
                  </a:rPr>
                  <a:t>·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7" name="Line 153"/>
              <p:cNvSpPr/>
              <p:nvPr/>
            </p:nvSpPr>
            <p:spPr>
              <a:xfrm>
                <a:off x="4181400" y="4826160"/>
                <a:ext cx="0" cy="215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165"/>
            <p:cNvGrpSpPr/>
            <p:nvPr/>
          </p:nvGrpSpPr>
          <p:grpSpPr>
            <a:xfrm>
              <a:off x="3116160" y="4710240"/>
              <a:ext cx="576360" cy="460080"/>
              <a:chOff x="3116160" y="4710240"/>
              <a:chExt cx="576360" cy="460080"/>
            </a:xfrm>
          </p:grpSpPr>
          <p:sp>
            <p:nvSpPr>
              <p:cNvPr id="639" name="Text Box 148"/>
              <p:cNvSpPr/>
              <p:nvPr/>
            </p:nvSpPr>
            <p:spPr>
              <a:xfrm>
                <a:off x="3116160" y="4738680"/>
                <a:ext cx="576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中宋"/>
                  </a:rPr>
                  <a:t>·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0" name="Line 164"/>
              <p:cNvSpPr/>
              <p:nvPr/>
            </p:nvSpPr>
            <p:spPr>
              <a:xfrm flipH="1">
                <a:off x="3421080" y="4710240"/>
                <a:ext cx="71280" cy="21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641" name="Text Box 126"/>
          <p:cNvSpPr/>
          <p:nvPr/>
        </p:nvSpPr>
        <p:spPr>
          <a:xfrm>
            <a:off x="2863800" y="48769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42" name="Group 169"/>
          <p:cNvGrpSpPr/>
          <p:nvPr/>
        </p:nvGrpSpPr>
        <p:grpSpPr>
          <a:xfrm>
            <a:off x="5018040" y="4552920"/>
            <a:ext cx="576360" cy="460440"/>
            <a:chOff x="5018040" y="4552920"/>
            <a:chExt cx="576360" cy="460440"/>
          </a:xfrm>
        </p:grpSpPr>
        <p:sp>
          <p:nvSpPr>
            <p:cNvPr id="643" name="Text Box 151"/>
            <p:cNvSpPr/>
            <p:nvPr/>
          </p:nvSpPr>
          <p:spPr>
            <a:xfrm>
              <a:off x="5018040" y="4581360"/>
              <a:ext cx="57636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中宋"/>
                </a:rPr>
                <a:t>·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4" name="Line 168"/>
            <p:cNvSpPr/>
            <p:nvPr/>
          </p:nvSpPr>
          <p:spPr>
            <a:xfrm>
              <a:off x="5146560" y="4552920"/>
              <a:ext cx="146160" cy="244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45" name="Text Box 134"/>
          <p:cNvSpPr/>
          <p:nvPr/>
        </p:nvSpPr>
        <p:spPr>
          <a:xfrm>
            <a:off x="5364000" y="48546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3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5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AutoShape 269"/>
          <p:cNvSpPr/>
          <p:nvPr/>
        </p:nvSpPr>
        <p:spPr>
          <a:xfrm>
            <a:off x="108000" y="404640"/>
            <a:ext cx="5256000" cy="720720"/>
          </a:xfrm>
          <a:prstGeom prst="cloudCallout">
            <a:avLst>
              <a:gd name="adj1" fmla="val -27013"/>
              <a:gd name="adj2" fmla="val 102203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合作学习、共同交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Text Box 270"/>
          <p:cNvSpPr/>
          <p:nvPr/>
        </p:nvSpPr>
        <p:spPr>
          <a:xfrm>
            <a:off x="785880" y="17575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手操作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Text Box 283"/>
          <p:cNvSpPr/>
          <p:nvPr/>
        </p:nvSpPr>
        <p:spPr>
          <a:xfrm>
            <a:off x="1403280" y="2421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将透明胶片覆盖在正方形网格纸上的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9" name="Text Box 284"/>
          <p:cNvSpPr/>
          <p:nvPr/>
        </p:nvSpPr>
        <p:spPr>
          <a:xfrm>
            <a:off x="1403280" y="290052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透明胶片上画出一个与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重合的三角形 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0" name="Text Box 285"/>
          <p:cNvSpPr/>
          <p:nvPr/>
        </p:nvSpPr>
        <p:spPr>
          <a:xfrm>
            <a:off x="1417680" y="3389400"/>
            <a:ext cx="695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一枚图钉的尖端在任意一格点（记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处固定网格纸和透明胶片，并将透明胶片绕图钉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旋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此时透明胶片上的三角形就转到了新的位置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Text Box 287"/>
          <p:cNvSpPr/>
          <p:nvPr/>
        </p:nvSpPr>
        <p:spPr>
          <a:xfrm>
            <a:off x="1433520" y="501336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用透明胶固定好网格纸和胶片的位置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给胶片上的三角形标上字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AutoShape 4"/>
          <p:cNvSpPr/>
          <p:nvPr/>
        </p:nvSpPr>
        <p:spPr>
          <a:xfrm>
            <a:off x="179280" y="333360"/>
            <a:ext cx="3175200" cy="836640"/>
          </a:xfrm>
          <a:prstGeom prst="cloudCallout">
            <a:avLst>
              <a:gd name="adj1" fmla="val 15601"/>
              <a:gd name="adj2" fmla="val 13462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Rectangle 80"/>
          <p:cNvSpPr/>
          <p:nvPr/>
        </p:nvSpPr>
        <p:spPr>
          <a:xfrm>
            <a:off x="4081320" y="1197000"/>
            <a:ext cx="482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'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Rectangle 81"/>
          <p:cNvSpPr/>
          <p:nvPr/>
        </p:nvSpPr>
        <p:spPr>
          <a:xfrm>
            <a:off x="4851360" y="2278080"/>
            <a:ext cx="48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'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Rectangle 82"/>
          <p:cNvSpPr/>
          <p:nvPr/>
        </p:nvSpPr>
        <p:spPr>
          <a:xfrm>
            <a:off x="5572080" y="3932280"/>
            <a:ext cx="41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Rectangle 84"/>
          <p:cNvSpPr/>
          <p:nvPr/>
        </p:nvSpPr>
        <p:spPr>
          <a:xfrm>
            <a:off x="6033960" y="2697120"/>
            <a:ext cx="482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7" name="Freeform 85"/>
          <p:cNvSpPr/>
          <p:nvPr/>
        </p:nvSpPr>
        <p:spPr>
          <a:xfrm>
            <a:off x="3316320" y="2851200"/>
            <a:ext cx="2604960" cy="1217520"/>
          </a:xfrm>
          <a:custGeom>
            <a:avLst/>
            <a:gdLst/>
            <a:ahLst/>
            <a:rect l="l" t="t" r="r" b="b"/>
            <a:pathLst>
              <a:path w="978" h="528">
                <a:moveTo>
                  <a:pt x="780" y="528"/>
                </a:moveTo>
                <a:lnTo>
                  <a:pt x="0" y="528"/>
                </a:lnTo>
                <a:lnTo>
                  <a:pt x="978" y="0"/>
                </a:lnTo>
                <a:lnTo>
                  <a:pt x="780" y="528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Arc 88"/>
          <p:cNvSpPr/>
          <p:nvPr/>
        </p:nvSpPr>
        <p:spPr>
          <a:xfrm flipV="1" rot="15795600">
            <a:off x="4369320" y="1465920"/>
            <a:ext cx="1592280" cy="1349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59" name="Group 107"/>
          <p:cNvGrpSpPr/>
          <p:nvPr/>
        </p:nvGrpSpPr>
        <p:grpSpPr>
          <a:xfrm>
            <a:off x="2537640" y="1397160"/>
            <a:ext cx="3391560" cy="2690640"/>
            <a:chOff x="2537640" y="1397160"/>
            <a:chExt cx="3391560" cy="2690640"/>
          </a:xfrm>
        </p:grpSpPr>
        <p:sp>
          <p:nvSpPr>
            <p:cNvPr id="660" name="Freeform 101"/>
            <p:cNvSpPr/>
            <p:nvPr/>
          </p:nvSpPr>
          <p:spPr>
            <a:xfrm>
              <a:off x="3324240" y="2854440"/>
              <a:ext cx="2604960" cy="1217520"/>
            </a:xfrm>
            <a:custGeom>
              <a:avLst/>
              <a:gdLst/>
              <a:ahLst/>
              <a:rect l="l" t="t" r="r" b="b"/>
              <a:pathLst>
                <a:path w="978" h="528">
                  <a:moveTo>
                    <a:pt x="780" y="528"/>
                  </a:moveTo>
                  <a:lnTo>
                    <a:pt x="0" y="528"/>
                  </a:lnTo>
                  <a:lnTo>
                    <a:pt x="978" y="0"/>
                  </a:lnTo>
                  <a:lnTo>
                    <a:pt x="780" y="52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1" name="Freeform 103"/>
            <p:cNvSpPr/>
            <p:nvPr/>
          </p:nvSpPr>
          <p:spPr>
            <a:xfrm rot="18942000">
              <a:off x="2592360" y="2133720"/>
              <a:ext cx="2604960" cy="1217520"/>
            </a:xfrm>
            <a:custGeom>
              <a:avLst/>
              <a:gdLst/>
              <a:ahLst/>
              <a:rect l="l" t="t" r="r" b="b"/>
              <a:pathLst>
                <a:path w="978" h="528">
                  <a:moveTo>
                    <a:pt x="780" y="528"/>
                  </a:moveTo>
                  <a:lnTo>
                    <a:pt x="0" y="528"/>
                  </a:lnTo>
                  <a:lnTo>
                    <a:pt x="978" y="0"/>
                  </a:lnTo>
                  <a:lnTo>
                    <a:pt x="780" y="52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62" name="Group 106"/>
          <p:cNvGrpSpPr/>
          <p:nvPr/>
        </p:nvGrpSpPr>
        <p:grpSpPr>
          <a:xfrm>
            <a:off x="819000" y="2838600"/>
            <a:ext cx="5167080" cy="2420640"/>
            <a:chOff x="819000" y="2838600"/>
            <a:chExt cx="5167080" cy="2420640"/>
          </a:xfrm>
        </p:grpSpPr>
        <p:sp>
          <p:nvSpPr>
            <p:cNvPr id="663" name="Freeform 104"/>
            <p:cNvSpPr/>
            <p:nvPr/>
          </p:nvSpPr>
          <p:spPr>
            <a:xfrm>
              <a:off x="3381120" y="2838600"/>
              <a:ext cx="2604960" cy="1217520"/>
            </a:xfrm>
            <a:custGeom>
              <a:avLst/>
              <a:gdLst/>
              <a:ahLst/>
              <a:rect l="l" t="t" r="r" b="b"/>
              <a:pathLst>
                <a:path w="978" h="528">
                  <a:moveTo>
                    <a:pt x="780" y="528"/>
                  </a:moveTo>
                  <a:lnTo>
                    <a:pt x="0" y="528"/>
                  </a:lnTo>
                  <a:lnTo>
                    <a:pt x="978" y="0"/>
                  </a:lnTo>
                  <a:lnTo>
                    <a:pt x="780" y="528"/>
                  </a:lnTo>
                  <a:close/>
                </a:path>
              </a:pathLst>
            </a:custGeom>
            <a:solidFill>
              <a:srgbClr val="3399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4" name="Freeform 105"/>
            <p:cNvSpPr/>
            <p:nvPr/>
          </p:nvSpPr>
          <p:spPr>
            <a:xfrm flipH="1" flipV="1">
              <a:off x="819000" y="4041720"/>
              <a:ext cx="2604960" cy="1217520"/>
            </a:xfrm>
            <a:custGeom>
              <a:avLst/>
              <a:gdLst/>
              <a:ahLst/>
              <a:rect l="l" t="t" r="r" b="b"/>
              <a:pathLst>
                <a:path w="978" h="528">
                  <a:moveTo>
                    <a:pt x="780" y="528"/>
                  </a:moveTo>
                  <a:lnTo>
                    <a:pt x="0" y="528"/>
                  </a:lnTo>
                  <a:lnTo>
                    <a:pt x="978" y="0"/>
                  </a:lnTo>
                  <a:lnTo>
                    <a:pt x="780" y="5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65" name="Rectangle 83"/>
          <p:cNvSpPr/>
          <p:nvPr/>
        </p:nvSpPr>
        <p:spPr>
          <a:xfrm>
            <a:off x="3069360" y="393228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Arc 91"/>
          <p:cNvSpPr/>
          <p:nvPr/>
        </p:nvSpPr>
        <p:spPr>
          <a:xfrm flipH="1" rot="5614200">
            <a:off x="4317840" y="2892600"/>
            <a:ext cx="1357560" cy="927000"/>
          </a:xfrm>
          <a:custGeom>
            <a:avLst/>
            <a:gdLst/>
            <a:ahLst/>
            <a:rect l="l" t="t" r="r" b="b"/>
            <a:pathLst>
              <a:path fill="none" w="20776" h="21572">
                <a:moveTo>
                  <a:pt x="1099" y="-1"/>
                </a:moveTo>
                <a:cubicBezTo>
                  <a:pt x="10335" y="470"/>
                  <a:pt x="18246" y="6768"/>
                  <a:pt x="20776" y="15663"/>
                </a:cubicBezTo>
              </a:path>
              <a:path stroke="0" w="20776" h="21572">
                <a:moveTo>
                  <a:pt x="1099" y="-1"/>
                </a:moveTo>
                <a:cubicBezTo>
                  <a:pt x="10335" y="470"/>
                  <a:pt x="18246" y="6768"/>
                  <a:pt x="20776" y="15663"/>
                </a:cubicBezTo>
                <a:lnTo>
                  <a:pt x="0" y="21572"/>
                </a:lnTo>
                <a:lnTo>
                  <a:pt x="1099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Text Box 144"/>
          <p:cNvSpPr/>
          <p:nvPr/>
        </p:nvSpPr>
        <p:spPr>
          <a:xfrm>
            <a:off x="3780000" y="4724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OA'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或∠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OB'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8" name="Rectangle 145"/>
          <p:cNvSpPr/>
          <p:nvPr/>
        </p:nvSpPr>
        <p:spPr>
          <a:xfrm>
            <a:off x="2124000" y="4797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旋转角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_______________________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71" dur="3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33"/>
          <p:cNvSpPr/>
          <p:nvPr/>
        </p:nvSpPr>
        <p:spPr>
          <a:xfrm>
            <a:off x="0" y="260280"/>
            <a:ext cx="3311640" cy="792360"/>
          </a:xfrm>
          <a:prstGeom prst="cloudCallout">
            <a:avLst>
              <a:gd name="adj1" fmla="val 7814"/>
              <a:gd name="adj2" fmla="val 13777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70" name="Group 123"/>
          <p:cNvGrpSpPr/>
          <p:nvPr/>
        </p:nvGrpSpPr>
        <p:grpSpPr>
          <a:xfrm>
            <a:off x="1908000" y="1109520"/>
            <a:ext cx="6335280" cy="5532120"/>
            <a:chOff x="1908000" y="1109520"/>
            <a:chExt cx="6335280" cy="5532120"/>
          </a:xfrm>
        </p:grpSpPr>
        <p:grpSp>
          <p:nvGrpSpPr>
            <p:cNvPr id="671" name="Group 124"/>
            <p:cNvGrpSpPr/>
            <p:nvPr/>
          </p:nvGrpSpPr>
          <p:grpSpPr>
            <a:xfrm>
              <a:off x="1908000" y="1109520"/>
              <a:ext cx="3902040" cy="3143160"/>
              <a:chOff x="1908000" y="1109520"/>
              <a:chExt cx="3902040" cy="3143160"/>
            </a:xfrm>
          </p:grpSpPr>
          <p:sp>
            <p:nvSpPr>
              <p:cNvPr id="672" name="Text Box 125"/>
              <p:cNvSpPr/>
              <p:nvPr/>
            </p:nvSpPr>
            <p:spPr>
              <a:xfrm>
                <a:off x="1908000" y="2478240"/>
                <a:ext cx="6476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3" name="Text Box 126"/>
              <p:cNvSpPr/>
              <p:nvPr/>
            </p:nvSpPr>
            <p:spPr>
              <a:xfrm>
                <a:off x="4298760" y="1109520"/>
                <a:ext cx="64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4" name="Text Box 127"/>
              <p:cNvSpPr/>
              <p:nvPr/>
            </p:nvSpPr>
            <p:spPr>
              <a:xfrm>
                <a:off x="5162400" y="2522520"/>
                <a:ext cx="64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5" name="Text Box 128"/>
              <p:cNvSpPr/>
              <p:nvPr/>
            </p:nvSpPr>
            <p:spPr>
              <a:xfrm>
                <a:off x="4500360" y="37321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6" name="AutoShape 129"/>
              <p:cNvSpPr/>
              <p:nvPr/>
            </p:nvSpPr>
            <p:spPr>
              <a:xfrm rot="9072000">
                <a:off x="2626560" y="2074680"/>
                <a:ext cx="2449800" cy="1368720"/>
              </a:xfrm>
              <a:prstGeom prst="rtTriangle">
                <a:avLst/>
              </a:prstGeom>
              <a:solidFill>
                <a:srgbClr val="ccec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7" name="Freeform 130"/>
              <p:cNvSpPr/>
              <p:nvPr/>
            </p:nvSpPr>
            <p:spPr>
              <a:xfrm>
                <a:off x="2411280" y="2738520"/>
                <a:ext cx="2665440" cy="1136520"/>
              </a:xfrm>
              <a:custGeom>
                <a:avLst/>
                <a:gdLst/>
                <a:ahLst/>
                <a:rect l="l" t="t" r="r" b="b"/>
                <a:pathLst>
                  <a:path w="1551" h="3">
                    <a:moveTo>
                      <a:pt x="0" y="0"/>
                    </a:moveTo>
                    <a:lnTo>
                      <a:pt x="1551" y="3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8" name="Freeform 131"/>
              <p:cNvSpPr/>
              <p:nvPr/>
            </p:nvSpPr>
            <p:spPr>
              <a:xfrm>
                <a:off x="4571640" y="1571760"/>
                <a:ext cx="505080" cy="2303280"/>
              </a:xfrm>
              <a:custGeom>
                <a:avLst/>
                <a:gdLst/>
                <a:ahLst/>
                <a:rect l="l" t="t" r="r" b="b"/>
                <a:pathLst>
                  <a:path w="667" h="1262">
                    <a:moveTo>
                      <a:pt x="0" y="0"/>
                    </a:moveTo>
                    <a:lnTo>
                      <a:pt x="667" y="1262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79" name="Freeform 132"/>
              <p:cNvSpPr/>
              <p:nvPr/>
            </p:nvSpPr>
            <p:spPr>
              <a:xfrm>
                <a:off x="5076720" y="2795400"/>
                <a:ext cx="144360" cy="1008360"/>
              </a:xfrm>
              <a:custGeom>
                <a:avLst/>
                <a:gdLst/>
                <a:ahLst/>
                <a:rect l="l" t="t" r="r" b="b"/>
                <a:pathLst>
                  <a:path w="45" h="738">
                    <a:moveTo>
                      <a:pt x="45" y="0"/>
                    </a:moveTo>
                    <a:lnTo>
                      <a:pt x="0" y="738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0" name="Oval 133"/>
              <p:cNvSpPr/>
              <p:nvPr/>
            </p:nvSpPr>
            <p:spPr>
              <a:xfrm>
                <a:off x="5005080" y="3803760"/>
                <a:ext cx="144720" cy="1443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134"/>
            <p:cNvGrpSpPr/>
            <p:nvPr/>
          </p:nvGrpSpPr>
          <p:grpSpPr>
            <a:xfrm>
              <a:off x="4341240" y="3498480"/>
              <a:ext cx="3902040" cy="3143160"/>
              <a:chOff x="4341240" y="3498480"/>
              <a:chExt cx="3902040" cy="3143160"/>
            </a:xfrm>
          </p:grpSpPr>
          <p:sp>
            <p:nvSpPr>
              <p:cNvPr id="682" name="Text Box 135"/>
              <p:cNvSpPr/>
              <p:nvPr/>
            </p:nvSpPr>
            <p:spPr>
              <a:xfrm rot="10800000">
                <a:off x="7595640" y="4754160"/>
                <a:ext cx="6476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3" name="Text Box 136"/>
              <p:cNvSpPr/>
              <p:nvPr/>
            </p:nvSpPr>
            <p:spPr>
              <a:xfrm rot="10800000">
                <a:off x="5204880" y="6122520"/>
                <a:ext cx="64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4" name="Text Box 137"/>
              <p:cNvSpPr/>
              <p:nvPr/>
            </p:nvSpPr>
            <p:spPr>
              <a:xfrm rot="10800000">
                <a:off x="4341240" y="4709520"/>
                <a:ext cx="64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5" name="Text Box 138"/>
              <p:cNvSpPr/>
              <p:nvPr/>
            </p:nvSpPr>
            <p:spPr>
              <a:xfrm rot="10800000">
                <a:off x="5003280" y="34984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6" name="AutoShape 139"/>
              <p:cNvSpPr/>
              <p:nvPr/>
            </p:nvSpPr>
            <p:spPr>
              <a:xfrm rot="19872000">
                <a:off x="5074560" y="4307400"/>
                <a:ext cx="2449800" cy="1368720"/>
              </a:xfrm>
              <a:prstGeom prst="rtTriangl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7" name="Freeform 140"/>
              <p:cNvSpPr/>
              <p:nvPr/>
            </p:nvSpPr>
            <p:spPr>
              <a:xfrm rot="10800000">
                <a:off x="5074560" y="3876120"/>
                <a:ext cx="2665440" cy="1136520"/>
              </a:xfrm>
              <a:custGeom>
                <a:avLst/>
                <a:gdLst/>
                <a:ahLst/>
                <a:rect l="l" t="t" r="r" b="b"/>
                <a:pathLst>
                  <a:path w="1551" h="3">
                    <a:moveTo>
                      <a:pt x="0" y="0"/>
                    </a:moveTo>
                    <a:lnTo>
                      <a:pt x="1551" y="3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8" name="Freeform 141"/>
              <p:cNvSpPr/>
              <p:nvPr/>
            </p:nvSpPr>
            <p:spPr>
              <a:xfrm rot="10800000">
                <a:off x="5074560" y="3876120"/>
                <a:ext cx="505080" cy="2303280"/>
              </a:xfrm>
              <a:custGeom>
                <a:avLst/>
                <a:gdLst/>
                <a:ahLst/>
                <a:rect l="l" t="t" r="r" b="b"/>
                <a:pathLst>
                  <a:path w="667" h="1262">
                    <a:moveTo>
                      <a:pt x="0" y="0"/>
                    </a:moveTo>
                    <a:lnTo>
                      <a:pt x="667" y="1262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89" name="Freeform 142"/>
              <p:cNvSpPr/>
              <p:nvPr/>
            </p:nvSpPr>
            <p:spPr>
              <a:xfrm rot="10800000">
                <a:off x="4930200" y="3947400"/>
                <a:ext cx="144360" cy="1008360"/>
              </a:xfrm>
              <a:custGeom>
                <a:avLst/>
                <a:gdLst/>
                <a:ahLst/>
                <a:rect l="l" t="t" r="r" b="b"/>
                <a:pathLst>
                  <a:path w="45" h="738">
                    <a:moveTo>
                      <a:pt x="45" y="0"/>
                    </a:moveTo>
                    <a:lnTo>
                      <a:pt x="0" y="73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90" name="Oval 143"/>
              <p:cNvSpPr/>
              <p:nvPr/>
            </p:nvSpPr>
            <p:spPr>
              <a:xfrm rot="10800000">
                <a:off x="5001480" y="3803040"/>
                <a:ext cx="144720" cy="1443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691" name="Freeform 67"/>
          <p:cNvSpPr/>
          <p:nvPr/>
        </p:nvSpPr>
        <p:spPr>
          <a:xfrm>
            <a:off x="2392200" y="2722680"/>
            <a:ext cx="2665440" cy="1136520"/>
          </a:xfrm>
          <a:custGeom>
            <a:avLst/>
            <a:gdLst/>
            <a:ahLst/>
            <a:rect l="l" t="t" r="r" b="b"/>
            <a:pathLst>
              <a:path w="1551" h="3">
                <a:moveTo>
                  <a:pt x="0" y="0"/>
                </a:moveTo>
                <a:lnTo>
                  <a:pt x="1551" y="3"/>
                </a:ln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Freeform 69"/>
          <p:cNvSpPr/>
          <p:nvPr/>
        </p:nvSpPr>
        <p:spPr>
          <a:xfrm>
            <a:off x="5057640" y="2779560"/>
            <a:ext cx="144720" cy="1008360"/>
          </a:xfrm>
          <a:custGeom>
            <a:avLst/>
            <a:gdLst/>
            <a:ahLst/>
            <a:rect l="l" t="t" r="r" b="b"/>
            <a:pathLst>
              <a:path w="45" h="738">
                <a:moveTo>
                  <a:pt x="45" y="0"/>
                </a:moveTo>
                <a:lnTo>
                  <a:pt x="0" y="738"/>
                </a:ln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Oval 92"/>
          <p:cNvSpPr/>
          <p:nvPr/>
        </p:nvSpPr>
        <p:spPr>
          <a:xfrm>
            <a:off x="4986360" y="37879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1889280" y="24620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4280040" y="10936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5057640" y="23209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7" name="AutoShape 4"/>
          <p:cNvSpPr/>
          <p:nvPr/>
        </p:nvSpPr>
        <p:spPr>
          <a:xfrm rot="9072000">
            <a:off x="2607840" y="2058840"/>
            <a:ext cx="2449440" cy="1368720"/>
          </a:xfrm>
          <a:prstGeom prst="rtTriangle">
            <a:avLst/>
          </a:prstGeom>
          <a:solidFill>
            <a:srgbClr val="cce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4481640" y="3716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4626000" y="549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5994360" y="3400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6772320" y="2033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2" name="Freeform 68"/>
          <p:cNvSpPr/>
          <p:nvPr/>
        </p:nvSpPr>
        <p:spPr>
          <a:xfrm>
            <a:off x="4552920" y="1555920"/>
            <a:ext cx="504720" cy="2303280"/>
          </a:xfrm>
          <a:custGeom>
            <a:avLst/>
            <a:gdLst/>
            <a:ahLst/>
            <a:rect l="l" t="t" r="r" b="b"/>
            <a:pathLst>
              <a:path w="667" h="1262">
                <a:moveTo>
                  <a:pt x="0" y="0"/>
                </a:moveTo>
                <a:lnTo>
                  <a:pt x="667" y="1262"/>
                </a:ln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03" name="Group 7"/>
          <p:cNvGrpSpPr/>
          <p:nvPr/>
        </p:nvGrpSpPr>
        <p:grpSpPr>
          <a:xfrm>
            <a:off x="3733200" y="1003680"/>
            <a:ext cx="3319560" cy="3000240"/>
            <a:chOff x="3733200" y="1003680"/>
            <a:chExt cx="3319560" cy="3000240"/>
          </a:xfrm>
        </p:grpSpPr>
        <p:sp>
          <p:nvSpPr>
            <p:cNvPr id="704" name="AutoShape 147"/>
            <p:cNvSpPr/>
            <p:nvPr/>
          </p:nvSpPr>
          <p:spPr>
            <a:xfrm rot="12672000">
              <a:off x="4192200" y="1545480"/>
              <a:ext cx="2449440" cy="1368360"/>
            </a:xfrm>
            <a:prstGeom prst="rtTriangl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5" name="Freeform 144"/>
            <p:cNvSpPr/>
            <p:nvPr/>
          </p:nvSpPr>
          <p:spPr>
            <a:xfrm rot="3600000">
              <a:off x="3573000" y="1848600"/>
              <a:ext cx="2607840" cy="1136520"/>
            </a:xfrm>
            <a:custGeom>
              <a:avLst/>
              <a:gdLst/>
              <a:ahLst/>
              <a:rect l="l" t="t" r="r" b="b"/>
              <a:pathLst>
                <a:path w="1551" h="3">
                  <a:moveTo>
                    <a:pt x="0" y="0"/>
                  </a:moveTo>
                  <a:lnTo>
                    <a:pt x="1551" y="3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6" name="Freeform 145"/>
            <p:cNvSpPr/>
            <p:nvPr/>
          </p:nvSpPr>
          <p:spPr>
            <a:xfrm rot="3600000">
              <a:off x="5506560" y="3136680"/>
              <a:ext cx="129960" cy="1081080"/>
            </a:xfrm>
            <a:custGeom>
              <a:avLst/>
              <a:gdLst/>
              <a:ahLst/>
              <a:rect l="l" t="t" r="r" b="b"/>
              <a:pathLst>
                <a:path w="45" h="738">
                  <a:moveTo>
                    <a:pt x="45" y="0"/>
                  </a:moveTo>
                  <a:lnTo>
                    <a:pt x="0" y="738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7" name="Freeform 146"/>
            <p:cNvSpPr/>
            <p:nvPr/>
          </p:nvSpPr>
          <p:spPr>
            <a:xfrm rot="3600000">
              <a:off x="5696280" y="1931400"/>
              <a:ext cx="502920" cy="2260440"/>
            </a:xfrm>
            <a:custGeom>
              <a:avLst/>
              <a:gdLst/>
              <a:ahLst/>
              <a:rect l="l" t="t" r="r" b="b"/>
              <a:pathLst>
                <a:path w="667" h="1262">
                  <a:moveTo>
                    <a:pt x="0" y="0"/>
                  </a:moveTo>
                  <a:lnTo>
                    <a:pt x="667" y="1262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08" name="Arc 10"/>
          <p:cNvSpPr/>
          <p:nvPr/>
        </p:nvSpPr>
        <p:spPr>
          <a:xfrm flipH="1" flipV="1" rot="4663800">
            <a:off x="2671920" y="583920"/>
            <a:ext cx="1733760" cy="2590560"/>
          </a:xfrm>
          <a:custGeom>
            <a:avLst/>
            <a:gdLst/>
            <a:ahLst/>
            <a:rect l="l" t="t" r="r" b="b"/>
            <a:pathLst>
              <a:path fill="none" w="21600" h="33126">
                <a:moveTo>
                  <a:pt x="4134" y="0"/>
                </a:moveTo>
                <a:cubicBezTo>
                  <a:pt x="14278" y="1978"/>
                  <a:pt x="21600" y="10865"/>
                  <a:pt x="21600" y="21201"/>
                </a:cubicBezTo>
                <a:cubicBezTo>
                  <a:pt x="21600" y="25442"/>
                  <a:pt x="20351" y="29589"/>
                  <a:pt x="18009" y="-32411"/>
                </a:cubicBezTo>
              </a:path>
              <a:path stroke="0" w="21600" h="33126">
                <a:moveTo>
                  <a:pt x="4134" y="0"/>
                </a:moveTo>
                <a:cubicBezTo>
                  <a:pt x="14278" y="1978"/>
                  <a:pt x="21600" y="10865"/>
                  <a:pt x="21600" y="21201"/>
                </a:cubicBezTo>
                <a:cubicBezTo>
                  <a:pt x="21600" y="25442"/>
                  <a:pt x="20351" y="29589"/>
                  <a:pt x="18009" y="-32411"/>
                </a:cubicBezTo>
                <a:lnTo>
                  <a:pt x="0" y="21201"/>
                </a:lnTo>
                <a:lnTo>
                  <a:pt x="4134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09" name="Group 18"/>
          <p:cNvGrpSpPr/>
          <p:nvPr/>
        </p:nvGrpSpPr>
        <p:grpSpPr>
          <a:xfrm>
            <a:off x="1908000" y="1096920"/>
            <a:ext cx="6335280" cy="5532120"/>
            <a:chOff x="1908000" y="1096920"/>
            <a:chExt cx="6335280" cy="5532120"/>
          </a:xfrm>
        </p:grpSpPr>
        <p:grpSp>
          <p:nvGrpSpPr>
            <p:cNvPr id="710" name="Group 19"/>
            <p:cNvGrpSpPr/>
            <p:nvPr/>
          </p:nvGrpSpPr>
          <p:grpSpPr>
            <a:xfrm>
              <a:off x="1908000" y="1096920"/>
              <a:ext cx="3902040" cy="3143160"/>
              <a:chOff x="1908000" y="1096920"/>
              <a:chExt cx="3902040" cy="3143160"/>
            </a:xfrm>
          </p:grpSpPr>
          <p:sp>
            <p:nvSpPr>
              <p:cNvPr id="711" name="Text Box 20"/>
              <p:cNvSpPr/>
              <p:nvPr/>
            </p:nvSpPr>
            <p:spPr>
              <a:xfrm>
                <a:off x="1908000" y="2465640"/>
                <a:ext cx="6476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2" name="Text Box 21"/>
              <p:cNvSpPr/>
              <p:nvPr/>
            </p:nvSpPr>
            <p:spPr>
              <a:xfrm>
                <a:off x="4298760" y="1096920"/>
                <a:ext cx="64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3" name="Text Box 22"/>
              <p:cNvSpPr/>
              <p:nvPr/>
            </p:nvSpPr>
            <p:spPr>
              <a:xfrm>
                <a:off x="5162400" y="2509920"/>
                <a:ext cx="64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4" name="Text Box 23"/>
              <p:cNvSpPr/>
              <p:nvPr/>
            </p:nvSpPr>
            <p:spPr>
              <a:xfrm>
                <a:off x="4500360" y="37195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5" name="AutoShape 24"/>
              <p:cNvSpPr/>
              <p:nvPr/>
            </p:nvSpPr>
            <p:spPr>
              <a:xfrm rot="9072000">
                <a:off x="2626560" y="2062080"/>
                <a:ext cx="2449800" cy="1368720"/>
              </a:xfrm>
              <a:prstGeom prst="rtTriangle">
                <a:avLst/>
              </a:prstGeom>
              <a:solidFill>
                <a:srgbClr val="ccec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6" name="Freeform 25"/>
              <p:cNvSpPr/>
              <p:nvPr/>
            </p:nvSpPr>
            <p:spPr>
              <a:xfrm>
                <a:off x="2411280" y="2725920"/>
                <a:ext cx="2665440" cy="1136520"/>
              </a:xfrm>
              <a:custGeom>
                <a:avLst/>
                <a:gdLst/>
                <a:ahLst/>
                <a:rect l="l" t="t" r="r" b="b"/>
                <a:pathLst>
                  <a:path w="1551" h="3">
                    <a:moveTo>
                      <a:pt x="0" y="0"/>
                    </a:moveTo>
                    <a:lnTo>
                      <a:pt x="1551" y="3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7" name="Freeform 26"/>
              <p:cNvSpPr/>
              <p:nvPr/>
            </p:nvSpPr>
            <p:spPr>
              <a:xfrm>
                <a:off x="4571640" y="1559160"/>
                <a:ext cx="505080" cy="2303280"/>
              </a:xfrm>
              <a:custGeom>
                <a:avLst/>
                <a:gdLst/>
                <a:ahLst/>
                <a:rect l="l" t="t" r="r" b="b"/>
                <a:pathLst>
                  <a:path w="667" h="1262">
                    <a:moveTo>
                      <a:pt x="0" y="0"/>
                    </a:moveTo>
                    <a:lnTo>
                      <a:pt x="667" y="1262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8" name="Freeform 27"/>
              <p:cNvSpPr/>
              <p:nvPr/>
            </p:nvSpPr>
            <p:spPr>
              <a:xfrm>
                <a:off x="5076720" y="2782800"/>
                <a:ext cx="144360" cy="1008360"/>
              </a:xfrm>
              <a:custGeom>
                <a:avLst/>
                <a:gdLst/>
                <a:ahLst/>
                <a:rect l="l" t="t" r="r" b="b"/>
                <a:pathLst>
                  <a:path w="45" h="738">
                    <a:moveTo>
                      <a:pt x="45" y="0"/>
                    </a:moveTo>
                    <a:lnTo>
                      <a:pt x="0" y="738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9" name="Oval 28"/>
              <p:cNvSpPr/>
              <p:nvPr/>
            </p:nvSpPr>
            <p:spPr>
              <a:xfrm>
                <a:off x="5005080" y="3791160"/>
                <a:ext cx="144720" cy="1443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29"/>
            <p:cNvGrpSpPr/>
            <p:nvPr/>
          </p:nvGrpSpPr>
          <p:grpSpPr>
            <a:xfrm>
              <a:off x="4341240" y="3485880"/>
              <a:ext cx="3902040" cy="3143160"/>
              <a:chOff x="4341240" y="3485880"/>
              <a:chExt cx="3902040" cy="3143160"/>
            </a:xfrm>
          </p:grpSpPr>
          <p:sp>
            <p:nvSpPr>
              <p:cNvPr id="721" name="Text Box 30"/>
              <p:cNvSpPr/>
              <p:nvPr/>
            </p:nvSpPr>
            <p:spPr>
              <a:xfrm rot="10800000">
                <a:off x="7595640" y="4741560"/>
                <a:ext cx="6476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2" name="Text Box 31"/>
              <p:cNvSpPr/>
              <p:nvPr/>
            </p:nvSpPr>
            <p:spPr>
              <a:xfrm rot="10800000">
                <a:off x="5204880" y="6109920"/>
                <a:ext cx="64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3" name="Text Box 32"/>
              <p:cNvSpPr/>
              <p:nvPr/>
            </p:nvSpPr>
            <p:spPr>
              <a:xfrm rot="10800000">
                <a:off x="4341240" y="4696920"/>
                <a:ext cx="6476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4" name="Text Box 33"/>
              <p:cNvSpPr/>
              <p:nvPr/>
            </p:nvSpPr>
            <p:spPr>
              <a:xfrm rot="10800000">
                <a:off x="5003280" y="34858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5" name="AutoShape 34"/>
              <p:cNvSpPr/>
              <p:nvPr/>
            </p:nvSpPr>
            <p:spPr>
              <a:xfrm rot="19872000">
                <a:off x="5074560" y="4294800"/>
                <a:ext cx="2449800" cy="1368720"/>
              </a:xfrm>
              <a:prstGeom prst="rtTriangl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6" name="Freeform 35"/>
              <p:cNvSpPr/>
              <p:nvPr/>
            </p:nvSpPr>
            <p:spPr>
              <a:xfrm rot="10800000">
                <a:off x="5074560" y="3863520"/>
                <a:ext cx="2665440" cy="1136520"/>
              </a:xfrm>
              <a:custGeom>
                <a:avLst/>
                <a:gdLst/>
                <a:ahLst/>
                <a:rect l="l" t="t" r="r" b="b"/>
                <a:pathLst>
                  <a:path w="1551" h="3">
                    <a:moveTo>
                      <a:pt x="0" y="0"/>
                    </a:moveTo>
                    <a:lnTo>
                      <a:pt x="1551" y="3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7" name="Freeform 36"/>
              <p:cNvSpPr/>
              <p:nvPr/>
            </p:nvSpPr>
            <p:spPr>
              <a:xfrm rot="10800000">
                <a:off x="5074560" y="3863520"/>
                <a:ext cx="505080" cy="2303280"/>
              </a:xfrm>
              <a:custGeom>
                <a:avLst/>
                <a:gdLst/>
                <a:ahLst/>
                <a:rect l="l" t="t" r="r" b="b"/>
                <a:pathLst>
                  <a:path w="667" h="1262">
                    <a:moveTo>
                      <a:pt x="0" y="0"/>
                    </a:moveTo>
                    <a:lnTo>
                      <a:pt x="667" y="1262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8" name="Freeform 37"/>
              <p:cNvSpPr/>
              <p:nvPr/>
            </p:nvSpPr>
            <p:spPr>
              <a:xfrm rot="10800000">
                <a:off x="4930200" y="3934800"/>
                <a:ext cx="144360" cy="1008360"/>
              </a:xfrm>
              <a:custGeom>
                <a:avLst/>
                <a:gdLst/>
                <a:ahLst/>
                <a:rect l="l" t="t" r="r" b="b"/>
                <a:pathLst>
                  <a:path w="45" h="738">
                    <a:moveTo>
                      <a:pt x="45" y="0"/>
                    </a:moveTo>
                    <a:lnTo>
                      <a:pt x="0" y="73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9" name="Oval 38"/>
              <p:cNvSpPr/>
              <p:nvPr/>
            </p:nvSpPr>
            <p:spPr>
              <a:xfrm rot="10800000">
                <a:off x="5001480" y="3790440"/>
                <a:ext cx="144720" cy="14436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730" name="Arc 9"/>
          <p:cNvSpPr/>
          <p:nvPr/>
        </p:nvSpPr>
        <p:spPr>
          <a:xfrm rot="15984000">
            <a:off x="4254840" y="1899000"/>
            <a:ext cx="3022560" cy="2138400"/>
          </a:xfrm>
          <a:custGeom>
            <a:avLst/>
            <a:gdLst/>
            <a:ahLst/>
            <a:rect l="l" t="t" r="r" b="b"/>
            <a:pathLst>
              <a:path fill="none" w="21600" h="16950">
                <a:moveTo>
                  <a:pt x="21532" y="0"/>
                </a:moveTo>
                <a:cubicBezTo>
                  <a:pt x="21577" y="566"/>
                  <a:pt x="21600" y="1134"/>
                  <a:pt x="21600" y="1702"/>
                </a:cubicBezTo>
                <a:cubicBezTo>
                  <a:pt x="21600" y="7418"/>
                  <a:pt x="19334" y="12901"/>
                  <a:pt x="15298" y="16949"/>
                </a:cubicBezTo>
              </a:path>
              <a:path stroke="0" w="21600" h="16950">
                <a:moveTo>
                  <a:pt x="21532" y="0"/>
                </a:moveTo>
                <a:cubicBezTo>
                  <a:pt x="21577" y="566"/>
                  <a:pt x="21600" y="1134"/>
                  <a:pt x="21600" y="1702"/>
                </a:cubicBezTo>
                <a:cubicBezTo>
                  <a:pt x="21600" y="7418"/>
                  <a:pt x="19334" y="12901"/>
                  <a:pt x="15298" y="16949"/>
                </a:cubicBezTo>
                <a:lnTo>
                  <a:pt x="0" y="1702"/>
                </a:lnTo>
                <a:lnTo>
                  <a:pt x="21532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1" name="Arc 8"/>
          <p:cNvSpPr/>
          <p:nvPr/>
        </p:nvSpPr>
        <p:spPr>
          <a:xfrm>
            <a:off x="5259240" y="2766960"/>
            <a:ext cx="851040" cy="1152720"/>
          </a:xfrm>
          <a:custGeom>
            <a:avLst/>
            <a:gdLst/>
            <a:ahLst/>
            <a:rect l="l" t="t" r="r" b="b"/>
            <a:pathLst>
              <a:path fill="none" w="19667" h="21600">
                <a:moveTo>
                  <a:pt x="-1" y="0"/>
                </a:moveTo>
                <a:cubicBezTo>
                  <a:pt x="8472" y="0"/>
                  <a:pt x="16163" y="4953"/>
                  <a:pt x="19666" y="12668"/>
                </a:cubicBezTo>
              </a:path>
              <a:path stroke="0" w="19667" h="21600">
                <a:moveTo>
                  <a:pt x="-1" y="0"/>
                </a:moveTo>
                <a:cubicBezTo>
                  <a:pt x="8472" y="0"/>
                  <a:pt x="16163" y="4953"/>
                  <a:pt x="19666" y="1266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2" name="Text Box 40"/>
          <p:cNvSpPr/>
          <p:nvPr/>
        </p:nvSpPr>
        <p:spPr>
          <a:xfrm>
            <a:off x="3216240" y="4775040"/>
            <a:ext cx="44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∠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、∠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O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∠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3" name="Text Box 43"/>
          <p:cNvSpPr/>
          <p:nvPr/>
        </p:nvSpPr>
        <p:spPr>
          <a:xfrm>
            <a:off x="1450800" y="4724280"/>
            <a:ext cx="69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旋转角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97" dur="3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6:59:35Z</dcterms:created>
  <dc:creator>Microsoft user</dc:creator>
  <dc:description/>
  <dc:language>en-US</dc:language>
  <cp:lastModifiedBy>a</cp:lastModifiedBy>
  <dcterms:modified xsi:type="dcterms:W3CDTF">2015-03-16T15:05:31Z</dcterms:modified>
  <cp:revision>246</cp:revision>
  <dc:subject/>
  <dc:title>PowerPoint 演示文稿</dc:title>
</cp:coreProperties>
</file>