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%E6%8F%90%E9%97%AE%E6%97%B6%E5%A5%8F%E5%B9%BB%E6%83%B3%E7%A9%BA%E9%97%B4.wav" ContentType="audio/x-wav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C78-3399-4C03-B983-C66E96E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B4B-796C-4257-8DEA-04C356B1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E0FB-5041-411D-856E-2A83FA8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A6E63-60EC-4634-8CE9-A8CFB3D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2FAE5-1FE7-4F94-A877-12636F5B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75CCC-0D77-4448-BC4E-9574B4F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8F5BA-A44F-4AE8-A1A1-28DACA9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D500-D4E2-41AE-A7CF-82FF1861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FCFA-FAD8-4F30-BE35-E4228CC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DAAF9-D475-484C-B3C5-FB1C1609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F2977-9D26-45B5-A8AC-00505EA0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C97A8-85F2-4B3A-8610-F2B55D3A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E7E-8A56-416F-A348-5D6F6C64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29E15-AAD8-4D65-8B22-0A0CE45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066AE-F1C0-4123-8E93-72F17F0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0EA61-EFA5-4A83-B385-AE8EE14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427FB-1BCD-40E2-ABF1-F2E39A0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359E1-1BC8-47A7-9A69-0FEA83BE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4ED9-ACE7-4A52-B0DF-A084EC62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2752D-45E3-4F74-827D-6D335C52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F853-5A21-4C67-A0FC-BA5A33F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AF52F-E88F-4B27-8427-4A6A3FC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A60BA-7B1E-4613-A51E-8F92888A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EAE-8E6F-44EB-A3E7-D026A2B2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73E20-1556-4AF7-B79A-1FF8FF83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C1459-DB09-4478-A016-57B7F6B8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0BE0F-0E44-499F-837D-12A6267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9FB44-73BD-45CA-B5E0-13F6363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D0800-8B2C-455E-899E-2138D37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D6A8-8CDB-4FF2-8B5F-CB5CEC3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A8A6-AC6A-4442-A933-E64EC6B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603DD-82DE-4C31-B94E-ADE6063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F2BFD-AEC0-446E-86CD-7629139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BA3DE-FE7B-466A-91C4-4507F2C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5154-4F37-4172-8C9D-2D51F5D7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C6CD-AA87-4C25-83EB-4BD309A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70E16-ED60-41B3-B91F-16B822D9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5DC46-A6C4-4F36-80DC-94F928A5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85063-6EF7-4DA8-8C47-EFA6762C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633F4-A613-4B6A-9145-F44617E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533FA-B8D8-48A1-92B8-60E31E44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FD388-D3BE-4447-9B02-378019DA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6659-AB56-4A2B-9838-31C90DEC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F56A9-F9F2-48B0-ACBF-CAC99D42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D21EB-CF62-4A0C-A1BC-E09E315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E8B8-0DC6-4299-9CC7-8E795C1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EB159-324A-41A1-933D-9BA428A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13FFF-D4F6-4E68-A4F1-20DCFFA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18FAE-392C-406D-93AE-BC396C7C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7741C-2978-4EB7-98F1-237BAB1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E6F93-D6F3-40AE-B3BE-D75C9EE1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19FA2-8F9B-468A-A375-A9129E29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C28AD-86FC-468E-9507-A2D0E20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C84F7-BBF2-4F43-866B-AB12668F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CA4F0-58E0-42A3-86AB-1535D10D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1DCF8-D6DD-4C04-8A63-C42244EF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5E8-4EC6-415A-96CE-6EB3986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18854-B73B-4D59-ACCA-B7AAFD34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5969E-7551-4C0B-B693-E1EDBF4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06A84-A730-44DC-83AE-EEB3A4C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11C62-8EF8-41D6-A8D3-3E7D41A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8584B-9F12-4D5E-9851-4376B5F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F1B07-6EFF-4D50-9224-1893B4A7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D384A-6E50-453E-A374-CB16FC4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52ED-86D3-4FCE-991A-3476C94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C2F4-A997-4A98-BCC9-6A1DE47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961D-FBCF-4427-87F9-54CD1C32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04B7-CB39-498A-AC9E-D52963E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036-8EF6-4EEA-8704-899CE3E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7DE6-AD20-45DA-86C4-0E45F74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983-75DE-4EB8-B639-6741A3D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A411-7241-4881-8DE9-4664A44D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A967-3494-4CAA-9667-BE7843D1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3B8-36A5-43C0-B380-BBFC00A2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4C54-7938-4015-AAED-EBC789A9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E3A4-E234-450F-92F6-25A458E7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B39B-6C74-4622-82F4-0BCFF0EC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C1A1-169C-4726-B98C-2447691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1166-947B-4C05-8969-D7C1BA1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736-9549-49A4-8AA3-DB838AE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A0E7-814B-4810-84EE-5301E70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940B-5798-4ED6-ABDE-9B3D065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728E-4CD6-4AFE-A34A-BEDD7FA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BCE4-A7BF-44E7-93F9-443EB22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33B9-7999-46DB-9A10-239B855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BACF-6F54-4617-9BF1-5BB56D5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3077-C5EF-440C-894B-E71FD3D4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B903-B165-485A-A85D-5ACA8847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4E66-712C-41AE-BACF-F0326DC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9373-3A84-49DD-A058-B88F416C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6E3-A1AD-4888-8E1C-F4A2C26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FB6E-7DAD-4758-825C-3FB9449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13B2-447A-415C-A79A-9BCB016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D70A-ECB2-481F-A61A-FE36B054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5693-C703-40D4-9630-F388ED6A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4742-9415-4E63-928D-390EA7A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33D6-8D34-4753-AAA1-96B6FB0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B5ACB-9173-4432-A47A-12819EE0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8EC1-5B3F-4D32-BDBD-27DFD48B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FE6F-6797-46F8-83D0-D67A1BB4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32FC-DEB1-45C0-9C9E-9A43EC7B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989-00D4-4941-9873-1D195F8A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0FA6-9BB8-4C51-A548-4CD4D9D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A1A4-4CDF-4660-BA15-8767856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E94A-C890-44D2-87BD-EB043754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01C1-F508-4006-817E-AEBBF41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EEC4-AF29-459A-B78B-01CBF3F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EF44-CED5-4D22-978D-C43FE48E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B05F-8A5D-44BF-9C43-49ACE127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E473-3EB1-4CD0-8DF5-ACBEE446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E50D-B02C-4A33-8AED-30E1A4C8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E28C-C577-448C-87FB-9D52B7CA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526-D741-4618-8854-A29C857B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861D-276C-4A5F-9D7C-E3E183BB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F5024-B0B5-4FA9-A833-9C6B2AE8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AE04-229B-477E-BC66-27F53EA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DB8A-6DFF-4094-B696-60D8D069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B6A1-045C-4BEB-859F-69042B16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75FF-B0B2-446F-AC31-F9BDD4A7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058D-0834-4405-96C1-6AAED8A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668A-5118-4F38-9069-A0E8A19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0747-CA0B-44A2-939A-6A97032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AC91-EF23-43C3-86FF-6CC3DEF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093-24D1-4357-829D-C12E6663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CF8D-BA45-4A81-8B2E-C080ACC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6D8DC-0C8A-4119-AD02-14314DEF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1B70-C7EA-47AC-BB30-1A50A959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AA115-5905-4C22-8E32-441075A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4FC8A-6A86-4A64-92B4-4BDBE91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A9DC-3DDC-459B-985D-C47543B6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E538D-B292-4639-9988-65CBCF0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56745-9F86-4A19-9D36-F55F3EC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521E-0692-4B0E-992E-060E98D6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9686-DE73-41D4-A304-26F1635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746-D06D-459D-8154-72FD660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CCF2-F3AD-4861-B356-C669075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A9F2-CD8E-4A18-AA19-40360AF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BB5B-29B8-40FF-8D53-EC20C5B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5F04-D6F1-4F12-8A6E-6503C4B7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872B-496D-45DE-BE20-396DE796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DF836-B018-4CD4-AF03-520E812D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0DBE-E136-4CD9-8C4A-58AE8519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26386-3934-402C-8D39-986E7A1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63E4B-DFBA-4074-8CC3-63BD30B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A924E-DBDA-4413-B7D3-AF7B596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D6B-20C0-42E4-9EAB-FF57394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2B1A-0447-442B-917C-C673490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A39B-D441-419F-82EF-3BF6956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9531-E877-4B0E-A19E-E171560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A5BC-AFEB-4CFD-BED5-AE5929A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C5860-3E30-4944-BF42-538B463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931F-8691-4579-A486-CF0AD833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0A6B-06C0-41BF-8F68-558B691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BCF02-9F88-4F76-A449-96523A48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B1E6-7C08-461C-BF29-AC73EAE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84D1-DAAE-49F2-BD33-68A1CFFB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911-03F0-4D99-A74D-DB2A20E3E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0E9-28DD-475E-9A51-59A8865B29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5B1-0F5F-4B2E-A104-09068EBB9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C10-C1FB-440A-8D17-B5966CDF61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44A-B610-4082-B4C9-0530788837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3A96-98A2-449E-AF2B-EE01B30936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E8B6-664C-4096-B403-F5B255D92D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2CA-C1CC-421B-94DE-23A1539A20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090-D681-4093-BDCD-F3052FB31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2311-75D7-4FA8-B98A-BE3F71E11B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17C-6444-47E8-B6DA-2E61BF4DC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1901-C82D-488F-99F1-FDC0FCE1A6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685-6455-4147-845E-60B4BDDAFB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688-FB85-41EF-8162-0F95642881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86F8-F8D9-4EF9-ABCC-E493CDDFA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6B8-6EC6-47B0-8884-8912C891E0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A53-5666-4A38-B7AC-3D68A1F006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FA0-AC52-488C-A62D-80E8758724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6EF3-B425-4597-8239-292CE357B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571-435D-46A9-AABD-3E2052E57C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808-9DCC-4C4B-8CED-BB4CD435D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C66-24B8-46B7-ABFB-99B160F154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7BF7-1D29-42C3-9AE3-D178054C7D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72B0-FA6D-4A08-8E0D-E72C35681A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BC5-772C-4D94-A645-60039A3AE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&#25552;&#38382;&#26102;&#22863;&#24187;&#24819;&#31354;&#38388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10.xml"/><Relationship Id="rId9" Type="http://schemas.openxmlformats.org/officeDocument/2006/relationships/image" Target="../media/image3.png"/><Relationship Id="rId10" Type="http://schemas.openxmlformats.org/officeDocument/2006/relationships/slide" Target="slide6.xml"/><Relationship Id="rId11" Type="http://schemas.openxmlformats.org/officeDocument/2006/relationships/image" Target="../media/image3.png"/><Relationship Id="rId12" Type="http://schemas.openxmlformats.org/officeDocument/2006/relationships/slide" Target="slide2.xml"/><Relationship Id="rId13" Type="http://schemas.openxmlformats.org/officeDocument/2006/relationships/slide" Target="slide16.xm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鲁迅"/>
          <p:cNvPicPr/>
          <p:nvPr/>
        </p:nvPicPr>
        <p:blipFill>
          <a:blip r:embed="rId1"/>
          <a:stretch/>
        </p:blipFill>
        <p:spPr>
          <a:xfrm>
            <a:off x="1014480" y="260280"/>
            <a:ext cx="4147920" cy="5761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427640" y="746280"/>
            <a:ext cx="3746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  <a:ea typeface="华文新魏"/>
              </a:rPr>
              <a:t>藤野先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仙台学校"/>
          <p:cNvPicPr/>
          <p:nvPr/>
        </p:nvPicPr>
        <p:blipFill>
          <a:blip r:embed="rId1"/>
          <a:stretch/>
        </p:blipFill>
        <p:spPr>
          <a:xfrm>
            <a:off x="1066680" y="325440"/>
            <a:ext cx="7620120" cy="53895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3"/>
          <p:cNvSpPr/>
          <p:nvPr/>
        </p:nvSpPr>
        <p:spPr>
          <a:xfrm>
            <a:off x="3625560" y="5807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仙台医学专门学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18TBC352"/>
          <p:cNvPicPr/>
          <p:nvPr/>
        </p:nvPicPr>
        <p:blipFill>
          <a:blip r:embed="rId1"/>
          <a:stretch/>
        </p:blipFill>
        <p:spPr>
          <a:xfrm>
            <a:off x="1371600" y="380880"/>
            <a:ext cx="1676520" cy="92088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5861880" y="457200"/>
            <a:ext cx="7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，理清文章段落结构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257800" y="25909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2193840" y="3048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藤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5750280" y="2157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5750280" y="299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5750280" y="383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离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3406680" y="487692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三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藤野的怀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2448000" y="1447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3946680" y="15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577188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见藤野前，在东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3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3493800" y="609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如何描写藤野先生的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藤野先生2"/>
          <p:cNvPicPr/>
          <p:nvPr/>
        </p:nvPicPr>
        <p:blipFill>
          <a:blip r:embed="rId1"/>
          <a:stretch/>
        </p:blipFill>
        <p:spPr>
          <a:xfrm>
            <a:off x="5943600" y="1828800"/>
            <a:ext cx="2706840" cy="37209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1066680" y="228600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睹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1080" y="32767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耳闻亲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17960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417960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活俭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9"/>
          <p:cNvSpPr/>
          <p:nvPr/>
        </p:nvSpPr>
        <p:spPr>
          <a:xfrm>
            <a:off x="3429000" y="4038480"/>
            <a:ext cx="0" cy="1067040"/>
          </a:xfrm>
          <a:prstGeom prst="line">
            <a:avLst/>
          </a:prstGeom>
          <a:ln cap="sq"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273852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学者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661356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野严九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2" descr="16TBC032"/>
          <p:cNvPicPr/>
          <p:nvPr/>
        </p:nvPicPr>
        <p:blipFill>
          <a:blip r:embed="rId2"/>
          <a:stretch/>
        </p:blipFill>
        <p:spPr>
          <a:xfrm>
            <a:off x="1143000" y="533520"/>
            <a:ext cx="934920" cy="114300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13">
            <a:hlinkClick r:id="rId3" action="ppaction://hlinksldjump"/>
          </p:cNvPr>
          <p:cNvSpPr/>
          <p:nvPr/>
        </p:nvSpPr>
        <p:spPr>
          <a:xfrm>
            <a:off x="822960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7301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5456" y="6481"/>
                </a:lnTo>
                <a:lnTo>
                  <a:pt x="5456" y="20494"/>
                </a:lnTo>
                <a:lnTo>
                  <a:pt x="3794" y="20494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4">
            <a:hlinkClick r:id="" action="ppaction://hlinkshowjump?jump=previousslide"/>
          </p:cNvPr>
          <p:cNvSpPr/>
          <p:nvPr/>
        </p:nvSpPr>
        <p:spPr>
          <a:xfrm>
            <a:off x="8534520" y="6248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0196"/>
                </a:moveTo>
                <a:lnTo>
                  <a:pt x="7301" y="10196"/>
                </a:lnTo>
                <a:lnTo>
                  <a:pt x="7301" y="15531"/>
                </a:lnTo>
                <a:cubicBezTo>
                  <a:pt x="7301" y="16454"/>
                  <a:pt x="8102" y="17185"/>
                  <a:pt x="9138" y="17185"/>
                </a:cubicBezTo>
                <a:lnTo>
                  <a:pt x="10800" y="17185"/>
                </a:lnTo>
                <a:cubicBezTo>
                  <a:pt x="11836" y="17185"/>
                  <a:pt x="12636" y="16454"/>
                  <a:pt x="12636" y="15531"/>
                </a:cubicBezTo>
                <a:lnTo>
                  <a:pt x="12636" y="10196"/>
                </a:lnTo>
                <a:lnTo>
                  <a:pt x="10800" y="10196"/>
                </a:lnTo>
                <a:lnTo>
                  <a:pt x="14308" y="6688"/>
                </a:lnTo>
                <a:lnTo>
                  <a:pt x="17981" y="10196"/>
                </a:lnTo>
                <a:lnTo>
                  <a:pt x="16144" y="10196"/>
                </a:lnTo>
                <a:lnTo>
                  <a:pt x="16144" y="15531"/>
                </a:lnTo>
                <a:cubicBezTo>
                  <a:pt x="16144" y="18299"/>
                  <a:pt x="13568" y="20858"/>
                  <a:pt x="10800" y="20858"/>
                </a:cubicBezTo>
                <a:lnTo>
                  <a:pt x="9138" y="20858"/>
                </a:lnTo>
                <a:cubicBezTo>
                  <a:pt x="6370" y="20858"/>
                  <a:pt x="3794" y="18299"/>
                  <a:pt x="3794" y="15531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4032360" y="303120"/>
            <a:ext cx="354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记叙了与藤野先生相处的哪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件事？表现了他的什么品质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1440360" y="182880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添改讲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4191120" y="1828800"/>
            <a:ext cx="20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认真负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381320" y="26668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纠正解剖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456480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格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364400" y="3581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心实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4564800" y="3505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热情诚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288080" y="44956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裹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4564800" y="4495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1"/>
          <p:cNvSpPr/>
          <p:nvPr/>
        </p:nvSpPr>
        <p:spPr>
          <a:xfrm>
            <a:off x="6324480" y="2209680"/>
            <a:ext cx="304920" cy="266724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6633720" y="24163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正直热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-92160" y="240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6694920" y="2743200"/>
            <a:ext cx="1277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治学严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7853040" y="171972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没有民族偏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6"/>
          <p:cNvSpPr/>
          <p:nvPr/>
        </p:nvSpPr>
        <p:spPr>
          <a:xfrm>
            <a:off x="3600000" y="54100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文具体写了四个典型事例，从不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面表现了藤野先生的高贵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7" descr="16TBC43"/>
          <p:cNvPicPr/>
          <p:nvPr/>
        </p:nvPicPr>
        <p:blipFill>
          <a:blip r:embed="rId1"/>
          <a:stretch/>
        </p:blipFill>
        <p:spPr>
          <a:xfrm>
            <a:off x="1066680" y="304920"/>
            <a:ext cx="1752840" cy="1319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13TBC143 "/>
          <p:cNvPicPr/>
          <p:nvPr/>
        </p:nvPicPr>
        <p:blipFill>
          <a:blip r:embed="rId2"/>
          <a:stretch/>
        </p:blipFill>
        <p:spPr>
          <a:xfrm>
            <a:off x="1066680" y="5334120"/>
            <a:ext cx="1295640" cy="104112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19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2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2594880" y="60948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文以作者的爱国主义思想为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线，想一想哪些地方表现了作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强烈的爱国主义思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5014800" y="3429000"/>
            <a:ext cx="41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生分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6" descr="读书图"/>
          <p:cNvPicPr/>
          <p:nvPr/>
        </p:nvPicPr>
        <p:blipFill>
          <a:blip r:embed="rId2"/>
          <a:stretch/>
        </p:blipFill>
        <p:spPr>
          <a:xfrm>
            <a:off x="1143000" y="28954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16TBC41"/>
          <p:cNvPicPr/>
          <p:nvPr/>
        </p:nvPicPr>
        <p:blipFill>
          <a:blip r:embed="rId3"/>
          <a:stretch/>
        </p:blipFill>
        <p:spPr>
          <a:xfrm>
            <a:off x="3505320" y="4876920"/>
            <a:ext cx="1500120" cy="1600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178160" y="636480"/>
            <a:ext cx="159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在 东 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476720" y="213372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见所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42458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国留学生的丑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5"/>
          <p:cNvSpPr/>
          <p:nvPr/>
        </p:nvSpPr>
        <p:spPr>
          <a:xfrm rot="10800000">
            <a:off x="2209680" y="3429000"/>
            <a:ext cx="3353040" cy="990720"/>
          </a:xfrm>
          <a:prstGeom prst="wedgeRoundRectCallout">
            <a:avLst>
              <a:gd name="adj1" fmla="val -43703"/>
              <a:gd name="adj2" fmla="val 94870"/>
              <a:gd name="adj3" fmla="val 16667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133720" y="3581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修辞：比喻、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1374840" y="487692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       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308840" y="4724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厌恶之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屑与之为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4320360" y="24382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学无术 思想腐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7238880" y="28195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7507440" y="2892960"/>
            <a:ext cx="127764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  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2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4096080" y="560520"/>
            <a:ext cx="191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去  仙  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532880" y="337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仙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4097520" y="18763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暮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4080600" y="49006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5961960" y="1852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触发忧国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5698800" y="4900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清志士客死之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 flipV="1">
            <a:off x="2743200" y="2514240"/>
            <a:ext cx="1066680" cy="1219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2743200" y="3962520"/>
            <a:ext cx="114300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10"/>
          <p:cNvSpPr/>
          <p:nvPr/>
        </p:nvSpPr>
        <p:spPr>
          <a:xfrm>
            <a:off x="5867280" y="2590920"/>
            <a:ext cx="533520" cy="2209680"/>
          </a:xfrm>
          <a:prstGeom prst="upDownArrow">
            <a:avLst>
              <a:gd name="adj1" fmla="val 50000"/>
              <a:gd name="adj2" fmla="val 82451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50612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6661440" y="3060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13">
            <a:hlinkClick r:id="rId1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1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藤野先生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038480" y="106668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3022920" y="304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复述：弃医从文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299240" y="735480"/>
            <a:ext cx="1094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 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匿名信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2518560" y="1084680"/>
            <a:ext cx="10947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看电影事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4001040" y="3538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6557400" y="457560"/>
            <a:ext cx="139932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匿名信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人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祖国的尊严受到侵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1680480" y="289440"/>
            <a:ext cx="200880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看电影事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想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大震动，民族自尊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受到严重挫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3581280" y="3352680"/>
            <a:ext cx="2971800" cy="638280"/>
          </a:xfrm>
          <a:prstGeom prst="leftRightArrow">
            <a:avLst>
              <a:gd name="adj1" fmla="val 50000"/>
              <a:gd name="adj2" fmla="val 92688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4756680" y="229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4756680" y="3670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9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3128040" y="660240"/>
            <a:ext cx="360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Times New Roman"/>
              </a:rPr>
              <a:t>离开仙台，怀念先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490040" y="215424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抒怀念之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425484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赞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425484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度评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1490040" y="428796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怀念付诸行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4410720" y="3809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藏讲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4410720" y="43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挂照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4114800" y="4952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"/>
          <p:cNvSpPr/>
          <p:nvPr/>
        </p:nvSpPr>
        <p:spPr>
          <a:xfrm>
            <a:off x="5486400" y="236232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1"/>
          <p:cNvSpPr/>
          <p:nvPr/>
        </p:nvSpPr>
        <p:spPr>
          <a:xfrm>
            <a:off x="5796360" y="1486080"/>
            <a:ext cx="12776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怀念之情化为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的勇气和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12"/>
          <p:cNvSpPr/>
          <p:nvPr/>
        </p:nvSpPr>
        <p:spPr>
          <a:xfrm>
            <a:off x="7162920" y="33526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99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7957080" y="252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7957080" y="3594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15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1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17"/>
          <p:cNvSpPr/>
          <p:nvPr/>
        </p:nvSpPr>
        <p:spPr>
          <a:xfrm>
            <a:off x="1817640" y="836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2" descr="鲁迅像2"/>
          <p:cNvPicPr/>
          <p:nvPr/>
        </p:nvPicPr>
        <p:blipFill>
          <a:blip r:embed="rId1"/>
          <a:stretch/>
        </p:blipFill>
        <p:spPr>
          <a:xfrm>
            <a:off x="1143000" y="30492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3">
            <a:hlinkClick r:id="rId2" action="ppaction://hlinksldjump"/>
          </p:cNvPr>
          <p:cNvSpPr/>
          <p:nvPr/>
        </p:nvSpPr>
        <p:spPr>
          <a:xfrm>
            <a:off x="23623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>
            <a:hlinkClick r:id="rId4" action="ppaction://hlinksldjump"/>
          </p:cNvPr>
          <p:cNvSpPr/>
          <p:nvPr/>
        </p:nvSpPr>
        <p:spPr>
          <a:xfrm>
            <a:off x="10666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5">
            <a:hlinkClick r:id="rId6" action="ppaction://hlinksldjump"/>
          </p:cNvPr>
          <p:cNvSpPr/>
          <p:nvPr/>
        </p:nvSpPr>
        <p:spPr>
          <a:xfrm>
            <a:off x="36576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6">
            <a:hlinkClick r:id="rId8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7">
            <a:hlinkClick r:id="rId10" action="ppaction://hlinksldjump"/>
          </p:cNvPr>
          <p:cNvSpPr/>
          <p:nvPr/>
        </p:nvSpPr>
        <p:spPr>
          <a:xfrm>
            <a:off x="4952880" y="5943600"/>
            <a:ext cx="129564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8">
            <a:hlinkClick r:id="rId12" action="ppaction://hlinksldjump"/>
          </p:cNvPr>
          <p:cNvSpPr/>
          <p:nvPr/>
        </p:nvSpPr>
        <p:spPr>
          <a:xfrm>
            <a:off x="106668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2362320" y="6019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背景介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10">
            <a:hlinkClick r:id="rId1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3733920" y="6019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0292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物形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32448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课文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75438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结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9TBC106"/>
          <p:cNvPicPr/>
          <p:nvPr/>
        </p:nvPicPr>
        <p:blipFill>
          <a:blip r:embed="rId1"/>
          <a:stretch/>
        </p:blipFill>
        <p:spPr>
          <a:xfrm>
            <a:off x="1066680" y="304920"/>
            <a:ext cx="3213360" cy="14508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3"/>
          <p:cNvSpPr/>
          <p:nvPr/>
        </p:nvSpPr>
        <p:spPr>
          <a:xfrm>
            <a:off x="5247360" y="463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主题思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491560" y="20811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几个问题都表现了鲁迅先生的爱国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思想，这与课文表现藤野先生的高尚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不矛盾，二者相辅相成，是统一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2495520" y="398628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 2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以与藤野先生的交往为明线，以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为暗线，赞扬了藤野先生的高尚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，抒发了对他的真挚怀念；同时追述了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弃医从文的思想变化，洋溢着强烈的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义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6"/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7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2" descr="俯首甘为儒子牛"/>
          <p:cNvPicPr/>
          <p:nvPr/>
        </p:nvPicPr>
        <p:blipFill>
          <a:blip r:embed="rId1"/>
          <a:stretch/>
        </p:blipFill>
        <p:spPr>
          <a:xfrm>
            <a:off x="611280" y="196920"/>
            <a:ext cx="7924680" cy="64008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3"/>
          <p:cNvSpPr/>
          <p:nvPr/>
        </p:nvSpPr>
        <p:spPr>
          <a:xfrm>
            <a:off x="2286000" y="3809880"/>
            <a:ext cx="556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cc00"/>
                </a:solidFill>
                <a:latin typeface="Times New Roman"/>
              </a:rPr>
              <a:t>谢谢光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9TBC147"/>
          <p:cNvPicPr/>
          <p:nvPr/>
        </p:nvPicPr>
        <p:blipFill>
          <a:blip r:embed="rId1"/>
          <a:stretch/>
        </p:blipFill>
        <p:spPr>
          <a:xfrm>
            <a:off x="1066680" y="838080"/>
            <a:ext cx="1752840" cy="8146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114300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1295280" y="4648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020120" y="91440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生介绍鲁迅其人及作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luxun2"/>
          <p:cNvPicPr/>
          <p:nvPr/>
        </p:nvPicPr>
        <p:blipFill>
          <a:blip r:embed="rId2"/>
          <a:stretch/>
        </p:blipFill>
        <p:spPr>
          <a:xfrm>
            <a:off x="1676520" y="2133720"/>
            <a:ext cx="2636640" cy="4038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luxun"/>
          <p:cNvPicPr/>
          <p:nvPr/>
        </p:nvPicPr>
        <p:blipFill>
          <a:blip r:embed="rId3"/>
          <a:stretch/>
        </p:blipFill>
        <p:spPr>
          <a:xfrm>
            <a:off x="5181480" y="2209680"/>
            <a:ext cx="2711520" cy="403884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8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9">
            <a:hlinkClick r:id="rId4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看戏河埠"/>
          <p:cNvPicPr/>
          <p:nvPr/>
        </p:nvPicPr>
        <p:blipFill>
          <a:blip r:embed="rId1"/>
          <a:stretch/>
        </p:blipFill>
        <p:spPr>
          <a:xfrm>
            <a:off x="441360" y="30492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5699520" y="609480"/>
            <a:ext cx="298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于浙江绍兴，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周树人，字豫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日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用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迅作笔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5486400" y="3429000"/>
            <a:ext cx="341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名作品集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本文选自散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638720" y="5943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生活的绍兴河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鲁迅后院"/>
          <p:cNvPicPr/>
          <p:nvPr/>
        </p:nvPicPr>
        <p:blipFill>
          <a:blip r:embed="rId1"/>
          <a:stretch/>
        </p:blipFill>
        <p:spPr>
          <a:xfrm>
            <a:off x="1066680" y="609480"/>
            <a:ext cx="3476880" cy="4572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鲁迅故居"/>
          <p:cNvPicPr/>
          <p:nvPr/>
        </p:nvPicPr>
        <p:blipFill>
          <a:blip r:embed="rId2"/>
          <a:stretch/>
        </p:blipFill>
        <p:spPr>
          <a:xfrm>
            <a:off x="4800600" y="6094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1600200" y="56386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百草园到三味书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社戏"/>
          <p:cNvPicPr/>
          <p:nvPr/>
        </p:nvPicPr>
        <p:blipFill>
          <a:blip r:embed="rId1"/>
          <a:stretch/>
        </p:blipFill>
        <p:spPr>
          <a:xfrm>
            <a:off x="1219320" y="3049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3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895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社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少年闰土"/>
          <p:cNvPicPr/>
          <p:nvPr/>
        </p:nvPicPr>
        <p:blipFill>
          <a:blip r:embed="rId1"/>
          <a:stretch/>
        </p:blipFill>
        <p:spPr>
          <a:xfrm>
            <a:off x="1066680" y="380880"/>
            <a:ext cx="3733920" cy="5334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中年闰土"/>
          <p:cNvPicPr/>
          <p:nvPr/>
        </p:nvPicPr>
        <p:blipFill>
          <a:blip r:embed="rId2"/>
          <a:stretch/>
        </p:blipFill>
        <p:spPr>
          <a:xfrm>
            <a:off x="4876920" y="380880"/>
            <a:ext cx="3808440" cy="53341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2895480" y="57150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鲁迅像"/>
          <p:cNvPicPr/>
          <p:nvPr/>
        </p:nvPicPr>
        <p:blipFill>
          <a:blip r:embed="rId1"/>
          <a:stretch/>
        </p:blipFill>
        <p:spPr>
          <a:xfrm>
            <a:off x="4724280" y="533520"/>
            <a:ext cx="4114800" cy="594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13TBC114 "/>
          <p:cNvPicPr/>
          <p:nvPr/>
        </p:nvPicPr>
        <p:blipFill>
          <a:blip r:embed="rId2"/>
          <a:stretch/>
        </p:blipFill>
        <p:spPr>
          <a:xfrm>
            <a:off x="1752480" y="533520"/>
            <a:ext cx="2210040" cy="9144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1005480" y="1617840"/>
            <a:ext cx="3049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忆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02—1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留学日本的片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鲁迅本想以学医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救国救民，但后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却弃医从文了，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们在本课的学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认识到作者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化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5">
            <a:hlinkClick r:id="rId3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6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98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鲁迅留学日本的经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581200" y="1295280"/>
            <a:ext cx="466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到日本，入东京弘文学院补习日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参加反清爱国活动，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题小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中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“我以我血荐轩辕”的誓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111200" y="2819520"/>
            <a:ext cx="14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入仙台医学专门学校学医。两年后弃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文，想以改变国民精神入手，挽救民族危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73760" y="3962520"/>
            <a:ext cx="51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东京开始文学活动，翻译介绍外国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作品，并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化偏至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一系列论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247120" y="5105520"/>
            <a:ext cx="53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从章太炎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加入光复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280600" y="58672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从日本回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8" descr="S0014"/>
          <p:cNvPicPr/>
          <p:nvPr/>
        </p:nvPicPr>
        <p:blipFill>
          <a:blip r:embed="rId1"/>
          <a:stretch/>
        </p:blipFill>
        <p:spPr>
          <a:xfrm>
            <a:off x="5641920" y="228600"/>
            <a:ext cx="2895480" cy="106668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9">
            <a:hlinkClick r:id="rId2" action="ppaction://hlinksldjump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7301" y="13516"/>
                </a:moveTo>
                <a:lnTo>
                  <a:pt x="17806" y="6509"/>
                </a:lnTo>
                <a:lnTo>
                  <a:pt x="17806" y="2052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5456" y="6509"/>
                </a:lnTo>
                <a:lnTo>
                  <a:pt x="5456" y="20522"/>
                </a:lnTo>
                <a:lnTo>
                  <a:pt x="3794" y="20522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0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9:37:36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23:48Z</dcterms:modified>
  <cp:revision>5</cp:revision>
  <dc:subject>第一PPT模板网-WWW.1PPT.COM</dc:subject>
  <dc:title>第一PPT模板网-WWW.1PPT.COM</dc:title>
</cp:coreProperties>
</file>