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A3DF-4F32-4BFB-921A-44DAA4C96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A02D-90F2-427F-AA55-26F4490E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058180-0AEE-4862-9CB5-9643AE6B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5273F0-8D05-4983-BCB9-397C0347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1223E6-B026-44C7-BEA0-E740C90B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5C962-75A5-4A53-9708-B9B772CE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3819CA-2A01-4A1E-B60D-90A42630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27186F-C011-4A3C-9A20-072339C6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53E54F-4FCC-4D25-9F25-2B4744D9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4E3A83-4871-4920-B6EF-090E4279F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881B58-ECDE-43EA-878F-CBEFF668E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8D9E21-B448-4970-866E-E297D75F5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EEB9-86BA-473E-9E0D-348830F0B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08732D-FB91-40A5-BF52-EB4E381A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7AFF9F-B804-4113-8E75-88F533CC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33777C-BF27-405A-B62A-E9254D39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A947D6-F756-45B9-BD8D-1FCCCF97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2F0009-BE95-4D4C-A5AE-6B648F00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84860E-32C5-44AD-A9D4-BFD57044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9E2553-72EB-49B7-AE75-2B60DCD4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957805-E9A7-43AF-8658-04A50B37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04A526-3FB6-4209-902B-1EDD493D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3B6056-4D87-4A08-90E6-62806E4B9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1C99-5EF4-4273-B029-741C94CB8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F89E02-D91C-4D54-A9C5-C778369B2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D73AE6-2CA6-4F36-BAF4-DE76BD043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E380F-AA59-4EDD-887C-A0799CC9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C79871-29E8-4B13-87F4-290BAED5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00717-F5EC-4B88-8D0C-C531B04D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BC727C-AEB9-48C3-8DDC-A7B0706F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2A6E3-1910-44CE-8B64-1E3C99CED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FA8F82-4F77-40FA-B82B-FFC4F4EF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EC9CA-A9B1-453D-85F0-6DB34BD8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8BEB3-F464-4BB9-8063-9F56BD95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2629-59E1-4F1C-A9D5-9AC8A955C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754643-D596-41F0-AEAC-96DA3641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EDF52-6CBD-4FBE-A3F0-C419895D3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F52D97-5C6C-4F23-A5E5-FB5457B01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41B1DC-B74F-4542-8729-570C900F0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4EFBFC-1FFC-460C-B564-1E2F07F2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49D5E4-F6E2-4CAF-9B91-03BD00A6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DBA609-EB74-4000-A213-000A2BB6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C6DA0A-D7B5-4F41-A947-11843AAB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EA85B5-71DA-4B4A-BCE7-E68BB512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FDC9CC-289A-4C2C-9A7B-8E266C52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A368-08C6-4B2D-AB3E-352FB1EB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16A66D-EDFD-4693-8D52-58ED9366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2D0542-19F9-4651-9E6C-FDDD0E9D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9DC752-A05F-44BD-8B28-972A26C7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5ECD61-109E-4D96-8CF9-F7CED6921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969B78-DF85-4AE6-8595-4878DE5D7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2465C5-2332-48DD-980B-DB3CE0E56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18A08D-7AB9-4822-9B93-12833356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67EEA1-134E-4634-849A-BFC30663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D5A378-744C-4184-B95B-CC8EB865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12BECE-A24C-48BB-82A5-1E6EB910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1E0F-85A9-45C7-AF95-A1EE0F07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22FE66-8E24-4174-A507-33110B30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7631FF-8F04-4380-941E-37AB566A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A121C5-08C0-42AB-BB0D-E75B6B47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01E2C9-067D-4ABF-9E43-2DFD4137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DEBF78-B299-488C-A5D9-7D5F3EF4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195743-2AA0-4E45-90BA-7DAEAB52C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8AE051-542A-4AF4-8912-F8D82BD9A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3F04-C9C4-4726-A7C5-29DE3BAF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B415D-F02B-4DFE-AEA7-AF3B5B0C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B50D-6A61-4D10-AC7D-936E9189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DB4D-BE66-4F92-A77F-094FFDCE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9418-9FA1-4BB1-9C1D-82A2B9FB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CFD0C-405E-40B0-9BEC-A82A40F3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7883-1B89-4876-9C3D-06C35948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E0D33-B6CF-4616-B317-6A34E55B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23EB8-BFB8-4F82-9C77-0035AFEA5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B81F-9D55-4297-898D-48BC2B633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4CE9F-CCF5-4FA8-97E0-4DA47BA63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280AC-8567-4FB1-B5CE-F26821EB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A4173-12F6-4D73-B0D4-9B27F95B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2F645-0E34-4F99-A300-0816C07D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069B0-936A-4E13-9CA3-7CB555C8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200E-68CF-4193-BAD3-6E3AF364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38195-3B99-4E69-AD64-1AFCCDE5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81636-E7DD-4B44-B7BD-07C979A9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71F6B-180C-430C-833C-EF13C5F1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52A4D-2661-41FF-920F-CF59C136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ECD05-D37F-4A16-B259-DABFB03A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CE3DA-5F7F-4123-ABBA-8AF90787D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66C28-719A-485F-9210-68011768E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D3E1B-CCE4-4CDB-BF69-AC67B6A04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12257-8B94-4C00-87C6-332642B1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59941-050C-4DC3-9C56-8A8CEDB2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9F6C-155C-4930-83F5-6BDC80FF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EFA21-6C1C-4A42-9A7B-D6B3BD85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EBB8E-711C-46C6-9ECA-C592A18D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56455-A3F5-42EE-8750-1DE1D7F2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94F3B-21B4-421E-A304-406C31B8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8E58E-5550-4251-B749-7F5E2B70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EF03E-EF9F-4700-BD72-2A291B08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DA942-4D2F-4631-B147-55A2A32D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E6664-9F89-4256-BB7E-80D3766F8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EE109-8E93-4587-96EF-00B0985A1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ABB10-CF42-4ED5-B1C7-D7AC49A59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C5E4-7AD2-4624-9E9D-CF24BD30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410FE-FBFE-442E-908D-70B85D0B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4D05E-46AC-4A83-9114-B88FC60E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A562E-21DE-4A18-8B00-B0810106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F574E-D053-49C4-9D4F-46BAFF56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1AB83-3C30-4062-9550-634558EB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39F3C-81E8-43CE-9FB2-34152718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F85BE-9C42-40F7-B62E-FAEF3CD2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A3F69-1C87-4761-835E-D2B75006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72776-EE40-4348-8887-210AA046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8D99E-42A7-4836-AC67-FB7FB5ED2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7E1B-8CAC-4D2A-B996-78034622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EC17F-C4F8-436E-B4FE-B946113FF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70C30-DEF2-4B1F-BB61-431BBD105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B1503-6501-4380-A709-C0CC31C4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BA36D-835B-4A44-990F-11AD3609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554EF-6CF9-4EE9-933B-3F495E1F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080F4-1356-4C0F-97AE-532336A4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7ABFC-3B56-4E47-880A-F3E0F6EE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DF55A-38B3-4B91-AB89-30468231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F3B33-F43F-4C6F-9979-56D52AE0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8D6ED-1140-4BFF-8B5E-7D82543F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97FA-D763-466A-88AD-11E2CBA0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3EDE0-C107-4864-8108-787F84F0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4864F-17C9-446B-963A-6787C3DD4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7D658-A7D0-45E0-9427-B14A8EFA2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6C18D-18BB-4A83-AADD-2638B4CBD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64934-360D-44D1-A571-B92ED45E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224AC-8D71-4960-BCE6-E2BEC1DA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8C1DF-DE63-46A0-B7EB-C5FAB75E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515C0-D1D5-4570-886E-2D8192A0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A0EC2-AD61-41FB-92B3-36044CF3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2DF70-A036-41B6-AFC8-9469EB0F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F22A-01C7-4A1F-9E33-9A359228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439C0-694A-49D6-8E19-F4953912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44993-383E-4621-961C-D75B1415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BDD1D-246A-4C93-A02E-FADCFB0E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ED9AB-EF50-462C-B8FF-4BDE12FFD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6CA98-E94E-4530-BF99-7568D3BE5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DC005-61C3-4ED5-BF9E-EC63C8030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9537C-A825-4097-B0A4-BF771C13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C814A-923B-4C8D-8F03-40A50866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7DD24-E341-4C9F-B23B-D5BF9B28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6F42B-D183-4FEA-8652-5AB53A0D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700A-A3BC-448F-BC78-DFBDAEEE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B05AF-2C38-4433-A7DD-8D4FB360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DD0FA-2980-4516-A22F-95B5DB8B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7253B-08E4-4393-A4DC-227BAC92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86812-4903-4DBF-9C7A-0CD28C3E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97B51-77D8-4139-BB2F-CFA50395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7FCC7-4FEE-4B7A-96AC-AF307F284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7B941-5E91-424E-A1DB-3AF18B8CE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0A0C78-BCF4-473A-B6C5-B6A512816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68416-5754-4B82-A6CB-2D53B96B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B30DF5-67F3-4A03-9A1B-D590266C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6BEC-816B-4DA7-B1B9-3759DA41A6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6FCF-827F-46D3-A76E-3A8688F3468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4A06-9589-4686-9EF5-16E9ECCF2A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DCCF-32F9-44D0-B0A9-2E33D88708D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3C98-9FDE-40A6-9B72-098ADFBC09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0CDD-CBF5-4F7B-B6AD-FC5371B212B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646A-B86E-4D8C-8317-3CDBCABF4E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C16F-AD7B-4D43-B119-413C59C9103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F329-E7AC-47C8-9D1F-18BDA6FCCA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7A76-180F-47B3-8BC4-94355F96AB9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EA7E-32C7-47AD-9A23-FD68B1F722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3457-6562-4F7C-9F83-4057285CBF5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C140-33B1-4CEA-A738-41F0CC6E61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F816-1F17-4014-9E7C-03E633DB536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6065-2566-499B-8A9B-6195AC896B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3C97-5479-4549-84E7-2FB17B85944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941D-C8D4-4C64-BE0A-4F673DDCE1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9CBC-1B5C-4986-A5BD-A7F88DB753B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C168-E52A-4CD9-9BD3-210507C367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541A-4FD2-4D2F-B3DD-89861156FFA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B77A-FD00-4B42-BFFE-88BA95CFC5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A7B2-2166-4981-A3C4-A493DAC0526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375F-E9C6-4EFC-A12B-B5B7CAA74C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8A0B-BEDF-4FD3-B9F1-4F50A72988C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046B-3739-4392-991D-B0578BC6A1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螳螂捕蝉"/>
          <p:cNvPicPr/>
          <p:nvPr/>
        </p:nvPicPr>
        <p:blipFill>
          <a:blip r:embed="rId1"/>
          <a:stretch/>
        </p:blipFill>
        <p:spPr>
          <a:xfrm>
            <a:off x="0" y="0"/>
            <a:ext cx="9144000" cy="705960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3"/>
          <p:cNvSpPr/>
          <p:nvPr/>
        </p:nvSpPr>
        <p:spPr>
          <a:xfrm>
            <a:off x="533520" y="297180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33"/>
                </a:solidFill>
                <a:latin typeface="华文新魏"/>
                <a:ea typeface="华文新魏"/>
              </a:rPr>
              <a:t>   </a:t>
            </a:r>
            <a:r>
              <a:rPr b="0" lang="zh-CN" sz="6000" spc="-1" strike="noStrike">
                <a:solidFill>
                  <a:srgbClr val="990033"/>
                </a:solidFill>
                <a:latin typeface="华文新魏"/>
                <a:ea typeface="华文新魏"/>
              </a:rPr>
              <a:t>螳螂捕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蝉、螳螂、黄雀，它们都一心想得到</a:t>
            </a:r>
            <a:r>
              <a:rPr b="0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眼前的利益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却没顾到自己身后正</a:t>
            </a:r>
            <a:r>
              <a:rPr b="0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隐伏着祸患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呢！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园里有一棵树，树上有一只蝉。蝉高高在上，悠闲地叫着，自由自在地喝着露水，却不知道有只螳螂在它的身后。那螳螂拱着身子，举起前爪，要去捕蝉，却不知道有只黄雀在它的身后。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……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黄雀伸长脖子正要啄食螳螂，却不知道我拿着弹弓在瞄准它呢。蝉、螳螂、黄雀，它们都一心想得到眼前的利益，却没顾到自己身后正隐伏着祸患呢！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园里有一棵树，树上有一只蝉。蝉高高在上，悠闲地叫着，自由自在地喝着露水，却不知道有只螳螂在它的身后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园里有一棵树，树上有一只蝉。蝉高高在上，</a:t>
            </a:r>
            <a:r>
              <a:rPr b="0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悠闲地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叫着，</a:t>
            </a:r>
            <a:r>
              <a:rPr b="0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自由自在地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喝着露水，却不知道有只螳螂在它的身后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560" y="1752120"/>
            <a:ext cx="84582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螳螂拱着身子，举起前爪，要去捕蝉，却不知道有只黄雀在它的身后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4560" y="1752120"/>
            <a:ext cx="84582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螳螂</a:t>
            </a:r>
            <a:r>
              <a:rPr b="0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拱着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身子，</a:t>
            </a:r>
            <a:r>
              <a:rPr b="0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举起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前爪，要去捕蝉，却不知道有只黄雀在它的身后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80520" y="152388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黄雀伸长脖子正要啄食螳螂，却不知道我拿着弹弓在瞄准它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80520" y="152388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黄雀</a:t>
            </a:r>
            <a:r>
              <a:rPr b="0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伸长脖子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要啄食螳螂，却不知道我拿着弹弓在瞄准它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Picture 4" descr="E:\王久洪\备课\第十一册语文备课\螳螂捕蝉\螳螂捕蝉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清晨，他拿着一只弹弓，在王宫花园里转来转去。露水沾湿了他的衣裳和鞋子，他也毫不介意。就这样，一连转了三个早晨。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少年终于被吴王发现了。吴王问道：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早晨跑到花园里来干什么？看你的衣裳都被露水打湿啦！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  <a:ea typeface="楷体_GB2312"/>
              </a:rPr>
              <a:t>”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少年回答说：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禀报大王，我在打鸟。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  <a:ea typeface="楷体_GB2312"/>
              </a:rPr>
              <a:t>”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吴王问：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打着鸟了吗？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  <a:ea typeface="楷体_GB2312"/>
              </a:rPr>
              <a:t>”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少年说：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没有打着鸟，却见到一件挺有意思的事。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  <a:ea typeface="楷体_GB2312"/>
              </a:rPr>
              <a:t>”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吴王来了兴趣，问：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什么事啊？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臣们认为，攻打楚国虽然取胜的希望很大，但如果其他诸侯国乘虚而入，后果将不堪设想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听了少年这番话，吴王恍然大悟，连声说：</a:t>
            </a:r>
            <a:r>
              <a:rPr b="0" lang="zh-CN" sz="4400" spc="-1" strike="noStrike">
                <a:solidFill>
                  <a:srgbClr val="000000"/>
                </a:solidFill>
                <a:latin typeface="Tahoma"/>
                <a:ea typeface="楷体_GB2312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！对！你讲得太有道理了！</a:t>
            </a:r>
            <a:r>
              <a:rPr b="0" lang="zh-CN" sz="4400" spc="-1" strike="noStrike">
                <a:solidFill>
                  <a:srgbClr val="000000"/>
                </a:solidFill>
                <a:latin typeface="Tahoma"/>
                <a:ea typeface="楷体_GB2312"/>
              </a:rPr>
              <a:t>”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是打消了攻打楚国的念头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5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臣们认为，攻打楚国虽然取胜的希望很大，但如果其他诸侯国</a:t>
            </a:r>
            <a:r>
              <a:rPr b="0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乘虚而入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后果将不堪设想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臣们认为，攻打楚国虽然取胜的希望很大，但如果其他诸侯国</a:t>
            </a:r>
            <a:r>
              <a:rPr b="0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乘虚而入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后果将</a:t>
            </a:r>
            <a:r>
              <a:rPr b="0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不堪设想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8487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是吴王固执地说：</a:t>
            </a:r>
            <a:r>
              <a:rPr b="0" lang="zh-CN" sz="5400" spc="-1" strike="noStrike">
                <a:solidFill>
                  <a:srgbClr val="000000"/>
                </a:solidFill>
                <a:latin typeface="Tahoma"/>
                <a:ea typeface="楷体_GB2312"/>
              </a:rPr>
              <a:t>“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敢来劝阻我，我就处死他！</a:t>
            </a:r>
            <a:r>
              <a:rPr b="0" lang="zh-CN" sz="5400" spc="-1" strike="noStrike">
                <a:solidFill>
                  <a:srgbClr val="000000"/>
                </a:solidFill>
                <a:latin typeface="Tahoma"/>
                <a:ea typeface="楷体_GB2312"/>
              </a:rPr>
              <a:t>”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4"/>
          <p:cNvSpPr/>
          <p:nvPr/>
        </p:nvSpPr>
        <p:spPr>
          <a:xfrm>
            <a:off x="762120" y="3429000"/>
            <a:ext cx="78483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是吴王</a:t>
            </a:r>
            <a:r>
              <a:rPr b="0" lang="zh-CN" sz="5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说：</a:t>
            </a:r>
            <a:r>
              <a:rPr b="0" lang="zh-CN" sz="5400" spc="-1" strike="noStrike">
                <a:solidFill>
                  <a:srgbClr val="000000"/>
                </a:solidFill>
                <a:latin typeface="Tahoma"/>
                <a:ea typeface="楷体_GB2312"/>
              </a:rPr>
              <a:t>“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敢来劝阻我，我就处死他！</a:t>
            </a:r>
            <a:r>
              <a:rPr b="0" lang="zh-CN" sz="5400" spc="-1" strike="noStrike">
                <a:solidFill>
                  <a:srgbClr val="000000"/>
                </a:solidFill>
                <a:latin typeface="Tahoma"/>
                <a:ea typeface="楷体_GB2312"/>
              </a:rPr>
              <a:t>”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160" y="9140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听了少年这番话，吴王恍然大悟，连声说：</a:t>
            </a:r>
            <a:r>
              <a:rPr b="0" lang="zh-CN" sz="5400" spc="-1" strike="noStrike">
                <a:solidFill>
                  <a:srgbClr val="000000"/>
                </a:solidFill>
                <a:latin typeface="Tahoma"/>
                <a:ea typeface="楷体_GB2312"/>
              </a:rPr>
              <a:t>“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！对！你讲得太有道理了！</a:t>
            </a:r>
            <a:r>
              <a:rPr b="0" lang="zh-CN" sz="5400" spc="-1" strike="noStrike">
                <a:solidFill>
                  <a:srgbClr val="000000"/>
                </a:solidFill>
                <a:latin typeface="Tahoma"/>
                <a:ea typeface="楷体_GB2312"/>
              </a:rPr>
              <a:t>”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是打消了攻打楚国的念头。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160" y="9140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听了少年这番话，吴王</a:t>
            </a:r>
            <a:r>
              <a:rPr b="0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恍然大悟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连声说：</a:t>
            </a:r>
            <a:r>
              <a:rPr b="0" lang="zh-CN" sz="5400" spc="-1" strike="noStrike">
                <a:solidFill>
                  <a:srgbClr val="000000"/>
                </a:solidFill>
                <a:latin typeface="Tahoma"/>
                <a:ea typeface="楷体_GB2312"/>
              </a:rPr>
              <a:t>“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！对！你讲得太有道理了！</a:t>
            </a:r>
            <a:r>
              <a:rPr b="0" lang="zh-CN" sz="5400" spc="-1" strike="noStrike">
                <a:solidFill>
                  <a:srgbClr val="000000"/>
                </a:solidFill>
                <a:latin typeface="Tahoma"/>
                <a:ea typeface="楷体_GB2312"/>
              </a:rPr>
              <a:t>”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是打消了攻打楚国的念头。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园里有一棵树，树上有一只蝉。蝉高高在上，悠闲地叫着，自由自在地喝着露水，却不知道有只螳螂在它的身后。那螳螂拱着身子，举起前爪，要去捕蝉，却不知道有只黄雀在它的身后。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……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黄雀伸长脖子正要啄食螳螂，却不知道我拿着弹弓在瞄准它呢。蝉、螳螂、黄雀，它们都一心想得到眼前的利益，却没顾到自己身后正隐伏着祸患呢！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蝉、螳螂、黄雀，它们都一心想得到眼前的利益，却没顾到自己身后正隐伏着祸患呢！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3-17T07:15:00Z</dcterms:modified>
  <cp:revision>5</cp:revision>
  <dc:subject/>
  <dc:title>PowerPoint Presentation</dc:title>
</cp:coreProperties>
</file>