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524-09CF-4008-8E96-F05529FF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568-684A-48C3-9B10-B021ABC9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C3154-8A92-4DB2-99F0-6565A0C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C8EBA-7101-426B-AA11-6A7AE4D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ACE04-B624-4C2C-AC82-E459650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CF99F-0541-4016-AB81-FBA908A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31CFA-B2E6-408C-A3E5-54E8EA3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757BF-F2F9-47F7-9C06-C3FEDEF0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04EA2-F4E9-4C9F-97C3-BBC683DB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8E2D0-56ED-4C42-B7B6-D686A089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25CE3-1A81-4C3D-B379-74DDE306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4C4CE-24F9-4F50-9AB4-26F77496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D90-F8E7-47AD-A675-8280F37F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25EBB-2854-42CB-9508-74C780D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9371F-8176-4118-9565-D403A873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38E26-2F17-4B86-B45D-4C669F92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04E2A-2630-4B48-8E52-376C0FA6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18855-2BD3-421E-8190-BEFDB5A3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160FA-D7AA-4399-95F4-A3758FD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F8B26-88C3-4A1D-AC86-E8EF527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44327-D2EE-4FF4-B5A8-BCBAC3A5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B9A47-8F76-4D7E-8C0A-46A71B42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283D3-B244-4500-B874-5CEC9FDF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777-4479-4030-A1CB-0DFB8E72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6FBAD-C8DD-4FCC-B356-6C8054AC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044BA-6871-4936-B008-9A1C111A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5AE84-0CCD-4AE9-91AE-914F8DA3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6C567-B61C-427E-8BFC-EBBD6CDF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E4AD6-89F9-4875-9047-5FFFF326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40478-52F3-469D-9A7F-46C26D2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4C079-D069-4E96-BA29-6F52385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88A55-80B7-495F-89C9-491A49E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DCAE2-4406-47CE-9102-276BCBAF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0B96A-4F59-4234-B93E-730D541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2033-42F6-4BD8-B255-F9AB61D5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DED70-4433-465A-8C81-3E0A4177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A8448-E56B-4AB7-9319-208D96D1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C62A1-DA6F-48F0-B051-849560DB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3A93A-E8E9-4CC8-97BB-FF638C0C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D8FAF-E989-418D-AE3C-80CC0FEC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0AC8A-12E8-4BE5-9DC0-3847E6B3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422DB-2D78-48D9-B332-E6D90C49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7DBEE-D7CC-437F-8835-F2695563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C2D61-3E88-443D-89F3-3837DA52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0D19E-6575-40E9-8208-5FC85B6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1EE0-DBD0-49B2-A06F-57985E3A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DC342-9F83-45DE-9E67-A81A47A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3CA5C-CA35-4C06-82F2-E0A45A9A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C51D7-2FB0-440F-9483-521E71EB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F126A-4E30-43EE-A10C-C6E1FB37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ACB54-43E2-491C-A7A0-A62ED4C2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A4800-0A88-427D-A1DC-7B8327AF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E0C5E-35B8-4C76-B61F-D2BEFDDB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C0CC4-2B31-425B-AD8B-1376E045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6B276-395C-4459-BD2D-E9D9E373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CA4E7-9513-4CF8-B9E1-AF88907A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AC14-201C-433A-AD46-964551C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53610-C903-4672-9CE3-1F2C749D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C50DB-38C3-453D-859B-77A1AB0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EE688-CED4-4858-A5A4-37BCE22C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BDC49-EF41-45D4-A611-6228C7D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2BF90-1F63-4957-A8AC-E244B6CA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D5B94-3909-48B8-8610-050C5828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65AA8-328B-4868-BD4D-A07A26A2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4443-257F-46C1-B4FA-B774957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F01-27FC-4E49-9EE9-6CDB5BEE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C2BF-2C5C-4089-8767-4C8149B4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727-835E-4937-ACDC-C3C3C979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71C-5B67-4439-9979-E197BC04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8B32-FD68-40B2-8E68-C0BECC3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76FD-BA87-478E-8A1F-7D4D8CD2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BD7-5FBE-4CE9-BA01-FE43AB8D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B78-835B-4461-A6E0-27E1D0A1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6AE7-52E9-4440-BBA8-096B8B1C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881C-A372-4A36-9338-BCCBFE3B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F14F-7A11-4C6F-8E7E-A0BBED44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ED6A-D2AA-411F-BE01-1EF36BA0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A84A-095A-4077-AB0E-07935EE7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D6CC-F7F9-4F6B-AEB9-EA9B7D02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44A-84A7-49F0-A553-10551A0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CFA0-7666-4DE3-976F-6FF6F1EE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AE01-07FB-473D-9809-E5BB32B4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607B-E0A0-42E5-8944-99079D1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9C01-E5EA-46E4-9C85-2C9C710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7A75-C16E-417C-80C6-7943435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0DA0-8A79-49E6-B9E8-59757BD8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C300-15E7-46A9-9B64-FC8415D5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7641-F5FC-4939-A6C9-2CB856C6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7513-9AD9-4BEF-9C7A-FEE1DBF8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3A8E-4AA2-4388-A14F-1D0F090F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B66-1E9B-4D08-9D58-87D2170D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E49C-1B49-4B68-A6DD-FCB4016B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2BB8F-E379-48B3-9654-43FEED5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E2EE-650A-4FF2-8C38-7BB5925F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1926B-07A4-452D-A6F5-7221DAC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0C5E-11EB-4101-BB88-75E2558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7C2B6-65A7-494C-9F45-740D21A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4B6B-E543-4768-B654-077970EE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1947-1CD0-45A8-958F-5EA20CCF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F450-E191-4FF9-A924-30BCE19F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3A84-F8BC-4B24-8361-DC5CFBEC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E90-20BC-424B-8D49-85A0926C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4F49-5256-446E-A68B-3B646BC2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4B8A-5633-4014-910F-03400F6C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8DC6-9E91-4A63-BE17-FEF1CCB1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56CC-2C20-4DEF-9F97-B6061A61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0154-43BC-4FB0-AC99-547524CD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AF71-3F20-446D-8070-AE075A5B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856D-3EA5-4E4B-BCB2-5CD5A99B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4546-B9E1-4545-98B5-F6D939A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65E54-BC60-4805-AE78-DB2D495C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AE555-EC00-49E8-A543-F69A6C78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838-2E3F-44AE-9F77-E1802B1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62F9-A4E4-4B64-801E-4069D05F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8D46B-D7C5-4843-82EF-97F0B53C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0485-E045-47A5-BBB1-45AC486E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8D28-EBB1-43D7-9594-D297B6B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2ED3-BBFD-47FF-A217-4017D89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F9D5-A11B-4A0D-8054-E9CDCED3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01B6-9A0D-492C-B691-BFF7F397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753E-1A18-4DA3-AB6D-BAC572C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CEA7-077E-4275-9361-5AF2207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48BE1-3B86-491E-92EE-44A3AFE3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FA7-E028-4BE0-BD30-35CE7B4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25E8-4254-4CE6-B50D-1A4B817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CF2D-D734-4C03-AC42-4EFB22BE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07EB-C2F4-49D1-B948-5D5600C7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D06B7-4128-4E7F-86BD-D3E490AE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B0E35-DC6C-4A91-8E07-3236013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2DAE-B840-4C41-8962-1BFFF582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2F34-6A3B-4554-9AD0-4A986203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95D1-BC75-4DD1-9D1B-35CC0A42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0AB69-9D2F-4F73-A7FA-C42A090C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1532-0607-4632-B05C-CA85E952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E96-362A-4A42-8A24-3F3EDBC9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6F62-329D-44D3-AC96-4145080F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15798-A0F8-452D-B302-9337037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88DCD-6539-42D3-BB99-F61586FE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E81D5-3214-4E16-9D60-999BA3D0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D608-4C4F-41B1-98DD-511CA69C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0BBD-721A-4DD3-A2F0-146E6EC0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D096-358A-47D9-84F8-82DECC2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9EB3A-2301-487F-9D69-82E3ED0F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8A41A-E71F-426C-B768-16D9EB6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A6105-31D5-47D7-8DB2-C705249A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618-1807-4EEA-A506-2E74A12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ABA0-FA13-4812-84BC-C89F5B78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C154-E2E1-49D1-8E4B-29F42BCB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15BE1-33D2-4C23-9F86-80A0FA6A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C9141-5136-43A4-9677-0EA69596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1FFB7-72ED-4940-A54D-22CF73C5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E137-2223-422A-95B3-62B931F4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70535-F3D2-4D9E-A070-C704C8F8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042AF-0BA5-4C8D-A16F-7B70E98E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72051-0D35-4B94-B59C-0066FF99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DF225-26A1-4D52-AF4B-BB5F439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187-B0B4-47B1-8095-880592DA3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3885-5EC6-4C4A-AC3E-0CE1DFCDDE4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632-BF18-4AED-BC9D-3C5051E9F6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78F2-EA2A-4696-9510-563407365F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ED96-BCDD-42A1-BAB3-03918FFF38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9856-7C41-4384-A000-01661714EB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9813-29D9-4C02-B034-F62EC741E3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323-EE66-46F0-8093-E3D12ABC34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07A0-D49F-401A-9848-34475A9B97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AF27-0739-48A0-A827-AB579A0333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1912-5791-47E5-93CA-52369EF6E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5868-60C1-42EC-B4ED-23D2FED62A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50D0-C106-40FD-8AF2-C028B4CDF7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F23-5CED-4019-AFD3-63FE0CBE1A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FAA-BE87-464C-9AA9-E354D0D424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2BA3-B5C3-4AE7-9539-741292E7D8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70A7-6F1A-47C7-9806-FF3E058001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EC1C-D48A-4BD7-A089-EC48A1CDB7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6AB0-1324-45F7-B9E0-E9BEACBC2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B8D-A55A-42D2-8CF0-4717565788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1611-29BA-4D69-B359-25DC3F2DC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FA77-15D7-4CED-9D38-12C5E1C791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A1A8-7519-4521-B2F7-84936F649A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2E38-558C-4E15-B24D-81896F278B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CAA0-FD1A-45C2-B3AF-81BEDE026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7" descr="H:\0000000000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0" y="5943600"/>
            <a:ext cx="2971800" cy="916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温馨的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hj.mp3" descr=""/>
          <p:cNvPicPr/>
          <p:nvPr/>
        </p:nvPicPr>
        <p:blipFill>
          <a:blip r:embed="rId2"/>
          <a:stretch/>
        </p:blipFill>
        <p:spPr>
          <a:xfrm>
            <a:off x="-6858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295280" y="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Times New Roman"/>
              </a:rPr>
              <a:t>我忆我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9144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838080" y="4114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838080" y="4876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初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380880" y="12952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回忆在你成长阶段，父母付出最多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6094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幼儿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609480" y="12193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在哪种情况下，你最想家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52280" y="1066680"/>
            <a:ext cx="85345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请以自己对家庭的感受和体验完成下面比喻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的家像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，因为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2895480" y="457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</a:rPr>
              <a:t>我说我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24382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说我家的快乐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5"/>
          <p:cNvSpPr/>
          <p:nvPr/>
        </p:nvSpPr>
        <p:spPr>
          <a:xfrm>
            <a:off x="5181480" y="3048120"/>
            <a:ext cx="2819520" cy="24382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990720" y="91440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</a:rPr>
              <a:t>说说我家的烦恼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4648320" y="2209680"/>
            <a:ext cx="2819160" cy="2438640"/>
          </a:xfrm>
          <a:prstGeom prst="smileyFace">
            <a:avLst>
              <a:gd name="adj" fmla="val -4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3"/>
          <p:cNvSpPr/>
          <p:nvPr/>
        </p:nvSpPr>
        <p:spPr>
          <a:xfrm>
            <a:off x="2362320" y="7621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</a:rPr>
              <a:t>我写我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457200" y="23623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以“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故事”为题，写下你们家庭中最感动的爱的故事，字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字左右。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H:\00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我爱我的家.mp3" descr=""/>
          <p:cNvPicPr/>
          <p:nvPr/>
        </p:nvPicPr>
        <p:blipFill>
          <a:blip r:embed="rId2"/>
          <a:stretch/>
        </p:blipFill>
        <p:spPr>
          <a:xfrm>
            <a:off x="-30492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6:33:44Z</dcterms:created>
  <dc:creator>fjzxb</dc:creator>
  <dc:description/>
  <dc:language>en-US</dc:language>
  <cp:lastModifiedBy>a</cp:lastModifiedBy>
  <dcterms:modified xsi:type="dcterms:W3CDTF">2015-03-17T05:48:11Z</dcterms:modified>
  <cp:revision>11</cp:revision>
  <dc:subject/>
  <dc:title>PowerPoint 演示文稿</dc:title>
</cp:coreProperties>
</file>