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72E-B546-4F2D-907B-05FBF7AC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A86-444A-4DAF-842B-7932768E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30A26-D26D-4327-896C-71D46BB8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1E548-7CFD-4FBC-B98D-2ECC0006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00C0-D048-41CE-8364-D43B4AC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79721-9B20-4E29-B5F4-F5988ED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20A8C-78C1-4F28-A292-85B88ED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A7A58-1221-4BCB-A6B4-55DD012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F9C7E-D804-4378-AB58-571260E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0094-BFF2-4C4E-9735-55751232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720E5-C939-41FB-A9DB-237F6175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2E06F-4E95-4FE2-89E0-77786AAE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9A1-CB38-479A-9B74-9B719CD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44261-CB41-40B4-B5DB-6073BCEC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9D0FF-997C-41EC-BB20-6750452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9679E-0E43-4BDC-8AD9-ADA1B2D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93D46-EA43-4270-81A9-BA0F796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3F2F-909D-4D3B-897B-31E9F16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349E8-9552-4ADE-AED9-9C5FA33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4E4C1-38E8-4F96-BFE0-7A6DC043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0256-758E-4442-8DB7-F82E1A1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8BC8D-7231-40ED-AB69-0BDE449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7DD4E-5C7E-44BF-9D33-6EFB99B1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6BA-7A48-4966-8D9C-0B2E144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D0B09-49A2-475F-9D96-6873C756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74A9-B14D-431D-8938-197F9AC1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2054C-334D-468A-8813-CC363F22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E05A0-E049-45F5-B71D-629A42E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EFD22-F051-4138-A398-48DED61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7A67-D7EC-48A3-9873-BD0E1213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5FCE7-AE20-43B2-8381-9D93EE77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69A7B-7D9F-44CA-8981-C91CD34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F7D54-1E66-494C-BF36-A2AAA09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30943-430D-4079-A035-7E34DB9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258-AD49-40F9-B2D8-A000D3C7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2626-2E0B-4E94-A544-F249966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BEB34-3F2E-4E35-AD7E-131B8D14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E7D4E-BBC5-4784-9F69-1BA9AE21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79BE2-D293-4B26-B177-E4907D98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60298-EDA2-4820-9CDF-FDD750DF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1B83B-91E1-4B80-908C-6F5F700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C222D-B9DF-4247-A8AB-88463625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B7AD8-7FAD-4CBB-BEB8-314882D5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E81AA-3FF0-4249-BF3C-B27C8404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9F59F-058D-4F33-B9C9-5A28983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6229-031F-4A58-BBE2-ABEDF6CB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E99D-A193-4973-84E2-1D39E8B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6551D-7E79-4FEB-B77F-5A3D20B5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EA324-B663-4AF9-90BE-1BCB4ECF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6789E-041A-4B9D-A4FF-C561E755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7E4A2-E964-46C2-8176-7250EF54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CE265-36FF-4679-A754-01715101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C7ECF-C85B-451F-8F99-C18E7EA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6A457-9AD5-4BB3-B058-03AD335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CEC1D-D2FA-44AE-92C7-A9B463E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422E3-B7E8-4DAA-8029-F923D0F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3A13-DE9A-4859-8C9A-28D8CD6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E74C3-8884-4D47-A2C9-49DBC57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C7899-93E2-4038-83A5-1FA5097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DCC05-B1DD-43E8-85E0-CA03EB4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90A48-FDB3-463A-8991-2AB7F24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CCF36-85FA-4DD6-8C83-F6DFBF1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28855-85CC-4BBB-9A91-6DF6B584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A3B1D-6308-46F1-8B61-68AF0035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E5F25-7EFD-42BA-A3E8-F2A2FCF4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D9D27-0EDF-4D45-AE3E-7BEBB0A2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DD8FB-450A-4D37-8EC7-3B9B228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2C3-2044-4863-B1BA-E059DD5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8F7E0-A405-4B02-A2EE-CE5E7EBE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C2EA3-D181-4917-B219-1491B97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53597-5523-4B49-AA6F-CA9C640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B9FFE-63AC-4A7E-BB2F-0D0F0AC4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EB072-1370-4D02-B35F-AB11B3D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835DC-C164-4EA5-9F47-E2C82B6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A290A-58FF-4C02-A4C2-7113ADA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FE905-542B-487A-88F4-F82ACAA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D4048-EAC3-4615-9527-42BCA14F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2B078-EC66-48F4-A2A8-73EB28B3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D9D2-2E6C-40DA-875C-92BE524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4695D-4FFA-44CD-846C-D4C24C1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80AE4-29BF-41FB-9495-9C45E1E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D5293-80EF-4964-809A-68345F5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2760B-44D3-4C7A-9A2F-9937D43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E2A6C-41A8-456A-93F7-CBDF7D6F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0D247-92CA-47BA-A415-0B3570F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767D1-421E-4581-B8C1-5E794B3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1E805-62B7-462E-972C-626ED9C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57919-391D-4F4C-97BF-4F393AAB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D1068-BD0B-47CD-B563-7E7A8C6D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4545-997E-4EEE-91ED-8E4F586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828F6-C8D9-43C3-81CB-EBC0ABB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A2663-80DE-4653-A191-269C3568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D1704-BA90-4ADA-9655-CD9B047B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9490C-AC98-4ECB-862D-89A54E8B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B3CE4-6700-4AB5-8112-8979E07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BFD56-DF34-422F-878D-01A115BB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E32ED-3F8B-47F5-AD73-484226A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0DE8F-88C2-4BAC-A25F-4531CA7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0594B-FB07-4BF6-A71A-50A4FB8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7BEF7-4559-490D-A0CB-B86ECF4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4724-2502-41E4-B01E-9F81F1F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389CF-4C63-4581-B3EC-1A10D85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F4C1F-FD21-4676-B433-E482023A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B4D08-5ECA-45B9-B088-9E58C99B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446F4-6230-470D-8BF0-870BB01C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A9E66-C48D-419C-83E2-F98410B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69A2F-DBE1-44E1-B347-A51FC07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EE438-FABA-43A2-B31C-BAB124C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078A5-A418-4239-9140-1F7B096C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2717B-2EC2-407B-A1D3-3D6231A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33ECA-5A7D-4197-8EDA-B70D90CD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6C-FC26-4215-A558-23BF0ED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EBA-2A37-455B-AD5B-1298716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16EA0-9655-4A01-842E-8C4601E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6D8C8-841B-42F4-AB74-85F6BF4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38910-5CC4-48B7-B655-9F21F90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29F2C-3D15-4637-BF90-D6FE8A61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71AB9-484B-44EC-BFB0-39A84A6C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7AD1E7-8187-4C7E-B805-A845643C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BE9AC-D4C9-47C2-961C-04C08EA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978DD-B757-4018-B9B0-D90AB40D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F8D5C-90D3-42A8-BDE0-A15A8C5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C4A52-BD22-4F2A-A93F-2D71FDA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268-3A8D-4539-B415-BE2DC9C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D8188-B68F-4B33-B3DA-03A2FCE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97EB6-8A90-4530-AE0A-6BFCEE2B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E3D6A-B8B4-4824-B950-691D550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B50C5-5932-4A5B-A9F9-6F2C989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D93AA-F642-4A65-AEC9-1D5734BD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576A4-A483-4613-B0BE-66885BCB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B8339-45F1-4194-8ADA-FB2C613C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704C-4353-46F6-A1E2-55289FC7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46BC-048B-4429-AADB-6CA9819C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FBE6-1374-46D4-A6FD-B698299F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EA42-51F9-4BAE-9FB7-9F64CE1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6ABB-CDE0-4967-B7C4-6312E64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FFEC-9170-402C-AEEF-A7F786ED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26CF-BB88-4A46-8BBC-F7C0095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8402-8551-4658-9917-6B78889C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014-5ED5-41D3-8CA3-198E0B6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B140-663B-4139-9AED-136FB8A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A70F-C3EA-416D-B9D9-BF2EB0A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B4EB-4CB1-411A-B397-C006167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5DA2-0E6F-44BB-A8F4-82ECE8C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7D61-1D91-4B3D-A83B-DAF2F7D9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0D76-A271-4135-9A5F-8D1CC4EA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CDAA-E7D0-4ACD-ABB9-1886F51F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AD6E-98A6-44CD-9629-42AC1949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7131-E651-4FB1-80A4-9133466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5B7E-67D6-4345-A05E-5E03461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95F-153D-4C54-ADC4-F83B0ED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2441-82F8-462A-AFC9-F83FFAB4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CE20-8A94-43BD-94CF-9F19FA1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7F73-1BED-4E5B-B6D3-EA2FE91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908E-2A03-4726-A16D-389CA98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ECF3-C810-46ED-81B7-38CEE69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32AE-D8B1-4DAD-B9FE-0DB984C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50E1-989F-4D9C-ABE9-D6500388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56A4-42F4-4651-8B1D-D83B7024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2D87-8396-4EE6-BD44-DB4C106F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BA08-2FF5-48E9-8F39-323A40AE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02C-9DFA-46D9-BFD4-69E6C108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C754-A6D2-4513-A9DF-37E933BD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69D7-9717-4078-B21C-A919936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6C53-4467-4294-A4EF-1AD7D10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868B-FCE3-44FB-B8DF-022F134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0DD4-E94E-4D66-8A6D-31A1392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E860-9E5C-44C5-BC57-29387E6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7BCE6-2F9E-49FA-ACA8-E348BFE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5A24-9229-4A73-8E54-E4492FBF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1220-8444-4052-A9F1-DA076D7F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DED84-30BF-416B-9B1B-60018F34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4EA-7493-4B6A-AA5E-E1E675B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8FE5-145F-4ADD-906D-6AC71F56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5C929-2E6E-4D3F-B28F-7D9A13C0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15D9-6796-4BE0-B08D-9890C95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13A8-F423-4CE7-89DE-81EFAD3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F713-102A-4AD0-8506-705C28B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262DF-9CFC-47F6-AA40-5C45E19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B095-AF1C-426F-8066-3D44A1DE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91652-23EA-4FC6-B5F6-74AD0556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12F6-5C1B-42CE-85FA-D47F6CA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761F-FDCE-4BE1-92E4-8CF44DB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FC7-5777-4B4A-919F-03E924D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8B180-3082-43DA-8429-457A90CA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F5D0-0897-4221-9A6E-8439C9A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A46C-6A10-408F-BC74-F10237E4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50CC-8653-4B29-A843-7C677543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E235D-B61C-43C0-BF1E-D2685DA7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B17BE-CA8F-480F-ACB5-81548659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4237-4418-475B-960C-467420C2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A77D-92B0-472A-8A5D-826E76D3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29D14-2B19-42B1-9118-013A05B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823D-1CE1-44DC-88E3-6E776F5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4EB-A3F5-42F3-ADA7-5F4899D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43AA5-CB91-466F-8525-37452CE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28B8-4498-4C9B-A7BE-3AEE4A7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ADFF-543C-4248-A2D2-062C1CC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2DC4-FC06-44B2-9903-DE242C2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70DD3-E8B7-4B1D-BFDD-5F89691C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85539-5DD5-40B7-B584-E3F31270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EA5E2-119F-421A-937D-B968516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F237-D11C-495F-AC88-07C20445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8F52-11AF-4C49-B9C5-A105ABA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9393-2F1D-4C47-B50F-78B8AE1F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095-EF4F-4123-99E1-951ACA0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5FE5-ED4B-4E2E-9BFA-09847DA2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C9727-3A8D-4F07-B35A-08ED8CA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2D95-2B9E-4BEA-96B0-1BB7440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B814E-9E50-4811-A608-75A96DB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4882E-65D0-4CD2-9E64-73305AF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085C-AA2E-4B94-9F19-FF6A6F2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116B-311F-4A1A-B82D-AE457E9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FE942-10B0-40F5-8450-63B1409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C2B38-1646-4582-A157-B2D51F8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62A8-A387-4714-A726-130DC24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49D-A5B6-42EC-9C90-A5886745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B6BD-19A6-4316-8C13-BDA3874953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699-DDDE-4F26-BA56-5BEFC6033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FD7-16F3-4A4A-8EF3-F5B55FA3C7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8E3-3FDF-4848-BFEC-920B6A94B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057-8A37-4C1F-8657-5FABD3D975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EA4-D2EA-4A18-AAFD-98CD46BE5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50B1-C45D-4C62-87B6-FBD19ABA0B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2B1-AEE1-4A2F-9616-5C6A7F65F4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86C-5E82-4D9E-97D6-475E175FF4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1E66-D081-4409-81A3-0EF0F481C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6AC-5084-4186-B655-BB9F8A6C6F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DF3-EDCB-4C3A-9E90-1EE1067C57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D2C-5A0A-43D3-8D5F-FC5D9D5A16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0447-1A57-4C00-B5AB-A5C0C8251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5EC-ACE6-45D0-9BB1-6BC9D5F997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28E-5DF0-432B-8B42-57AD55B9DC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A93-A3CB-4749-844F-FDD3CAEFFF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2913-39EB-4C05-B41F-D0ACDB807C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DB94-20E0-42A0-B904-1A21379F38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F55-C840-44EA-8A9C-1135432AFD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84E-89B0-48CE-9C6C-DBD1081506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3D4B-A75B-44E3-B4BE-2C009E119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E22-6580-41D3-A1C5-AF76BC4A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1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FFF8-89B0-4C6B-B0FB-DDDEA076A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8282-711D-422A-A72C-CAAC8E7BD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8027-EB4F-4086-873E-14B599598E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8B87-0A6C-4513-9D12-1CDEEB3CF1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2DD-C086-4712-8BE5-46C6747195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EFE-122C-4EDA-8CF5-87E8EDDF73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88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7"/>
          <p:cNvSpPr/>
          <p:nvPr/>
        </p:nvSpPr>
        <p:spPr>
          <a:xfrm>
            <a:off x="1547640" y="306864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玩出了名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 Box 8"/>
          <p:cNvSpPr/>
          <p:nvPr/>
        </p:nvSpPr>
        <p:spPr>
          <a:xfrm>
            <a:off x="2124000" y="234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教版新课标实验教材第五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4427640" y="4437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执 教： 瞿   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4429080" y="479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设 计：杨春婷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三、尝试从自己的玩耍中体会</a:t>
            </a:r>
            <a:r>
              <a:rPr b="1" lang="zh-CN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“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名堂</a:t>
            </a:r>
            <a:r>
              <a:rPr b="1" lang="zh-CN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”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1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、小组交流：我玩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，发现了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           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或我玩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，体会到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2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、小组推荐：我们谁玩出了名堂，他的发现了（或发明了或体会到了） 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4" descr="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6"/>
          <p:cNvSpPr/>
          <p:nvPr/>
        </p:nvSpPr>
        <p:spPr>
          <a:xfrm>
            <a:off x="1116000" y="198900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华文彩云"/>
              </a:rPr>
              <a:t>四、感情朗读，表达敬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6" name="track3-小步舞曲.mp3" descr=""/>
          <p:cNvPicPr/>
          <p:nvPr/>
        </p:nvPicPr>
        <p:blipFill>
          <a:blip r:embed="rId2"/>
          <a:stretch/>
        </p:blipFill>
        <p:spPr>
          <a:xfrm>
            <a:off x="2556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8"/>
          <p:cNvSpPr/>
          <p:nvPr/>
        </p:nvSpPr>
        <p:spPr>
          <a:xfrm>
            <a:off x="2411280" y="2997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、按自己喜欢的方法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、全体齐读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008" fill="hold"/>
                                        <p:tgtEl>
                                          <p:spTgt spid="9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4" descr="0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1907640" y="2205000"/>
            <a:ext cx="55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一写，自己玩中的乐趣与收获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1619280" y="2781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一、读、感、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5" name="Picture 4" descr="pic_31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7" name="Picture 4" descr="pic_3136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9" name="Picture 4" descr="pic_313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5" descr="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1692000" y="3284280"/>
            <a:ext cx="6886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小组合作探究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你画了哪些句子和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词？为什么画这些词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2050920" y="83664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、默读思考：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列文虎克是怎么发明显微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镜？又是怎么发现微生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的？划有关的句子，并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注关键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3" name="献给爱丽丝.MP3" descr=""/>
          <p:cNvPicPr/>
          <p:nvPr/>
        </p:nvPicPr>
        <p:blipFill>
          <a:blip r:embed="rId2"/>
          <a:stretch/>
        </p:blipFill>
        <p:spPr>
          <a:xfrm>
            <a:off x="543564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12"/>
          <p:cNvSpPr/>
          <p:nvPr/>
        </p:nvSpPr>
        <p:spPr>
          <a:xfrm>
            <a:off x="755640" y="62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245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916000" y="1341360"/>
            <a:ext cx="60116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朗读句子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理解关键词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3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体会词句的作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4500720" y="83664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4" descr="00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50560" y="-2736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迷你简启体"/>
              </a:rPr>
              <a:t>悟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小结填空：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列文虎克玩放大镜，发明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玩显微镜，发现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列文虎克玩出了大名堂呢？课文最后是怎么说的？齐读课文有关段落。用自己的话说说这个大名堂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5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6" descr="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4"/>
          <p:cNvSpPr/>
          <p:nvPr/>
        </p:nvSpPr>
        <p:spPr>
          <a:xfrm>
            <a:off x="1763640" y="2205000"/>
            <a:ext cx="60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迷你简启体"/>
              </a:rPr>
              <a:t>二、深入探究，拓展理解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900000" y="3141720"/>
            <a:ext cx="770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交流相关资料，更多了解列文虎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说一说，列文虎克玩中的发明、发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给了你什么乐趣或收获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3:24:13Z</dcterms:created>
  <dc:creator> </dc:creator>
  <dc:description/>
  <dc:language>en-US</dc:language>
  <cp:lastModifiedBy>a</cp:lastModifiedBy>
  <dcterms:modified xsi:type="dcterms:W3CDTF">2015-03-17T05:47:18Z</dcterms:modified>
  <cp:revision>8</cp:revision>
  <dc:subject/>
  <dc:title>幻灯片 1</dc:title>
</cp:coreProperties>
</file>