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7C8-CDA8-424F-8F29-9DE8E7E8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B49-6455-43BA-A5CC-646CB98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18B52-0B19-4962-BB31-B0941CE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6C43-B072-4CE4-92CE-3141AD8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FE53E-C575-40DF-A33B-288A661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F7D00-1EE1-48FA-9DA7-5AFB992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AD939-EA80-4C98-B224-6F2B0A7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EAC7-FEB9-4558-9E8D-1C0DC29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4F68F-1E67-4F05-98EA-DC44B63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DACF-14E4-496C-97DC-164BCEBB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52922-C209-4351-9089-5ABF1BF0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BAC3A-B4BE-4B4C-8FBC-28B83437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E97-D1A2-42C4-BB1B-1304F94D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34A08-84C1-4FBD-854C-6CC8EFF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A701-D6C2-49F4-B21D-BF0872F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BAA8C-328C-4E6C-9104-6B19144D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C21CD-0C7D-4189-854D-9C477515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1116B-C6F3-4AB9-AE92-2D28AF9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DCD84-6BB7-4209-A030-B477CCF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0796-3F91-4FBD-A22C-9D5F602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3B110-99C7-4FB7-BED5-C6A74E7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1E497-5983-4ED6-ADB6-FAA415C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504FF-4B8E-40EE-924B-837A2C80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3C9-430F-43FA-AA3A-C175EB69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4A39C-140A-44CD-927A-1A59778E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94EC2-BDEB-4BF6-A618-10222E94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F6F5D-A52D-4236-BD9F-3BB52F9D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B6DD-63CD-4862-92B4-AF97474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8804-2D21-44A2-B0CF-A55987F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FD4AF-2130-441D-BDF1-29EC3870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80B18-E764-44CA-94EF-CBFE0D8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738D-6795-4695-AA95-D400B00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F5E65-4217-4460-BFCC-F5E1D01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2913-3633-4112-ABA2-4CC4C56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49D0-B44F-4D87-9873-E0AD96E3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09C89-2DC1-4474-BF67-3846E626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1ABB0-8F6A-4E4C-A4C9-BF74039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65F47-7180-4207-AA7C-29BA0FE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AEDF4-282C-4A37-9A4E-245977D0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33E39-6F23-411C-8A51-5317992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671E-FE4E-4CFE-81BC-D02C82E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56A2B-73CC-436E-B7E1-298A21B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81F77-A583-4F9E-BBAC-0DA33E2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9634C-5761-4E89-BD6D-E55E90BD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265C-D163-4893-819E-AECFC42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B755-C6DA-454C-83B5-9029FD75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CDA64-1268-4F33-B372-FB2FBB7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F6E1A-6E34-484D-AB8D-95E456D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F9C08-F725-4557-A117-8E25445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420DA-AA65-4A50-A75F-4EECFDD0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34B9E-1A24-4C29-896F-BC1C6BE2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D1787-21E9-4B94-ADD0-A59544B6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11020-7662-42AF-B2D6-5A6B2CA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2A9E0-80BD-4B45-9712-30A7CB67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944F8-1159-40BD-A03B-30E15F0C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D58F4-2B65-4E8B-83E4-B036ABCB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B2A1-075F-4C8D-855A-4C09978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B23F3-22C3-472D-A4D7-61737EB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A4F8C-09AB-4078-A098-6BA675D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A46F9-EA6E-4EF2-A8A0-B9A9657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5813C-6E30-4661-BAB5-439D6C3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DB708-E680-4E69-B383-08D829B2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51327-D7F8-4F5C-8654-3799874F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02A88-5684-4167-B7E2-41CE62F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B04AB-7F9B-4F26-A2A8-6E952E9C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9AEDB-1531-4337-B4B5-58A4576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AEBA5-90BD-40F0-B0F8-61EF0E5C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6DE-7B41-40FB-83BF-F319804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46EBC-5909-4B2B-94D6-AB11CD88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19052-98AE-4DFD-B861-993B0F36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C7B4C-966A-4CBE-B948-C21026F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256DA-85F2-47BE-8539-498F14D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F85D9-60DC-4E74-9C8A-C9D1F0C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225EF-67E8-42C9-9DDF-09F1A0B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528CF-0977-49C6-BA15-99D4AB1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A7DE3-646C-4508-B72C-9A13F474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36E10-62DC-4615-A100-38D48EE7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9180-CC61-490C-9FA2-45FEEB5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5DDE-CF7E-4F27-9AFE-426B4B7A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DE4D-9EA6-47BF-ACF5-F9A82AC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121-688B-4A08-B3A8-75B0D038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B7E-C447-4337-B280-B6F9DBC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20B-063D-4EA3-9D52-B299579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9E4C-722F-40C5-88D5-DC856798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A50D-0BF0-44E1-9A05-87C0D77A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397-0574-497E-97EA-E0CDD6C2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F5A7-8E09-4855-917A-3D099D34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51EE-7F5A-417A-9D78-929394A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D815-2D15-442B-8BBD-7B37E83F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F0D1-50B4-412E-8492-B535463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23DD-7C86-487A-90C6-5518DFF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B9B-80FB-4C01-8DF8-3B20BB60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98A2-B9DB-4CAD-A4A7-ADEDD22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F5A5-42DE-491B-B4BE-6938369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6D60-AB5B-49DE-B697-2F4026E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AE67-0F74-49F3-9087-9F52CEC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1060-7C89-4A63-B4E4-0BF77B6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0435-D2FF-4326-AF7C-15E08676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E14C-FC32-43A5-B9AB-09ADFC0C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EC26-4715-4AE2-8180-749CE4C1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34E0-825A-4FD9-92CA-D265568E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FB22-0271-41C3-A95D-51DBC1A8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49F-FB00-4C2F-8AC8-BDEA3066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7D97-936B-4105-8309-705A391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E8AB-AC90-4308-913F-156F19E9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F28D-98B4-445E-A681-A63CD044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7239-B078-402A-B95C-18CCC44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DB767-0EF4-44F5-84A5-FF2F7F2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FD43-7D13-43FB-B218-D2D0ED2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0705-C7F8-4861-BAB2-E4F2677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59BA-CE8F-421F-9EDA-B262C228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7F4F-B022-4F04-9484-7F56479F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2149-17AE-4069-AEFD-B9947021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5CA-BC5E-4DCD-BD7E-BFAC659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65BB-A1C8-4B5C-B041-8DA8A9F0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EA30-1459-493F-827F-6B283321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272D-66FE-45F5-9B6D-647BC5FC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B865-26D1-4F46-94BD-0E80E3A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11621-FFC9-4D86-8BB6-DB83844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45CC-8633-4438-A03C-B3ECE1F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3ED99-CDE4-49AF-A762-E0FAE7E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E32F-F08D-44C9-8877-25C11B50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FC54-369C-4085-AC61-73999674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D40B-B2B9-4398-95C0-B30C2D99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2D2-22E0-470E-9AA2-E5405B7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B9D7-ED3A-4A7F-A763-8E0AD1F6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65FCB-52C1-4EA4-84F4-741507B2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0698-7FCB-496C-8F15-BA7D057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A450-DD37-4DB9-B925-E47221A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66B7-EFE8-424F-86F8-43400468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4210-A608-4B1B-BCF2-EFA049F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F9C2-EFE3-4E34-9D0A-5B8809D3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4837-BF19-49DB-81BC-0ED6C7B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92BD-BF76-4B99-B162-BE4D0DD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ED1E-9805-45CD-8149-BBCCA3D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9D5-FDFA-4CD4-9FFE-75B612F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C2E4-2125-4E77-B251-F7E7535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A04C-1493-4045-B81E-D3D6F47D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ABE5-6FA9-463D-958B-BD2A6B2F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FC46-D04C-442F-B569-3F8C8A98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2A9B-473C-40F2-9C60-C56795B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15DA-4BC5-43B5-A888-B737C9E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1827-A508-493D-9D6B-CC15ABB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F4B5-E7AF-43CF-84B8-1D156980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64894-03F2-455F-866B-06FDE96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1B558-0583-438C-8134-9E0AA38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664-99F3-4C8C-8071-AD0D9DA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37C8-78AA-4923-9563-B645315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DD807-85C4-49C7-B70B-29732AB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6676-6AA1-4E4D-9514-60AEE50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1E4B6-10B0-46E5-9EF4-0F0B4D44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DDC7-14A4-4A2A-B72D-F768667E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BBE3-8F8D-4CE2-BF9E-EC80A93D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825D6-1B57-4368-8DB8-6F595AA0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BD6DD-A8FF-440D-A6CC-825A62AE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14777-F473-4708-985F-FFF2433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1801-5BAE-495A-87B2-78A7862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06E-32C2-45BA-B621-F32018D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5AECA-0EA2-4945-8D0F-73DB0D6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3DE39-4AFB-4E81-8598-EB8BD52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4BBA-0DDF-40AE-A5ED-DC0958D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5161-A818-4297-B183-DFA4856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1AB8-7B01-498B-A5F6-6D8C3C6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B318-65DC-4BCC-9FD4-B656E64E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9A6F2-2989-4F0D-9A36-84B18B46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5632-4D1F-4C88-9314-84B9EC00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6CE29-0539-44B0-91B0-E4489FF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1F086-3B33-47BC-AD5C-32CB244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D2F-69D1-4992-8846-4BC11035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74E-2ED8-4BF2-AA5C-BD070D252F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982-34E2-4CA4-8FE5-9CFBC384DC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CC6-FF3E-486A-889F-0ADC6AD338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33B7-04E5-4DAA-915B-E08C3B6F6C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C29-A8C4-43A6-A64F-EF7C3637BE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B22-3944-45BB-B0D8-FC6B12F675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8CB-B20E-410B-A9D9-C00903DBEC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CAC-9F06-400E-AEFD-0EEC12DBE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C58-8817-4DC3-B088-C42E74CF29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CCD-0153-48E9-A60D-76025BB90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8878-F6A4-4157-8368-8E7C37600C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DB31-D0C9-4707-8FDE-BAB9F9FE2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41E9-1BBE-42E8-8D7D-B8A2492F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3228-4059-4C87-A28F-CC4E19D2E4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730-3234-4E06-A19D-E8D65114B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4DA0-EF58-4C80-BB0E-3E31E40C20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8E6A-F836-4C51-A9A3-3FC75EC89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3D83-6449-4348-BED5-07C0F648D6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F0A-91F3-4FBD-BFA6-C700286A1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E26-FCB2-4032-BAC7-115F4AAA31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53FD-1DDB-4515-975E-68074E38D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B8A7-7E74-4179-988A-05EFA1EE51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9DD-192C-4CB9-BDF8-F0938C7BC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033-4EB7-45F7-8AE5-1B5E07BE7C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BC4-1132-4C70-A286-670E3856EC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7"/>
          <p:cNvSpPr/>
          <p:nvPr/>
        </p:nvSpPr>
        <p:spPr>
          <a:xfrm>
            <a:off x="811080" y="4952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4" name="Picture 4" descr="五十岁生辰"/>
          <p:cNvPicPr/>
          <p:nvPr/>
        </p:nvPicPr>
        <p:blipFill>
          <a:blip r:embed="rId1"/>
          <a:stretch/>
        </p:blipFill>
        <p:spPr>
          <a:xfrm>
            <a:off x="34920" y="2287440"/>
            <a:ext cx="3181320" cy="4508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645" name="Text Box 5"/>
          <p:cNvSpPr/>
          <p:nvPr/>
        </p:nvSpPr>
        <p:spPr>
          <a:xfrm flipH="1">
            <a:off x="5032800" y="76320"/>
            <a:ext cx="20091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伯父鲁迅先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6967800" y="495288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  <a:ea typeface="隶书"/>
              </a:rPr>
              <a:t>周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3808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鲁迅先生是我国伟大的文学家、思想家、革命家。现代文学的奠基者。浙江绍兴人，原名周树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523880" y="2590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味书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年闰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09480" y="3549600"/>
            <a:ext cx="7467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小说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祝福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阿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正传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药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白话小说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狂人日记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散文诗集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野草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散文集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朝花夕拾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286000" y="1644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小约翰   恍然大悟   呻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37160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淌了一摊血   镊子   硼酸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371600" y="4311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敷药   绷带   深奥   咳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1981080" y="1523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殡仪馆   追悼   挽联   吊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371600" y="2590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爱抚   逝世   正月   餐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371600" y="3733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水浒传   囫囵吞枣   挨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1371600" y="4844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搞不清楚   张冠李戴   嚼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143000" y="157644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（    ） 悼（    ） 逝（    ） 餐（    ）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议（    ） 掉（    ） 晰（    ） 参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冠（    ） 悟（    ） 摊（    ） 咳（    ）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寇（    ） 梧（    ） 滩（    ） 核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嗽（    ） 搞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漱（    ） 稿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752480" y="16002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仪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议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3429000" y="1585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悼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扔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5105520" y="1600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逝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781680" y="16002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餐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752480" y="32004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鸡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429000" y="32004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觉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梧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5105520" y="32004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摊位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6781680" y="3262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咳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审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1752480" y="48625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咳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漱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3429000" y="48625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搞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稿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5"/>
          <p:cNvSpPr/>
          <p:nvPr/>
        </p:nvSpPr>
        <p:spPr>
          <a:xfrm>
            <a:off x="2819520" y="1066680"/>
            <a:ext cx="4495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我的伯父鲁迅先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365040" y="33973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爱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905120" y="2362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1905120" y="3138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谈“碰壁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1905120" y="39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助车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1905120" y="4738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女佣回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434340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关心子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4343400" y="31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敢于斗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5"/>
          <p:cNvGrpSpPr/>
          <p:nvPr/>
        </p:nvGrpSpPr>
        <p:grpSpPr>
          <a:xfrm>
            <a:off x="3886200" y="4038480"/>
            <a:ext cx="2590920" cy="1067040"/>
            <a:chOff x="3886200" y="4038480"/>
            <a:chExt cx="2590920" cy="1067040"/>
          </a:xfrm>
        </p:grpSpPr>
        <p:sp>
          <p:nvSpPr>
            <p:cNvPr id="677" name="Text Box 13"/>
            <p:cNvSpPr/>
            <p:nvPr/>
          </p:nvSpPr>
          <p:spPr>
            <a:xfrm>
              <a:off x="4343400" y="43578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关心穷苦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AutoShape 14"/>
            <p:cNvSpPr/>
            <p:nvPr/>
          </p:nvSpPr>
          <p:spPr>
            <a:xfrm>
              <a:off x="3886200" y="4038480"/>
              <a:ext cx="152280" cy="1067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9" name="Group 18"/>
          <p:cNvGrpSpPr/>
          <p:nvPr/>
        </p:nvGrpSpPr>
        <p:grpSpPr>
          <a:xfrm>
            <a:off x="6172200" y="2409840"/>
            <a:ext cx="2743200" cy="2085840"/>
            <a:chOff x="6172200" y="2409840"/>
            <a:chExt cx="2743200" cy="2085840"/>
          </a:xfrm>
        </p:grpSpPr>
        <p:sp>
          <p:nvSpPr>
            <p:cNvPr id="680" name="Text Box 16"/>
            <p:cNvSpPr/>
            <p:nvPr/>
          </p:nvSpPr>
          <p:spPr>
            <a:xfrm>
              <a:off x="6400800" y="2409840"/>
              <a:ext cx="2514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别人想的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自己想的少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爱憎分明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AutoShape 17"/>
            <p:cNvSpPr/>
            <p:nvPr/>
          </p:nvSpPr>
          <p:spPr>
            <a:xfrm>
              <a:off x="6172200" y="2590920"/>
              <a:ext cx="152280" cy="19047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304920" y="2590920"/>
            <a:ext cx="7619760" cy="3276360"/>
            <a:chOff x="304920" y="2590920"/>
            <a:chExt cx="7619760" cy="3276360"/>
          </a:xfrm>
        </p:grpSpPr>
        <p:sp>
          <p:nvSpPr>
            <p:cNvPr id="683" name="Text Box 19"/>
            <p:cNvSpPr/>
            <p:nvPr/>
          </p:nvSpPr>
          <p:spPr>
            <a:xfrm>
              <a:off x="30492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楷体_GB2312"/>
                </a:rPr>
                <a:t>（果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6858000" y="4419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楷体_GB2312"/>
                </a:rPr>
                <a:t>（因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AutoShape 21"/>
            <p:cNvSpPr/>
            <p:nvPr/>
          </p:nvSpPr>
          <p:spPr>
            <a:xfrm>
              <a:off x="1600200" y="2590920"/>
              <a:ext cx="228600" cy="2514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>
              <a:off x="7467480" y="4952880"/>
              <a:ext cx="0" cy="91440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 flipH="1">
              <a:off x="914040" y="5867280"/>
              <a:ext cx="6553080" cy="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 flipV="1">
              <a:off x="914400" y="4876560"/>
              <a:ext cx="0" cy="99036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89" name="《我的伯父鲁迅先生》课文朗读.wav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6:24:5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11:49:28Z</dcterms:modified>
  <cp:revision>14</cp:revision>
  <dc:subject>第一PPT模板网-WWW.1PPT.COM</dc:subject>
  <dc:title>第一PPT模板网-WWW.1PPT.COM</dc:title>
</cp:coreProperties>
</file>