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gif" ContentType="image/gif"/>
  <Override PartName="/ppt/media/image24.jpeg" ContentType="image/jpeg"/>
  <Override PartName="/ppt/media/image13.png" ContentType="image/png"/>
  <Override PartName="/ppt/media/image11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4.png" ContentType="image/png"/>
  <Override PartName="/ppt/media/image26.jpeg" ContentType="image/jpeg"/>
  <Override PartName="/ppt/media/image15.gif" ContentType="image/gif"/>
  <Override PartName="/ppt/media/image25.jpeg" ContentType="image/jpeg"/>
  <Override PartName="/ppt/media/image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6.gif" ContentType="image/gif"/>
  <Override PartName="/ppt/media/image14.png" ContentType="image/png"/>
  <Override PartName="/ppt/media/image3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4C2-1094-45B6-8111-DE7BA368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8250-CF6D-4603-B5A9-AEB35315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26828-B734-4041-8085-CC0F1C4C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D0013-B066-48FA-ACCB-614A7326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8E9FE-0B29-4092-80B3-F59553BA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C4B7A-7A5E-4209-A515-62CC5045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CF108-7069-46EC-9C47-D611E100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ADDD7-A7D9-4E94-828D-CDBF5F93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EDB95-94B2-402C-8848-0432D406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8D3D6-EEC2-41CE-B5EB-7D6247B2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2103D-4B94-4CFF-A539-DFBEFB2D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52CE7-BA4A-420C-BFEB-3C1C43E8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3C2-8641-4777-97E3-5557040A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DD104-1082-4396-B6B0-03FFCFC5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1DE51-81C7-4674-B928-55598FAE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52C62-B5B7-4129-998C-9F0BFF99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20145-C948-4873-A04F-9F7B9498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0ABCE-98FF-4783-80F9-15246890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796AB-A696-41F9-9817-DE367B1C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793B1-87D1-4AC8-A19A-96D6EC7E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1F8A0-1A83-4CC7-97DA-20D8C3A6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51DCA-04B4-4ACE-BDE2-A502BAB2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0450B-B171-4040-8460-C5B533C9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1257-C101-4159-8D38-653DC179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2989A-A813-4CD9-8D6D-59B2C837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DE51F-70F9-41C1-AA80-7A24BCEB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C7F1E-8DD0-4B0E-9D33-2F80168B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A7618-8D71-4E61-9C74-C435F0C3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472F0-A311-4868-8B6E-E3907660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5D9C1-2953-41EC-BA55-5F92A168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0EFFB-CB01-44A4-99E7-57CBA3DC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C78F0-A99C-4DCC-8EC5-9A5E7715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64BC4-5278-49B3-AFE7-2A50B3E0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33C58-9EB5-47DF-A418-CA8F142F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2B3A-97D2-4E56-8557-B63F2AD4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520B5-F297-4F15-B065-6DACAAFA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2E438-D4D4-43CE-A377-9E51D491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AD684-84A1-4E40-9BBB-E63EA278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497D5-20B0-461A-8978-70036D79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A3B0B-B6B9-48F5-B8AE-4094529C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51D86-D15A-487D-958F-46C115F5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F2873-73C6-4C5E-A61F-E35F74B1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51CE0-4A47-4A0C-9657-2AD24E17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3FB3D-67D7-43EF-964B-9036F0CF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1D5EE-3BEE-4157-8C4A-3B402C12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19D4-AF15-4301-B0E9-25FDCC1A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E921A-6FDB-416B-8BE5-5A51E37D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66BD4-341B-40C8-9631-A36667B2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83E62-231E-46CE-A5E7-8638C518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3D1EB-F324-43E3-B7E8-21AABA08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0D053-B4D2-4661-B2A2-34356CC7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347F09-018A-4C6A-8BEB-2AD2EA35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66664-A071-487A-B50B-B09F503C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A7C43-5D2C-49C1-9226-6A58A06D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C1CDF-CE76-4774-9B73-5F2E17B8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6D054-7DF1-4086-B3A1-9B6DD34C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1E75-5121-47E6-8A89-892F4115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C634B7-4CFA-4446-B0D3-002989E8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15B8D-9A94-413E-AD21-907251F4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D68F3-EC0D-4353-B219-E82B2930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E0CD4-FDD7-44C3-8DC7-D0D244EE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68D74-4E02-44EB-B1B3-631E4275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02EC9-7528-4F1D-912A-B132E5D1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3BD4B-FD60-44BC-873A-3267863D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9B3C-C54E-419A-9866-4D7F3AE4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18A7-61A9-4AE6-B2E9-5E50EFB0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97E8-1080-4A60-9033-94BAB47C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F401-341D-4EFA-BB14-4B90F708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F18-2D59-4C7D-AA62-0F794726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8334-73D3-4A64-A1EE-56B1A82C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7021-A736-4644-88A3-FA0E95BB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5A75-1B58-4E9B-8663-0FBD1B8E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E69B-58DC-498B-8DF4-4339B93C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3E96-896E-4BDF-8EB7-077FF053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1C2ED-D41D-4186-B010-9943FCD3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8111F-8324-44D9-8094-9BB5E41B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8324F-8999-41F4-9CBB-A403FD19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3EC58-8E8B-486F-9161-DE41C262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5A291-22FC-43FE-8586-ACAFBE09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DA2-A673-4510-BAF7-C9F22E2D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9E406-1B52-49AF-A579-CE7106A3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692B1-C2B2-46D7-91C8-3B64E636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D16B4-2C1B-4E0F-B3E8-E167FDB8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2EA0F-2468-4656-B530-16112AC1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ECAD4-D30A-4A3B-A346-FCF6C020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17E48-A1D5-4E35-9D73-0A3FA0D9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738BA-3BEC-49EB-AD3F-D36EFDD3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3D7E6-C75E-4C2A-9763-2F2FD8EA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BD8B6-F2B5-4325-88E3-A0C236FC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52BF4-47C2-414F-B43A-96E08ECE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E3B-B29B-4EEA-A1CF-CB907B9E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26765-99A0-4F8A-96C1-97D332F3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1D017-B336-4295-AAAF-D7173E73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F243D-3257-48DE-87D1-4A7801C8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3D87C-08BB-4242-8A43-A2EFCC18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C10BA-4E26-47EB-B7F6-B424ED97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4B78F-397E-4722-BFA0-DF647A18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848DA-FF80-4DB2-973E-E745AC2E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0C51C-8634-42E9-9535-77570282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D2A2B-CE3A-4501-891B-39C99B43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201E2-BB31-4DE5-8707-F4FF93FE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B6E-EF43-47AD-AB61-79A6A590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E6539-E8CA-4181-87A3-A884F69A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5A877-61A1-4C20-A8D0-33D52E17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B4BE0-D881-4879-8726-1A0E9AC0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97C17-2941-41F9-A91A-0E34CDD8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04555-5FEC-433B-BD71-DA3B9C3B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A0B4A-363D-4387-8D1F-A099E174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7626C-1707-4719-9CB3-5633C544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1A9BE-2897-4888-98A1-1C2E4C16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ED9C4-9F5C-44FA-A152-F8475310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7E22A-B6D2-40CE-B5D8-745F7557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01C9-DEF8-4D2D-9820-917E4022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10761-98B7-4123-9A6E-75039C2B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FECDB-7C7B-4276-9860-5156B9B6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D3FBC-E940-45C0-ABEB-737E5AFD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92780-E221-4C7B-85E8-6C9F4B24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E2FC0-898C-4208-A422-D154F755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99B68-229F-49D5-BA41-ABD2A00D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3A8F8-96D2-4027-B6AD-23D83ECC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4F70F-E575-4E3E-85B1-E219D5B7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39FE1-F5CD-47D5-B249-35AF4D6A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9DE8B-146C-41E4-8CAA-EA1797E2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1EA-6342-4841-97A6-49B5E2A0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1D442-E35C-4F63-87CE-A4B5D7E6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BD5F1-A8F8-44F7-BDBF-D5AD4095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EBC43-A514-4F26-8ADC-9C3CFFD8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2FBA2-201D-40F2-B5E6-6924C781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4E590-C778-4FF7-8390-31B602DC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4AEF2-4B9E-4AD5-8533-25570DA5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1DC34-D08B-4AA8-B29B-5984755C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BE8A3-A27B-40A1-B260-68A72AC7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41059-39A8-46F6-B139-54A37818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33A77-BFBE-4D38-BFBC-7E099104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E9E9-E363-4322-8B7E-A0FD4AFB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38BF2-6EEE-4B41-82D3-2424E837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D94C8-F969-46EF-9962-DC2ECDEB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8034E-F650-4BB2-B345-BAB14188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23DEB-FE7E-4520-BE58-29585D13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AA547-377E-4FD6-B1E2-968BA95D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AC9E1-7F1D-4C21-BF7F-3D43DD8E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2B98C-1F38-4276-9547-1CDE7D24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B5758-6EB5-481F-8ACD-D18B7A77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E69D9-51D7-44B1-9C0C-748BFF37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26325-3818-47F3-B35C-A810346F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431-C0E6-424D-988B-B315CACD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EA3E6-8223-436B-9175-4B7318EC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0151D-AED1-405C-87B3-E6366101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C36B2-9932-45E5-815A-C07B925F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123EF-42CF-4B39-84AD-7100A3F4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8FBA2-B349-4A7B-84CA-EDDA62D7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ADB99-BC90-4C1E-ACDF-DDDD63E7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0487B-D7F5-4A03-99AA-60E0B288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1281E-0CBA-4553-8AAE-C53BC9EA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C2A1C-CB10-4CF0-9B62-D853638E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306CB-0D45-44E9-B8CC-67801FC3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4A4E-9570-4159-BF22-0596F470C7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109A-B482-47B1-AA80-9F96E629193B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9B29-D2FD-4899-9A78-7563472701C4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AA4F-3706-4C53-B466-0355BE33320E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438C-B573-4B81-AFD5-1422D4457453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EF4F-6BF1-439F-9DCB-2358027C9DD9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7577-26AA-47D8-883D-299E2C971C28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785B-C6B7-47E7-A4A5-530AB411A9DE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92C5-EA7A-4439-BDA4-32EEDBCB9B44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0C96-9844-4328-8F32-F61734BA794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24AC-3003-43DD-AE38-F4CCFA4C0E6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BB2A-80BC-44B0-8017-E5C407A6E24E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2016-0372-4283-814D-7CF9186FB3D0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3DF8-7676-4298-B21E-5A5FD5DC5017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4C89-BBC2-49EF-8E51-B4FE473D61D4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C431-2B02-43D5-95E0-059523E0E5D5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AE05-7C52-4780-968F-F4FC8A154F1C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9359-1FE8-45FF-8F17-6F5492D28D20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41A6-E745-4781-8AC5-11399E1F1441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BB26-BDB8-44E8-9EE7-105F1F90DB3A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E952-692F-41F2-973F-D16AC7C8EC17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6B4D-A80D-4E14-8C91-63225ACD7621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2938-A228-47EF-9F08-7CE2909DB849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132C-BAA1-4B9E-A871-1DE025B8E9EF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BF66-1DA1-415D-8219-B05C46A2E0D6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6" descr="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WordArt 7"/>
          <p:cNvSpPr txBox="1"/>
          <p:nvPr/>
        </p:nvSpPr>
        <p:spPr>
          <a:xfrm>
            <a:off x="1763640" y="1773360"/>
            <a:ext cx="56880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的第一本书</a:t>
            </a:r>
            <a:endParaRPr b="1" lang="en-US" sz="36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BK155"/>
          <p:cNvPicPr/>
          <p:nvPr/>
        </p:nvPicPr>
        <p:blipFill>
          <a:blip r:embed="rId1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" descr="BK155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BK155"/>
          <p:cNvPicPr/>
          <p:nvPr/>
        </p:nvPicPr>
        <p:blipFill>
          <a:blip r:embed="rId3"/>
          <a:stretch/>
        </p:blipFill>
        <p:spPr>
          <a:xfrm>
            <a:off x="0" y="0"/>
            <a:ext cx="304920" cy="6858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7" descr="BK155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8"/>
          <p:cNvSpPr/>
          <p:nvPr/>
        </p:nvSpPr>
        <p:spPr>
          <a:xfrm>
            <a:off x="324000" y="549360"/>
            <a:ext cx="849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的第一本书实在应当写写，如果不写，我就枉读了这几十年的书，更枉写了这几十年的诗。人不能忘本。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怎样理解“枉读了这几十年的书”“枉写了这几十年的诗”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?“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人不能忘本”的“本”在这里指什么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?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519120" y="31543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里的“枉”字可以理解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白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价值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意义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的第一本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既是求知的第一本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更是人生的第一本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这第一本书不写出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么这几十年的读书和写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失去了意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变得毫无价值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你忘记了知识的源头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10" descr="108"/>
          <p:cNvPicPr/>
          <p:nvPr/>
        </p:nvPicPr>
        <p:blipFill>
          <a:blip r:embed="rId5"/>
          <a:stretch/>
        </p:blipFill>
        <p:spPr>
          <a:xfrm>
            <a:off x="900000" y="3141720"/>
            <a:ext cx="540000" cy="647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4" descr="BK158"/>
          <p:cNvPicPr/>
          <p:nvPr/>
        </p:nvPicPr>
        <p:blipFill>
          <a:blip r:embed="rId1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" descr="BK158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6" descr="BK158"/>
          <p:cNvPicPr/>
          <p:nvPr/>
        </p:nvPicPr>
        <p:blipFill>
          <a:blip r:embed="rId3"/>
          <a:stretch/>
        </p:blipFill>
        <p:spPr>
          <a:xfrm>
            <a:off x="0" y="0"/>
            <a:ext cx="304920" cy="685800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7" descr="BK158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8"/>
          <p:cNvSpPr/>
          <p:nvPr/>
        </p:nvSpPr>
        <p:spPr>
          <a:xfrm>
            <a:off x="539640" y="1197000"/>
            <a:ext cx="786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生的起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忘记了过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即忘本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最后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不能忘本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巧妙地运用了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双关的修辞手法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,“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本”这里指课本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那第一本国语教材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也指人生成长历程中最初的最有价值的奠基性的东西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作者所指主要是后者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9" descr="215"/>
          <p:cNvPicPr/>
          <p:nvPr/>
        </p:nvPicPr>
        <p:blipFill>
          <a:blip r:embed="rId5"/>
          <a:stretch/>
        </p:blipFill>
        <p:spPr>
          <a:xfrm>
            <a:off x="4572000" y="3429000"/>
            <a:ext cx="2808360" cy="30956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4" descr="BK152"/>
          <p:cNvPicPr/>
          <p:nvPr/>
        </p:nvPicPr>
        <p:blipFill>
          <a:blip r:embed="rId1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" descr="BK152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BK152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6858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7" descr="BK152"/>
          <p:cNvPicPr/>
          <p:nvPr/>
        </p:nvPicPr>
        <p:blipFill>
          <a:blip r:embed="rId4"/>
          <a:stretch/>
        </p:blipFill>
        <p:spPr>
          <a:xfrm>
            <a:off x="0" y="0"/>
            <a:ext cx="30492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WordArt 8"/>
          <p:cNvSpPr txBox="1"/>
          <p:nvPr/>
        </p:nvSpPr>
        <p:spPr>
          <a:xfrm>
            <a:off x="1763640" y="765000"/>
            <a:ext cx="56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的第一本书</a:t>
            </a:r>
            <a:endParaRPr b="1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447840" y="2146320"/>
            <a:ext cx="225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荒寒的大自然间感应到生命最初的快乐和梦幻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0"/>
          <p:cNvSpPr/>
          <p:nvPr/>
        </p:nvSpPr>
        <p:spPr>
          <a:xfrm>
            <a:off x="2556000" y="3357720"/>
            <a:ext cx="93636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1"/>
          <p:cNvSpPr/>
          <p:nvPr/>
        </p:nvSpPr>
        <p:spPr>
          <a:xfrm flipH="1">
            <a:off x="2484000" y="3645000"/>
            <a:ext cx="863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"/>
          <p:cNvSpPr/>
          <p:nvPr/>
        </p:nvSpPr>
        <p:spPr>
          <a:xfrm>
            <a:off x="4641840" y="3141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的第一本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13"/>
          <p:cNvSpPr/>
          <p:nvPr/>
        </p:nvSpPr>
        <p:spPr>
          <a:xfrm>
            <a:off x="6372360" y="1989000"/>
            <a:ext cx="144360" cy="3745080"/>
          </a:xfrm>
          <a:custGeom>
            <a:avLst/>
            <a:gdLst>
              <a:gd name="textAreaLeft" fmla="*/ 92160 w 144360"/>
              <a:gd name="textAreaRight" fmla="*/ 144360 w 14436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4"/>
          <p:cNvSpPr/>
          <p:nvPr/>
        </p:nvSpPr>
        <p:spPr>
          <a:xfrm>
            <a:off x="6516720" y="1773360"/>
            <a:ext cx="23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父子之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朋友之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与狗的情趣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F2003071810031000000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5"/>
          <p:cNvSpPr/>
          <p:nvPr/>
        </p:nvSpPr>
        <p:spPr>
          <a:xfrm>
            <a:off x="5076720" y="2693880"/>
            <a:ext cx="40672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牛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，山西省人。抗日战争期间在陕甘地区读中学、大学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发表作品，主要写诗，近十年写作散文。已出版诗集十余本，散文集七本，诗话集两本。此外还参与主编中国现当代诗选数部，台湾编印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牛汉散文精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从事文学编辑工作半个多世纪，曾主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文学史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十年，现为中国作协全国名誉委员，中国诗歌协会副会长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l149"/>
          <p:cNvPicPr/>
          <p:nvPr/>
        </p:nvPicPr>
        <p:blipFill>
          <a:blip r:embed="rId1"/>
          <a:stretch/>
        </p:blipFill>
        <p:spPr>
          <a:xfrm>
            <a:off x="0" y="0"/>
            <a:ext cx="4788000" cy="4953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l149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953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l149"/>
          <p:cNvPicPr/>
          <p:nvPr/>
        </p:nvPicPr>
        <p:blipFill>
          <a:blip r:embed="rId3"/>
          <a:stretch/>
        </p:blipFill>
        <p:spPr>
          <a:xfrm>
            <a:off x="0" y="6362640"/>
            <a:ext cx="4788000" cy="495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l149"/>
          <p:cNvPicPr/>
          <p:nvPr/>
        </p:nvPicPr>
        <p:blipFill>
          <a:blip r:embed="rId4"/>
          <a:stretch/>
        </p:blipFill>
        <p:spPr>
          <a:xfrm>
            <a:off x="4356000" y="6362640"/>
            <a:ext cx="4788000" cy="4953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l149"/>
          <p:cNvPicPr/>
          <p:nvPr/>
        </p:nvPicPr>
        <p:blipFill>
          <a:blip r:embed="rId5"/>
          <a:stretch/>
        </p:blipFill>
        <p:spPr>
          <a:xfrm>
            <a:off x="0" y="0"/>
            <a:ext cx="495360" cy="68580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l149"/>
          <p:cNvPicPr/>
          <p:nvPr/>
        </p:nvPicPr>
        <p:blipFill>
          <a:blip r:embed="rId6"/>
          <a:stretch/>
        </p:blipFill>
        <p:spPr>
          <a:xfrm>
            <a:off x="8648640" y="0"/>
            <a:ext cx="49536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10"/>
          <p:cNvSpPr/>
          <p:nvPr/>
        </p:nvSpPr>
        <p:spPr>
          <a:xfrm>
            <a:off x="611280" y="765000"/>
            <a:ext cx="7869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幽默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(y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ōu mò)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趣或可笑而意义深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凄惨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(qī cǎn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凄凉悲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奥秘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(ào mì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奥妙神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翻来覆去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(fān    fù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次又一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次  重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温厚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(wēn  hòu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温和宽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xs03gif123"/>
          <p:cNvPicPr/>
          <p:nvPr/>
        </p:nvPicPr>
        <p:blipFill>
          <a:blip r:embed="rId1"/>
          <a:stretch/>
        </p:blipFill>
        <p:spPr>
          <a:xfrm>
            <a:off x="6804000" y="836640"/>
            <a:ext cx="2084400" cy="18684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" descr="aa38_EKiDr1pzBClp"/>
          <p:cNvPicPr/>
          <p:nvPr/>
        </p:nvPicPr>
        <p:blipFill>
          <a:blip r:embed="rId2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aa38_EKiDr1pzBClp"/>
          <p:cNvPicPr/>
          <p:nvPr/>
        </p:nvPicPr>
        <p:blipFill>
          <a:blip r:embed="rId3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7"/>
          <p:cNvSpPr/>
          <p:nvPr/>
        </p:nvSpPr>
        <p:spPr>
          <a:xfrm>
            <a:off x="179280" y="765000"/>
            <a:ext cx="66978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整体感知文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讨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题“我的第一本书”仅仅指那本课本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可以作怎样的理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179280" y="393372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是怀着怎样的一种感情追忆他的“第一本书”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200482519719433"/>
          <p:cNvPicPr/>
          <p:nvPr/>
        </p:nvPicPr>
        <p:blipFill>
          <a:blip r:embed="rId1"/>
          <a:stretch/>
        </p:blipFill>
        <p:spPr>
          <a:xfrm>
            <a:off x="0" y="0"/>
            <a:ext cx="4932360" cy="981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200482519719433"/>
          <p:cNvPicPr/>
          <p:nvPr/>
        </p:nvPicPr>
        <p:blipFill>
          <a:blip r:embed="rId2"/>
          <a:stretch/>
        </p:blipFill>
        <p:spPr>
          <a:xfrm>
            <a:off x="0" y="5877000"/>
            <a:ext cx="4932360" cy="9810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7" descr="200482519719433"/>
          <p:cNvPicPr/>
          <p:nvPr/>
        </p:nvPicPr>
        <p:blipFill>
          <a:blip r:embed="rId3"/>
          <a:stretch/>
        </p:blipFill>
        <p:spPr>
          <a:xfrm>
            <a:off x="4211640" y="5877000"/>
            <a:ext cx="4932360" cy="981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200482519719433"/>
          <p:cNvPicPr/>
          <p:nvPr/>
        </p:nvPicPr>
        <p:blipFill>
          <a:blip r:embed="rId4"/>
          <a:stretch/>
        </p:blipFill>
        <p:spPr>
          <a:xfrm>
            <a:off x="4211640" y="0"/>
            <a:ext cx="4932360" cy="98100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9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题“我的第一本书”仅仅指那本课本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可以作怎样的理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"/>
          <p:cNvSpPr/>
          <p:nvPr/>
        </p:nvSpPr>
        <p:spPr>
          <a:xfrm>
            <a:off x="0" y="270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“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我的第一本书”不仅仅指那半本课本，也指“我”人生的第一课。这人生的第一课，蕴含着艰辛，人间温情，父子之情，同学的友谊和上学的乐趣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2" descr="107"/>
          <p:cNvPicPr/>
          <p:nvPr/>
        </p:nvPicPr>
        <p:blipFill>
          <a:blip r:embed="rId5"/>
          <a:stretch/>
        </p:blipFill>
        <p:spPr>
          <a:xfrm>
            <a:off x="0" y="2781360"/>
            <a:ext cx="574560" cy="5032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4" descr="l192"/>
          <p:cNvPicPr/>
          <p:nvPr/>
        </p:nvPicPr>
        <p:blipFill>
          <a:blip r:embed="rId1"/>
          <a:stretch/>
        </p:blipFill>
        <p:spPr>
          <a:xfrm>
            <a:off x="0" y="0"/>
            <a:ext cx="4500720" cy="5526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" descr="l192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5526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l192"/>
          <p:cNvPicPr/>
          <p:nvPr/>
        </p:nvPicPr>
        <p:blipFill>
          <a:blip r:embed="rId3"/>
          <a:stretch/>
        </p:blipFill>
        <p:spPr>
          <a:xfrm>
            <a:off x="0" y="6305400"/>
            <a:ext cx="4716360" cy="5526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l192"/>
          <p:cNvPicPr/>
          <p:nvPr/>
        </p:nvPicPr>
        <p:blipFill>
          <a:blip r:embed="rId4"/>
          <a:stretch/>
        </p:blipFill>
        <p:spPr>
          <a:xfrm>
            <a:off x="4500720" y="6305400"/>
            <a:ext cx="4643280" cy="5526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l192"/>
          <p:cNvPicPr/>
          <p:nvPr/>
        </p:nvPicPr>
        <p:blipFill>
          <a:blip r:embed="rId5"/>
          <a:stretch/>
        </p:blipFill>
        <p:spPr>
          <a:xfrm>
            <a:off x="0" y="115920"/>
            <a:ext cx="552600" cy="64818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9" descr="l192"/>
          <p:cNvPicPr/>
          <p:nvPr/>
        </p:nvPicPr>
        <p:blipFill>
          <a:blip r:embed="rId6"/>
          <a:stretch/>
        </p:blipFill>
        <p:spPr>
          <a:xfrm>
            <a:off x="8591400" y="0"/>
            <a:ext cx="552600" cy="648180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10"/>
          <p:cNvSpPr/>
          <p:nvPr/>
        </p:nvSpPr>
        <p:spPr>
          <a:xfrm>
            <a:off x="611280" y="9079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是怀着怎样的一种感情追忆他的“第一本书”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1"/>
          <p:cNvSpPr/>
          <p:nvPr/>
        </p:nvSpPr>
        <p:spPr>
          <a:xfrm>
            <a:off x="611280" y="22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作者是怀着沉重的心情，敬重、珍爱的感情追忆“第一本书”的，感情复杂，心情沉重，因为那本书里深藏着苦难的生活和恶劣的学习条件与环境，同时也映照着那个时代人们不幸的命运，以及在那种荒寒背景下特别可贵的一点乐趣和温情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3" descr="107"/>
          <p:cNvPicPr/>
          <p:nvPr/>
        </p:nvPicPr>
        <p:blipFill>
          <a:blip r:embed="rId7"/>
          <a:stretch/>
        </p:blipFill>
        <p:spPr>
          <a:xfrm>
            <a:off x="684360" y="2349360"/>
            <a:ext cx="574560" cy="5032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4" descr="我的第一本书"/>
          <p:cNvPicPr/>
          <p:nvPr/>
        </p:nvPicPr>
        <p:blipFill>
          <a:blip r:embed="rId1"/>
          <a:stretch/>
        </p:blipFill>
        <p:spPr>
          <a:xfrm>
            <a:off x="0" y="0"/>
            <a:ext cx="680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5"/>
          <p:cNvSpPr/>
          <p:nvPr/>
        </p:nvSpPr>
        <p:spPr>
          <a:xfrm>
            <a:off x="7396920" y="-1292400"/>
            <a:ext cx="1094760" cy="9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品析文中的重要语句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4"/>
          <p:cNvSpPr/>
          <p:nvPr/>
        </p:nvSpPr>
        <p:spPr>
          <a:xfrm>
            <a:off x="0" y="98100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的童年没有幽默，只有从荒寒的大自然感到一点生命最初的快乐和梦幻。”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作者对童年的感觉是怎样的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联系下文看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,“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生命最初的快乐和梦幻”是什么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?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5" descr="108"/>
          <p:cNvPicPr/>
          <p:nvPr/>
        </p:nvPicPr>
        <p:blipFill>
          <a:blip r:embed="rId1"/>
          <a:stretch/>
        </p:blipFill>
        <p:spPr>
          <a:xfrm>
            <a:off x="250920" y="3141720"/>
            <a:ext cx="539640" cy="647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l140"/>
          <p:cNvPicPr/>
          <p:nvPr/>
        </p:nvPicPr>
        <p:blipFill>
          <a:blip r:embed="rId2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8" descr="l279"/>
          <p:cNvPicPr/>
          <p:nvPr/>
        </p:nvPicPr>
        <p:blipFill>
          <a:blip r:embed="rId3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9"/>
          <p:cNvSpPr/>
          <p:nvPr/>
        </p:nvSpPr>
        <p:spPr>
          <a:xfrm>
            <a:off x="755640" y="3068640"/>
            <a:ext cx="83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对童年的感觉是辛酸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童年没有幽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其童年生活的艰苦和沉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仅自己家的生活是窘困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几乎所有同学都在生存的底线上挣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5" descr="195772"/>
          <p:cNvPicPr/>
          <p:nvPr/>
        </p:nvPicPr>
        <p:blipFill>
          <a:blip r:embed="rId1"/>
          <a:stretch/>
        </p:blipFill>
        <p:spPr>
          <a:xfrm>
            <a:off x="4716360" y="4005360"/>
            <a:ext cx="2916360" cy="24429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6" descr="121"/>
          <p:cNvPicPr/>
          <p:nvPr/>
        </p:nvPicPr>
        <p:blipFill>
          <a:blip r:embed="rId2"/>
          <a:stretch/>
        </p:blipFill>
        <p:spPr>
          <a:xfrm>
            <a:off x="1332000" y="4076640"/>
            <a:ext cx="2627280" cy="249228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7"/>
          <p:cNvSpPr/>
          <p:nvPr/>
        </p:nvSpPr>
        <p:spPr>
          <a:xfrm>
            <a:off x="324000" y="70632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毕竟是童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论生活多么艰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也抹不去与生俱来的童年的好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真和淘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和小伙伴们在一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小动物在一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到大自然中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是快乐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且童年时代只要玩起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什么困苦都会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就是生命最初的快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8" descr="BK156"/>
          <p:cNvPicPr/>
          <p:nvPr/>
        </p:nvPicPr>
        <p:blipFill>
          <a:blip r:embed="rId3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9" descr="BK156"/>
          <p:cNvPicPr/>
          <p:nvPr/>
        </p:nvPicPr>
        <p:blipFill>
          <a:blip r:embed="rId4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0" descr="BK156"/>
          <p:cNvPicPr/>
          <p:nvPr/>
        </p:nvPicPr>
        <p:blipFill>
          <a:blip r:embed="rId5"/>
          <a:stretch/>
        </p:blipFill>
        <p:spPr>
          <a:xfrm>
            <a:off x="0" y="0"/>
            <a:ext cx="304920" cy="68580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1" descr="BK156"/>
          <p:cNvPicPr/>
          <p:nvPr/>
        </p:nvPicPr>
        <p:blipFill>
          <a:blip r:embed="rId6"/>
          <a:stretch/>
        </p:blipFill>
        <p:spPr>
          <a:xfrm>
            <a:off x="8839080" y="0"/>
            <a:ext cx="30492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6:00:44Z</dcterms:created>
  <dc:creator>Legend User</dc:creator>
  <dc:description/>
  <dc:language>en-US</dc:language>
  <cp:lastModifiedBy>a</cp:lastModifiedBy>
  <dcterms:modified xsi:type="dcterms:W3CDTF">2015-02-10T02:50:41Z</dcterms:modified>
  <cp:revision>11</cp:revision>
  <dc:subject/>
  <dc:title>幻灯片 1</dc:title>
</cp:coreProperties>
</file>