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ashreg.wav" ContentType="audio/x-wav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98DF-7B33-40AF-BE58-ED18FB0DD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D70D-49BE-49EA-AC4A-455E5042FC50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D81-FBE5-4C5E-968F-2895BEFA8A2E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072-3EC8-4789-BAAA-FC7B693487C6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70F-5525-4A07-B327-18A6B06F9309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4F8-179B-4EED-8FCC-B2678C170F4D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77F-9D9E-45B0-A87E-1FB0F4FE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59E-3C51-419C-9927-289BD56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0A2E6-5934-49EA-9752-7BFEDBC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E97D4-E7DB-47F1-9D32-B285454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E8B44-D9A1-4FED-BF43-1C64B546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9CC7-8F79-4D25-86AC-4243348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229BE-519A-4C5A-9F13-046ED58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2D2B-B24F-4B46-8B43-42AA68F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3AD3C-0107-4A82-808A-BA7AF61F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9EBA-FF90-454A-B516-7BB929F2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CE466-4194-4C85-97C9-4BDE636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38963-835E-49C8-8E6D-1FDA0A4D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2E8-6212-45D4-ABF8-F894525A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98C9-4CFE-4950-8691-0222520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5A5B1-27D1-404C-B50E-E9EF759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50BF-DE58-4F95-AA16-CF4C067F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8297-B603-4A17-AF1D-DCDA54D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883C6-9FAF-4EA6-B73B-F60775E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AC1C6-696C-4D6A-B58A-F224E01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82EAB-8F1C-4B94-867A-EFD73FF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50675-71E4-4636-BCC0-1E00A24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FC6DE-BBE4-4C6C-8AD7-96EB745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14CAE-E593-49C9-A854-1A29E4A2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92B-566A-418D-8045-374C6566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3288A-604E-44D0-8FBF-A983292C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EC269-2DA0-4D06-9439-0E1C364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222EF-97EE-4E91-A7ED-8590A0AA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04530-14D5-4D12-B62D-2593C515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1FD2-D020-4538-A0FA-D066F196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1532-3235-4540-A836-D26DE92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50276-C205-4D4E-B708-87B08D9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8B69E-511F-4FDB-8AD0-3A79612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19E5B-B84F-4211-8A6A-93AB6DF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429FA-B171-4CD9-BABC-21B9CDC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D4B-DCE5-4B7C-BA34-EE9DBB31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897FB-519A-4897-A26C-BA5FA9DF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32C1-2CC8-4700-990C-8B392A76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1B7B6-7756-45F5-9A6D-7DAD92F4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AB922-7448-4B72-AE78-65F78FAE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874EA-F16F-4124-9EF2-CD32A45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5BC95-89C1-4D80-8C55-E689DA4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4DDFE-52B5-4B4F-A4B7-71579602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D1B93-1FC8-4C39-BE01-2E04485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AC95B-64A9-4753-B992-F2822AC7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7F5BD-E281-4694-A83A-CA1AE6ED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C70-A565-442F-B8B5-6969976D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34EA4-A38C-4FE7-B187-B65285A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EB6E9-126F-482B-BC3D-F6925F1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1FA62-6868-463B-A29C-8146DA2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61391-A3F3-460A-AAC7-8976192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E6332-DDED-41ED-87EE-89BE4806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35618-F2C3-4EDF-A506-8150C6A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B232D-9EBE-4F93-B322-28999204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608E6-EEF9-4EE5-8050-A6C7DF27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D1CCD-6D16-4588-B7E4-9728F849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F8A8B-A13A-4581-8503-A12C0BB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4D6-0284-4A5C-9651-4F284C01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690AF-5604-451B-ADFB-9D06791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E0046-20B4-46AB-A8D6-2480853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50797-1EDE-45A4-9CB8-AF6E136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BEEC4-CD45-4BCB-80D5-2AF67C3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D5F4A-F866-4428-A647-05F41046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399B4-3002-4942-AF45-329AB5EB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E0E66-2EC9-4098-B2BE-ABF307BD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0ECC3-450C-4CF8-AF4D-48E80336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466AE-C614-475D-8A35-C7CE9EF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474D9-5D0D-4D57-974D-1EF6AAC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4316-ABBA-4F65-B4C1-7D0D377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5F5AF-2C2B-4567-B261-35410F8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E3583-4754-4AF0-AD69-C5280CB7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5B70B-DAA0-48AF-A3E5-9750EB8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1E0ED-60E9-4AE6-956F-295BF87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618B6-4C10-41D3-9916-C620328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EF73D-285A-4439-8442-53D9940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6F8B7-2C9E-49A8-A15D-D9A5C57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FA015-943B-4001-83EB-ECED1816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6B65F-DFF9-4D34-BE07-5A7E8721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63EB-B4A4-4574-92DA-87A2201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5FC4-DCEA-4D12-8506-EB6CF468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D77F-2A38-42DA-83E8-5D1CF83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A15-E1D5-4F10-B7D1-B014BBD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761-1D23-47A5-AB2F-82C8113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C14C-B2E5-42C6-82D9-527E58E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275-1130-46E7-965D-47068C6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BFB-74E0-47C9-B834-37A657B6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A59-3CF1-420A-B96F-8B66EFCB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853C-8661-4740-9D44-59586AAF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9FAE-BCF1-491B-82E7-33366FC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5660-EBA9-4CA6-9AF3-CE7A9A2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25CF-0421-4758-9D3B-1168B89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E484-E489-4851-AC8B-64A025A1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A27-74E8-47DB-8487-4873135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C6FE-A4E6-457D-BC04-3C6E9396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8744-08D3-4375-A585-37D5790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50F1-261C-43B0-AEE1-264D994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8F34-B9E1-4282-B96C-1145FB77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4168-6C45-412F-B83D-27B1D1EC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5F7E-A674-440D-BE87-FD82BDCD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0A03-015A-42B2-81F3-A77271FA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78707-DB02-4822-80A3-8278CA19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EFC4-FCCF-49B7-AF1E-130894B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6DD5-6259-4191-B770-484CF762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91B-B84F-4588-9DEA-57A60FF1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DBCC-58E5-465E-B790-A47796B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B946-84BA-43D1-8A67-F20DF088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598F-24B2-4FED-A668-81AF27E7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F284-37AB-43BB-A31D-8A94FB4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01C5-90DF-42E6-924F-504BD16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B494-C01D-4AFF-9D13-9F7467B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D6BB-8C0A-41C7-8DA0-A3D517C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D6A1-1DFE-4590-BEA4-6A3410A9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2DAA-F859-4287-AE79-33CCDDF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2D36-E87A-449F-8477-F89A6F72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4CD-1ECA-4BA6-B067-F60D68C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149A-8DB4-47CD-A6C0-0AA0D32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ED42-16AD-4AB7-9A44-253CB928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2A4F-A8A1-4812-8FCC-BD478FBF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6162-10D5-4F22-AA6A-221C30C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EE79-76E2-4635-8094-27701AD5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D6CE-EFC1-41B8-9E16-1FC1771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35CE-E1B1-458E-9203-6234D4B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DC9F-69B1-4464-BA8E-07172A1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DAFE-D472-4560-9724-FB03701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D3DE-DE46-49E9-845D-D19732C7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BD0-1350-4CD8-B26F-613D1389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BF8A-10BE-4AF1-9631-6296907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C4BA-BC51-4513-82F1-1C3BB694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8BDD-EA48-47AE-BDDB-7EA4E4A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B2E8-602D-43FB-9D0D-F3C62E6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C352-765C-4187-A386-E85B81ED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8BD6-884F-4DC2-8986-621CBD5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DA88-CE58-49DD-8E66-451CE6D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DC03-DEF7-409C-95CE-E4FCB82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A73D9-27CF-4C3B-86C2-4E7680C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D0830-4D9C-445F-B204-5010108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C87-25AF-4280-ABB7-C529953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F0389-FFE5-4ACD-A0C3-CAE24B6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C85B-11CF-4B6F-9903-2149052A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05BB-AA37-451A-86D6-DD7055DB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68694-A610-49F0-B24F-5CB51DD7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5038-D45C-4856-AF3D-6E87BB6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86C4-6537-4AC7-9618-07D50FE6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4264-F548-4514-B9D2-50FB570D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8526-FE14-496A-9520-74BD9D4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9EFE-A152-492A-B120-0F255BE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41E7-6704-43BD-BB21-78027709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E35-1074-4744-B443-8AA7501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68C1-6624-4CD9-95D0-2D735FF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F98D-AA54-4471-8F63-EFABEBB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FD3D-828D-4839-9E4A-3686B877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40BC-8EA1-49B3-A079-A59FC899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02F5-D877-4480-8247-FE1F10E3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F2CE-3B3D-4371-8664-506B28C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16FB9-E39F-4E3D-9B6C-3C33BCD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242E-8C2D-45D4-B0EC-63A56087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C7BEB-5EA8-4896-8D9E-DDF8030E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1FB5-E961-4E76-BEB6-2FC9452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581-2EE6-467E-98A9-9518876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0232-9950-43F4-B3A3-5BF757E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0187B-6694-4A11-BF83-41383D3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9DC77-0159-48BA-A765-83415A9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F26AC-2EE1-4BFC-AFFB-DBB5DBA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8020C-BABC-4FD7-99F2-61DE8B8A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CEE1-EE41-42E1-BEA1-FB02B9D0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20FB5-89CA-4116-ABD6-28BF8CA6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98F68-86BD-4101-AC8B-56B56F9B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C8754-4D86-4A90-B87C-0762968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8D95D-30A3-4EE7-8E0B-3EAFDA4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FB2-7E45-458C-A04B-F5146567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F6CA-E29F-4ED0-8252-C2C8D4CF77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5860-27FE-4CE0-9278-F03640F86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A015-6631-4E04-BB92-B42DF065A0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B50-1A11-4003-9BC0-49C585255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397-8088-4E50-BA46-E68D48C3C3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A74-477D-4C96-BCB9-CBC43D9E6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E9B-20F7-442D-9EC6-C7982AFE8A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5C2-CCC5-4034-9239-6E530048A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267-84EB-4630-97AB-DEEFA51F1E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4BE-321F-48B4-A70E-56EE77DAF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C330-2A60-4404-9328-7D125C28BC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411-CF21-4E1E-87AA-A6490ECAE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67D-DBF0-4EF1-812D-6DFC1F55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9F2C-C667-4A8F-B7EA-F2B8F755B8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186-489F-4737-85DC-25768C8394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148E-026E-4D11-BD5C-BC4651EBB5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715-2CBD-483E-8698-D5701CE46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25E-E280-4785-8B1F-6F4AE90FEF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6345-BF3E-4208-A1BC-155D8E7CC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64D-3C2E-4DB9-8F55-71DDD0050A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C84-CB94-4795-9DB0-A19FA172A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9095-9620-412D-BB2C-ED3862C136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540E-A4EE-485B-B254-6F732EC0F9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0A41-0342-4F6C-9540-F1491EEEE4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2DF-6837-4438-8389-AE1111593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258920" y="9079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 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39640" y="990720"/>
            <a:ext cx="8353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人的嘴唇所能发出的最甜美的字眼，就是母亲；最美好的呼唤，就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妈妈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——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纪伯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黎巴嫩诗人、散文家、画家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文章内容看，是沿着两条线索展开的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一是老舍通过对母亲一生的描写，深刻揭示了母亲的性格特征及对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我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的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但是我的真正的教师，把性格传给我的，是我的母亲。母亲并不认字，她给我的是生命的教育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母亲的性格最突出的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软中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二是通过重温和反思已经逝去的天伦往事，尽情抒发了儿子对母亲的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街上是那么热闹，我却什么也没看见，泪遮迷了我的眼。今天，泪又遮迷了我的眼，又想起当日孤独的过那凄惨的除夕的慈母，可是慈母不会再候盼我了，她已入了土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539640" y="2060640"/>
            <a:ext cx="82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请你想一想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知道母亲的生日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了解母亲最大的心愿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曾为母亲做了什么，你打算以后怎么做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268360" y="907920"/>
            <a:ext cx="32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欣赏感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79280" y="404640"/>
            <a:ext cx="89154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总结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慈母情是对怀中婴儿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甜甜亲吻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拍着婴儿入睡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悠悠摇篮曲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手把手教孩子写字的苦苦耐心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期盼儿女成才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忧郁的眼神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儿女远行时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句句叮咛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过早爬上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眼角的一道道皱纹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慈母情是人世间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最圣洁、最伟大、最无私、最永恒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的亲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3"/>
          <p:cNvSpPr/>
          <p:nvPr/>
        </p:nvSpPr>
        <p:spPr>
          <a:xfrm>
            <a:off x="684360" y="692280"/>
            <a:ext cx="8156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节课我们歌颂母亲，颂扬母爱，并表达了对母亲的深深愧疚之情，回去以后，同学们要拿出实际行动来，用自己的实际行动报答母亲的养育之恩。还要拿起自己的笔，写母亲，书母爱，表真情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周记作业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书写母爱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调动你的生活积累，联系自己的感情经历，为母亲写一段最有真情、最美好、最具魅力的文字。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字以上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3657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的母亲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人至深，读起来催人泪下，令人深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295280" y="1143000"/>
            <a:ext cx="5943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临行密密缝，意恐迟迟归。谁言寸草心，报得三春晖。</a:t>
            </a:r>
            <a:r>
              <a:rPr b="0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4724280" y="3124080"/>
            <a:ext cx="41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孟郊</a:t>
            </a: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游子吟</a:t>
            </a: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11"/>
          <p:cNvPicPr/>
          <p:nvPr/>
        </p:nvPicPr>
        <p:blipFill>
          <a:blip r:embed="rId1"/>
          <a:stretch/>
        </p:blipFill>
        <p:spPr>
          <a:xfrm>
            <a:off x="0" y="577800"/>
            <a:ext cx="3886200" cy="6019920"/>
          </a:xfrm>
          <a:prstGeom prst="rect">
            <a:avLst/>
          </a:prstGeom>
          <a:ln w="0">
            <a:noFill/>
          </a:ln>
        </p:spPr>
      </p:pic>
      <p:sp>
        <p:nvSpPr>
          <p:cNvPr id="584" name="WordArt 3"/>
          <p:cNvSpPr txBox="1"/>
          <p:nvPr/>
        </p:nvSpPr>
        <p:spPr>
          <a:xfrm>
            <a:off x="3419640" y="1660680"/>
            <a:ext cx="453528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我的母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2843280" y="11592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是历史，赋予母爱亘古的深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是深情，赋予儿女对母亲深深的依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003640" y="465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隶书"/>
              </a:rPr>
              <a:t>老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478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体味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感谢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抒写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9" name="Picture 5" descr="老舍"/>
          <p:cNvPicPr/>
          <p:nvPr/>
        </p:nvPicPr>
        <p:blipFill>
          <a:blip r:embed="rId1"/>
          <a:stretch/>
        </p:blipFill>
        <p:spPr>
          <a:xfrm>
            <a:off x="5940360" y="2492280"/>
            <a:ext cx="2811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2843280" y="511200"/>
            <a:ext cx="6011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老舍原名舒庆春，字舍予，满族人，生于北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现代小说家、戏剧家、人民艺术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父亲是一名满族的护军，阵亡在八国联军攻打北京城的炮火中。母亲靠替人洗衣裳做活计维持一家人的生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6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革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不堪躏辱投湖自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著有长篇小说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骆驼祥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世同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话剧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茶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龙须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1" name="Picture 5" descr="04052505"/>
          <p:cNvPicPr/>
          <p:nvPr/>
        </p:nvPicPr>
        <p:blipFill>
          <a:blip r:embed="rId1"/>
          <a:stretch/>
        </p:blipFill>
        <p:spPr>
          <a:xfrm>
            <a:off x="108000" y="1341360"/>
            <a:ext cx="27320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自学提示：根据下列提示整体感知课文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全文是按时间顺序来写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全文是按时间顺序来写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的家庭背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出生、出嫁、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的勤俭、朴实、热情好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最会吃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，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并不软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对子女的舐犊之情和理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对母亲的思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对母亲的感谢，母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给我的是生命的教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007572"/>
                </a:solidFill>
                <a:uFillTx/>
                <a:latin typeface="Arial"/>
                <a:ea typeface="华文新魏"/>
              </a:rPr>
              <a:t>思考探究练习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一、作者在文章中写道：“母亲并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不识字，她给我的是生命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教育。”母亲对我进行了什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样的“生命教育”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2920" y="124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华文彩云"/>
              </a:rPr>
              <a:t>概括母亲的优秀品质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幼圆"/>
                <a:ea typeface="幼圆"/>
              </a:rPr>
              <a:t>①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勤劳诚实，做事总是那么仔细认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②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热情好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③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乐于助人，总不怕吃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④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有着软而硬的性格，善良而又坚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她与儿女之间语言交流不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（但之间的感情内敛而又深厚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705720" y="4586400"/>
            <a:ext cx="1904760" cy="1218960"/>
          </a:xfrm>
          <a:prstGeom prst="cloudCallout">
            <a:avLst>
              <a:gd name="adj1" fmla="val -52333"/>
              <a:gd name="adj2" fmla="val 51953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7089840" y="491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怎样体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文中写母亲对儿女的舐犊之情处处可见，我们也不能忽视另一面，即儿女对母亲的思念与热爱，请从课文中找出来，谈谈你的感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品读以下几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结尾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今天泪又遮迷了我的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慈母不会再候盼我了，她已入了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两次违背母亲的意愿，她都深深理解，默许了，表示出作者对母亲的愧疾和感激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几乎都是对远方母亲的惦念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结尾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唉，还说什么呢，心痛，心痛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让人一下子感爱到作者痛失老母亲后撕心裂肺的痛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2:57:51Z</dcterms:created>
  <dc:creator>微软用户</dc:creator>
  <dc:description/>
  <dc:language>en-US</dc:language>
  <cp:lastModifiedBy>a</cp:lastModifiedBy>
  <dcterms:modified xsi:type="dcterms:W3CDTF">2015-02-10T02:51:02Z</dcterms:modified>
  <cp:revision>11</cp:revision>
  <dc:subject/>
  <dc:title>幻灯片 1</dc:title>
</cp:coreProperties>
</file>