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2AA-30E3-4AEE-9324-BC63790F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677-3B26-41A5-AA71-0A3E6F3A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F9973-BB90-4BB7-8B74-B2E8C077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0057D-837D-4E31-84F1-79806030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E1B22-6A47-4C21-8FE0-4340063B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E1F8F-921A-46D2-80C2-2E1032C6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0C397-D129-4541-9646-A66760A8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CB018-57C2-4D2B-8FDA-5C10B7A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18E90-CD57-4F09-AD09-E64340B0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6DC8E-195C-4CE4-851A-BE33184C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E2A73-1854-4015-8AE1-60639AB7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04D3A-3DE3-47B5-83D2-5FA99A4B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B12-7403-4570-8152-704CBA54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9E2F3-2137-4D99-8182-93BE5FE3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2549B-73E8-4961-8974-97001772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4375A-8AEC-4DE4-A974-A96392A1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AA33B-7728-46D1-8E29-33CE5D4D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0EEB0-0583-4964-9773-4A7FC815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630AF-A9C7-4E7E-A770-0EB9C4E9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6B197-9D27-4939-BF15-454A59F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31C03-670C-45A8-B8D3-39F1508D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AECBD-4F01-439F-A543-5D1EE53E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13535-DFFB-40B5-B945-9FCAEBF2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867-ABA2-4C28-A647-F4082360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C9C2D-9913-4F9B-805E-E2B86B64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22C38-EB77-4C56-A93E-E1BE44CE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73EBF-AB18-40CB-8592-80CB636B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7EF04-882A-415E-A536-3A90488D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152DE-04C5-4FE0-859D-AFE450C0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0310C-6B15-44F0-AFE3-0C08F1C4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4C866-4E89-44E9-B6A6-33422DF6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BEDAC-64BE-429C-AFE4-3A68F5B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6BEBA-0510-49CA-AB5E-12BEBB4D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6CB39-5B3E-4A3C-A537-225F432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EC89-96AF-4C9D-8E61-9B1597FA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17341-9162-4D99-9CB9-EF912D86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D0736-92A8-4A76-8AEB-AA234457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77A97-9CDF-486B-B8F3-5E2E629F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2A888-CBD0-49A1-A2F4-14DDD540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AFAE9-AA4A-49DF-A05E-D8DA92B2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47993-886E-4E00-9B99-9BAE5446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22E5A-7DCB-4C0A-8BB1-CF0B0F13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E376F-0AD8-4F7E-BD6B-A6005D19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EEEB0-5FC2-43F7-A104-CAE17C4B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D406A-9C6C-4EAF-85B1-F557472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EE44-D5C9-42CC-9D79-D943A27A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28998-7483-4AF9-8131-F6895DFD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71A8D-25B4-4F80-A587-BAE5F24E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7F783-A12F-4589-8569-32855EB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A9385-7895-40EB-B102-B233DF8E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05611-A632-421B-93BD-C409D6A1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D7B2D-1AB4-46BF-931C-340A080D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9EB51-3644-4155-A2CC-35425651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9B8FF-7398-4CBB-B63B-EB760CDC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BA907-E225-43AA-A839-617ACBF7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97982-F0AA-41C4-9E9E-54E1BB92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32E6-8932-4D87-A716-99D3BF03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197A6-2790-4948-95AC-E9B4DF09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A8C0C-FEA1-4EF4-A8BD-9B78195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A78BC-8110-4188-B661-447F8BB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88D10-99E7-4FAE-941A-81793B3F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C42CA-BA83-4782-86B3-CF41DB79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A6E9D-DF58-42C3-A2B5-3ABF8AFC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FE8C0-6439-4159-A932-E9829BCA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AB8A-680F-4F4C-88E3-A6CA4590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5E0E-78D0-4842-B9FA-6BACE2C2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46B7-B2F0-42C1-BA52-B7FBA6CA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620B-A5B6-4148-B202-A1980BBF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B20-3B54-4046-B7DB-995F0479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5BB7-2BC4-4D59-895B-303B5E53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A900-5442-4392-821E-06B8CDDC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9A32-443F-44EC-A471-012FF0CF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EFD1-A3D9-47F5-B5A0-CD79143A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782F-FB03-4FE9-9636-8FDED04D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F87B-E504-4018-ACA1-8D69C1B4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B71B-EE95-477F-8C5E-9923B550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7060-9F01-4598-A9E6-B2EF3012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78E2-9C3F-4A7F-A463-6C0F488E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FA36-70A1-49BC-9704-996423C4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0E9-378C-4986-A45C-2F566A8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8BBB-ED3F-4D92-9D95-0FD49690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4139-C0F2-4B87-A1E5-17692A56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593F-EC57-49CF-9655-4E9E0A03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FF58-3E0E-429B-9F5E-1A76E5DD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34FD-8B17-4A05-B847-91759EFB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EE84-1FC3-4C6A-90BF-4F0FB9BA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B53B-324D-4D76-A533-E4F91ECE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3D121-E428-4381-947C-13BA31AD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685BB-9BC3-4AC7-911E-7052EB2F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4D215-36F3-4E8B-B27B-BE965D2E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472-F4B2-4973-83CE-114C2999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B17C-CB12-40D1-ABF3-8FB77BD5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EA82-7B0D-4025-B4C1-1852EB86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99DC5-3677-4594-8BD9-21773199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2057-D00C-4E6B-ABDD-A47AD51E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9C21E-841C-4B56-BF7F-A5D935A4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497C5-9CFB-44EA-A45E-39DD96F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90F2-E340-4918-A046-5B965BB2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1D268-1219-4846-9AB5-B1EAA39F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C9E9A-0B7E-47C4-A12F-FCBDCFA1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860DD-80EB-4BF3-9FEB-0931D946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B42-F95E-4FE5-96BB-355112A6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87FB-04B9-4DBC-8462-1AEB25DC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3CBDF-6E85-45A2-BCBE-19A4F80D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5CDAD-250F-4122-B02C-452FEAF7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F6DC2-F50F-4159-8347-E288934A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F8A3-844F-4DCF-B90D-F50C75A9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0C358-C025-4F0C-BA8F-455A23FE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CD164-AD8D-439F-A777-10412104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C507E-5115-4487-AFE0-5BAD36DA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D9E26-A21F-4EDA-B474-66E22C7B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32FC-4A11-40F3-9AED-7FC36BAF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2FA-AC18-47D0-996F-AD009240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C68A-66AA-4593-B980-C099EDA0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15BA0-6CBD-4934-BF51-69DA19B9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3CC90-57F5-4703-9A62-5BEBC025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B42F5-962D-4836-88C5-262DBF90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5A9C-7AD2-4021-A84A-D408119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60753-837A-422E-A4A2-4A0B5868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A5B05-4026-4E83-B9B2-CED80A73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8751E-68AB-4B35-89D6-72B35FBA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68CD7-2FFF-4612-96FF-291CE141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D396F-850C-4084-990A-2E8450B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F35-2D77-48AC-8B5B-8059045C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DE6B7-4249-4DAD-B8C3-E2C2514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D3049-F492-4A52-B020-59706554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9AC3A-6BB7-4DC6-BA4A-A2C7A2DB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46D1E-9812-4733-A460-178990CB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3607B-842B-478D-AA2A-0E21A9D1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29DF-4D0E-45CE-B88B-F89AB66B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59B8-766D-4FC7-9140-CEFBA484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DA5AE-6025-459B-BC3B-F985AEE9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7667C-26CA-4B7B-903D-DF177361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197D3-022F-41CA-9969-45A38FF3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B59-48C3-4955-BEFF-1D829CA4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30DC5-95F2-47C8-94C1-7FF9950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CA6CC-A3E3-4E48-A1D4-7D89A872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0D788-E5B3-4497-85B4-599AA378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3D67F-C4B8-4AB2-9659-AE9493A5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7E118-4AF5-459C-A4A1-391CB139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BC8A7-8B89-40DA-9E3B-A224EE10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DF3EE-D21D-48D8-8F64-79F13A84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1AAD7-5A47-4103-86C6-3AE56EDC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7C73A-9C22-420A-83C9-2A7230FF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1FBFE-CBFF-4CE9-8B3B-D8954C44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66C-B9DA-417F-936A-D5DE09F5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3FA0F-F5B3-4967-B9F5-EC6C61F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4272E-9518-4A27-9D5E-6E558FC8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BCC6D-376D-41E4-8878-31FAB0C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CB5B7-9B8C-498E-8297-4F2F1B0E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F72C5-460E-4A64-BAD4-80AB1081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1526C-4F51-4612-84A0-41DEDF16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4E3F3-9C09-4D21-BADA-5592738F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C9C1C-A5DE-4CC1-AE21-6A940903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7054B-187C-44A4-BF54-C2C79C5C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202CA-9321-489F-858E-2AB0C092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3EA3-4642-4DBC-B9F5-517B23D48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DC35-A7E7-451A-AB3C-C63CA069D4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6D54-FFA7-44C2-8F97-70106AB1E4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03B4-83C8-4962-B65C-105485783C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2807-FE88-4715-88BB-AB39561EC3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7CB1-ACF4-4F8D-9CEE-796919C368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70A5-8971-411A-A404-7107A79D20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F053-9DC8-4F2C-8835-42626663DF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42A1-08CE-4534-A9CB-9A52D7A369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574C-8BD7-45F4-9CC4-3144BF37ED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DCB4-A2F5-41D9-8141-7732B3738C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43C3-148E-48B3-A35E-F41C257528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CE17-4CE1-411E-8BB1-EB1769892D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1A92-530F-431C-9429-4950741D6B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0AAC-B001-461F-99F7-E15B7EE2B4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9AF2-73FD-4661-A954-485A85D54C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E592-B42E-4EAE-B60B-FF741350A1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3EFF-4DBA-4B58-B819-74107146EA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8B27-9BEA-41B9-A0FF-95C15F4DC6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39AD-965D-48F5-B794-4A63C89617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534D-DE1B-4FD0-AF92-50ABEA6463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02AE-8369-431B-A442-2148354DA0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DDF7-FDB1-490E-99A0-F2C067D914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9DC0-D3BB-4D34-B9F1-3CAD88BD63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E49C-A961-4B8F-A337-B5C3D247B7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我的叔叔于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莫伯桑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1850-1893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：法国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9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世纪后半期著名的批判现实主义作家。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8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年完成了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羊脂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轰动法国文坛。并拜福楼拜为师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年间写了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多个短篇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部长篇小说，是他成为一代短篇小说巨匠。著名作品，有长篇小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生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漂亮朋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俊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等，中短篇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菲菲小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项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的叔叔于勒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等。都揭露了资本主义社会的罪恶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4"/>
          <p:cNvGrpSpPr/>
          <p:nvPr/>
        </p:nvGrpSpPr>
        <p:grpSpPr>
          <a:xfrm>
            <a:off x="914400" y="609480"/>
            <a:ext cx="7315200" cy="1066680"/>
            <a:chOff x="914400" y="609480"/>
            <a:chExt cx="7315200" cy="1066680"/>
          </a:xfrm>
        </p:grpSpPr>
        <p:sp>
          <p:nvSpPr>
            <p:cNvPr id="568" name="Rectangle 2"/>
            <p:cNvSpPr/>
            <p:nvPr/>
          </p:nvSpPr>
          <p:spPr>
            <a:xfrm>
              <a:off x="914400" y="60948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我的亲叔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教学设计和主要内容：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菲利普夫妇怕被于勒认出来，不敢去付钱并叫回女儿女婿，只好打发儿子去。本片刻画的就是儿子若瑟夫直接面对于勒的场面，近距离的描摹能使我们对于勒的命运有更深刻的了解和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3"/>
            <p:cNvSpPr/>
            <p:nvPr/>
          </p:nvSpPr>
          <p:spPr>
            <a:xfrm>
              <a:off x="914400" y="609480"/>
              <a:ext cx="7315200" cy="1066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8"/>
          <p:cNvGrpSpPr/>
          <p:nvPr/>
        </p:nvGrpSpPr>
        <p:grpSpPr>
          <a:xfrm>
            <a:off x="914400" y="1066680"/>
            <a:ext cx="7315200" cy="4724280"/>
            <a:chOff x="914400" y="1066680"/>
            <a:chExt cx="7315200" cy="4724280"/>
          </a:xfrm>
        </p:grpSpPr>
        <p:sp>
          <p:nvSpPr>
            <p:cNvPr id="571" name="Rectangle 5"/>
            <p:cNvSpPr/>
            <p:nvPr/>
          </p:nvSpPr>
          <p:spPr>
            <a:xfrm>
              <a:off x="914400" y="1066680"/>
              <a:ext cx="731520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7"/>
            <p:cNvSpPr/>
            <p:nvPr/>
          </p:nvSpPr>
          <p:spPr>
            <a:xfrm>
              <a:off x="914400" y="1066680"/>
              <a:ext cx="7315200" cy="4724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3" name="Picture 6" descr="pic_301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9"/>
          <p:cNvSpPr/>
          <p:nvPr/>
        </p:nvSpPr>
        <p:spPr>
          <a:xfrm>
            <a:off x="6461280" y="706320"/>
            <a:ext cx="146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4952880" y="0"/>
            <a:ext cx="4191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”还没有受资本主义社会里金钱关系的腐蚀，作者寄希望于下一代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衬托一种灰暗的心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最后景物描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本文的主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通过菲利普夫妇对待于勒前后态度的不同，表现了资本主义社会里人与人之间的那种赤裸裸的金钱关系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-108000" y="124452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菲利普夫妇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6"/>
          <p:cNvSpPr/>
          <p:nvPr/>
        </p:nvSpPr>
        <p:spPr>
          <a:xfrm>
            <a:off x="4235400" y="2768760"/>
            <a:ext cx="1905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4844880" y="2997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于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4968720" y="1854360"/>
            <a:ext cx="1219320" cy="83808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12680 h 838080"/>
              <a:gd name="textAreaBottom" fmla="*/ 3585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192720" y="177804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钱，菲利普夫妇就盼就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6"/>
          <p:cNvSpPr/>
          <p:nvPr/>
        </p:nvSpPr>
        <p:spPr>
          <a:xfrm>
            <a:off x="4083120" y="4597560"/>
            <a:ext cx="1295280" cy="1218960"/>
          </a:xfrm>
          <a:custGeom>
            <a:avLst/>
            <a:gdLst>
              <a:gd name="textAreaLeft" fmla="*/ 389520 w 1295280"/>
              <a:gd name="textAreaRight" fmla="*/ 1295640 w 1295280"/>
              <a:gd name="textAreaTop" fmla="*/ 87084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18514" y="0"/>
                </a:moveTo>
                <a:lnTo>
                  <a:pt x="15428" y="6497"/>
                </a:lnTo>
                <a:lnTo>
                  <a:pt x="15428" y="6497"/>
                </a:lnTo>
                <a:lnTo>
                  <a:pt x="15428" y="15428"/>
                </a:lnTo>
                <a:lnTo>
                  <a:pt x="6497" y="15428"/>
                </a:lnTo>
                <a:lnTo>
                  <a:pt x="6497" y="15428"/>
                </a:lnTo>
                <a:lnTo>
                  <a:pt x="0" y="18514"/>
                </a:lnTo>
                <a:lnTo>
                  <a:pt x="6497" y="21600"/>
                </a:lnTo>
                <a:lnTo>
                  <a:pt x="6497" y="21600"/>
                </a:lnTo>
                <a:lnTo>
                  <a:pt x="21600" y="21600"/>
                </a:lnTo>
                <a:lnTo>
                  <a:pt x="21600" y="6497"/>
                </a:lnTo>
                <a:lnTo>
                  <a:pt x="21600" y="6497"/>
                </a:lnTo>
                <a:lnTo>
                  <a:pt x="1851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1415880" y="535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无钱，就骂就怕就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8"/>
          <p:cNvSpPr/>
          <p:nvPr/>
        </p:nvSpPr>
        <p:spPr>
          <a:xfrm>
            <a:off x="3016080" y="3606840"/>
            <a:ext cx="1219320" cy="228600"/>
          </a:xfrm>
          <a:prstGeom prst="leftArrow">
            <a:avLst>
              <a:gd name="adj1" fmla="val 50000"/>
              <a:gd name="adj2" fmla="val 133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9"/>
          <p:cNvSpPr/>
          <p:nvPr/>
        </p:nvSpPr>
        <p:spPr>
          <a:xfrm>
            <a:off x="6369120" y="35305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0"/>
          <p:cNvSpPr/>
          <p:nvPr/>
        </p:nvSpPr>
        <p:spPr>
          <a:xfrm>
            <a:off x="1797120" y="314964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1"/>
          <p:cNvSpPr/>
          <p:nvPr/>
        </p:nvSpPr>
        <p:spPr>
          <a:xfrm>
            <a:off x="7488360" y="314964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2"/>
          <p:cNvSpPr/>
          <p:nvPr/>
        </p:nvSpPr>
        <p:spPr>
          <a:xfrm>
            <a:off x="3930480" y="4673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3"/>
          <p:cNvSpPr/>
          <p:nvPr/>
        </p:nvSpPr>
        <p:spPr>
          <a:xfrm>
            <a:off x="5835600" y="46735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24"/>
          <p:cNvSpPr/>
          <p:nvPr/>
        </p:nvSpPr>
        <p:spPr>
          <a:xfrm>
            <a:off x="4540320" y="50547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5"/>
          <p:cNvSpPr/>
          <p:nvPr/>
        </p:nvSpPr>
        <p:spPr>
          <a:xfrm>
            <a:off x="501480" y="33019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盼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6"/>
          <p:cNvSpPr/>
          <p:nvPr/>
        </p:nvSpPr>
        <p:spPr>
          <a:xfrm>
            <a:off x="7272360" y="40640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怕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76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文的主要人物是谁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盼于勒（故事的发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赞于勒（故事的发展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见于勒（故事的高潮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怕于勒躲于勒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（故事的结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人物（主人公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菲利普夫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：虚荣、自私、冷酷、贪婪，没有兄弟情的资本主义社会里小市民的典型形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夫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：呆板、无主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：怕中不乱，有心计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描写人物的方法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：语言、动作、神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环境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自然环境和社会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自然环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去哲尔塞岛旅游时的景物描写，衬托了一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欢快心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狼狈地灰溜溜地离开哲尔塞岛时的景物描写，衬托了一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灰暗的心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社会环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罪恶的资本主义社会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2"/>
          <p:cNvSpPr/>
          <p:nvPr/>
        </p:nvSpPr>
        <p:spPr>
          <a:xfrm>
            <a:off x="3321000" y="28440"/>
            <a:ext cx="3124080" cy="289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4235400" y="814320"/>
            <a:ext cx="121932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4" descr="BD05584_"/>
          <p:cNvPicPr/>
          <p:nvPr/>
        </p:nvPicPr>
        <p:blipFill>
          <a:blip r:embed="rId1"/>
          <a:stretch/>
        </p:blipFill>
        <p:spPr>
          <a:xfrm>
            <a:off x="4540320" y="890640"/>
            <a:ext cx="741240" cy="990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NA01441_"/>
          <p:cNvPicPr/>
          <p:nvPr/>
        </p:nvPicPr>
        <p:blipFill>
          <a:blip r:embed="rId2"/>
          <a:stretch/>
        </p:blipFill>
        <p:spPr>
          <a:xfrm>
            <a:off x="2787480" y="2719440"/>
            <a:ext cx="4114800" cy="376056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6"/>
          <p:cNvSpPr/>
          <p:nvPr/>
        </p:nvSpPr>
        <p:spPr>
          <a:xfrm>
            <a:off x="1873080" y="5996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社会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6292800" y="5996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罪恶的土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196920" y="585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资本主义社会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6597720" y="43344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赤裸裸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金钱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-108000" y="310032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”对叔叔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同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6902280" y="302436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没有受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污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课堂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想像一下，菲利普夫妇在船上发现一位百万富翁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像于勒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，他们会怎样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写在你的日记上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欣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于勒回到我们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续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我的叔叔于勒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吕善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于勒的后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我的叔叔于勒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续写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杜勋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7"/>
          <p:cNvGrpSpPr/>
          <p:nvPr/>
        </p:nvGrpSpPr>
        <p:grpSpPr>
          <a:xfrm>
            <a:off x="-1905120" y="0"/>
            <a:ext cx="12901680" cy="6033960"/>
            <a:chOff x="-1905120" y="0"/>
            <a:chExt cx="12901680" cy="6033960"/>
          </a:xfrm>
        </p:grpSpPr>
        <p:grpSp>
          <p:nvGrpSpPr>
            <p:cNvPr id="536" name="Group 5"/>
            <p:cNvGrpSpPr/>
            <p:nvPr/>
          </p:nvGrpSpPr>
          <p:grpSpPr>
            <a:xfrm>
              <a:off x="-1905120" y="0"/>
              <a:ext cx="12901680" cy="5808600"/>
              <a:chOff x="-1905120" y="0"/>
              <a:chExt cx="12901680" cy="5808600"/>
            </a:xfrm>
          </p:grpSpPr>
          <p:sp>
            <p:nvSpPr>
              <p:cNvPr id="537" name="Rectangle 2"/>
              <p:cNvSpPr/>
              <p:nvPr/>
            </p:nvSpPr>
            <p:spPr>
              <a:xfrm>
                <a:off x="-1812960" y="0"/>
                <a:ext cx="12809520" cy="46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28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4"/>
              <p:cNvSpPr/>
              <p:nvPr/>
            </p:nvSpPr>
            <p:spPr>
              <a:xfrm>
                <a:off x="-1905120" y="5440320"/>
                <a:ext cx="18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Rectangle 6"/>
            <p:cNvSpPr/>
            <p:nvPr/>
          </p:nvSpPr>
          <p:spPr>
            <a:xfrm>
              <a:off x="-1905120" y="0"/>
              <a:ext cx="12901680" cy="6033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0" name="Picture 3" descr="pic_30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盼于勒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（第一部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故事的发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每星期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衣冠整齐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去海边栈桥上散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现什么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说那句永不变更的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（插叙于勒的过去和全家人的盼望之情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第二部分（赞于勒：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正直的人，有良心的人、有办法的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景物描写（自然环境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Times New Roman"/>
              </a:rPr>
              <a:t>衬托一家人去旅游时的欢快心情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4"/>
          <p:cNvGrpSpPr/>
          <p:nvPr/>
        </p:nvGrpSpPr>
        <p:grpSpPr>
          <a:xfrm>
            <a:off x="914400" y="762120"/>
            <a:ext cx="7315200" cy="761760"/>
            <a:chOff x="914400" y="762120"/>
            <a:chExt cx="7315200" cy="761760"/>
          </a:xfrm>
        </p:grpSpPr>
        <p:sp>
          <p:nvSpPr>
            <p:cNvPr id="548" name="Rectangle 2"/>
            <p:cNvSpPr/>
            <p:nvPr/>
          </p:nvSpPr>
          <p:spPr>
            <a:xfrm>
              <a:off x="914400" y="762120"/>
              <a:ext cx="73152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为了成全二姐的婚姻，菲利普一家去哲尔赛岛旅行。本片刻画的是旅行途中请吃牡蛎一事，可以帮助我们形象地了解于勒其人，了解他的命运，也让我们初步认识菲利普夫妇的性格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3"/>
            <p:cNvSpPr/>
            <p:nvPr/>
          </p:nvSpPr>
          <p:spPr>
            <a:xfrm>
              <a:off x="914400" y="762120"/>
              <a:ext cx="7315200" cy="761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Picture 6" descr="pic_30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9"/>
          <p:cNvSpPr/>
          <p:nvPr/>
        </p:nvSpPr>
        <p:spPr>
          <a:xfrm>
            <a:off x="-544320" y="228600"/>
            <a:ext cx="127764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语言描写，表现虚荣的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10"/>
          <p:cNvGrpSpPr/>
          <p:nvPr/>
        </p:nvGrpSpPr>
        <p:grpSpPr>
          <a:xfrm>
            <a:off x="179280" y="210960"/>
            <a:ext cx="4378320" cy="6370560"/>
            <a:chOff x="179280" y="210960"/>
            <a:chExt cx="4378320" cy="6370560"/>
          </a:xfrm>
        </p:grpSpPr>
        <p:sp>
          <p:nvSpPr>
            <p:cNvPr id="553" name="Rectangle 7"/>
            <p:cNvSpPr/>
            <p:nvPr/>
          </p:nvSpPr>
          <p:spPr>
            <a:xfrm>
              <a:off x="179280" y="210960"/>
              <a:ext cx="4378320" cy="63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父亲吓得脸色苍白，目瞪口呆！（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神态描写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母亲故作镇定，后又吓得哆嗦！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（语言和动作描写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夫妇两人为什么害怕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别叫这个小子又回来吃咱们（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态度上判若两人！）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179280" y="210960"/>
              <a:ext cx="4378320" cy="63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5" name="Picture 8" descr="pic_30175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3896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1"/>
          <p:cNvSpPr/>
          <p:nvPr/>
        </p:nvSpPr>
        <p:spPr>
          <a:xfrm>
            <a:off x="838080" y="762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第三部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557440" y="1981080"/>
            <a:ext cx="46785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见于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怕于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  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躲于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4"/>
          <p:cNvGrpSpPr/>
          <p:nvPr/>
        </p:nvGrpSpPr>
        <p:grpSpPr>
          <a:xfrm>
            <a:off x="990720" y="380880"/>
            <a:ext cx="7315200" cy="762120"/>
            <a:chOff x="990720" y="380880"/>
            <a:chExt cx="7315200" cy="762120"/>
          </a:xfrm>
        </p:grpSpPr>
        <p:sp>
          <p:nvSpPr>
            <p:cNvPr id="560" name="Rectangle 2"/>
            <p:cNvSpPr/>
            <p:nvPr/>
          </p:nvSpPr>
          <p:spPr>
            <a:xfrm>
              <a:off x="990720" y="380880"/>
              <a:ext cx="7315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3"/>
            <p:cNvSpPr/>
            <p:nvPr/>
          </p:nvSpPr>
          <p:spPr>
            <a:xfrm>
              <a:off x="990720" y="380880"/>
              <a:ext cx="7315200" cy="762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8"/>
          <p:cNvGrpSpPr/>
          <p:nvPr/>
        </p:nvGrpSpPr>
        <p:grpSpPr>
          <a:xfrm>
            <a:off x="914400" y="210960"/>
            <a:ext cx="7315200" cy="6370560"/>
            <a:chOff x="914400" y="210960"/>
            <a:chExt cx="7315200" cy="6370560"/>
          </a:xfrm>
        </p:grpSpPr>
        <p:sp>
          <p:nvSpPr>
            <p:cNvPr id="563" name="Rectangle 5"/>
            <p:cNvSpPr/>
            <p:nvPr/>
          </p:nvSpPr>
          <p:spPr>
            <a:xfrm>
              <a:off x="914400" y="210960"/>
              <a:ext cx="7315200" cy="63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7"/>
            <p:cNvSpPr/>
            <p:nvPr/>
          </p:nvSpPr>
          <p:spPr>
            <a:xfrm>
              <a:off x="914400" y="210960"/>
              <a:ext cx="7315200" cy="63705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5" name="Picture 6" descr="pic_30176"/>
          <p:cNvPicPr/>
          <p:nvPr/>
        </p:nvPicPr>
        <p:blipFill>
          <a:blip r:embed="rId1"/>
          <a:stretch/>
        </p:blipFill>
        <p:spPr>
          <a:xfrm>
            <a:off x="5230800" y="0"/>
            <a:ext cx="39132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9"/>
          <p:cNvSpPr/>
          <p:nvPr/>
        </p:nvSpPr>
        <p:spPr>
          <a:xfrm>
            <a:off x="0" y="0"/>
            <a:ext cx="5562720" cy="551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父亲吓得没有了主意，只好向老婆讨主意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咱们怎么办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母亲很有办法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文中“我”对叔叔的态度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是我的叔叔（表现我对叔叔的同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父亲的弟弟（表现对父亲不认这个穷叔叔的不满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的亲叔叔（父亲应该像我一样同情叔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04:07:31Z</dcterms:created>
  <dc:creator>lsj</dc:creator>
  <dc:description/>
  <dc:language>en-US</dc:language>
  <cp:lastModifiedBy>a</cp:lastModifiedBy>
  <dcterms:modified xsi:type="dcterms:W3CDTF">2015-02-10T02:51:25Z</dcterms:modified>
  <cp:revision>17</cp:revision>
  <dc:subject/>
  <dc:title>PowerPoint 演示文稿</dc:title>
</cp:coreProperties>
</file>