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3CA-7A2B-4420-BFA4-F57C00CF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3D3-5AAA-4994-8754-C71E3BD26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87DD9-C48B-4C6B-8D43-45739305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60524-D931-460E-AE49-E452F56C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2F1E3-EDF1-40F6-AA3F-1B47B6CF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58F4A-A8A0-4B5C-B478-5F326076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992A6-A3DE-4107-AEBD-2038F2F7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0952F-928A-4FAF-BBF1-1E9B16E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1CC33-1E9C-443D-B2D7-A479274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CD8E4-D204-4E3F-94FE-01872C33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D8FF2-5FFC-468C-BB2F-048B9336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EB06B-C6DB-4C83-91B1-22A2A518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E34C-4FFB-4E62-8C51-46381932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09D9B-D1C1-4B8F-A21E-71D93A4B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365B7-72AE-4581-896A-7E54141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F324E-4664-49C4-8CDB-DF0746E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03A77-F0CB-4580-8CA2-FEDE8B21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BB417-4CB0-4F63-A67E-764C02B0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7ABB1-0587-4980-BBCE-87DA3B74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31761-0CE0-41E7-ABA4-B29B6F17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0DD02-0CF1-4771-BCE8-98A60C3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B9BA1-A2BB-411A-985E-F96C1274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DFA7F-F085-4294-B452-B3FDD319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8983-4298-4044-9F04-332E103B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F3387-7206-400F-8A1F-69087C13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FDA3-026A-4CEF-909A-6461C3C6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764FC-ACE3-41F0-B932-2A987391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5F14E-411D-4BA4-8535-00BD11B1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4E5CB-611B-49AF-9ADE-369FBA22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DC673-3A9E-449A-A292-D0EF1942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DDE21-8C23-4061-84E4-6045FC1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DE0EF1-6F77-4086-AC43-EC999F0C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2F5A7-909A-4FA0-9881-EA23E10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5A042-9CF5-4C1F-92C1-92FFB85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F25F-42EB-445B-A108-4542063E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26275-4BE6-452A-BFB7-15F73951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1C89E-376E-42E2-A9FA-EFAA9640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CA489-012B-4E5C-B851-BCC3BDCD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8D61F-44CE-40AF-986B-DA95077D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90570-495C-4C30-B285-647614F9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1A4E1-B49E-4511-9E8B-057F4386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9962BD-550D-4B9B-AA71-C877D6D8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00AC6-837F-4517-B08E-5D1BF516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96278-E2D1-4377-9AD1-DE207B03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C8128-708F-4168-8096-0C1D9447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D4FF-AC12-44FA-B7C9-D1E88473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E3165-89BD-4FFD-96D8-E1E90AD7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61654-E6C4-4151-B7F4-7581A6C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33970-3E54-4BCE-AFF1-B37FBA91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ED8AF-78C0-4673-AF4D-9C4BB119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A2944-BA44-444F-B431-05402E8F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98764-597F-4957-B188-6D93D4BA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903FB-53F2-482F-A45F-65EBF47C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A5894-AC31-416D-8C00-B805DEF2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41D9D-A1B2-42F1-BA2B-029339A4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D0756-EADD-41EA-A942-77D3F8CF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26A8-3E48-4CF4-AA7D-49BCACCC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7EE3E2-D54A-4084-8FFA-F17D3686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F0316-1A27-4B04-90D4-6524654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E5060-76E0-43C8-8292-4C1478E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AEBF7-B2F0-4282-BA35-89F3F53E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71CAB2-D04E-4F7A-9F58-5D8EE9B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F0D6F-0E4F-43D8-B237-C7888CA1B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2B238-D72C-43A6-8C63-28E4D6DC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7F12-D8B1-4200-BFD8-AB817039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214C-AEF3-4D96-9D47-F557A641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3950-481E-4D49-B4A9-D41D5381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0F4B-EF0E-4ED4-8469-3F5F27EE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B7CD-B52A-4E76-81F7-72266F12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C8B-AB3C-4DAC-9E5C-ABAC82CD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AD73-C26A-466F-98AC-AB46D0C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4865-9370-460D-BDF2-664C4994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4114-E0CC-4A0E-A555-34D8EF91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4858-205B-4D7E-94B8-13C70061C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9631B-020A-4917-BDF1-53987F75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4A321-7DCB-44AC-9203-FA24266C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541D-9C11-47BB-9C77-1D28647D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EE41-FDA4-42F9-9A85-3A4E1E0D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E8E8-05E2-4803-9959-8D7F4367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5CD-1D34-4B1A-A1CB-5F18304C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EDE5-078F-44D5-9749-E86BB1E3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0388B-AD9D-4D88-9B31-819A7869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640C-82E0-4BD0-9663-EB3E1D3A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7495-7D58-401D-B6EA-E606580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1206C-A6E5-43D0-86BE-E6BAAC8F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D605-A7CA-4A8F-BEB5-2389593F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C1CB0-659F-490F-8927-66973BD8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C70BA-23B3-4456-99E9-E634FDB3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AD60-3C64-413E-8DC7-96C7BBF4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FBAE-67E2-43F1-AD85-8F6ABE15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B53-D4EC-41C8-AA3F-12F14CAD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C08B-7675-4987-87CD-435AD1BA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EB2FC-EEE9-4F3B-9EF6-BCE257B6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6574-8E02-4F50-A13D-5F313B6B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8373-2E62-4257-88E5-6CA7859C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7C579-9F32-41F1-B242-4D4B197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1217-FCB1-43BB-975E-A8C4AF98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86CC7-3309-461B-B36B-B8675A3E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AAA0-7834-48A9-9633-F81D45D4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51EDC-5C7A-49CE-9644-6BBF2868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F79BE-9F66-4A9E-AA96-0B18205F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856-97CC-4A9A-A52E-AADA9BC5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B4C5-FBFF-4084-8A84-098B2F4C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C5F65-52C5-4401-94B8-5B8A6648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587A5-7CF7-480D-8FD9-EDE9F8BD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F3B7-765E-4113-9BDD-00252E20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6E4BA-2CA4-4761-A240-A53DAC54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D6858-99DF-4D67-BE96-8F211A90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04D42-B080-4164-BC2F-DCF2DFF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ECB60-9E2D-4504-91BC-86482E2D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5901-02B3-4914-BEDB-9EF5D1A7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677AC-1FCD-4A28-B849-250F88C7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332-916E-4B74-8888-3F846755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A63B-4B71-43FD-8B12-714DA90E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8A82C-FDAC-45D3-A32A-9D332694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D545-00B7-4731-A7A7-13EC8D61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A7E69-94E7-4276-9BE8-877FCB1F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C9185-E64D-4BC2-8619-920853C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8CD03-7465-4072-B2A8-BA8EEB1B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E650D-8BB1-4388-9D87-99681B63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9C2CE-FCA4-4B8D-8835-7D7EB561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50FF-C6F6-4BDF-B735-8C6E4AFF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9478A-7C0B-4E59-80C3-634F8687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46D-9F53-48C1-A1B5-126397EF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9AE5-F748-41AE-98D7-9621FE52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D334F-9828-4172-A3D5-12902828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7D263-25E4-41A2-B6C6-984520D9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4894-36D1-4F2A-8ED9-6C02A635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363CE-5686-4590-8C38-14B2C9D8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5036-CA9A-411C-8E7E-ED2D3C84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F724-1A40-4BDC-A8BD-C4DE8317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098AD-954F-41A2-BCF0-E88E0D4F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E5735-9FDE-4585-BF70-CCFC9C22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CCA62-D458-4D05-BE06-62D9D57F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9E4-290B-42ED-AE7D-874ABAB6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888AA-3C43-444F-B893-0EB10E8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5A7BD-6DC8-4859-9F74-69E596CC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26302-B77C-4048-AE17-580015FD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C0EB-7FFE-4025-8AC4-37388AC9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9CF12-108F-484A-BD69-66BB1D00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DD566-3C03-41A8-B02F-C6B2F5AB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98B42-D910-40F8-8CC6-A4AF61F0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F29CA-E739-4638-9DD2-03F0ABAE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0748F-668D-484E-96F7-9BB4920A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D8158-A430-4B94-8F05-9F313DB2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08D-670D-4B44-880D-CA13B98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1E7C4-CC4A-4356-8B8D-7FE06100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6FC0D-2ADA-45A8-B22C-638A3821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A1511-E01D-4191-95F4-12C29F6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9EF63-8A53-467D-988B-DDD1DBAF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C3E88-DD92-4212-A8B1-28E386F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116F8-3444-4BF3-8C0B-501B301D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ADE51-69D5-4CFE-84BC-49BEB394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B4A5D-FE61-42AE-BB71-6F8BCBB7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C32C3-8A92-4D0F-B793-8D9C454B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A34EA-5E34-4CD0-80FC-3E5FD139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D82D-AA4A-4FCA-B105-EBFEABF74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F87-520A-4E00-8F4E-986AE31B04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3B6F-9F6D-478F-B6B0-CCE1464614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7A6A-FE69-4EB4-AF25-EDBD2B4E5F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9657-8BAC-4FC1-A9AB-B239F41EB2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8BE-0EA5-4D7A-AF0B-09482A3355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CA4D-3ADE-47BD-94D8-DBA17641BC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8024-E82D-4AA0-8A17-255DC4AF7F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6F9A-8820-4B73-90B5-9FC9A409B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8B2D-FDCA-4FC0-9A76-ECB8E5F79B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F7B2-D932-41E2-884B-ADE66ED843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F64-24A0-4B77-A6F6-1966142E9B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6666-2CA6-49AA-B64C-386C7B456E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5C1C-A495-46CB-A63E-49FE8E93EF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EAF8-A86C-4714-AC40-65841264AD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F550-0FCC-4D6E-B9CB-8A6DF75367C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3021-68B2-4A4E-8CC9-013255144E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4A87-27ED-4B2A-BD2C-267DDACB91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DFA2-4C6A-4CCD-A00A-3E5DB6012B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7398-7D54-48E5-BEA6-1368A8C16B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9D18-95E3-4166-8DAE-CDCE3A5EDA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B66-DC20-40B9-B0AB-9BD8F1312E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A85C-9C10-4DEE-B81B-12F7C6922D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1350-019F-478D-B02D-7B0525E03E9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D3A6-B135-4BF4-804E-632B80723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4" descr="2005831532411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11"/>
          <p:cNvSpPr txBox="1"/>
          <p:nvPr/>
        </p:nvSpPr>
        <p:spPr>
          <a:xfrm>
            <a:off x="1233360" y="1662120"/>
            <a:ext cx="5348520" cy="24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舞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5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49360" y="1501920"/>
            <a:ext cx="803592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六岁的小女孩柔弱的身体成了黑脸大汉手中的一块生面团，翻过来、周过去、立起来、横过去，抻、拉、压、拽，为所欲为，奶奶看不过我被整得满脸的泪水和汗水，每次都目不忍视地躲到里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668680" y="3471480"/>
            <a:ext cx="60912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这里抓住几个动作，写出了“我”学艺的艰辛。从这里，我们能深刻地体会到了“我”这个被宠坏的小公主的勇气和毅力以及对艺术的执著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4" descr="pic_270814"/>
          <p:cNvPicPr/>
          <p:nvPr/>
        </p:nvPicPr>
        <p:blipFill>
          <a:blip r:embed="rId2"/>
          <a:stretch/>
        </p:blipFill>
        <p:spPr>
          <a:xfrm>
            <a:off x="649440" y="3664080"/>
            <a:ext cx="1923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731760" y="1585800"/>
            <a:ext cx="37242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我的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7520" y="4212720"/>
            <a:ext cx="57690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在艺术和生活的舞台上，勇气和毅力能让人走向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老实做人，认真演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209760" y="2511360"/>
            <a:ext cx="51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</a:t>
            </a: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学习了这篇课文，你从中获得了怎样的人生启发呢？给大家说一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9"/>
          <p:cNvGrpSpPr/>
          <p:nvPr/>
        </p:nvGrpSpPr>
        <p:grpSpPr>
          <a:xfrm>
            <a:off x="650880" y="1500120"/>
            <a:ext cx="2257560" cy="4564080"/>
            <a:chOff x="650880" y="1500120"/>
            <a:chExt cx="2257560" cy="4564080"/>
          </a:xfrm>
        </p:grpSpPr>
        <p:pic>
          <p:nvPicPr>
            <p:cNvPr id="576" name="Picture 5" descr="2006826155054176"/>
            <p:cNvPicPr/>
            <p:nvPr/>
          </p:nvPicPr>
          <p:blipFill>
            <a:blip r:embed="rId2"/>
            <a:stretch/>
          </p:blipFill>
          <p:spPr>
            <a:xfrm>
              <a:off x="650880" y="3611520"/>
              <a:ext cx="224460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6" descr="100534_wushuang1"/>
            <p:cNvPicPr/>
            <p:nvPr/>
          </p:nvPicPr>
          <p:blipFill>
            <a:blip r:embed="rId3"/>
            <a:stretch/>
          </p:blipFill>
          <p:spPr>
            <a:xfrm>
              <a:off x="660240" y="1500120"/>
              <a:ext cx="2248200" cy="197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14" descr="1012908728_1_smal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WordArt 4"/>
          <p:cNvSpPr txBox="1"/>
          <p:nvPr/>
        </p:nvSpPr>
        <p:spPr>
          <a:xfrm>
            <a:off x="1844640" y="1968480"/>
            <a:ext cx="2568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23960" y="1547280"/>
            <a:ext cx="2808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001880" y="24955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溺爱娇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087720" y="2522520"/>
            <a:ext cx="55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指过分娇惯宠爱自己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976320" y="31273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不解之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089160" y="3151080"/>
            <a:ext cx="537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不能分开的缘分，指亲密的关系或深厚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1011240" y="41148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身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3083040" y="4140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戏曲演员在舞台上表演的各种舞蹈化的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014480" y="513864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窃窃私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3083040" y="522144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私下里小声交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3" descr="d279"/>
          <p:cNvPicPr/>
          <p:nvPr/>
        </p:nvPicPr>
        <p:blipFill>
          <a:blip r:embed="rId2"/>
          <a:stretch/>
        </p:blipFill>
        <p:spPr>
          <a:xfrm>
            <a:off x="1254240" y="150660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5068800" y="2773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1012908728_1_small"/>
          <p:cNvPicPr/>
          <p:nvPr/>
        </p:nvPicPr>
        <p:blipFill>
          <a:blip r:embed="rId2"/>
          <a:stretch/>
        </p:blipFill>
        <p:spPr>
          <a:xfrm>
            <a:off x="4764240" y="1528920"/>
            <a:ext cx="3700440" cy="45306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9040" y="2471760"/>
            <a:ext cx="3173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中宋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79240" y="4080960"/>
            <a:ext cx="452268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舞台</a:t>
            </a:r>
            <a:r>
              <a:rPr b="1" lang="zh-CN" sz="4000" spc="-1" strike="noStrike">
                <a:solidFill>
                  <a:srgbClr val="0000ff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5480" y="2054160"/>
            <a:ext cx="587232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速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5040" y="3682800"/>
            <a:ext cx="643572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作者对</a:t>
            </a:r>
            <a:r>
              <a:rPr b="1" lang="zh-CN" sz="40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舞台</a:t>
            </a:r>
            <a:r>
              <a:rPr b="1" lang="zh-CN" sz="40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有着怎样的感情？请从文中找出相关的句子来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10" descr="Gif0405_136"/>
          <p:cNvPicPr/>
          <p:nvPr/>
        </p:nvPicPr>
        <p:blipFill>
          <a:blip r:embed="rId2"/>
          <a:stretch/>
        </p:blipFill>
        <p:spPr>
          <a:xfrm>
            <a:off x="6595920" y="1720800"/>
            <a:ext cx="170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1000080" y="3828960"/>
            <a:ext cx="7337520" cy="19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我在舞台上慢慢长大，舞台如一炉火，炼就了我的勇气和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9"/>
          <p:cNvGrpSpPr/>
          <p:nvPr/>
        </p:nvGrpSpPr>
        <p:grpSpPr>
          <a:xfrm>
            <a:off x="590400" y="1460520"/>
            <a:ext cx="7961400" cy="1933560"/>
            <a:chOff x="590400" y="1460520"/>
            <a:chExt cx="7961400" cy="1933560"/>
          </a:xfrm>
        </p:grpSpPr>
        <p:pic>
          <p:nvPicPr>
            <p:cNvPr id="554" name="Picture 6" descr="200583152626575"/>
            <p:cNvPicPr/>
            <p:nvPr/>
          </p:nvPicPr>
          <p:blipFill>
            <a:blip r:embed="rId2"/>
            <a:stretch/>
          </p:blipFill>
          <p:spPr>
            <a:xfrm>
              <a:off x="5780160" y="1460520"/>
              <a:ext cx="277164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5" name="Picture 7" descr="2006826155054176"/>
            <p:cNvPicPr/>
            <p:nvPr/>
          </p:nvPicPr>
          <p:blipFill>
            <a:blip r:embed="rId3"/>
            <a:stretch/>
          </p:blipFill>
          <p:spPr>
            <a:xfrm>
              <a:off x="3251160" y="1479600"/>
              <a:ext cx="23716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Picture 8" descr="100534_wushuang2"/>
            <p:cNvPicPr/>
            <p:nvPr/>
          </p:nvPicPr>
          <p:blipFill>
            <a:blip r:embed="rId4"/>
            <a:stretch/>
          </p:blipFill>
          <p:spPr>
            <a:xfrm>
              <a:off x="590400" y="1487520"/>
              <a:ext cx="2468880" cy="19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374560" y="1126800"/>
            <a:ext cx="5786280" cy="16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思考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为什么说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</a:t>
            </a:r>
            <a:r>
              <a:rPr b="0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文中哪些事例可以表明这一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57480" y="2862000"/>
            <a:ext cx="685800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在娘胎里，“我”就“登台唱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刚会走路，“我”就在小床上模仿母亲“演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后来，“我”一直跟随母亲演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六岁时，“我”正式“拜师学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几年后，“我”在大师面前认真演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Gif0405_036"/>
          <p:cNvPicPr/>
          <p:nvPr/>
        </p:nvPicPr>
        <p:blipFill>
          <a:blip r:embed="rId2"/>
          <a:stretch/>
        </p:blipFill>
        <p:spPr>
          <a:xfrm>
            <a:off x="709560" y="1038240"/>
            <a:ext cx="15429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77640" y="1775880"/>
            <a:ext cx="645300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细读课文，感受“吸引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7720" y="3038400"/>
            <a:ext cx="679932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请大家细读课文，找出文中相关的句段并加以简要分析，从中感受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舞台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对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我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的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神奇的吸引力</a:t>
            </a:r>
            <a:r>
              <a:rPr b="1" lang="zh-CN" sz="3600" spc="-1" strike="noStrike">
                <a:solidFill>
                  <a:srgbClr val="ff33cc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200511100223855"/>
          <p:cNvPicPr/>
          <p:nvPr/>
        </p:nvPicPr>
        <p:blipFill>
          <a:blip r:embed="rId2"/>
          <a:stretch/>
        </p:blipFill>
        <p:spPr>
          <a:xfrm>
            <a:off x="7013520" y="4635360"/>
            <a:ext cx="16318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015560" y="3890520"/>
            <a:ext cx="601524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段话中对“我”的描写充满了童趣，一个活泼可爱、热爱艺术的孩童的形象活生生地出现在我们面前，让人忍俊不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349280" y="1873080"/>
            <a:ext cx="64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①</a:t>
            </a: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一次，小花猫看得兴起，竟蹿上了床。我为赶它下“台”，脚下没留神，一个倒栽葱，摔下床来，直摔得我眼冒金星，半天没缓过劲儿来。</a:t>
            </a:r>
            <a:r>
              <a:rPr b="1" lang="zh-CN" sz="2800" spc="-1" strike="noStrike">
                <a:solidFill>
                  <a:srgbClr val="660033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5" descr="146fp"/>
          <p:cNvPicPr/>
          <p:nvPr/>
        </p:nvPicPr>
        <p:blipFill>
          <a:blip r:embed="rId2"/>
          <a:stretch/>
        </p:blipFill>
        <p:spPr>
          <a:xfrm>
            <a:off x="6846840" y="3936960"/>
            <a:ext cx="16905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862000" y="1774440"/>
            <a:ext cx="5219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每次演出，我一定要到台上去看，即使被挤在厚厚的幕布里，憋闷得满头是汗，也兴味盎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5840" y="3731760"/>
            <a:ext cx="7089840" cy="21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仿宋"/>
              </a:rPr>
              <a:t>台上在演出，一个小女孩钻在幕布里看戏，虽满头大汗却兴味盎然。透过厚厚的幕布，我们看到了一个孩子对评剧的钟爱，对艺术的执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100534_wushuang2"/>
          <p:cNvPicPr/>
          <p:nvPr/>
        </p:nvPicPr>
        <p:blipFill>
          <a:blip r:embed="rId2"/>
          <a:stretch/>
        </p:blipFill>
        <p:spPr>
          <a:xfrm>
            <a:off x="573120" y="1433520"/>
            <a:ext cx="2089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第一PPT模板网-WWW.1PPT.COM</dc:description>
  <cp:keywords>六十铺中小学教育网http://www.lspjy.com</cp:keywords>
  <dc:language>en-US</dc:language>
  <cp:lastModifiedBy>a</cp:lastModifiedBy>
  <dcterms:modified xsi:type="dcterms:W3CDTF">2015-03-18T06:24:28Z</dcterms:modified>
  <cp:revision>94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